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ECF-6371-472A-A3A8-3B0FC399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E37-9641-41F0-B062-9E37C79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42C-F435-4938-B061-597335AB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556-F11B-411A-A7F2-DA37EE11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900-EF94-4A39-8D74-4A6E66D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172-C157-4EE3-ABB3-4D1A18D2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C54-0F93-45FC-8E21-A9FBD1A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1B7-30A7-40C6-81CA-7D994BDD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6D8-5B4C-48CC-B750-29A2380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5B4-534D-4919-8E3D-C6CC079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12E-959B-4519-AA59-DFF5477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141-02A1-408C-9C0D-5702661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693D-638A-44DD-936F-80FF89F8D0F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064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и самоанализ урока как средство повышения методического мастерства учителя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638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готовила -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ахтина Ольга Ива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28600" y="284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 № 7, осуществляющая деятель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разовательным программа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76520" y="76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само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465200"/>
          <a:ext cx="7508880" cy="4337280"/>
        </p:xfrm>
        <a:graphic>
          <a:graphicData uri="http://schemas.openxmlformats.org/drawingml/2006/table">
            <a:tbl>
              <a:tblPr/>
              <a:tblGrid>
                <a:gridCol w="3337200"/>
                <a:gridCol w="4171680"/>
              </a:tblGrid>
              <a:tr h="204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О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а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ип урока по целеполагани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ль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ачи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спользуем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ичнос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тапре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</a:t>
                      </a: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жпредметные связ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7308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304920"/>
          <a:ext cx="7886880" cy="5472000"/>
        </p:xfrm>
        <a:graphic>
          <a:graphicData uri="http://schemas.openxmlformats.org/drawingml/2006/table">
            <a:tbl>
              <a:tblPr/>
              <a:tblGrid>
                <a:gridCol w="1338480"/>
                <a:gridCol w="1476360"/>
                <a:gridCol w="3522600"/>
                <a:gridCol w="1549440"/>
              </a:tblGrid>
              <a:tr h="687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амоопределение к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 в деловой рит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 сообщает о начал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ятся к работе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туализация знаний и фиксация затруднений 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ет уровень зн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типичные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задание, требующее отдельные способности к учебной деятельности, мыслительные операции и учебные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становка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ят цели, формулируют (уточняют) тему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троение проекта выхода из затруд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обучающихся по исследованию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т план достижения цели и определяют средства (алгоритм, мод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38080" y="914400"/>
          <a:ext cx="7886880" cy="5943240"/>
        </p:xfrm>
        <a:graphic>
          <a:graphicData uri="http://schemas.openxmlformats.org/drawingml/2006/table">
            <a:tbl>
              <a:tblPr/>
              <a:tblGrid>
                <a:gridCol w="1447920"/>
                <a:gridCol w="1828800"/>
                <a:gridCol w="2971800"/>
                <a:gridCol w="1638360"/>
              </a:tblGrid>
              <a:tr h="3256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вичное закреп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 осознанность восприятия обучающимися учеб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 типовые задания с проговариванием алгоритма в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амостоятельная работа с самопроверкой по этал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деятельность по применению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самостоятельную работу. Осуществляют самопроверку, пошагово сравнивая с этал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флексия деятельности, итог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ефлек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самооценку собственной учебной деятельности, соотносят цель и результаты, степень их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628560" y="300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152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52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анализ урока дает возможность педаго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и развивать творческую сознательность, проявляющуюся в умении сформулировать и поставить цели своей деятельности и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умение четко планировать и предвидеть результаты своего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педагогическое самосознание учителя, когда он постепенно начинает видеть, понимать необходимую и существенную связь между способом его действий и конечным результатом уро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иться рефлексии, умению видеть свои сильные и слаб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2438280"/>
            <a:ext cx="788832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828800" y="126684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то на себя глядит, свой видит лик, кто видит лик сво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ену себе знает, кто знает цену, строг к себе бывает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кто строг к себе – тот истинно велик!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Пьер Гренг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676520" y="2590920"/>
            <a:ext cx="72388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ое простран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м протекает деятельность учителя в образовательном учрежден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уро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его проявлени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урока – это сцена, на которой можно пережить минуты триумфа и горечь поражений; оно всегда заполнено деятельностью учителя и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но на уроке учитель использует все возможности для развития личности ученика, ее активного умственного роста, для формирования ее нравственных ос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рок – это зеркало общей и педагогической культуры учи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ло его интеллектуального богатства, показатель его кругозора, эруди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533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52480" y="1676520"/>
            <a:ext cx="73915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Сухомлинский писал: «Сильным, опытным становится педагог, который умеет анализировать свой труд…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и самоанализ должны быть направлены на сопоставление выдвинутых коррекционно-образовательных, коррекционно-развивающих и коррекционно-воспитательных целей с достигнутым результат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существления всех поставленных задач не может быть раз и навсегда установленного типа урока с застывшими этапами и стандартной последовательностью их осуществления. Поэтому очень важно уделять большое внимание как анализу, так и самоанализу как отдельного урока, так и всей деятельности учителя в целом с целью эффективного управления процессом обуч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учителя во многом зависит от степени владения умениями анализировать свою деятельность и деятельность своих колле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3520" y="3049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914400"/>
            <a:ext cx="70866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любого 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мплексный подход, в котором психологический,  педагогический, содержательный, методический,  воспитательный и предметный аспекты тесно взаимосвязаны. Это разбор и оценка урока в целом или отдельных его стор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ефлексия, позволяющая оценить свои сильные и слабые стороны, определить нереализуемые резервы, уточнить отдельные моменты индивидуального стиля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анали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ется в выявлении понимания проведения выбранной формы урока и применения методов и приемов организации деятельности учителя и обучающихся на уро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качество урока, понимание возможностей ребенка, поиск резервов повышения эффективности процесс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министрация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сутствующие на уроке 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82880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219320"/>
          <a:ext cx="6933960" cy="4968720"/>
        </p:xfrm>
        <a:graphic>
          <a:graphicData uri="http://schemas.openxmlformats.org/drawingml/2006/table">
            <a:tbl>
              <a:tblPr/>
              <a:tblGrid>
                <a:gridCol w="3570120"/>
                <a:gridCol w="3363840"/>
              </a:tblGrid>
              <a:tr h="25714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сещения «______» ___________20____г.                             Класс 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учающихся по списку __________чел.                             Присутствуют 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осещения урока 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ителя 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урока 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урока (объявлена, не объявлена, в начале урока, в середине уро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работы учителя 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(репродуктивная), рассказ, объяснение,  инструктаж, лекция, демон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, комментирование, объяснение, расск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(устный, письменный), с применением индивидуальных карточек, перфокарт, дифференцированны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(письменные, устные, практичес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идактического материала (верно, с ошибк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(логических, расчет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самостоятельной работой обучающихся на основе обратной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0"/>
          <a:ext cx="7543800" cy="6494400"/>
        </p:xfrm>
        <a:graphic>
          <a:graphicData uri="http://schemas.openxmlformats.org/drawingml/2006/table">
            <a:tbl>
              <a:tblPr/>
              <a:tblGrid>
                <a:gridCol w="1565280"/>
                <a:gridCol w="1406520"/>
                <a:gridCol w="441360"/>
                <a:gridCol w="701640"/>
                <a:gridCol w="982800"/>
                <a:gridCol w="1305000"/>
                <a:gridCol w="1141200"/>
              </a:tblGrid>
              <a:tr h="21024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Урок «открытия»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рок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Урок общеметодолог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Урок развивающего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 приемы работы по развитию познавательной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2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над нов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алгоритм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е задачи, проблемные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536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10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3880" y="380880"/>
          <a:ext cx="7467840" cy="6749640"/>
        </p:xfrm>
        <a:graphic>
          <a:graphicData uri="http://schemas.openxmlformats.org/drawingml/2006/table">
            <a:tbl>
              <a:tblPr/>
              <a:tblGrid>
                <a:gridCol w="1600200"/>
                <a:gridCol w="728640"/>
                <a:gridCol w="425520"/>
                <a:gridCol w="1513080"/>
                <a:gridCol w="895320"/>
                <a:gridCol w="95040"/>
                <a:gridCol w="328680"/>
                <a:gridCol w="1881360"/>
              </a:tblGrid>
              <a:tr h="63540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наличия познавательной актив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откл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редоточ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ченность процессо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к собственному участию в обсуж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в течение всего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учителю, товарищ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16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своения знаний обучаю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восприятия, осмысления, запоми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применения знаний в аналогичной или сход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буч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разви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воспиты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нота знаний, умений, навы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ознанность и дей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чность знаний, усвоенных на предыдущем уро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воображения – репродуктивного, твор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наглядно-действенного, образного и логического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мение анализировать, сравнивать, конкретиз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равственное воз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фори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культуры умственного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5680" y="127080"/>
          <a:ext cx="7467480" cy="5302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4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52480" y="5105520"/>
            <a:ext cx="73915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ходе анализа учитель получает возможность взглянуть на свой урок как бы со стороны, осознать его как явление в целом, целенаправленно осмыслить совокупность собственных теоретических знаний, способов, приемов работы в их практическом преломлении во взаимодействии с классом и конкретными обучающими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280"/>
          <a:ext cx="9144000" cy="4837320"/>
        </p:xfrm>
        <a:graphic>
          <a:graphicData uri="http://schemas.openxmlformats.org/drawingml/2006/table">
            <a:tbl>
              <a:tblPr/>
              <a:tblGrid>
                <a:gridCol w="5229360"/>
                <a:gridCol w="241200"/>
                <a:gridCol w="3673440"/>
              </a:tblGrid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итог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на всех этапах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дидактических принц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обучающихся к у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льно-психологическая обстановка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инципа педагогического сотрудни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опрошены ______чел.    «5»______чел.   «4»______чел.   «3»__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жно; оптимально; упрощ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ольшая; оптимальная; мал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ренировочное; 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ля сильных; для слабых; общее для все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08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и предлож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веден на высоком методическом уровне, хороший, удовлетворительный, неудовлетво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43000" y="76320"/>
            <a:ext cx="66294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анализом урока крайне важно услыш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го оценку собственной педагогической деятельности, так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– показатель профессионализма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- это мысленное разложение проведенного урока на его составляющие с глубоким проникновением в их сущность, задачи с целью оценить конечный результат своей деятельности путем сравнения запланированного с осуществленным, учитывая успехи и продвижения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й собственный урок, конкретные педагогические ситуации, возникающие на нем, результаты своего труда во многом зависит от умения учителя спланировать, организовать, проконтролировать, отрегулировать свою педагогическ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4T07:15:23Z</dcterms:created>
  <dc:creator>hp</dc:creator>
  <dc:description/>
  <dc:language>en-US</dc:language>
  <cp:lastModifiedBy>HP</cp:lastModifiedBy>
  <dcterms:modified xsi:type="dcterms:W3CDTF">2021-01-22T11:28:5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