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C14-14BB-48E5-9356-C235A5C8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080-CA3E-443E-9D35-A382A85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27D-1717-4F0A-8DCC-6DAF995D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A3A-0378-4F8B-B45F-C92AC8C0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3806-0D71-4FA7-BA0A-DDC8C075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112-2FAC-46C8-8685-568BBC7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E4C9-90F6-4359-8B27-EE06F36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C6A7-4B1E-4091-9239-31BDD119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03FB-F5DD-4150-86EF-A717463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90040" y="102960"/>
            <a:ext cx="1099188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57A5-F211-4F1F-A097-10D8173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7094-D737-4515-840E-2DE2FF4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7F2-DEFB-4A82-9752-C4A389E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D70B-A1B3-4869-8505-4C7B00B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E7BC-DB1E-464F-98A1-740C873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B057-0876-4076-BB7C-9786F1D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8FAD-45AF-42E7-BFC8-B7E29D4C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48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964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802980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CD5-7C7E-4685-85E1-4EC12291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B05-95B0-4751-BAB0-2DE75BA3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586-E43A-46D4-9D75-824FA56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EAF-62D3-452E-B66E-CB0E6D52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90040" y="102960"/>
            <a:ext cx="1099188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F97-4399-480A-BCF3-467DC14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CF4-7A99-4D06-B04E-E53DB9AE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202-0D8F-486F-843B-BC1E942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65A-B606-411D-9727-7C1110B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640" y="-188280"/>
            <a:ext cx="3655440" cy="7044840"/>
            <a:chOff x="-35640" y="-188280"/>
            <a:chExt cx="3655440" cy="7044840"/>
          </a:xfrm>
        </p:grpSpPr>
        <p:sp>
          <p:nvSpPr>
            <p:cNvPr id="1" name=""/>
            <p:cNvSpPr/>
            <p:nvPr/>
          </p:nvSpPr>
          <p:spPr>
            <a:xfrm>
              <a:off x="-11160" y="5178600"/>
              <a:ext cx="9986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1760" y="3932640"/>
              <a:ext cx="1109160" cy="735840"/>
              <a:chOff x="131760" y="3932640"/>
              <a:chExt cx="1109160" cy="7358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222840" y="3924720"/>
                <a:ext cx="227160" cy="352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414000" y="4288680"/>
                <a:ext cx="388440" cy="292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896040" y="4102560"/>
                <a:ext cx="406080" cy="14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89720" y="2755800"/>
              <a:ext cx="15026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640" y="2537640"/>
              <a:ext cx="3611160" cy="3250440"/>
              <a:chOff x="8640" y="2537640"/>
              <a:chExt cx="3611160" cy="325044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478800" y="2672280"/>
                <a:ext cx="130032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0520" y="2801520"/>
                <a:ext cx="108828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447840" y="3011400"/>
                <a:ext cx="38628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1170720" y="3775680"/>
                <a:ext cx="353160" cy="3078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1070280" y="383004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1186560" y="3961440"/>
                <a:ext cx="2433240" cy="1826640"/>
                <a:chOff x="1186560" y="3961440"/>
                <a:chExt cx="2433240" cy="18266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774440" y="3744720"/>
                  <a:ext cx="473760" cy="1619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Calibri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3160440" y="4938480"/>
                  <a:ext cx="109800" cy="6652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Calibri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3423600" y="5618160"/>
                  <a:ext cx="199080" cy="11160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643320" y="6180840"/>
              <a:ext cx="1007640" cy="645480"/>
              <a:chOff x="643320" y="6180840"/>
              <a:chExt cx="1007640" cy="6454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365120" y="6148800"/>
                <a:ext cx="196560" cy="336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1082160" y="6488640"/>
                <a:ext cx="336600" cy="279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579240" y="6370560"/>
                <a:ext cx="352080" cy="142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426960" y="1760760"/>
              <a:ext cx="1047240" cy="715320"/>
              <a:chOff x="426960" y="1760760"/>
              <a:chExt cx="1047240" cy="71532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1161720" y="1687680"/>
                <a:ext cx="206640" cy="397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978120" y="2108880"/>
                <a:ext cx="353880" cy="329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346320" y="2198520"/>
                <a:ext cx="370080" cy="167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724400" y="0"/>
              <a:ext cx="729000" cy="581400"/>
              <a:chOff x="1724400" y="0"/>
              <a:chExt cx="72900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724400" y="0"/>
                <a:ext cx="2307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058120" y="103320"/>
                <a:ext cx="395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978560" y="489240"/>
                <a:ext cx="41328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83600" y="149400"/>
              <a:ext cx="147924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511200" y="5403600"/>
              <a:ext cx="2793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561960" y="5702040"/>
              <a:ext cx="13968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2680" y="6524640"/>
              <a:ext cx="24948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360" y="6299280"/>
              <a:ext cx="27504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360" y="6269040"/>
              <a:ext cx="993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360" y="5141880"/>
              <a:ext cx="10519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41400" y="650880"/>
              <a:ext cx="7279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511560" y="1199880"/>
              <a:ext cx="3535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1213920" y="453960"/>
              <a:ext cx="31104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498600" y="1144080"/>
              <a:ext cx="1310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1237320" y="739800"/>
              <a:ext cx="1519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360" y="1406520"/>
              <a:ext cx="7621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117720" y="132840"/>
              <a:ext cx="170136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6B5-B32A-4020-8D30-E2F012C676F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8280" y="-63000"/>
            <a:ext cx="11953800" cy="6921000"/>
            <a:chOff x="-8280" y="-63000"/>
            <a:chExt cx="11953800" cy="6921000"/>
          </a:xfrm>
        </p:grpSpPr>
        <p:grpSp>
          <p:nvGrpSpPr>
            <p:cNvPr id="85" name=""/>
            <p:cNvGrpSpPr/>
            <p:nvPr/>
          </p:nvGrpSpPr>
          <p:grpSpPr>
            <a:xfrm>
              <a:off x="7365240" y="-63000"/>
              <a:ext cx="4580280" cy="6309720"/>
              <a:chOff x="7365240" y="-63000"/>
              <a:chExt cx="4580280" cy="630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8811720" y="339840"/>
                <a:ext cx="282096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9912960" y="1947600"/>
                <a:ext cx="120852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9111960" y="2598840"/>
                <a:ext cx="58572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9715680" y="669600"/>
                <a:ext cx="5187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9549720" y="2645640"/>
                <a:ext cx="218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9560880" y="1241280"/>
                <a:ext cx="253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7890840" y="2955240"/>
                <a:ext cx="69804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45360" y="3106440"/>
              <a:ext cx="683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320" y="2000160"/>
              <a:ext cx="2664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69524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899360" y="4532400"/>
              <a:ext cx="7491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690560" y="4728960"/>
              <a:ext cx="183960" cy="4345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8920" y="5195880"/>
              <a:ext cx="23450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547960" y="939600"/>
              <a:ext cx="1239480" cy="1462320"/>
              <a:chOff x="5547960" y="939600"/>
              <a:chExt cx="1239480" cy="146232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6183720" y="951480"/>
                <a:ext cx="285840" cy="505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6228720" y="1524600"/>
                <a:ext cx="488880" cy="420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5529600" y="2025360"/>
                <a:ext cx="511200" cy="213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514280" y="239400"/>
              <a:ext cx="1186560" cy="951480"/>
              <a:chOff x="7514280" y="239400"/>
              <a:chExt cx="1186560" cy="95148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7681680" y="778320"/>
                <a:ext cx="178560" cy="48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7674120" y="450720"/>
                <a:ext cx="306000" cy="400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8386920" y="323640"/>
                <a:ext cx="320040" cy="203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352880" y="5257800"/>
              <a:ext cx="1253520" cy="940320"/>
              <a:chOff x="1352880" y="5257800"/>
              <a:chExt cx="1253520" cy="9403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2214720" y="5494320"/>
                <a:ext cx="3351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547640" y="5799240"/>
                <a:ext cx="573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1328400" y="5428800"/>
                <a:ext cx="6001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35680" y="378000"/>
              <a:ext cx="2131200" cy="1250280"/>
              <a:chOff x="535680" y="378000"/>
              <a:chExt cx="2131200" cy="125028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2093760" y="910080"/>
                <a:ext cx="356040" cy="70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476000" y="474840"/>
                <a:ext cx="609120" cy="588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473400" y="1127160"/>
                <a:ext cx="636840" cy="299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9848880" y="3661200"/>
              <a:ext cx="1521720" cy="1686960"/>
              <a:chOff x="9848880" y="3661200"/>
              <a:chExt cx="1521720" cy="168696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9902160" y="4770360"/>
                <a:ext cx="47448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10518480" y="4420800"/>
                <a:ext cx="81216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10171440" y="3754080"/>
                <a:ext cx="84888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75800" y="3240"/>
              <a:ext cx="182412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4566600" y="160920"/>
              <a:ext cx="1441080" cy="9417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4226040" y="1361160"/>
              <a:ext cx="6980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4706640" y="1282320"/>
              <a:ext cx="2602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93000" y="0"/>
              <a:ext cx="26244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4598640" y="1964160"/>
              <a:ext cx="831600" cy="36518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7596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304-6CED-441E-BA26-630D0A4BA0E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3274560" y="596880"/>
            <a:ext cx="825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61600" y="0"/>
            <a:ext cx="1124604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Этапы работы по формированию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льтернативной коммуникации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с помощью жестов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у детей с ОВЗ.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Павлова Людмила Владимировна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логопед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Пб ГБСУСО ДДИ №4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Обучение жестам, являющимся имитацией простых предметных действ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8840" y="2463480"/>
            <a:ext cx="60037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Ложка, куш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Каша, варить каш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Чашка, п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Зубная щётка, чистить зуб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Умывать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ричёсыватьс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Телефон, звонить по телефон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85680" y="1355760"/>
            <a:ext cx="113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этом этапе ведется работа над формированием следующих жестов: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6491160" y="2584440"/>
            <a:ext cx="564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Машина, ехать на машине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Спа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лака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оцелова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Упас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Идти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Холодно, замёрз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бучение жестам описательного характе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1960" y="1468440"/>
            <a:ext cx="109728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айчик — показать, как прыгает зайчик или изобразить «уш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ошка — погладить ладонью одной руки тыльную сторону другой ру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ли изобразить ус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рочка — жест «клюёт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Лошадь — изобразить движение «скачем на лошадке»: руки сжаты 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лачки и подняты на уровень груди, подско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едведь — показать, как мишка ходи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етушок — изобразить гребешо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тичка — жест «полетел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шка — рукой, сжатой в кулак, показать, как мышка бегае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винка — жест «пятачок»: кулаком или указательным пальцем потереть но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обака — жест «лает»: большой палец противопоставлен остальным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есколько раз сомкнуть и разомкнуть пальц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55800" y="5200560"/>
            <a:ext cx="60703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пасибо за внимание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857160" y="750960"/>
            <a:ext cx="1106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Овладение детьми альтернативной (дополнительной) коммуникацией с помощью жестов открывает перед ними двери к общению со взрослыми и сверстниками, дают им возможность быть понятыми и выразить свои желания и чувства.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ес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 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(</a:t>
            </a:r>
            <a:r>
              <a:rPr b="0" i="1" lang="ru-RU" sz="3200" spc="-1" strike="noStrike">
                <a:solidFill>
                  <a:srgbClr val="006699"/>
                </a:solidFill>
                <a:latin typeface="Arial "/>
              </a:rPr>
              <a:t>лат. </a:t>
            </a: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gestus — движение тела) — некоторое действие или движ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человеческого тела или его части, имеющее определённое значение ил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смысл, то есть являющееся знаком или символ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еимущества системы жес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уками для использования системы жестов мы можем воспользоваться всегда, в отличие от других специальных приспособлен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зык жестов легче понять и «воспроизвести», чем реч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зык жестов наглядe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можно помочь своими ру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ращение идёт непосредственно к тому, с кем говорят, и имеет место   зрительный контак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нципы раб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 более реального – к более абстрактному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нцип избыточности символов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совмещение различных систем коммуникации: слово, жест, картинка, пиктограмма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нцип постоянной поддержки мотивац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нцип функционального использования в коммуник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Этапы изучения системы жес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иагностический этап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педевти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ормирование указательного жест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учение символическим социальным жеста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учение жестам, являющимся имитацией простых предметных действи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учение жестам описательного характер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иагностический этап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ормировать коммуникацию с помощью жестов рекомендуем детям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меющим подражательную активность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меющим достаточно развитую мелкую моторику ру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педев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ажнения на осязание (их цель – помочь ребенку осознать собственные руки)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ажнения на хватание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ажнения на развитие мелкой моторик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альчиковые игр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ормирование указательного ж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менно на основе указательного жеста формируются все остальные жес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тапы формиро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казательный жест всей ладонью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астично сформированный указательный жест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формированный указательный же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бучение символическим социальным жеста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901880"/>
            <a:ext cx="53150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льз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а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ай руч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ди сю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ход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90920" y="1846080"/>
            <a:ext cx="581652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яд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тань, поднимис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в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 свидания (пока – пока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пасиб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814320" y="1162080"/>
            <a:ext cx="110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имволические социальные жесты это: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739800" y="5729400"/>
            <a:ext cx="11057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Изучение их происходит в ходе коммуникации, игр, разучивания коротких стихов.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13:54:56Z</dcterms:created>
  <dc:creator>1</dc:creator>
  <dc:description/>
  <dc:language>en-US</dc:language>
  <cp:lastModifiedBy>PAV</cp:lastModifiedBy>
  <dcterms:modified xsi:type="dcterms:W3CDTF">2021-05-26T09:00:19Z</dcterms:modified>
  <cp:revision>17</cp:revision>
  <dc:subject/>
  <dc:title>Презентация PowerPoint</dc:title>
</cp:coreProperties>
</file>