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2E08-6879-4BB3-B1CC-F127B0748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90040" y="102960"/>
            <a:ext cx="1099188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09480" y="3927960"/>
            <a:ext cx="10972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EAF4-B3C9-4987-A00F-236CF5EF8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90040" y="102960"/>
            <a:ext cx="1099188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27960"/>
            <a:ext cx="535464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32320" y="3927960"/>
            <a:ext cx="535464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D1ED-EF17-4264-967C-3410226BB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90040" y="102960"/>
            <a:ext cx="1099188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09480" y="3927960"/>
            <a:ext cx="353304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319640" y="3927960"/>
            <a:ext cx="353304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8029800" y="3927960"/>
            <a:ext cx="353304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95A4-E00A-4857-AECB-E260C43D2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35109-F062-448C-BA4A-5C7CD1A91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90040" y="102960"/>
            <a:ext cx="1099188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54AB6-4DE6-48D7-BD33-C99781449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90040" y="102960"/>
            <a:ext cx="1099188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20EC2-40D9-4951-A0F7-E12D6A64B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90040" y="102960"/>
            <a:ext cx="1099188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2C0FA-547A-4281-AC42-6063EFF67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90040" y="102960"/>
            <a:ext cx="1099188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DDFF1-48A6-44D0-996D-7617C0E20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590040" y="102960"/>
            <a:ext cx="1099188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05E6B-13FF-4924-96C9-D8B969B9C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90040" y="102960"/>
            <a:ext cx="1099188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480" y="3927960"/>
            <a:ext cx="535464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EB7B1-AFAE-4C3C-B33F-807C2955D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90040" y="102960"/>
            <a:ext cx="1099188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8FC1-93DD-46AC-9DFF-7DC68F4C1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90040" y="102960"/>
            <a:ext cx="1099188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232320" y="3927960"/>
            <a:ext cx="535464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FEAA2-947D-42F9-B2F4-66E02BA0A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90040" y="102960"/>
            <a:ext cx="1099188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9480" y="3927960"/>
            <a:ext cx="10972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A0B2B-1BC4-45F9-AC0F-0131799C7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90040" y="102960"/>
            <a:ext cx="1099188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609480" y="3927960"/>
            <a:ext cx="10972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EBB28-8AE5-4BA7-8B84-2CFC1C2AA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90040" y="102960"/>
            <a:ext cx="1099188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9480" y="3927960"/>
            <a:ext cx="535464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32320" y="3927960"/>
            <a:ext cx="535464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07D5A-1303-451B-925A-AD9EFAFBC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90040" y="102960"/>
            <a:ext cx="1099188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609480" y="3927960"/>
            <a:ext cx="353304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4319640" y="3927960"/>
            <a:ext cx="353304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8029800" y="3927960"/>
            <a:ext cx="353304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DF6E8-F4BA-45BB-B798-310D03114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90040" y="102960"/>
            <a:ext cx="1099188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E6E5-3BF4-45C5-AD42-F82C460DA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90040" y="102960"/>
            <a:ext cx="1099188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0843-273F-45D3-BBF8-B1A589D8A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90040" y="102960"/>
            <a:ext cx="1099188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6076-62EE-46B7-8095-25A53D530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90040" y="102960"/>
            <a:ext cx="1099188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6FC6-E32D-4A69-9CFA-BC44FC7D1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90040" y="102960"/>
            <a:ext cx="1099188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09480" y="3927960"/>
            <a:ext cx="535464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9114-3079-43F5-AA53-A81D12F6E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90040" y="102960"/>
            <a:ext cx="1099188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232320" y="3927960"/>
            <a:ext cx="535464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F00B-634C-4088-BA50-43D5E3F9A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90040" y="102960"/>
            <a:ext cx="1099188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9480" y="3927960"/>
            <a:ext cx="10972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DA8E-E795-4030-85A7-21D525772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5640" y="-188280"/>
            <a:ext cx="3655440" cy="7044840"/>
            <a:chOff x="-35640" y="-188280"/>
            <a:chExt cx="3655440" cy="7044840"/>
          </a:xfrm>
        </p:grpSpPr>
        <p:sp>
          <p:nvSpPr>
            <p:cNvPr id="1" name=""/>
            <p:cNvSpPr/>
            <p:nvPr/>
          </p:nvSpPr>
          <p:spPr>
            <a:xfrm>
              <a:off x="-11160" y="5178600"/>
              <a:ext cx="99864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Calibri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131760" y="3932640"/>
              <a:ext cx="1109160" cy="735840"/>
              <a:chOff x="131760" y="3932640"/>
              <a:chExt cx="1109160" cy="7358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222840" y="3924720"/>
                <a:ext cx="227160" cy="35208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Calibri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414000" y="4288680"/>
                <a:ext cx="388440" cy="2926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Calibri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896040" y="4102560"/>
                <a:ext cx="406080" cy="1490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Calibri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89720" y="2755800"/>
              <a:ext cx="150264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Calibri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8640" y="2537640"/>
              <a:ext cx="3611160" cy="3250440"/>
              <a:chOff x="8640" y="2537640"/>
              <a:chExt cx="3611160" cy="325044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478800" y="2672280"/>
                <a:ext cx="130032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Calibri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10520" y="2801520"/>
                <a:ext cx="108828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Calibri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447840" y="3011400"/>
                <a:ext cx="38628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Calibri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1170720" y="3775680"/>
                <a:ext cx="353160" cy="30780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Calibri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1070280" y="3830040"/>
                <a:ext cx="8748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Calibri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1186560" y="3961440"/>
                <a:ext cx="2433240" cy="1826640"/>
                <a:chOff x="1186560" y="3961440"/>
                <a:chExt cx="2433240" cy="182664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774440" y="3744720"/>
                  <a:ext cx="473760" cy="161964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Calibri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3160440" y="4938480"/>
                  <a:ext cx="109800" cy="66528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Calibri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3423600" y="5618160"/>
                  <a:ext cx="199080" cy="11160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643320" y="6180840"/>
              <a:ext cx="1007640" cy="645480"/>
              <a:chOff x="643320" y="6180840"/>
              <a:chExt cx="1007640" cy="6454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365120" y="6148800"/>
                <a:ext cx="196560" cy="3366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Calibri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1082160" y="6488640"/>
                <a:ext cx="336600" cy="279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Calibri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579240" y="6370560"/>
                <a:ext cx="352080" cy="1422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Calibri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426960" y="1760760"/>
              <a:ext cx="1047240" cy="715320"/>
              <a:chOff x="426960" y="1760760"/>
              <a:chExt cx="1047240" cy="71532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1161720" y="1687680"/>
                <a:ext cx="206640" cy="39708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Calibri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978120" y="2108880"/>
                <a:ext cx="353880" cy="3297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Calibri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346320" y="2198520"/>
                <a:ext cx="370080" cy="1677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Calibri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724400" y="0"/>
              <a:ext cx="729000" cy="581400"/>
              <a:chOff x="1724400" y="0"/>
              <a:chExt cx="72900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724400" y="0"/>
                <a:ext cx="2307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Calibri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2058120" y="103320"/>
                <a:ext cx="395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Calibri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978560" y="489240"/>
                <a:ext cx="41328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Calibri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83600" y="149400"/>
              <a:ext cx="147924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Calibri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511200" y="5403600"/>
              <a:ext cx="27936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Calibri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561960" y="5702040"/>
              <a:ext cx="13968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Calibri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22680" y="6524640"/>
              <a:ext cx="24948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Calibri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-360" y="6299280"/>
              <a:ext cx="27504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Calibri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-360" y="6269040"/>
              <a:ext cx="9936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Calibri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-360" y="5141880"/>
              <a:ext cx="10519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Calibri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41400" y="650880"/>
              <a:ext cx="7279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Calibri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511560" y="1199880"/>
              <a:ext cx="3535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Calibri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1213920" y="453960"/>
              <a:ext cx="31104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Calibri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498600" y="1144080"/>
              <a:ext cx="13104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Calibri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1237320" y="739800"/>
              <a:ext cx="1519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Calibri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-360" y="1406520"/>
              <a:ext cx="76212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Calibri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117720" y="132840"/>
              <a:ext cx="170136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Calibri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90040" y="102960"/>
            <a:ext cx="1099188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609120" y="6243480"/>
            <a:ext cx="2845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8737560" y="624348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0390D-A736-4BA7-BA6F-107855E2DFC6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8280" y="-63000"/>
            <a:ext cx="11953800" cy="6921000"/>
            <a:chOff x="-8280" y="-63000"/>
            <a:chExt cx="11953800" cy="6921000"/>
          </a:xfrm>
        </p:grpSpPr>
        <p:grpSp>
          <p:nvGrpSpPr>
            <p:cNvPr id="85" name=""/>
            <p:cNvGrpSpPr/>
            <p:nvPr/>
          </p:nvGrpSpPr>
          <p:grpSpPr>
            <a:xfrm>
              <a:off x="7365240" y="-63000"/>
              <a:ext cx="4580280" cy="6309720"/>
              <a:chOff x="7365240" y="-63000"/>
              <a:chExt cx="4580280" cy="630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8811720" y="339840"/>
                <a:ext cx="282096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Calibri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9912960" y="1947600"/>
                <a:ext cx="120852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Calibri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9111960" y="2598840"/>
                <a:ext cx="58572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Calibri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9715680" y="669600"/>
                <a:ext cx="5187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Calibri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9549720" y="2645640"/>
                <a:ext cx="21816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Calibri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9560880" y="1241280"/>
                <a:ext cx="25380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Calibri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7890840" y="2955240"/>
                <a:ext cx="698040" cy="326844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Calibri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45360" y="3106440"/>
              <a:ext cx="683280" cy="103032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Calibri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5320" y="2000160"/>
              <a:ext cx="2664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Calibri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69524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Calibri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899360" y="4532400"/>
              <a:ext cx="7491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Calibri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690560" y="4728960"/>
              <a:ext cx="183960" cy="43452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Calibri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518920" y="5195880"/>
              <a:ext cx="234504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Calibri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5547960" y="939600"/>
              <a:ext cx="1239480" cy="1462320"/>
              <a:chOff x="5547960" y="939600"/>
              <a:chExt cx="1239480" cy="146232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6183720" y="951480"/>
                <a:ext cx="285840" cy="505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Calibri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6228720" y="1524600"/>
                <a:ext cx="488880" cy="4201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Calibri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5529600" y="2025360"/>
                <a:ext cx="511200" cy="2138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Calibri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7514280" y="239400"/>
              <a:ext cx="1186560" cy="951480"/>
              <a:chOff x="7514280" y="239400"/>
              <a:chExt cx="1186560" cy="95148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7681680" y="778320"/>
                <a:ext cx="178560" cy="48168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Calibri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7674120" y="450720"/>
                <a:ext cx="306000" cy="400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Calibri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8386920" y="323640"/>
                <a:ext cx="320040" cy="2037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Calibri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1352880" y="5257800"/>
              <a:ext cx="1253520" cy="940320"/>
              <a:chOff x="1352880" y="5257800"/>
              <a:chExt cx="1253520" cy="9403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2214720" y="5494320"/>
                <a:ext cx="33516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Calibri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547640" y="5799240"/>
                <a:ext cx="57384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Calibri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1328400" y="5428800"/>
                <a:ext cx="60012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Calibri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535680" y="378000"/>
              <a:ext cx="2131200" cy="1250280"/>
              <a:chOff x="535680" y="378000"/>
              <a:chExt cx="2131200" cy="125028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2093760" y="910080"/>
                <a:ext cx="356040" cy="70848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Calibri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476000" y="474840"/>
                <a:ext cx="609120" cy="588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Calibri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473400" y="1127160"/>
                <a:ext cx="636840" cy="29952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Calibri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9848880" y="3661200"/>
              <a:ext cx="1521720" cy="1686960"/>
              <a:chOff x="9848880" y="3661200"/>
              <a:chExt cx="1521720" cy="168696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9902160" y="4770360"/>
                <a:ext cx="47448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Calibri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10518480" y="4420800"/>
                <a:ext cx="81216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Calibri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10171440" y="3754080"/>
                <a:ext cx="84888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Calibri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2575800" y="3240"/>
              <a:ext cx="182412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Calibri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4566600" y="160920"/>
              <a:ext cx="1441080" cy="94176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Calibri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4226040" y="1361160"/>
              <a:ext cx="69804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Calibri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4706640" y="1282320"/>
              <a:ext cx="2602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Calibri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393000" y="0"/>
              <a:ext cx="26244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Calibri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4598640" y="1964160"/>
              <a:ext cx="831600" cy="365184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Calibri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7596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Calibri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609120" y="6248520"/>
            <a:ext cx="2845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8737560" y="624348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133C2-965D-44C9-9571-1F5C9B68B88C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3274560" y="596880"/>
            <a:ext cx="8256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61600" y="0"/>
            <a:ext cx="11246040" cy="66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99"/>
                </a:solidFill>
                <a:latin typeface="Verdana"/>
              </a:rPr>
              <a:t>Этапы работы по формированию </a:t>
            </a:r>
            <a:br>
              <a:rPr sz="4400"/>
            </a:br>
            <a:r>
              <a:rPr b="1" lang="ru-RU" sz="4400" spc="-1" strike="noStrike">
                <a:solidFill>
                  <a:srgbClr val="006699"/>
                </a:solidFill>
                <a:latin typeface="Verdana"/>
              </a:rPr>
              <a:t>альтернативной коммуникации</a:t>
            </a:r>
            <a:br>
              <a:rPr sz="4400"/>
            </a:br>
            <a:r>
              <a:rPr b="1" lang="ru-RU" sz="4400" spc="-1" strike="noStrike">
                <a:solidFill>
                  <a:srgbClr val="006699"/>
                </a:solidFill>
                <a:latin typeface="Verdana"/>
              </a:rPr>
              <a:t>с помощью жестов </a:t>
            </a:r>
            <a:br>
              <a:rPr sz="4400"/>
            </a:br>
            <a:r>
              <a:rPr b="1" lang="ru-RU" sz="4400" spc="-1" strike="noStrike">
                <a:solidFill>
                  <a:srgbClr val="006699"/>
                </a:solidFill>
                <a:latin typeface="Verdana"/>
              </a:rPr>
              <a:t>у детей с ОВЗ.</a:t>
            </a:r>
            <a:br>
              <a:rPr sz="4400"/>
            </a:br>
            <a:br>
              <a:rPr sz="4400"/>
            </a:br>
            <a:r>
              <a:rPr b="1" lang="ru-RU" sz="3600" spc="-1" strike="noStrike">
                <a:solidFill>
                  <a:srgbClr val="006699"/>
                </a:solidFill>
                <a:latin typeface="Verdana"/>
              </a:rPr>
              <a:t>Павлова Людмила Владимировна</a:t>
            </a:r>
            <a:br>
              <a:rPr sz="3600"/>
            </a:br>
            <a:r>
              <a:rPr b="0" lang="ru-RU" sz="3600" spc="-1" strike="noStrike">
                <a:solidFill>
                  <a:srgbClr val="006699"/>
                </a:solidFill>
                <a:latin typeface="Verdana"/>
              </a:rPr>
              <a:t>логопед</a:t>
            </a:r>
            <a:br>
              <a:rPr sz="3600"/>
            </a:br>
            <a:r>
              <a:rPr b="0" lang="ru-RU" sz="3600" spc="-1" strike="noStrike">
                <a:solidFill>
                  <a:srgbClr val="006699"/>
                </a:solidFill>
                <a:latin typeface="Verdana"/>
              </a:rPr>
              <a:t>СПб ГБСУСО ДДИ №4</a:t>
            </a:r>
            <a:br>
              <a:rPr sz="3600"/>
            </a:b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90040" y="102960"/>
            <a:ext cx="1099188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Verdana"/>
              </a:rPr>
              <a:t>Обучение жестам, являющимся имитацией простых предметных действий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8840" y="2463480"/>
            <a:ext cx="600372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Ложка, кушать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Каша, варить кашу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• </a:t>
            </a: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Чашка, пить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• </a:t>
            </a: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Зубная щётка, чистить зубы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• </a:t>
            </a: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Умываться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• </a:t>
            </a: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Причёсываться.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Телефон, звонить по телефону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85680" y="1355760"/>
            <a:ext cx="11374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На этом этапе ведется работа над формированием следующих жестов:</a:t>
            </a:r>
            <a:endParaRPr b="0" lang="en-US" sz="32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189" name=""/>
          <p:cNvSpPr/>
          <p:nvPr/>
        </p:nvSpPr>
        <p:spPr>
          <a:xfrm>
            <a:off x="6491160" y="2584440"/>
            <a:ext cx="5643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Машина, ехать на машине.</a:t>
            </a:r>
            <a:endParaRPr b="0" lang="en-US" sz="3200" spc="-1" strike="noStrike">
              <a:solidFill>
                <a:srgbClr val="006699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• </a:t>
            </a: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Спать.</a:t>
            </a:r>
            <a:endParaRPr b="0" lang="en-US" sz="3200" spc="-1" strike="noStrike">
              <a:solidFill>
                <a:srgbClr val="006699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• </a:t>
            </a: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Плакать.</a:t>
            </a:r>
            <a:endParaRPr b="0" lang="en-US" sz="3200" spc="-1" strike="noStrike">
              <a:solidFill>
                <a:srgbClr val="006699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• </a:t>
            </a: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Поцеловать.</a:t>
            </a:r>
            <a:endParaRPr b="0" lang="en-US" sz="3200" spc="-1" strike="noStrike">
              <a:solidFill>
                <a:srgbClr val="006699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• </a:t>
            </a: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Упасть.</a:t>
            </a:r>
            <a:endParaRPr b="0" lang="en-US" sz="3200" spc="-1" strike="noStrike">
              <a:solidFill>
                <a:srgbClr val="006699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• </a:t>
            </a: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Идти.</a:t>
            </a:r>
            <a:endParaRPr b="0" lang="en-US" sz="3200" spc="-1" strike="noStrike">
              <a:solidFill>
                <a:srgbClr val="006699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• </a:t>
            </a: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Холодно, замёрз.</a:t>
            </a:r>
            <a:endParaRPr b="0" lang="en-US" sz="3200" spc="-1" strike="noStrike">
              <a:solidFill>
                <a:srgbClr val="0066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90040" y="102960"/>
            <a:ext cx="1099188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Обучение жестам описательного характера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61960" y="1468440"/>
            <a:ext cx="10972800" cy="38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•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Зайчик — показать, как прыгает зайчик или изобразить «ушки»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27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•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Кошка — погладить ладонью одной руки тыльную сторону другой руки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27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или изобразить усы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27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•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Курочка — жест «клюёт»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27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•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Лошадь — изобразить движение «скачем на лошадке»: руки сжаты в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27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кулачки и подняты на уровень груди, подскоки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27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•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Медведь — показать, как мишка ходит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27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•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Петушок — изобразить гребешок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27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•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Птичка — жест «полетели»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27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•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Мышка — рукой, сжатой в кулак, показать, как мышка бегает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27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•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Свинка — жест «пятачок»: кулаком или указательным пальцем потереть нос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27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•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Собака — жест «лает»: большой палец противопоставлен остальным,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27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несколько раз сомкнуть и разомкнуть пальцы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955800" y="5200560"/>
            <a:ext cx="6070320" cy="13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99"/>
                </a:solidFill>
                <a:latin typeface="Verdana"/>
              </a:rPr>
              <a:t>Спасибо за внимание!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3" name=""/>
          <p:cNvSpPr/>
          <p:nvPr/>
        </p:nvSpPr>
        <p:spPr>
          <a:xfrm>
            <a:off x="857160" y="750960"/>
            <a:ext cx="11061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99"/>
                </a:solidFill>
                <a:latin typeface="Verdana"/>
              </a:rPr>
              <a:t>Овладение детьми альтернативной (дополнительной) коммуникацией с помощью жестов открывает перед ними двери к общению со взрослыми и сверстниками, дают им возможность быть понятыми и выразить свои желания и чувства.</a:t>
            </a:r>
            <a:endParaRPr b="0" lang="en-US" sz="3600" spc="-1" strike="noStrike">
              <a:solidFill>
                <a:srgbClr val="0066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90040" y="102960"/>
            <a:ext cx="1099188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Жест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Arial "/>
              </a:rPr>
              <a:t> </a:t>
            </a:r>
            <a:r>
              <a:rPr b="0" lang="ru-RU" sz="3200" spc="-1" strike="noStrike">
                <a:solidFill>
                  <a:srgbClr val="006699"/>
                </a:solidFill>
                <a:latin typeface="Arial "/>
              </a:rPr>
              <a:t>(</a:t>
            </a:r>
            <a:r>
              <a:rPr b="0" i="1" lang="ru-RU" sz="3200" spc="-1" strike="noStrike">
                <a:solidFill>
                  <a:srgbClr val="006699"/>
                </a:solidFill>
                <a:latin typeface="Arial "/>
              </a:rPr>
              <a:t>лат. </a:t>
            </a:r>
            <a:r>
              <a:rPr b="0" lang="ru-RU" sz="3200" spc="-1" strike="noStrike">
                <a:solidFill>
                  <a:srgbClr val="006699"/>
                </a:solidFill>
                <a:latin typeface="Arial "/>
              </a:rPr>
              <a:t>gestus — движение тела) — некоторое действие или движение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Arial "/>
              </a:rPr>
              <a:t>человеческого тела или его части, имеющее определённое значение или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Arial "/>
              </a:rPr>
              <a:t>  </a:t>
            </a:r>
            <a:r>
              <a:rPr b="0" lang="ru-RU" sz="3200" spc="-1" strike="noStrike">
                <a:solidFill>
                  <a:srgbClr val="006699"/>
                </a:solidFill>
                <a:latin typeface="Arial "/>
              </a:rPr>
              <a:t>смысл, то есть являющееся знаком или символом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90040" y="102960"/>
            <a:ext cx="1099188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Преимущества системы жестов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Руками для использования системы жестов мы можем воспользоваться всегда, в отличие от других специальных приспособлений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•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Язык жестов легче понять и «воспроизвести», чем речь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•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Язык жестов наглядeн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•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Ребёнку можно помочь своими руками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•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Обращение идёт непосредственно к тому, с кем говорят, и имеет место   зрительный контакт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90040" y="102960"/>
            <a:ext cx="1099188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Принципы работы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от более реального – к более абстрактному;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принцип избыточности символов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(совмещение различных систем коммуникации: слово, жест, картинка, пиктограмма);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принцип постоянной поддержки мотивации;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принцип функционального использования в коммуникации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90040" y="102960"/>
            <a:ext cx="1099188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Этапы изучения системы жестов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диагностический этап;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пропедевтика;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формирование указательного жеста;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обучение символическим социальным жестам;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обучение жестам, являющимся имитацией простых предметных действий;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обучение жестам описательного характера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90040" y="102960"/>
            <a:ext cx="1099188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Диагностический этап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Формировать коммуникацию с помощью жестов рекомендуем детям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имеющим подражательную активность;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имеющим достаточно развитую мелкую моторику рук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90040" y="102960"/>
            <a:ext cx="1099188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Пропедевтика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упражнения на осязание (их цель – помочь ребенку осознать собственные руки);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упражнения на хватание;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упражнения на развитие мелкой моторики;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пальчиковые игры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90040" y="102960"/>
            <a:ext cx="1099188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Формирование указательного жеста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Именно на основе указательного жеста формируются все остальные жесты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Этапы формирования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указательный жест всей ладонью;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частично сформированный указательный жест;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сформированный указательный жест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90040" y="102960"/>
            <a:ext cx="1099188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Обучение символическим социальным жестам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714240" y="1901880"/>
            <a:ext cx="5315040" cy="38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•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Да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•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Нет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•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Нельзя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•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Дай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•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На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•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Дай ручку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Иди сюда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•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Уходи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6190920" y="1846080"/>
            <a:ext cx="5816520" cy="38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•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Сядь.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Встань, поднимись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•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Привет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•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До свидания (пока – пока)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•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Спасибо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•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Мой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•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Я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814320" y="1162080"/>
            <a:ext cx="1107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99"/>
                </a:solidFill>
                <a:latin typeface="Verdana"/>
              </a:rPr>
              <a:t>Символические социальные жесты это:</a:t>
            </a:r>
            <a:endParaRPr b="0" lang="en-US" sz="36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185" name=""/>
          <p:cNvSpPr/>
          <p:nvPr/>
        </p:nvSpPr>
        <p:spPr>
          <a:xfrm>
            <a:off x="739800" y="5729400"/>
            <a:ext cx="1105704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99"/>
                </a:solidFill>
                <a:latin typeface="Verdana"/>
              </a:rPr>
              <a:t>Изучение их происходит в ходе коммуникации, игр, разучивания коротких стихов.</a:t>
            </a:r>
            <a:endParaRPr b="0" lang="en-US" sz="3600" spc="-1" strike="noStrike">
              <a:solidFill>
                <a:srgbClr val="0066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9-22T13:54:56Z</dcterms:created>
  <dc:creator>1</dc:creator>
  <dc:description/>
  <dc:language>en-US</dc:language>
  <cp:lastModifiedBy>PAV</cp:lastModifiedBy>
  <dcterms:modified xsi:type="dcterms:W3CDTF">2021-05-26T09:00:19Z</dcterms:modified>
  <cp:revision>17</cp:revision>
  <dc:subject/>
  <dc:title>Презентация PowerPoint</dc:title>
</cp:coreProperties>
</file>