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1199813" cy="7812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638-6087-49CF-A8AB-EEA0E578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0160" y="1821960"/>
            <a:ext cx="1007748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0160" y="4515480"/>
            <a:ext cx="1007748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BB1-28F9-48B3-9EB9-85BA8438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0160" y="182196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24000" y="182196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0160" y="451548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24000" y="451548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35C-1410-4965-9CF3-A5AC9BC3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0160" y="1821960"/>
            <a:ext cx="324468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67560" y="1821960"/>
            <a:ext cx="324468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74600" y="1821960"/>
            <a:ext cx="324468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0160" y="4515480"/>
            <a:ext cx="324468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67560" y="4515480"/>
            <a:ext cx="324468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74600" y="4515480"/>
            <a:ext cx="324468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7E3E-5B55-48CB-A670-D363D203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0160" y="1821960"/>
            <a:ext cx="1007748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ED6-B3AA-4A92-B1A6-F6ABC80B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0160" y="1821960"/>
            <a:ext cx="10077480" cy="515628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71A-7299-4633-A457-DC0A3F29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0160" y="1821960"/>
            <a:ext cx="4917600" cy="515628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24000" y="1821960"/>
            <a:ext cx="4917600" cy="515628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DC4-E750-4B90-AC0A-659D2709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31A2-820A-49C9-AD84-E205DA25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0160" y="312840"/>
            <a:ext cx="1007748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F9D-8D89-4B57-ADF8-44522A8F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0160" y="182196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24000" y="1821960"/>
            <a:ext cx="4917600" cy="515628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0160" y="451548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897-CF30-4873-8315-D8ECC564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0160" y="1821960"/>
            <a:ext cx="4917600" cy="515628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24000" y="182196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24000" y="451548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5CB-7545-4A4E-9D80-ECDDE296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0160" y="182196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24000" y="182196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0160" y="4515480"/>
            <a:ext cx="1007748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111-F9B2-47F2-90E6-83881FFD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0160" y="1821960"/>
            <a:ext cx="10077480" cy="515628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marL="406440" indent="-406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80920" indent="-33804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2" marL="1357200" indent="-271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3" marL="1900080" indent="-27144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4" marL="2443320" indent="-27144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5" marL="2443320" indent="-27144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6" marL="2443320" indent="-27144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0520" y="7240320"/>
            <a:ext cx="2612880" cy="41580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25720" y="7240320"/>
            <a:ext cx="3546720" cy="41580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24400" y="7240320"/>
            <a:ext cx="2613240" cy="41580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DA4D6303-8D36-459B-88A6-A6BA86B916CD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st.depositphotos.com/1230058/2567/v/950/depositphotos_25678255-stock-illustration-grass-frame-with-ladybugs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817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2133720" y="1163520"/>
            <a:ext cx="6997680" cy="6201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s://yt3.ggpht.com/a-/AN66SAzFnwIztfMpZRWtxQzW-TWmzNoh8286fj4JsA=s800-mo-c-c0xffffffff-rj-k-no"/>
          <p:cNvPicPr/>
          <p:nvPr/>
        </p:nvPicPr>
        <p:blipFill>
          <a:blip r:embed="rId3"/>
          <a:stretch/>
        </p:blipFill>
        <p:spPr>
          <a:xfrm>
            <a:off x="3870360" y="2033640"/>
            <a:ext cx="3457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3654360" y="3823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ование «Лучок- жёлтый боч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Artur\Desktop\Новая папка\IMG-20210524-WA0053.jpg"/>
          <p:cNvPicPr/>
          <p:nvPr/>
        </p:nvPicPr>
        <p:blipFill>
          <a:blip r:embed="rId2"/>
          <a:stretch/>
        </p:blipFill>
        <p:spPr>
          <a:xfrm>
            <a:off x="1278000" y="1386000"/>
            <a:ext cx="3510000" cy="468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Artur\Desktop\Новая папка\IMG-20210524-WA0054.jpg"/>
          <p:cNvPicPr/>
          <p:nvPr/>
        </p:nvPicPr>
        <p:blipFill>
          <a:blip r:embed="rId3"/>
          <a:stretch/>
        </p:blipFill>
        <p:spPr>
          <a:xfrm>
            <a:off x="6319800" y="1386000"/>
            <a:ext cx="351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"/>
          <p:cNvSpPr/>
          <p:nvPr/>
        </p:nvSpPr>
        <p:spPr>
          <a:xfrm>
            <a:off x="3654360" y="3823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ование «Лучок- жёлтый боч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Artur\Desktop\Новая папка\IMG-20210524-WA0030.jpg"/>
          <p:cNvPicPr/>
          <p:nvPr/>
        </p:nvPicPr>
        <p:blipFill>
          <a:blip r:embed="rId2"/>
          <a:stretch/>
        </p:blipFill>
        <p:spPr>
          <a:xfrm>
            <a:off x="1495440" y="1314360"/>
            <a:ext cx="3510000" cy="468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Artur\Desktop\Новая папка\IMG-20210524-WA0031.jpg"/>
          <p:cNvPicPr/>
          <p:nvPr/>
        </p:nvPicPr>
        <p:blipFill>
          <a:blip r:embed="rId3"/>
          <a:stretch/>
        </p:blipFill>
        <p:spPr>
          <a:xfrm>
            <a:off x="6462720" y="1314360"/>
            <a:ext cx="351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3654360" y="3823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ование «Лучок- жёлтый боч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Users\Artur\Desktop\Новая папка\IMG-20210524-WA0029.jpg"/>
          <p:cNvPicPr/>
          <p:nvPr/>
        </p:nvPicPr>
        <p:blipFill>
          <a:blip r:embed="rId2"/>
          <a:stretch/>
        </p:blipFill>
        <p:spPr>
          <a:xfrm>
            <a:off x="2143080" y="124128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3511440" y="483120"/>
            <a:ext cx="76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ение лука в пищ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457200"/>
            <a:ext cx="1119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C:\Users\Artur\Desktop\Новая папка\IMG-20210524-WA0047.jpg"/>
          <p:cNvPicPr/>
          <p:nvPr/>
        </p:nvPicPr>
        <p:blipFill>
          <a:blip r:embed="rId2"/>
          <a:stretch/>
        </p:blipFill>
        <p:spPr>
          <a:xfrm>
            <a:off x="774720" y="1096920"/>
            <a:ext cx="2970360" cy="396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C:\Users\Artur\Desktop\Новая папка\IMG-20210524-WA0057.jpg"/>
          <p:cNvPicPr/>
          <p:nvPr/>
        </p:nvPicPr>
        <p:blipFill>
          <a:blip r:embed="rId3"/>
          <a:stretch/>
        </p:blipFill>
        <p:spPr>
          <a:xfrm>
            <a:off x="7327800" y="1025640"/>
            <a:ext cx="2968560" cy="396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C:\Users\Artur\Desktop\Новая папка\IMG-20210524-WA0063.jpg"/>
          <p:cNvPicPr/>
          <p:nvPr/>
        </p:nvPicPr>
        <p:blipFill>
          <a:blip r:embed="rId4"/>
          <a:stretch/>
        </p:blipFill>
        <p:spPr>
          <a:xfrm>
            <a:off x="4014720" y="2970360"/>
            <a:ext cx="297036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22320"/>
            <a:ext cx="11198160" cy="7789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Artur\Desktop\Новая папка\IMG-20210524-WA0058.jpg"/>
          <p:cNvPicPr/>
          <p:nvPr/>
        </p:nvPicPr>
        <p:blipFill>
          <a:blip r:embed="rId2"/>
          <a:stretch/>
        </p:blipFill>
        <p:spPr>
          <a:xfrm>
            <a:off x="1854360" y="1314360"/>
            <a:ext cx="3509640" cy="4680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Artur\Desktop\Новая папка\IMG-20210524-WA0061.jpg"/>
          <p:cNvPicPr/>
          <p:nvPr/>
        </p:nvPicPr>
        <p:blipFill>
          <a:blip r:embed="rId3"/>
          <a:stretch/>
        </p:blipFill>
        <p:spPr>
          <a:xfrm>
            <a:off x="6391440" y="1314360"/>
            <a:ext cx="3509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414360" y="378000"/>
            <a:ext cx="10369440" cy="59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Дети не любят лук. А чтобы полюбить его, нужно узнать, как его выращивать и понять, сколько сил, труда и терпения нужно приложить, чтобы у нас на столе был л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 и задач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ю проекта является создание условий для развития познавательного интереса и экспериментальной деятельности, раскрытие творческого и интеллектуального потенциала дошкольников, вовлечение детей и их родителей в практическую деятельность по выращиванию л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этому основными задачами реализации проекта является следующ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Дать знания, что растения живые, их поливают, сажают, выращивают. Расширять знания детей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езных свойствах лука его строение и условиях, необходимых для его ро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Уточнить представления о труде взрослых, учить детей правильно называть труд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Воспитывать трудолюбие, бережное отношение к раст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Получить положительные эмоции от полученн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Обогащать словарный запас, развивать связную реч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Создать условия для участия родителей в образовательном проце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hozvo.ru/photos/storage/bitrix/upload/medialibrary/1ea/luk.png"/>
          <p:cNvPicPr/>
          <p:nvPr/>
        </p:nvPicPr>
        <p:blipFill>
          <a:blip r:embed="rId2"/>
          <a:stretch/>
        </p:blipFill>
        <p:spPr>
          <a:xfrm>
            <a:off x="8407440" y="4332240"/>
            <a:ext cx="2635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0" y="640080"/>
            <a:ext cx="1119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адка лука в землю и в вод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C:\Users\Artur\Desktop\Новая папка\IMG-20210524-WA0013.jpg"/>
          <p:cNvPicPr/>
          <p:nvPr/>
        </p:nvPicPr>
        <p:blipFill>
          <a:blip r:embed="rId2"/>
          <a:stretch/>
        </p:blipFill>
        <p:spPr>
          <a:xfrm>
            <a:off x="738360" y="954000"/>
            <a:ext cx="2970000" cy="396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C:\Users\Artur\Desktop\Новая папка\IMG-20210524-WA0015.jpg"/>
          <p:cNvPicPr/>
          <p:nvPr/>
        </p:nvPicPr>
        <p:blipFill>
          <a:blip r:embed="rId3"/>
          <a:stretch/>
        </p:blipFill>
        <p:spPr>
          <a:xfrm>
            <a:off x="7112160" y="1025640"/>
            <a:ext cx="2519280" cy="39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Users\Artur\Desktop\Новая папка\IMG-20210524-WA0036.jpg"/>
          <p:cNvPicPr/>
          <p:nvPr/>
        </p:nvPicPr>
        <p:blipFill>
          <a:blip r:embed="rId4"/>
          <a:stretch/>
        </p:blipFill>
        <p:spPr>
          <a:xfrm>
            <a:off x="3798720" y="2681280"/>
            <a:ext cx="3240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Artur\Desktop\Новая папка\IMG-20210524-WA0017.jpg"/>
          <p:cNvPicPr/>
          <p:nvPr/>
        </p:nvPicPr>
        <p:blipFill>
          <a:blip r:embed="rId2"/>
          <a:stretch/>
        </p:blipFill>
        <p:spPr>
          <a:xfrm>
            <a:off x="1062000" y="738360"/>
            <a:ext cx="2881440" cy="384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:\Users\Artur\Desktop\Новая папка\IMG-20210524-WA0034.jpg"/>
          <p:cNvPicPr/>
          <p:nvPr/>
        </p:nvPicPr>
        <p:blipFill>
          <a:blip r:embed="rId3"/>
          <a:stretch/>
        </p:blipFill>
        <p:spPr>
          <a:xfrm>
            <a:off x="7399440" y="665280"/>
            <a:ext cx="2933640" cy="391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Users\Artur\Desktop\Новая папка\IMG-20210524-WA0015.jpg"/>
          <p:cNvPicPr/>
          <p:nvPr/>
        </p:nvPicPr>
        <p:blipFill>
          <a:blip r:embed="rId4"/>
          <a:stretch/>
        </p:blipFill>
        <p:spPr>
          <a:xfrm>
            <a:off x="4086360" y="2681280"/>
            <a:ext cx="313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0" y="0"/>
            <a:ext cx="1119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028040" y="243000"/>
            <a:ext cx="314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блюдение за лук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C:\Users\Artur\Desktop\Новая папка\IMG-20210524-WA0037.jpg"/>
          <p:cNvPicPr/>
          <p:nvPr/>
        </p:nvPicPr>
        <p:blipFill>
          <a:blip r:embed="rId2"/>
          <a:stretch/>
        </p:blipFill>
        <p:spPr>
          <a:xfrm>
            <a:off x="1206360" y="809640"/>
            <a:ext cx="2970360" cy="396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Artur\Desktop\Новая папка\IMG-20210524-WA0035.jpg"/>
          <p:cNvPicPr/>
          <p:nvPr/>
        </p:nvPicPr>
        <p:blipFill>
          <a:blip r:embed="rId3"/>
          <a:stretch/>
        </p:blipFill>
        <p:spPr>
          <a:xfrm>
            <a:off x="4303800" y="2681280"/>
            <a:ext cx="2968560" cy="396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Users\Artur\Desktop\Новая папка\IMG-20210524-WA0036.jpg"/>
          <p:cNvPicPr/>
          <p:nvPr/>
        </p:nvPicPr>
        <p:blipFill>
          <a:blip r:embed="rId4"/>
          <a:stretch/>
        </p:blipFill>
        <p:spPr>
          <a:xfrm>
            <a:off x="7399440" y="809640"/>
            <a:ext cx="297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0" y="308520"/>
            <a:ext cx="1119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матриваем части лука ( корень, перо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Users\Artur\Desktop\Новая папка\IMG-20210524-WA0039.jpg"/>
          <p:cNvPicPr/>
          <p:nvPr/>
        </p:nvPicPr>
        <p:blipFill>
          <a:blip r:embed="rId2"/>
          <a:stretch/>
        </p:blipFill>
        <p:spPr>
          <a:xfrm>
            <a:off x="1782720" y="1170000"/>
            <a:ext cx="3456000" cy="4608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Artur\Desktop\Новая папка\IMG-20210524-WA0040.jpg"/>
          <p:cNvPicPr/>
          <p:nvPr/>
        </p:nvPicPr>
        <p:blipFill>
          <a:blip r:embed="rId3"/>
          <a:stretch/>
        </p:blipFill>
        <p:spPr>
          <a:xfrm>
            <a:off x="6031080" y="1170000"/>
            <a:ext cx="3456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3727440" y="469080"/>
            <a:ext cx="747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ка «Лук- наш др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457200"/>
            <a:ext cx="1119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C:\Users\Artur\Desktop\Новая папка\IMG-20210524-WA0032.jpg"/>
          <p:cNvPicPr/>
          <p:nvPr/>
        </p:nvPicPr>
        <p:blipFill>
          <a:blip r:embed="rId2"/>
          <a:stretch/>
        </p:blipFill>
        <p:spPr>
          <a:xfrm>
            <a:off x="1206360" y="1096920"/>
            <a:ext cx="3745080" cy="4992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C:\Users\Artur\Desktop\Новая папка\IMG-20210524-WA0033.jpg"/>
          <p:cNvPicPr/>
          <p:nvPr/>
        </p:nvPicPr>
        <p:blipFill>
          <a:blip r:embed="rId3"/>
          <a:stretch/>
        </p:blipFill>
        <p:spPr>
          <a:xfrm>
            <a:off x="6319800" y="1096920"/>
            <a:ext cx="3726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Artur\Desktop\Новая папка\IMG-20210524-WA0055.jpg"/>
          <p:cNvPicPr/>
          <p:nvPr/>
        </p:nvPicPr>
        <p:blipFill>
          <a:blip r:embed="rId2"/>
          <a:stretch/>
        </p:blipFill>
        <p:spPr>
          <a:xfrm>
            <a:off x="1638360" y="1386000"/>
            <a:ext cx="2484360" cy="3311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Users\Artur\Desktop\Новая папка\IMG-20210524-WA0056.jpg"/>
          <p:cNvPicPr/>
          <p:nvPr/>
        </p:nvPicPr>
        <p:blipFill>
          <a:blip r:embed="rId3"/>
          <a:stretch/>
        </p:blipFill>
        <p:spPr>
          <a:xfrm>
            <a:off x="7075440" y="1386000"/>
            <a:ext cx="2538360" cy="3384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Users\Artur\Desktop\Новая папка\IMG-20210524-WA0028.jpg"/>
          <p:cNvPicPr/>
          <p:nvPr/>
        </p:nvPicPr>
        <p:blipFill>
          <a:blip r:embed="rId4"/>
          <a:stretch/>
        </p:blipFill>
        <p:spPr>
          <a:xfrm>
            <a:off x="4302000" y="3041640"/>
            <a:ext cx="259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3583080" y="259920"/>
            <a:ext cx="76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ение за ростом л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6" descr="E:\2 младшая группа\проект 2\20190329_090910.jpg"/>
          <p:cNvPicPr/>
          <p:nvPr/>
        </p:nvPicPr>
        <p:blipFill>
          <a:blip r:embed="rId2"/>
          <a:stretch/>
        </p:blipFill>
        <p:spPr>
          <a:xfrm>
            <a:off x="990720" y="4697280"/>
            <a:ext cx="1655640" cy="21369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E:\2 младшая группа\проект 2\20190329_090926.jpg"/>
          <p:cNvPicPr/>
          <p:nvPr/>
        </p:nvPicPr>
        <p:blipFill>
          <a:blip r:embed="rId3"/>
          <a:stretch/>
        </p:blipFill>
        <p:spPr>
          <a:xfrm>
            <a:off x="3438360" y="4697280"/>
            <a:ext cx="1665360" cy="22212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E:\2 младшая группа\проект 2\20190408_073619.jpg"/>
          <p:cNvPicPr/>
          <p:nvPr/>
        </p:nvPicPr>
        <p:blipFill>
          <a:blip r:embed="rId4"/>
          <a:stretch/>
        </p:blipFill>
        <p:spPr>
          <a:xfrm>
            <a:off x="5599080" y="4626000"/>
            <a:ext cx="1646280" cy="21556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9" descr="E:\2 младшая группа\проект 2\20190408_073642.jpg"/>
          <p:cNvPicPr/>
          <p:nvPr/>
        </p:nvPicPr>
        <p:blipFill>
          <a:blip r:embed="rId5"/>
          <a:stretch/>
        </p:blipFill>
        <p:spPr>
          <a:xfrm>
            <a:off x="7975440" y="4554360"/>
            <a:ext cx="1783080" cy="2332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C:\Users\Artur\Desktop\Новая папка\IMG-20210524-WA0052.jpg"/>
          <p:cNvPicPr/>
          <p:nvPr/>
        </p:nvPicPr>
        <p:blipFill>
          <a:blip r:embed="rId6"/>
          <a:stretch/>
        </p:blipFill>
        <p:spPr>
          <a:xfrm>
            <a:off x="1566720" y="954000"/>
            <a:ext cx="2538720" cy="3382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:\Users\Artur\Desktop\Новая папка\IMG-20210524-WA0049.jpg"/>
          <p:cNvPicPr/>
          <p:nvPr/>
        </p:nvPicPr>
        <p:blipFill>
          <a:blip r:embed="rId7"/>
          <a:stretch/>
        </p:blipFill>
        <p:spPr>
          <a:xfrm>
            <a:off x="5167440" y="98892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1T16:32:52Z</dcterms:created>
  <dc:creator>Хозяин</dc:creator>
  <dc:description/>
  <dc:language>en-US</dc:language>
  <cp:lastModifiedBy>BasseRed</cp:lastModifiedBy>
  <dcterms:modified xsi:type="dcterms:W3CDTF">2021-05-26T08:30:42Z</dcterms:modified>
  <cp:revision>15</cp:revision>
  <dc:subject/>
  <dc:title>Слайд 1</dc:title>
</cp:coreProperties>
</file>