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BD2-6C98-48E9-B2AE-927A3031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964-D375-4CE9-BDC7-BDEC0E4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211-9F91-472A-ADB7-96B56208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A2B-497D-432F-A920-530C4E8E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4CC-9F43-4C87-A488-E2D8E33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6B18-FAE9-4EE7-BABC-85EB9D4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C943-1A00-4359-A1C1-0089332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E93A-B8C5-4670-9092-EACE5269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72C-E97C-4B75-95DB-0777C76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CAEE-5806-48AF-9C76-F7448D9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DD1F-09EB-4FFE-9D03-CE93134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AE6-F90F-4298-9288-A587B25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8F2-55C8-476F-B3E0-0B9BB3F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147F-E0A3-4424-9250-1472734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89C-F23C-4370-BB53-C9AC136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FC8D-5E0B-4520-BA13-AC7D1C79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F5A-43EC-493D-A4DD-AE0A4F4F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25C05-DC57-41FD-9FAD-123D6C1F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98D5E-C903-4D36-89F0-5718E72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ADEA7-AFC7-41C5-8DB4-CFD1AC8D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AC4F9-BDC3-4039-AC8E-0B543AE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27063-A4E1-4779-969D-ED5A542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827-08D6-4FD5-8B60-B413941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69A59-FD96-4D35-BA9C-1123C482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EE398-43F6-46F7-8DB8-02CDB410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B40EC-F430-4136-9431-2B8B860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52A15-7620-451B-A195-E8041DD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F43A2-AB28-4D3E-A38A-2FA321B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C4160-1B3B-4976-B2F2-EDA1BF4A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1453A-1ECA-4A59-92DF-7A141F2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81DB-7D1E-4CA0-9AD5-02577ADA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62F9-4D8E-49F2-8B8E-23F7787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91F6-B3BC-44AF-986D-E41EAF4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38D-2D8B-4D55-B917-70A1C7E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D556-EF65-4360-807A-14E8D30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0469-94A1-4EE1-9C3B-3BBAF2B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8D76-ADEA-4147-8E48-71C218A1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A47FD-2EAF-4CE6-B3A4-45A2FEB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E180-6016-4B5B-92AE-6E3F28D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1DC4C-3768-4A59-8CD4-557E1C2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1C09-9810-49EF-B984-3E16841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6D88-E8BA-433F-BEE9-5BE314F7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D66B-2430-40A0-961E-ACDEE7C6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F40-6650-4499-9A55-7424F57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EE6-3ECF-4559-8F5A-70F353BB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52F-A896-4620-95E3-3CA14009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FEB-B985-4253-ADB9-9EE4DB1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3F3-2E76-4909-BAA5-7BD15F86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5BB-B40E-47F7-AE14-29511C5B3FDF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67c8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545-0F2F-474A-98E9-6432799BCA8F}" type="slidenum">
              <a:rPr b="0" lang="ru-RU" sz="1200" spc="-1" strike="noStrike">
                <a:solidFill>
                  <a:srgbClr val="4e67c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20B-6D6C-48D2-99BC-94A5ABDF2D92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05D6-FBDD-41A9-BB11-336088094B8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igemon-pafnutiy/album/145609/?&amp;p=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41320" y="776160"/>
            <a:ext cx="5745240" cy="4727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152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альчик одевается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Прямоугольник 6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Овал 4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66760" y="907920"/>
            <a:ext cx="5429520" cy="44658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9800" y="-3528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вочка ест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827360" y="1125360"/>
            <a:ext cx="5443560" cy="44769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1520" y="-464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вочка ест суп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оугольник 5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692360" y="1065240"/>
            <a:ext cx="6086520" cy="4537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000" y="-781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альчик рисует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1520" y="-20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евочка поет песню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Прямоугольник 9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Овал 10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Прямоугольник 11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658880" y="914400"/>
            <a:ext cx="5434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655640" y="1000080"/>
            <a:ext cx="5830920" cy="47847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620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евочка делает зарядк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Прямоугольник 5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09680" y="1341360"/>
            <a:ext cx="5061240" cy="4041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1520" y="-171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альчик лепит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67c8"/>
                </a:solidFill>
                <a:latin typeface="Century Gothic"/>
              </a:rPr>
              <a:t>МОЛОДЦЫ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61936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67c8"/>
                </a:solidFill>
                <a:latin typeface="Century Gothic"/>
              </a:rPr>
              <a:t>Источники: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Century Gothic"/>
              </a:rPr>
              <a:t>Картинки из пособия О.С. Гомзяк говорим правильно в 5-6 лет Альбом №1  упражнений по обучению грамоте детей старшей логогруппы.- М. : Издательство ГНОМ, 2001. – 32 с. – (Комплексный подход к преодолению ОНР у дошкольников)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Century Gothic"/>
              </a:rPr>
              <a:t>Смайлик -  </a:t>
            </a:r>
            <a:r>
              <a:rPr b="0" lang="en-US" sz="2400" spc="-1" strike="noStrike" u="sng">
                <a:solidFill>
                  <a:srgbClr val="56c7aa"/>
                </a:solidFill>
                <a:uFillTx/>
                <a:latin typeface="Century Gothic"/>
                <a:hlinkClick r:id="rId1"/>
              </a:rPr>
              <a:t>http://fotki.yandex.ru/users/igemon-pafnutiy/album/145609/?&amp;p=2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4:10:33Z</dcterms:created>
  <dc:creator>Пользователь Windows</dc:creator>
  <dc:description/>
  <dc:language>en-US</dc:language>
  <cp:lastModifiedBy>olya</cp:lastModifiedBy>
  <dcterms:modified xsi:type="dcterms:W3CDTF">2020-11-10T16:19:12Z</dcterms:modified>
  <cp:revision>7</cp:revision>
  <dc:subject/>
  <dc:title>Презентация PowerPoint</dc:title>
</cp:coreProperties>
</file>