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35E-715A-49AD-8DFB-1C2E1439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2CD-074A-45C9-8B40-2DE76D7C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CEFB6-4173-4714-8CCC-3FAD4F95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3855F-F2B8-4C21-B9E1-CAE05588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F74FA-2021-476F-B0C3-75FB75F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33BEF-8865-45BB-AD39-6684F98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1CA12-E15C-4376-976C-7FE6CF2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00E69-9EC3-4F9D-AE47-71BD5A66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0160D-636A-41F1-A356-74C16118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9982F-0A7C-4348-8F46-FA4DCBE5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8966B-3139-41E0-97D0-C6DC261E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AD2AD-285B-482B-B228-43DDA2E0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C60-5961-40B8-BB73-53A081B1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B6943-51B4-4686-BA84-A166A5EE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0FBB9-0B62-46BA-8AAD-2B2502CC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1DC58-A96C-4CED-BC78-14A34674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D74BC-703F-4DC5-9F4A-A8AC954E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55177-9F84-4261-B683-9045DC43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04BBB-8850-4D72-BF7C-128B92A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B01A4-A6D1-4D32-BDEA-9857C0D1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5659C-16AA-48A9-B2EA-8DC1E6D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876CF-4F37-49D5-830D-9792E072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0CFD6-D137-4818-8F71-777E23AC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772-43C7-4598-ACCD-B68CEF12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95198-B727-4C40-BD72-33B5D1D5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1F4F3-94A1-4943-9C2E-1A9D0F36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5D8FE-AB9A-487C-84D6-09AA74F6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C6CBA-9068-443A-8008-11556AD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EA9FF-8237-4BE7-9ADC-6DEADEC1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FFB66-5224-4367-AF6A-89B80909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A5292-74BC-46DA-A009-B6C1D352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2321-2580-4E97-B504-8953DB5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F1676-E033-4177-B04B-C61EE23A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3B90F-50EF-4CCC-BD96-335C488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2115-1B99-488D-B842-7B676339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7EB18-D8F0-4CAC-B55B-85E22228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4DB20-C026-47A5-8E49-720D6FD6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4CE9D-B737-4980-AA7D-DEF22738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C02F2-8A37-4C5C-83A2-DE22BCE0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11EC8-388E-4A82-B3AC-3C3C64A7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DE40E-F9D3-43F5-95B8-CD71EC20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1A874-D91D-4F79-8497-50153128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0716B-6468-4258-8ABB-30A0297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22CE5-A601-4401-9E28-BA860341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24470-E811-4D7D-803C-763363F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BA6D-FDA0-46ED-948A-92525375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79F00-BBD6-4FBE-BF1D-1735BEC6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ED904-7946-4FE8-B8C2-03C78B39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D7A44-0D02-47E2-B9E9-DB4C2816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D0EA8-A424-4149-BD27-DE266B21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E0A46-6B68-453E-9A25-E2B960D1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ECFB6-FAC0-4A46-A37E-632C5A96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70418-1E1A-438D-AFF6-14C785E0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3327A-AD14-49C6-8B87-35212026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FB051-900B-4D7D-B70F-FCA30693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57AFB-19E4-40EC-A433-465EBFAA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D931-F2EF-4736-9045-E852A1D8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CD9F2-AB5E-4AAD-A2AD-0D4E84A3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91962-C490-4034-AB15-F80C023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C2D27-AA8B-496E-A04E-E00F241C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EE462-0D34-42BA-8281-54F77777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DA0DD-7C30-4A26-BBF5-C60AFA25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C278F-BBFA-496F-BFA5-BEEDDBCF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AE5A1-1145-4860-9BA9-ED5151AF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FB12B-96A0-4477-8A6D-2B47FF65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EA65B-3B9A-4574-ABF6-56C20983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A7FF9-46DA-4230-9833-14367A94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3711-E3DA-47E5-90CC-EA506C93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CCAAD-3BA5-4274-8528-9A8319C9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798C0-C553-44D5-8D2B-AD09C959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38AA9-5164-4B85-A340-93C0B5E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D1E83-4623-4344-A803-51082463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D4494-AC16-4563-BFA7-B565762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996B2-1E17-4B26-A05A-72CF11CF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1A8C6-16B4-456C-9599-207438B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DC5E6-387F-47EB-90A5-36373493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AF8C4-6E44-4B7F-A396-7BA87275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31C41-D161-475B-A879-F062DC02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65A1-6227-4ACB-BB49-DE2A1202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77C47-8DC7-4578-9574-ECC285FB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C9643-6A7F-42ED-A994-C3561E3D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4EE35-DBD5-488B-9D46-DC812B13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42EC0-864E-40D5-ADF3-BCDB8ACA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9C63E-9AA0-4204-AAE8-F87BF7F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D7A4C-A098-412D-9E97-5D21E50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E448C-0D6F-4AAE-89DA-50B34672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919C4-B0EF-43E0-97FE-42D454C4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78359-4BE7-4020-BA5A-8420248B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66CD8-E563-49E6-9E03-0C053BD0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A403-88CF-4C2A-B5F2-7C6C2508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AC3C1-32D2-4201-9F4F-B2749E8D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E3FA1-3B7D-4D50-959F-38138750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F1BE1-48FA-4676-8B02-89A6255F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F6A79-6CA3-403D-A7E4-1782440E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104BD-0DE0-4EF0-81F3-53D497C5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1608A-1AAD-4568-9B68-35AEDC86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524BD-558D-4B85-9C09-9D0E1D41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AB165-0978-444F-AF01-9CD07504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02D5A-A926-48C5-A6E4-9A3C6F97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D649B-E4E0-4304-B82F-B053E32E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946E-92EB-4229-831D-FEC0D42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BA611-C71B-40B8-8E0D-A59B0415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50285-70D9-4DC6-830B-473F3F73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9558E-BC00-49B8-A908-52C983B6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7C31F-EA02-4CC0-A0E2-51D45D21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58589A-432F-4B2D-865F-F1ED607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22C6F-0B38-4C2D-B05B-AA3A5CF2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242DA-A9AE-4738-8405-4A2FA5BC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BFDE7-BBFF-4C84-8A9C-4C70A3D1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8787A-6550-42BD-8705-0B507A87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C9048-E2C1-4ED4-98BA-FA304D08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7D2-F577-4114-A6F3-A226686C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75C-5915-4059-AD6F-2CCA2B1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18E91-4F7C-4F62-ABFE-B2CAE7D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9CC663-50D9-4A98-A70F-7B350C5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E4508-33FF-47AF-A87B-9EABE037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62049-6441-4567-895C-93E361F9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CF9F8-6FA7-42D0-85F3-EBE02F68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9CB32-A6CA-49E3-B510-83C4837E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C134C-9192-4DE5-8C7D-4395EF6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07F1A-A7EB-4308-BE1B-E88FC819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E920E1-0B2E-4743-B69A-1FECB45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649AD-04F5-4750-99A8-86A010BD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885-B87F-4CA0-8548-6228232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EAE61-0404-4A09-90CA-AD278683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03D67-A885-41B0-8192-D2AB7180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2E5A3-4698-4B09-BF59-CF7F4E3D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5FE598-C3F3-4883-B1DF-B2295B4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EABE6-9086-4165-A841-D20C319A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16085-7C70-41F5-92CC-E7C04EB5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177F0-BEC4-4E48-B47C-BFEAB90B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6B0A2-AFCC-40F2-B1CC-35B4A9CF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51C36-1F77-4486-947B-F89C6BB0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5B2574-0B21-43FB-AF2F-0E71245F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E3F5-1F1C-427E-8E10-189DA12A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46915-307D-416F-A802-B6F698AA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EDBC5D-83AF-484E-A486-5243251C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33CFE-787D-444B-9F7D-E87AAF1C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FCD85-B8CC-4075-8B61-5E5CFF0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D459C-2656-4C68-BE75-59228C6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7C0B2-42BD-4846-B924-1783AED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CF63F-F5A0-49C7-9F59-745B1AE8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8BBE5-2034-4246-95A5-CAF3D424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6F4EF-7409-46DB-A436-4AE65310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D79E3F-D442-4425-B237-3D736CED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5EDA-25E7-4341-B7B8-D21A248D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4A1FF-BC9E-41E1-979B-7719EAAC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F7F6B-EC2F-4A8E-8CD9-18F7CA44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8955D-9969-4C11-AA83-28FE8346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1B7E9-11E3-4F2C-842A-AE7D6C9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AA67D-5235-421C-AE2C-F663D1E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17990-1411-44B3-9F47-F4D4822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FB524-5635-46C4-882D-F287B4CF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49AE4-6740-4BFF-875F-B77CA5B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F96F8-7AF6-45D1-8770-9814F735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BDA0B-AB3B-4A2D-AAD9-28D52772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008D-F4B4-4489-AD9F-23305DBB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12AFAA-7FDC-47EA-B6BC-8451BF9E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F31AE9-819E-4258-8773-F69D83FC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74029-BA33-4DDA-870C-0CCA5ACF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A3EB72-336B-472C-8ED4-A47C47DA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4B1EB-C6A1-405D-96EA-95666405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91E5B3-B352-4C93-9804-DE9C0F7C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FE194-2002-4DA1-860E-BA56E658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338F2-42D0-48F0-A115-C363AA57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A937F-7727-4791-87E9-59F63BE9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0E4D3-FB30-4691-A22D-5F3628E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484A-CE21-4865-BCAF-1CA643E3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DD1B5-38D8-492C-842A-31DF850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E66ED3-70C5-4B77-AC82-67627113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0FCEC-6682-42DA-938E-8FC17313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B1225C-8ECF-4406-A670-F28988AA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0F448-2752-45D3-A440-C3EC0AC8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DA3E1A-B6B6-4F66-98C5-3ACF1B8F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05159-B24C-4CF7-92CE-FBCAFF4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C99F27-DC3B-44E2-AA40-5BACBA7E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BC5515-2136-498C-A438-79F5135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0EB1B1-CEF4-405F-AEE1-A70A7901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7579-CC48-4A13-8456-4B1C1C76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1A8746-D32F-44DB-ABA3-C6BC15A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24B558-95AD-409A-9EE9-9E47DA5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F53325-297A-479C-A5C7-8A914D7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46F8CC-3528-4672-95B3-E89A61CD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F5B6E1-E061-41D9-ACDE-03EB0133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D4A475-2E41-4FEC-AEA7-93D0C047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D5E4DE-BBC9-4919-9868-3B11CDA3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0CADC5-D6C0-47DE-990A-35B151F3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61634B-3DF8-4D17-9D50-8878240F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05E177-BCA3-4215-9758-B19E99D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F8E1-1542-48AF-A0F8-D926D170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B54A5F-023C-43E2-B7FD-8C007F4B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E27B75-DAD8-4E39-98FE-3ED9BA74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0F472F-6E43-4ADF-BC4D-6EE6E73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B7403E-21D6-4827-9D48-D36E24A1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D44A95-4B44-4D04-B905-81389E42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CA9FBF-4C51-4959-AC97-07EBBE68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97F3FF-C648-4814-957B-3E3F6E11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4B99-F1D1-4277-8FDF-A18228F3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8199-5BC2-4941-B18B-47AE4EB3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04B-563A-4512-9371-E67A8F35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F341-8B9F-4C7D-980E-15F08542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A6D7-CE82-4A97-A938-6179306A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47E0-486B-4E93-A131-BD851E4D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D1F9-BDDB-4830-A77A-4941049A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EA0C-7666-401E-BDDA-A996419B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D266-9161-4A1E-90EC-F34F6DAB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9839-9AD1-49A5-8472-7EFB3E3C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43E71-19DE-4ABA-AFA0-A684DF9A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695E-3AF9-497A-BC0C-52DA7081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00FCE-DA52-4BB7-9204-AD9FDEBD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712-0343-4FA2-9B22-C4CA5D83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22AA-2663-4B75-8A7B-FA650DA3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D1ED5-7ED5-45B5-B53A-50443BCE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41A1-1EE3-47FC-91DD-0A43B90D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7A4D-B29C-464D-9D86-30B346D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4F66-767D-4CD1-A145-DB57DF9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733C2-C420-4ECF-AC28-AC2291D4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C4A3A-710E-4744-9546-CF802F1C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96A6-0E27-48D9-9885-8887AC5A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89BA2-671F-4BFE-B135-710114DA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76124-7E85-4A6C-BC54-C2B71C35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A00-9165-4376-A2F0-7F8D0495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3833E-DF7B-4B59-9687-D9F87F60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1E088-9C5B-4B5F-8815-2580E474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C4190-F389-43B1-8506-87FA23D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BF62-016C-4A28-B387-4AC19F6F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03DE-9B59-406A-A83C-25971721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31C9-B081-4E9E-BEA1-43C20A8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1BFD-0D00-48F0-9C6C-C97D6A9A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D5B3-176F-4C82-84FE-1FB39E18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D851-8C3A-4A93-A5A3-1D17EB9D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DF2ED-74D0-48DE-A929-8FF487FC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267-246F-4A51-9AAB-CDCB95AD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F7AE-5541-44B0-96BC-A8F2A86A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FDE7-C6A8-42B4-9A3A-95E5AF70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32A3-5C67-4598-B1EB-2DED995D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A08B-1E83-47D3-92A0-7CE64DF2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8E9F-C577-4E85-B646-2D3E9DBE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A89D6-5B00-4F59-A910-2FE51305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64D28-7DA1-452B-9FC4-1C1A8B4F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1265-DA9C-49BA-9DA5-1BA426FD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6C9CE-F7F7-406D-8458-CD379FCF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4C542-6500-4615-A8FE-F92A12B5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484-C6E7-4750-8A3B-DF08A0B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45CA-DA29-4FEC-B80A-BC46F90F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EDDE-D3EF-4AE0-BED2-5362DD1D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042CC-E410-442D-AE89-8F3FD4F6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9E67-8EC6-4883-AAE0-FB4D54E4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FADAC-614E-4DD6-873A-9820157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CD063-4F9B-48A5-AFAD-963B95D5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EA0A-6BB9-49DF-93A5-C550D50F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A3685-597D-466D-B75D-6A845100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A11D-9CA8-4A0C-A935-6EF74FC7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11997-80B0-4412-9684-B8D0C0E9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C18-8081-403A-BD68-26003DC0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8733B-E1B4-46C8-9BD0-188946C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9940-C8DA-416E-8C8E-6F608D2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1CFA-7609-43A2-89C1-E6F3A1DE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526D4-BE07-4872-8AAC-596B4704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82A52-B719-4D25-B13E-DF4D7880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A61B1-BD79-46F0-973F-254DCB51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2ECC5-D18C-497B-9466-68130E3F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1F66D-769C-414C-81A2-085B8B40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4F5D9-6029-4814-8F03-4A766C01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3E60-6B21-4BC0-B803-3C0FB569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201-D715-4934-809D-FB7CBE9D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59698-B260-459D-9A93-574733D7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6A9BF-4E02-4EDA-B402-E3C35E6C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9EC2B-F3CA-40B5-863E-7377FD28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452A8-5F7E-4CBA-A516-E9CEB76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CD7A-1F6B-4FB5-B5E4-449E0042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7721B-1916-4609-8C56-C258E353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49B09-8D2F-4D61-A0AF-CDD1C92C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CFE81-47C0-4D96-9FA9-51C6069B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EFF1B-EC96-4EC4-BDA5-565A1FD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D1DD7-44EC-46A2-A251-1DC08865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2CB7-7CE6-4093-9B46-6948DDD39E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0A6-B158-4B13-AF75-684366607E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244-E9A3-4094-8E7A-FF67A1BE9E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7326-2C14-448B-BBFA-4B6BF79122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C95D-84CB-4B3D-BAA2-8CC2ED61C7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46AC-C0FD-43E1-9CB9-75197F6E37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D7D-CACB-4260-8C34-15B8E78ED4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BDC6-439A-4A65-ADE7-B0A360DD0F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851C-D38D-4296-B04D-7E143F28C9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E2A7-4E44-482B-8B6E-2E83892B81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04E5-E589-41E9-A6AE-F472070EFC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8366-24B1-46D7-8B67-4142F0495A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34B-D10D-45AC-A268-2D705698F8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6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6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7AC3-D5FE-4A00-B629-D73C1EE6B6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29BE-89BF-401B-A04F-DC37479B88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FAE2-5031-4AF4-9145-0DD5FF9588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B7A8-A515-4B8F-941D-EFC8A92E90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72E8-3B20-4D7B-84D6-FA073C847E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118-D23F-4C82-A828-28F60A1B62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34FA-BCF7-49FE-B9B2-9B264FF9CA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D1BC-2CE7-4400-8562-7852D38E65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4F4C-7BA7-4B12-B6DA-9350C1A063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1BAF-8AFB-4BE4-B3E9-BD9A9E72D3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Заголовок 1"/>
          <p:cNvGrpSpPr/>
          <p:nvPr/>
        </p:nvGrpSpPr>
        <p:grpSpPr>
          <a:xfrm>
            <a:off x="1311120" y="1547640"/>
            <a:ext cx="6527880" cy="1476720"/>
            <a:chOff x="1311120" y="1547640"/>
            <a:chExt cx="6527880" cy="1476720"/>
          </a:xfrm>
        </p:grpSpPr>
        <p:pic>
          <p:nvPicPr>
            <p:cNvPr id="98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311120" y="1547640"/>
              <a:ext cx="6527880" cy="14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/>
            <p:cNvSpPr/>
            <p:nvPr/>
          </p:nvSpPr>
          <p:spPr>
            <a:xfrm>
              <a:off x="1316160" y="1557360"/>
              <a:ext cx="6518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w Cen MT"/>
                </a:rPr>
                <a:t>«УРАЛЬСКИЕ САМОЦВЕТЫ»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316160" y="4797360"/>
            <a:ext cx="6518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Tw Cen MT"/>
              </a:rPr>
              <a:t>ПРЕЗЕНТАЦИЯ К ЗАНЯТИЮ В ПОДГОТОВИТЕЛЬНОЙ ГРУППЕ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Tw Cen MT"/>
              </a:rPr>
              <a:t>ПРОЦЕНКО Д.М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Tw Cen MT"/>
              </a:rPr>
              <a:t>СПБ-2021Г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38160" y="1778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УРАЛЬСКИЕ САМОЦВЕТЫ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23" name="Picture 4" descr="img457192993"/>
          <p:cNvPicPr/>
          <p:nvPr/>
        </p:nvPicPr>
        <p:blipFill>
          <a:blip r:embed="rId1"/>
          <a:stretch/>
        </p:blipFill>
        <p:spPr>
          <a:xfrm>
            <a:off x="534960" y="1773360"/>
            <a:ext cx="3095640" cy="223200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24" name="Picture 5" descr="img957565307"/>
          <p:cNvPicPr/>
          <p:nvPr/>
        </p:nvPicPr>
        <p:blipFill>
          <a:blip r:embed="rId2"/>
          <a:stretch/>
        </p:blipFill>
        <p:spPr>
          <a:xfrm>
            <a:off x="4932360" y="1557360"/>
            <a:ext cx="374508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5" name="Picture 6" descr="2"/>
          <p:cNvPicPr/>
          <p:nvPr/>
        </p:nvPicPr>
        <p:blipFill>
          <a:blip r:embed="rId3"/>
          <a:stretch/>
        </p:blipFill>
        <p:spPr>
          <a:xfrm>
            <a:off x="2843280" y="4273560"/>
            <a:ext cx="3097080" cy="222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АМЕТИСТОВАЯ ЗВЕЗД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76720" y="1197000"/>
            <a:ext cx="3610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РАЗНОВИДНОСТЬ КВАРЦА. ЦВЕТ ОБУСЛОВЛЕН СТРУКТУРНОЙ ПРИМЕСЬЮ FE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В КИТАЕ ИЗ СВЕТЛЫХ АМЕТИСТОВ ВЫРЕЗАЛИ ФЛАКОНЫ И МЕЛКИЕ ШКАТУЛКИ. В СРЕДНИЕ ВЕКА АМЕТИСТ ВЫСОКО ЦЕНИЛСЯ НА ВОСТОКЕ И В ЕВРОПЕ, ГДЕ СЧИТАЛСЯ ПРЕДПОЧТИТЕЛЬНЫМ ДЛЯ УКРАШЕНИЙ ПРЕДМЕТОВ ЦЕРКОВНОГО ОБИХОДА И ОДЕЖДЫ СВЯЩЕННИКОВ. ПРИ ПОСВЯЩЕНИИ В САН КАРДИНАЛА ПОСВЯЩЕННОМУ ВРУЧАЛОСЬ КОЛЬЦО С АМЕТИСТОМ, ОТЧЕГО В КАТОЛИЧЕСКИХ СТРАНАХ КАМЕНЬ НАЗЫВАЛСЯ ЕПИСКОПСКИМ, ПАСТЫРСКИМ, А НА РУСИ АРХИЕРЕЙСКИ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29" name="Picture 4" descr="293829pvz"/>
          <p:cNvPicPr/>
          <p:nvPr/>
        </p:nvPicPr>
        <p:blipFill>
          <a:blip r:embed="rId1"/>
          <a:stretch/>
        </p:blipFill>
        <p:spPr>
          <a:xfrm>
            <a:off x="196920" y="898560"/>
            <a:ext cx="4859280" cy="55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ИЗУМРУД И АГАТ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32" name="Picture 4" descr="293842khc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6" descr="2677111heb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42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4" name="Picture 4" descr="293834zvh"/>
          <p:cNvPicPr/>
          <p:nvPr/>
        </p:nvPicPr>
        <p:blipFill>
          <a:blip r:embed="rId2"/>
          <a:stretch/>
        </p:blipFill>
        <p:spPr>
          <a:xfrm>
            <a:off x="6230880" y="0"/>
            <a:ext cx="258768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5" name="Picture 5" descr="2544516prq"/>
          <p:cNvPicPr/>
          <p:nvPr/>
        </p:nvPicPr>
        <p:blipFill>
          <a:blip r:embed="rId3"/>
          <a:stretch/>
        </p:blipFill>
        <p:spPr>
          <a:xfrm>
            <a:off x="628560" y="260280"/>
            <a:ext cx="226872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757080" y="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«ГОРКА САМОЦВЕТОВ»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37" name="Picture 7" descr="gorka_samocvetov_4t"/>
          <p:cNvPicPr/>
          <p:nvPr/>
        </p:nvPicPr>
        <p:blipFill>
          <a:blip r:embed="rId1"/>
          <a:stretch/>
        </p:blipFill>
        <p:spPr>
          <a:xfrm>
            <a:off x="0" y="1341360"/>
            <a:ext cx="4427640" cy="55166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38" name="Picture 4" descr="gorka_samocvetov_1t"/>
          <p:cNvPicPr/>
          <p:nvPr/>
        </p:nvPicPr>
        <p:blipFill>
          <a:blip r:embed="rId2"/>
          <a:stretch/>
        </p:blipFill>
        <p:spPr>
          <a:xfrm>
            <a:off x="4643280" y="1341360"/>
            <a:ext cx="4500720" cy="55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ОБАЛЬТОКАЛЬЦИТ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685800" y="2367000"/>
            <a:ext cx="382896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41" name="Picture 7" descr="201921040408"/>
          <p:cNvPicPr/>
          <p:nvPr/>
        </p:nvPicPr>
        <p:blipFill>
          <a:blip r:embed="rId1"/>
          <a:stretch/>
        </p:blipFill>
        <p:spPr>
          <a:xfrm>
            <a:off x="4859280" y="1341360"/>
            <a:ext cx="4033800" cy="25923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42" name="Picture 6" descr="171039300905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55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3" name="Picture 8" descr="005537240110"/>
          <p:cNvPicPr/>
          <p:nvPr/>
        </p:nvPicPr>
        <p:blipFill>
          <a:blip r:embed="rId3"/>
          <a:stretch/>
        </p:blipFill>
        <p:spPr>
          <a:xfrm>
            <a:off x="4932360" y="4076640"/>
            <a:ext cx="388764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ХАЛЦЕДОН - ЭТО МИНЕРАЛ, СКРЫТОКРИСТАЛЛИЧЕСКАЯ РАЗНОВИДНОСТЬ КВАРЦА, СОСТОЯЩАЯ ИЗ ТОНЧАЙШИХ ВОЛОКОН, РАЗЛИЧИМЫХ ЛИШЬ ПОД МИКРОСКОПОМ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45" name="Picture 9" descr="121316240110"/>
          <p:cNvPicPr/>
          <p:nvPr/>
        </p:nvPicPr>
        <p:blipFill>
          <a:blip r:embed="rId1"/>
          <a:stretch/>
        </p:blipFill>
        <p:spPr>
          <a:xfrm>
            <a:off x="4992840" y="4162320"/>
            <a:ext cx="3828960" cy="24116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46" name="Picture 10" descr="130335240110"/>
          <p:cNvPicPr/>
          <p:nvPr/>
        </p:nvPicPr>
        <p:blipFill>
          <a:blip r:embed="rId2"/>
          <a:stretch/>
        </p:blipFill>
        <p:spPr>
          <a:xfrm>
            <a:off x="5102280" y="1698480"/>
            <a:ext cx="3610080" cy="23511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47" name="Picture 11" descr="200131131005"/>
          <p:cNvPicPr/>
          <p:nvPr/>
        </p:nvPicPr>
        <p:blipFill>
          <a:blip r:embed="rId3"/>
          <a:stretch/>
        </p:blipFill>
        <p:spPr>
          <a:xfrm>
            <a:off x="457200" y="2203560"/>
            <a:ext cx="4044960" cy="369252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ХРИЗОЛИТ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ХРИЗОЛИТОМ НАЗЫВАЮТ ПРОЗРАЧНУЮ РАЗНОВИДНОСТЬ МИНЕРАЛА ОЛИВИНА - СИЛИКАТА ЖЕЛЕЗА И МАГНИЯ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24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СЛОВО «ХРИЗОЛИТ» (ТО ЕСТЬ «ЗОЛОТОЙ КАМЕНЬ»; ГРЕЧ. CHRYSOS — «ЗОЛОТОЙ») СУЩЕСТВОВАЛО УЖЕ В ГЛУБОКОЙ ДРЕВНОСТИ. ОНО ВСТРЕЧАЕТСЯ В СТАРИННЫХ ТЕКСТАХ, НАЧИНАЯ С III В. ДО Н. Э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24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ИНОГДА КАМЕНЬ НАЗЫВАЮТ ВЕЧЕРНИМ ИЗУМРУДОМ, ТАК КАК ПРИ ИСКУССТВЕННОМ ОСВЕЩЕНИИ ЖЕЛТЫЙ ОТТЕНОК ИСЧЕЗАЕТ, И КАМЕНЬ КАЖЕТСЯ ЧИСТО-ЗЕЛЕНЫ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50" name="Picture 8" descr="231028220109"/>
          <p:cNvPicPr/>
          <p:nvPr/>
        </p:nvPicPr>
        <p:blipFill>
          <a:blip r:embed="rId1"/>
          <a:stretch/>
        </p:blipFill>
        <p:spPr>
          <a:xfrm>
            <a:off x="4648320" y="2019240"/>
            <a:ext cx="4038480" cy="40388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МАЛАХИТ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5720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53" name="Picture 9" descr="123524281009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25192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54" name="Picture 10" descr="IMG5ku5v8"/>
          <p:cNvPicPr/>
          <p:nvPr/>
        </p:nvPicPr>
        <p:blipFill>
          <a:blip r:embed="rId2"/>
          <a:stretch/>
        </p:blipFill>
        <p:spPr>
          <a:xfrm>
            <a:off x="1258920" y="4152960"/>
            <a:ext cx="2457360" cy="24573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55" name="Picture 11" descr="142501060606"/>
          <p:cNvPicPr/>
          <p:nvPr/>
        </p:nvPicPr>
        <p:blipFill>
          <a:blip r:embed="rId3"/>
          <a:stretch/>
        </p:blipFill>
        <p:spPr>
          <a:xfrm>
            <a:off x="5715000" y="4152960"/>
            <a:ext cx="2371680" cy="23716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56" name="Picture 8" descr="122843281009"/>
          <p:cNvPicPr/>
          <p:nvPr/>
        </p:nvPicPr>
        <p:blipFill>
          <a:blip r:embed="rId4"/>
          <a:stretch/>
        </p:blipFill>
        <p:spPr>
          <a:xfrm>
            <a:off x="468360" y="1341360"/>
            <a:ext cx="403236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ТОПАЗ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58" name="Picture 10" descr="211220010409"/>
          <p:cNvPicPr/>
          <p:nvPr/>
        </p:nvPicPr>
        <p:blipFill>
          <a:blip r:embed="rId1"/>
          <a:stretch/>
        </p:blipFill>
        <p:spPr>
          <a:xfrm>
            <a:off x="900000" y="3860640"/>
            <a:ext cx="3024360" cy="277812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ОГЛАСНО БИБЛИИ, ТОПАЗ - ОДИН ИЗ 12 БИБЛЕЙСКИХ КАМНЕЙ, КОТОРЫМИ БЫЛА УКРАШЕНА ПОЛОТНЯНАЯ СУМА ("НАПЕРСНИК") ПЕРВОСВЯЩЕННИКА, КОГДА ОН ОТПРАВЛЯЛ БОГОСЛУЖЕНИЕ ИЕГОВ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60" name="Picture 9" descr="152550140905"/>
          <p:cNvPicPr/>
          <p:nvPr/>
        </p:nvPicPr>
        <p:blipFill>
          <a:blip r:embed="rId2"/>
          <a:stretch/>
        </p:blipFill>
        <p:spPr>
          <a:xfrm>
            <a:off x="395280" y="1484280"/>
            <a:ext cx="40323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«УРАЛЬСКИЕ ГОРЫ» 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90" name="Picture 7" descr="604957846"/>
          <p:cNvPicPr/>
          <p:nvPr/>
        </p:nvPicPr>
        <p:blipFill>
          <a:blip r:embed="rId1"/>
          <a:stretch/>
        </p:blipFill>
        <p:spPr>
          <a:xfrm>
            <a:off x="4863960" y="1081080"/>
            <a:ext cx="4280040" cy="54561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991" name="Picture 4" descr="161880314"/>
          <p:cNvPicPr/>
          <p:nvPr/>
        </p:nvPicPr>
        <p:blipFill>
          <a:blip r:embed="rId2"/>
          <a:stretch/>
        </p:blipFill>
        <p:spPr>
          <a:xfrm>
            <a:off x="324000" y="907920"/>
            <a:ext cx="399564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2" name="TextBox 1"/>
          <p:cNvSpPr/>
          <p:nvPr/>
        </p:nvSpPr>
        <p:spPr>
          <a:xfrm>
            <a:off x="4788000" y="9079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ШМ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63" name="Picture 9" descr="214108170207"/>
          <p:cNvPicPr/>
          <p:nvPr/>
        </p:nvPicPr>
        <p:blipFill>
          <a:blip r:embed="rId1"/>
          <a:stretch/>
        </p:blipFill>
        <p:spPr>
          <a:xfrm>
            <a:off x="1531800" y="4378320"/>
            <a:ext cx="1905120" cy="190512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w Cen MT"/>
              </a:rPr>
              <a:t>ИЗВЕСТЕН ЧЕЛОВЕКУ С ЭПОХИ ПАЛЕОЛИТА, КОГДА ИЗ НЕГО ДЕЛАЛИ ОРУЖИЕ И ИНСТРУМЕНТЫ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w Cen MT"/>
              </a:rPr>
              <a:t>ПОЗДНЕЕ ИЗ ЯШМЫ СТАЛИ ВЫТАЧИВАТЬ РАЗЛИЧНЫЕ УКРАШЕНИЯ И ТАЛИСМАНЫ. В СТРАНАХ ВОСТОКА ЯШМА СЧИТАЛАСЬ СИМВОЛОМ КРАСОТЫ, ИЗЯЩЕСТВА И БОГАТСТВА. В ДРЕВНЕЙ ГРЕЦИИ КАМЕНЬ СЛУЖИЛ ОБЕРЕГОМ ОТ СГЛАЗА МОЛОДЫХ МАТЕРЕЙ И МЛАДЕНЦЕВ. ГИППОКРАТ ЛЕЧИЛ ЯШМОЙ ЛИХОРАДКУ И ЭПИЛЕПСИЮ. С РАСПРОСТРАНЕНИЕМ ХРИСТИАНСТВА СТАЛИ СЧИТАТЬ, ЧТО МАГИЧЕСКИМИ СВОЙСТВАМИ ОБЛАДАЕТ ЯШМА, ОСВЯЩЕННАЯ В ЦЕРКВИ. А.С. ПУШКИН НОСИЛ БРАСЛЕТ С ЗЕЛЕНОЙ ЯШМОЙ, СЧИТАЯ ЕЕ ПОМОЩНИЦЕЙ В ЛЮБОВНЫХ ДЕЛАХ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65" name="Picture 8" descr="113128230808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РЕКИ УРАЛ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5720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95" name="Picture 10" descr="1243059786"/>
          <p:cNvPicPr/>
          <p:nvPr/>
        </p:nvPicPr>
        <p:blipFill>
          <a:blip r:embed="rId1"/>
          <a:stretch/>
        </p:blipFill>
        <p:spPr>
          <a:xfrm>
            <a:off x="4932360" y="1557360"/>
            <a:ext cx="3672000" cy="223200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996" name="Picture 9" descr="1227546436"/>
          <p:cNvPicPr/>
          <p:nvPr/>
        </p:nvPicPr>
        <p:blipFill>
          <a:blip r:embed="rId2"/>
          <a:stretch/>
        </p:blipFill>
        <p:spPr>
          <a:xfrm>
            <a:off x="1719360" y="4500720"/>
            <a:ext cx="2776320" cy="221760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997" name="Picture 13" descr="1227776828"/>
          <p:cNvPicPr/>
          <p:nvPr/>
        </p:nvPicPr>
        <p:blipFill>
          <a:blip r:embed="rId3"/>
          <a:stretch/>
        </p:blipFill>
        <p:spPr>
          <a:xfrm>
            <a:off x="4932360" y="4500720"/>
            <a:ext cx="2492280" cy="19904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998" name="Picture 8" descr="1227979491"/>
          <p:cNvPicPr/>
          <p:nvPr/>
        </p:nvPicPr>
        <p:blipFill>
          <a:blip r:embed="rId4"/>
          <a:stretch/>
        </p:blipFill>
        <p:spPr>
          <a:xfrm>
            <a:off x="468360" y="1557360"/>
            <a:ext cx="40323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ГОРА НАРОДНА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00" name="Picture 21" descr="523993"/>
          <p:cNvPicPr/>
          <p:nvPr/>
        </p:nvPicPr>
        <p:blipFill>
          <a:blip r:embed="rId1"/>
          <a:stretch/>
        </p:blipFill>
        <p:spPr>
          <a:xfrm>
            <a:off x="179280" y="2133720"/>
            <a:ext cx="4651560" cy="298584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w Cen MT"/>
              </a:rPr>
              <a:t>ГОРА НАРОДНАЯ НАИВЫСШАЯ ВЕРШИНА (1895 М) УРАЛА. РАСПОЛОЖЕНА НА ГРАНИЦЕ КОМИ И ХАНТЫ-МАНСИЙСКОГО АВТ. ОКРУГА, ПРИПОЛЯРНЫЙ УРАЛ. ОТКРЫТА ГЕОЛОГОМ А. Н. АЛЕШКОВЫМ В 1927 ГОДУ ВО ВРЕМЯ ЭКСПЕДИЦИИ НА СЕВЕРНЫЙ УРАЛ. ГОРНЫЙ ХРЕБЕТ ДОСТИГАЕТ В ДАННОМ РАЙОНЕ НАИБОЛЬШЕЙ ШИРИНЫ. ХАРАКТЕРЕН АЛЬПИЙСКИЙ ТИП РЕЛЬЕФА С ОТВЕСНЫМИ СКЛОНАМИ, ГЛУБОКИМИ УЩЕЛЬЯМИ. ОБИЛИЕ ЛЕДНИКОВЫХ ФОРМ, НАЛИЧИЕ КАРАВ И ЦИРКОВ, В ГЛУБИНЕ КОТОРЫХ ЗАЛЕГАЮТ ОЗЁРА. В ВЫСОКОГОРНОЙ ЗОНЕ ВСТРЕЧАЮТСЯ ПЛОСКОВЕРШИННЫЕ МАССИВЫ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ТОЛБЫ ВЫВЕТРИВАНИЯ НА ПЛАТО МАНЬПУПУНЕР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05" name="Picture 9" descr="1232476254"/>
          <p:cNvPicPr/>
          <p:nvPr/>
        </p:nvPicPr>
        <p:blipFill>
          <a:blip r:embed="rId1"/>
          <a:stretch/>
        </p:blipFill>
        <p:spPr>
          <a:xfrm>
            <a:off x="468360" y="4141800"/>
            <a:ext cx="4027320" cy="263520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06" name="Picture 11" descr="1232475842"/>
          <p:cNvPicPr/>
          <p:nvPr/>
        </p:nvPicPr>
        <p:blipFill>
          <a:blip r:embed="rId2"/>
          <a:stretch/>
        </p:blipFill>
        <p:spPr>
          <a:xfrm>
            <a:off x="4643280" y="3933720"/>
            <a:ext cx="4043520" cy="28432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07" name="Picture 4" descr="1232476322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23763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08" name="Picture 10" descr="1232475900"/>
          <p:cNvPicPr/>
          <p:nvPr/>
        </p:nvPicPr>
        <p:blipFill>
          <a:blip r:embed="rId4"/>
          <a:stretch/>
        </p:blipFill>
        <p:spPr>
          <a:xfrm>
            <a:off x="4643280" y="1557360"/>
            <a:ext cx="4032360" cy="23032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ПРЕДУРАЛЬЕ, ПОЛЯРНЫЙ УРАЛ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10" name="Picture 7" descr="img233236694"/>
          <p:cNvPicPr/>
          <p:nvPr/>
        </p:nvPicPr>
        <p:blipFill>
          <a:blip r:embed="rId1"/>
          <a:stretch/>
        </p:blipFill>
        <p:spPr>
          <a:xfrm>
            <a:off x="900000" y="4149720"/>
            <a:ext cx="3465720" cy="23050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11" name="Picture 13" descr="img663351440"/>
          <p:cNvPicPr/>
          <p:nvPr/>
        </p:nvPicPr>
        <p:blipFill>
          <a:blip r:embed="rId2"/>
          <a:stretch/>
        </p:blipFill>
        <p:spPr>
          <a:xfrm>
            <a:off x="2738520" y="1341360"/>
            <a:ext cx="3776760" cy="259236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  <p:pic>
        <p:nvPicPr>
          <p:cNvPr id="1012" name="Picture 12" descr="img353756713"/>
          <p:cNvPicPr/>
          <p:nvPr/>
        </p:nvPicPr>
        <p:blipFill>
          <a:blip r:embed="rId3"/>
          <a:stretch/>
        </p:blipFill>
        <p:spPr>
          <a:xfrm>
            <a:off x="5292720" y="4149720"/>
            <a:ext cx="3003480" cy="2305080"/>
          </a:xfrm>
          <a:prstGeom prst="rect">
            <a:avLst/>
          </a:prstGeom>
          <a:ln w="9360">
            <a:solidFill>
              <a:srgbClr val="e34b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01800" y="249120"/>
            <a:ext cx="777384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УРАЛЬСКИЕ ГОРЫ. ЮЖНЫЙ УРАЛ, ГОРНЫЙ МАССИВ ИРЕМЕЛЬ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15" name="Picture 4" descr="R181_15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90120" y="189000"/>
            <a:ext cx="77742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УРАЛЬСКИЕ ГОРЫ. ЮЖНЫЙ УРАЛ, ХРЕБЕТ ЗИГАЛЬГА,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18" name="Picture 4" descr="R184_27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УРАЛЬСКИЕ ГОРЫ. ЮЖНЫЙ УРАЛ, ГОРА ПОПЕРЕЧНАЯ. ВИД НА ЗАХОДЯЩЕЕ СОЛНЦЕ С ВЕРШИНЫ ГОР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21" name="Picture 4" descr="R184_30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5:56:43Z</dcterms:created>
  <dc:creator>Таня</dc:creator>
  <dc:description/>
  <dc:language>en-US</dc:language>
  <cp:lastModifiedBy>1</cp:lastModifiedBy>
  <dcterms:modified xsi:type="dcterms:W3CDTF">2021-05-26T11:30:04Z</dcterms:modified>
  <cp:revision>24</cp:revision>
  <dc:subject/>
  <dc:title>Столбы выветривания на плато Маньпупунер</dc:title>
</cp:coreProperties>
</file>