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0.jpeg" ContentType="image/jpeg"/>
  <Override PartName="/ppt/media/image31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330-993E-4A98-9D16-93F9B72A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25CB-7795-4765-AC47-01665B9A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A05B7-B0E6-4C35-AD31-535A320D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88AC3-2E27-4B1D-BC1E-4B43DD87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454F2-CB51-412C-9D5A-CDC69A17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12E8E-B405-4577-B4FB-541827F4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4DB0B-1E76-4EF0-A0B6-1BCEDF24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8118F-A008-4AC5-ADA9-D09D68DB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7A5D5-0EF5-40E4-98DA-1F40CE1A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FDF14-6FA5-412D-9535-17455EBC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5DBF6-B1A0-4DBE-9032-42917D7D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27EF2-471B-4AF6-93E1-0B2904B4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AA9-5C13-4E4F-B416-F1C0530C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A8F6E-04D1-4404-BDEC-E3AA2A2E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9F49E-4BB4-4A3C-9731-6B303DBB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48AA3-6FDF-4552-B237-D557B14B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87EE7-4F1F-44BF-A1E2-6BF3A438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D8EEA-BF77-4432-9B5C-428C99A7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288DB-AF78-4DD3-8C46-4AC91907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B8939-AD48-4CD0-A747-FD7CF411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119B5-DA30-4101-8A0E-0C838089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36A8A-A514-4D29-9AB4-E178AE32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0A63D-0C0A-42D4-AEEB-22690E55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FE1-5180-40A3-9ECA-667EAC5C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11E81-10BB-42DD-9C86-722C6038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53054-D0CC-4BED-B64A-58BD5862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684DA-3CCF-4B62-985B-5FF98A4E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16D9E-029F-4902-AD67-5357776D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42D2D-264D-4671-8AF6-A6C02214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8FE08-84CD-4133-BB6F-6EC59873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6C91A-D775-4D33-B97E-B4A86577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2F659-C838-4F1D-B945-993D0337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E662B-2D92-47CF-B5E3-F2824616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6567D-101A-4E60-84F7-0D36B24C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A358-DC95-4DF9-9543-4246F70F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94F13-F666-46BB-B0AF-7C11E0B0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B4198-646A-43CD-A967-37F8597C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A8ADA-5E0D-401A-8A3C-063DD5D2C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EB616-6A6F-402B-9D5C-2AE94DA4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03D37-CA1F-4410-98E3-4F13B846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85125-9CCD-43DD-B15C-625D18EB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0F7B2-E938-4DD0-8E4F-972E3A64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20DAB-2C03-455D-BF75-3B5C1AFF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4360D-F533-4635-B551-6B69658A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0ADE4-5C15-4B66-824B-13953C77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86C6-67AA-4339-92C4-33FCB499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9EEAB-AC16-421B-9392-C62B4D76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A0F4F-C0BC-4DFF-A2F3-B6D2016A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502AE-F6A6-4286-AA84-804255C6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FA207-9A7C-4845-A3A2-FD8B79F4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361EA-B14E-4A54-899F-B5ED8226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A24373-0B71-406B-98A2-5F3AF69B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85819-BF9F-4420-92A6-C4965821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FEAD0-C259-4757-9CC1-CC9EF59A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99E11-A23C-40D1-88D9-226FEEB9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2E8019-87CA-467D-8D32-2BA69E38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9083-B7E3-4AB4-9E6A-00C1CFC5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38527-2575-4532-BFAC-EA8A84B5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EEF97-8472-480D-A99C-5B1D17DA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FF0405-DB8B-431C-8D01-08E42094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33F00-6F3D-4935-A900-E1A98F25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08604-CC85-4A1E-BC9B-14F71D30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8BDA7-2B72-4192-B47E-C036B53B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E329EC-B0D4-4FC8-A9FE-0BAEFB65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ACE762-A76A-4B36-8C08-7816F132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7EA04B-9430-4B4F-B246-C60361E1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B1085D-9BCC-4499-BD41-4A080C45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37D1-C708-41EF-9997-8C21638F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273E71-1855-421E-881F-EA50B7E9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239B8E-B433-4AC0-8D38-3E58280E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3F9024-7169-4D87-909C-4ED57444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34BEA5-763E-4896-83B1-BD2C19B2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3808BF-74F8-4B22-80E4-E13D6B01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3ACAF9-9FA7-4BF6-BAAD-46F6B7AD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B65222-5A66-4628-8A34-00139618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D7E26E-516F-42D5-8F56-AC27797A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AD2BEE-1E39-4880-9880-FA3B0DE2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3A213E-8C46-4033-82BA-FCA9AA6B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52A4-DE8C-400F-97D1-6A73131C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6AA9FF-C76E-4782-9888-B57A1943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FF9874-2713-4CA2-B24E-5D890C3C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025537-F25D-4402-8746-E22CDA18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2D9D88-CBE2-4F7B-92FF-040868CD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1EAD1-85A5-47DE-8ABA-22B0BD76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F018B9-7D06-4F82-B39C-A64D5405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D329C0-6C6D-46E3-84FC-18F45B4F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5E29A-9106-42EC-A251-648BA4A0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214CEE-E370-4CE7-BF47-E19CCEC6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3FC7A7-06FD-4088-8289-753C1E96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AA07-8CD5-43F6-AC96-52A23B5B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C2C2CA-2703-4D82-A444-0AFB9A71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FA2E38-4003-41F8-A3E6-1E9D58E7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926D09-50A7-42CC-8CA1-91769B0B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61902D-B7D8-4504-8EDC-EC1E5233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1FE11D-4A50-4133-99C4-D87C2CCB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84566E-3C9B-4EE7-9FCD-F101AB24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22779D-4DB8-498F-998E-12157FA6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8293BB-998A-4F53-B2B8-4EA217FE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931056-879A-42DB-BC4D-CEF77D1E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959486-6DAA-4107-BBE2-B7A93994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0137-CE90-4843-8558-427685F2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02D5BD-17A7-4003-9738-F7823755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A91F57-4FB8-40C9-8D56-03039AE5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813FB8-93E2-4BF3-9A86-456570B9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6E1DF7-0C34-4038-889B-834A96E9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DB7245-3F20-4B0B-946C-D0CBE6A5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801AC5-2B33-44A2-90A8-AC5C5B56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52AA03-A8F4-42CB-9B23-DB98B437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07B9C1-EF92-433D-A0CA-F57EA0C5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2E2A63-4194-4A18-84DE-AFA312F0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6D7158-794D-4585-961D-00256393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971E-518E-48A9-AF08-AEA27A6D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85F9-DC90-4976-A5FE-67381C2E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9D8FE1-D9B8-4523-82C4-D8DB4707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B7559D-E0BC-4D01-9F2E-4ABA2718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B152F3-6BCF-4F85-8017-43398832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1441C5-495E-4545-85C1-A087B617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CF975A-02AE-4813-AC3A-68604D57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B5296F-B673-4AD0-A950-FE9AF297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305C04-8523-4CB1-AF97-D9F0C385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03063D-49E3-4015-8C75-B45A7F62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09C044-C156-4195-AEFB-DB53E006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03F62F-34A2-47E9-B01B-E6F0D265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000F-3802-4BFF-8F93-4009FA90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2B6BF5-49F0-4D7A-87FD-3F3B2F9B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30F32E-819F-4520-ABF5-66573103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3FDEEB-FE0D-437B-8794-512461C5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CF0E9E-0C19-49D5-8C0B-996B589F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BE92CF-177C-4F1F-AC71-A06A5476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768AC5-D0AF-4E60-870E-F9EEB084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D558D5-88D5-42F2-90E8-CDC81598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CFE5DA-A697-4A91-8A26-758CD312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34FCE6-BA99-4B1B-B40E-3FCC882D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824418-4C43-46E7-9999-47916AA4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E4F5-D7D5-45AA-AC87-204AD00B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5F79C5-A6F0-4B45-8916-EC3710AB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F91176-02BF-495C-AD9A-A966660C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AFB2FA-DC43-47BD-B3E4-9F5E4933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1DEAFF-3F7A-4CE1-A1F5-BADB76BF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E5FB1F-0669-47A3-9BBE-EE5032BF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39E644-6FED-43D8-A0C7-7FED512E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27C013-0ECA-4AAE-BA14-E794AAEC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C2915E-76A7-4578-8D0F-0C38F51A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C80617-2B5A-4CC9-A36D-23140084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7DB3FE-EB8D-4429-8EDF-A60D23F8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B49B-7714-4300-9A64-D2DFC433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7038D6-BBC1-4BD3-8CFF-15E4790F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A1771B-1106-4A0A-9374-1D7AFB69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9AFC71-392F-40D8-9E4F-99B7E9CF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68C597-2949-4A64-990E-144224BE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CE9639-1966-41E8-B756-7F9E9D36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13D13C-E941-4910-B2EC-7A722759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FA54F1-3418-4EDF-A625-D0CEBE9D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D23DA2-A641-4779-8A44-1119AFEE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168551-38E8-44CE-81A5-79006CA4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D188A9-7A76-41FA-AF4E-AFCAFFF3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33DE-3960-46A8-BD8F-0EE91F5F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36066A-FD14-4CDB-90EF-CD354E4E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C2FE24-6034-47A2-81A2-C44B53A6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8C57D2-C5AB-4A72-8358-826B9A73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2BC775-0A0D-43D6-B65E-0883927F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88606C-33A6-4303-9FAF-10C3892C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0AB1FA-2B3D-46A3-AD2F-922488F2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523234-AD76-4BD1-B397-09940B41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A7A150-30C4-423E-82CF-C795BBDA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720C9D-BEF4-4C45-9874-B8892F0B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D9B2E3-A3D1-452A-88E3-4873AAB1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FB01D-CA1B-45F4-8A47-AA93A168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0C8243-C550-4539-A2C0-7FBDEFEE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9AA434-ACC1-4FD6-9432-F1F2A226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92D7F2-87F4-4DFE-A465-91D4097A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7FD735-31CE-4937-82FC-39E73C21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BA292B-5388-433A-B416-B94A5D4F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32696A-2FE1-4F20-93DA-81B2A6C0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5BF6EB-27D6-4251-B47F-C7ADCA4B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1CAC43-7F9B-4838-950C-0E6CB630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284E2B-8DAC-489B-9080-2F66AEFB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F12586-2578-42C6-B836-D2E0F4A9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ED6E2-315F-4073-9DDD-B823B9AC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6826AB-1E94-4820-9D26-B2861FD6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0D309A-AD3F-4386-9351-0CC35968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6C5D0B-5156-4980-8E92-E65C47E1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CA940B-DB6E-4413-98E4-D107DA65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8D7EF3-FA62-4FD3-8F7F-200B1E40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6D044D-8DBD-4378-9195-C69E6DE8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796471-EA45-4B38-907D-13099ED0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2A0D86-9713-43C8-A33D-4B25E2B6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4F0B4E-CC08-4687-A439-92E13A32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7AC43C-D413-4D38-92D1-2F453706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32B65-1BD6-4FB8-B9DF-53B4BE33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7940F5-24EB-4154-BF78-FFBED335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9592A2-2DFA-4E38-A45B-7F5797BA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9F9876-33F7-455C-AF09-5F1855BE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A6A3E5-9E44-4913-B150-E1191B53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CBACD4-EA8C-445E-8A08-8CA1BE0C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CBF39E-AC70-4121-A523-DC9A7F21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BD9BDF-8D32-44F7-86BC-381FFAC7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A5638-0FF4-4685-A1C9-2F9FE406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33CA7-F209-41D2-B1FF-88C54C88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CB0-7EE5-485D-BDFE-3757C861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FF538-1EAD-4E1C-BAEC-9F980334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8EAEA-E939-4970-A9CA-8ACA63F2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CE8DD-F3CA-48C5-93C7-7A556471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7678C-21AB-4E51-ABB9-680791F6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8B342-045F-4A24-9B53-565EF718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CBB2A-C899-4C25-B38D-E1741018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EE325-B825-4225-A5FE-2CC48659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17EFF-8B86-45DB-B6DB-CDE390B1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73424-00A2-4E13-9031-35298204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5D6CD-F78B-4971-9542-CD898E25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1CE-9F69-4B43-84E8-39914458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914C7-06A0-4D39-A96F-4F9A590D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915C8-B888-4E82-A5CA-AC310B89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E2B53-02BB-49AB-81BD-E3BCF697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EA03B-5487-42DB-AAF5-95DCF851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63A27-607A-4266-9F45-175AAEC9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AC05B-C09D-4052-B37C-5D594754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3C0FC-6B9B-4546-BC03-569C7740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65B79-EDAB-4D98-8A54-905837FB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440D7-BC85-4596-BA78-14A48F37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7C55A-4E2C-421E-B208-3111E1CA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837A-F9FB-409F-82B7-330ED080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2DAC1-9497-414D-B731-D1AD61A2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A4833-052A-466A-9D3D-839B70B2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22A91-1F42-4312-871D-8A71A9FB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0D2F1-274E-4D40-A5FF-1E6D4144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6709F-FF15-4E2A-99F7-B7C08C5E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4B1FD-0A44-4344-8BED-61E48A9A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D86B3-06D6-4A35-9421-13236E68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D1FCD-259D-4C66-8C46-14243E3B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5CEF6-FB89-4AD3-8AB7-746B4483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C7EDE-F164-4356-AD41-3C9D736B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AA8-2158-47EE-AB47-A1B73E0A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6FA87-DEC2-478E-B1DD-E5A2B6C8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2D844-F7F0-496E-A301-E74530C0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6F25F-A788-40CC-97E5-FACA8429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59C5A-0226-4148-86B1-FFA44C30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F359E-69F5-4F4E-9C2B-D085833B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D43C2-41C6-4ED3-B2F4-AF990B71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61F0A-73AE-41A0-BA18-7DA109DD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9000E-9666-4234-8EF0-9B5A77F5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73F3A-0052-45CF-9D8B-F0DC7E09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964BF-79FF-4F79-B34E-BC4BD35D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BC3E-581A-4C68-B5B9-E4D0E6DE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0E44A-5D9F-4D90-8BB1-9E7ABB9A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E2E78-20BB-493B-BE54-AC1BF347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3F073-CDC5-4F16-84EE-66A3DC43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4C91F-0E3F-4EE8-8ADF-9A22409B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ECB76-24ED-4F37-85D7-C734C96A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4F019-527D-45D1-9B09-71E18065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45B69-C338-457A-B7DC-7868303D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7FAAF-DAA5-4A40-807E-4DD67B26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11760-BF80-49F3-A74A-5809A475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C142C-9CE7-499D-AE5B-CEEB7774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CDA5-79FA-47B2-AB56-9750DFF8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143A6-8E91-42F5-B000-9582D87E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FFAC5-E5E9-4F20-B6FA-1E75462E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AF85B-080E-476F-8608-CFECF5E3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EC85A-B877-4120-AB02-9E337481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F7326-2C56-473E-BC75-A0A6A055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6C38E-960E-4FEA-8DC3-0B8998BE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B8728-86DD-42AC-85BE-CF36163A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A4D27-7465-42AE-B329-F2F3893C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0712B-34B4-4F51-9F0D-D49C2B01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4EE1A-2484-484C-A16E-9D180381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751-497D-4BE0-9D78-BC844CAD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314B5-4D42-4271-862D-3AC09EB8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B31BA-2A2B-443D-A01F-C199D96F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84E6C-5586-47F3-91B2-07064659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D764D-951F-4CAD-B1B0-A1E2CBB9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00DCD-EAFC-4DBB-8CCF-957351F6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99189-29EB-4C4A-B043-642B70F2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6E1DE-0691-4701-8D74-CF17EF26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AB39F-B01E-4655-872E-22459684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495EF-930B-41C3-A649-52B72707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96236-997C-40F1-B8ED-715515EF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9287-BE2E-4DE4-9D77-B97399A2DF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BCC3-6575-4397-AD01-2C87E6E951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C391-CDBC-40FA-824F-212EAE26CD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1000-EEC0-4882-8450-AFC251CC24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2229-47D1-4DA0-8546-2816478CADD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D24E-3AEC-45DB-89A9-3E845AE2DD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09B1-AAA6-46CC-8A67-D78312CA51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BF6C-A0A2-4B2C-A058-4134CC8DF6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95FD-885A-4878-97C7-90924884EA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DFC4-636D-4A45-847F-2C6F73458BD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5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5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5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3355-3675-4674-A2C3-74C6541F8B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319D-F57E-4192-9719-5FA9A92430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5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5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6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B767-6001-4E5A-96C7-4645F035FB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6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6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6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CE7D-AB58-46D4-928C-1196339391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444A-55D0-46B7-B2BF-B837AA0BB7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6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6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AC3F-2133-4201-805E-7EEC9C68EA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E4A2-6D16-4C6A-9FE4-F545C14F2A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9B21-49C5-4D55-901C-050CC3D7F8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BA09-A5E9-48CE-BC65-87B5C8665D0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A7C1-834C-4223-A597-90F6356143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42E1-DC53-43C0-B170-167CDE8C1E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7E7E-DC4E-44F9-B6F6-F13E464B06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C1B2-B0C3-48ED-83BC-1A7FE53450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2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Заголовок 1"/>
          <p:cNvGrpSpPr/>
          <p:nvPr/>
        </p:nvGrpSpPr>
        <p:grpSpPr>
          <a:xfrm>
            <a:off x="1311120" y="1547640"/>
            <a:ext cx="6527880" cy="1476720"/>
            <a:chOff x="1311120" y="1547640"/>
            <a:chExt cx="6527880" cy="1476720"/>
          </a:xfrm>
        </p:grpSpPr>
        <p:pic>
          <p:nvPicPr>
            <p:cNvPr id="98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311120" y="1547640"/>
              <a:ext cx="6527880" cy="14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7" name=""/>
            <p:cNvSpPr/>
            <p:nvPr/>
          </p:nvSpPr>
          <p:spPr>
            <a:xfrm>
              <a:off x="1316160" y="1557360"/>
              <a:ext cx="651816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Tw Cen MT"/>
                </a:rPr>
                <a:t>«УРАЛЬСКИЕ САМОЦВЕТЫ»</a:t>
              </a:r>
              <a:endParaRPr b="0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1316160" y="4797360"/>
            <a:ext cx="6518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f7f7f"/>
                </a:solidFill>
                <a:latin typeface="Tw Cen MT"/>
              </a:rPr>
              <a:t>ПРЕЗЕНТАЦИЯ К ЗАНЯТИЮ В ПОДГОТОВИТЕЛЬНОЙ ГРУППЕ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f7f7f"/>
                </a:solidFill>
                <a:latin typeface="Tw Cen MT"/>
              </a:rPr>
              <a:t>ПРОЦЕНКО Д.М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f7f7f"/>
                </a:solidFill>
                <a:latin typeface="Tw Cen MT"/>
              </a:rPr>
              <a:t>СПБ-2021Г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938160" y="17784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УРАЛЬСКИЕ САМОЦВЕТЫ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23" name="Picture 4" descr="img457192993"/>
          <p:cNvPicPr/>
          <p:nvPr/>
        </p:nvPicPr>
        <p:blipFill>
          <a:blip r:embed="rId1"/>
          <a:stretch/>
        </p:blipFill>
        <p:spPr>
          <a:xfrm>
            <a:off x="534960" y="1773360"/>
            <a:ext cx="3095640" cy="223200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24" name="Picture 5" descr="img957565307"/>
          <p:cNvPicPr/>
          <p:nvPr/>
        </p:nvPicPr>
        <p:blipFill>
          <a:blip r:embed="rId2"/>
          <a:stretch/>
        </p:blipFill>
        <p:spPr>
          <a:xfrm>
            <a:off x="4932360" y="1557360"/>
            <a:ext cx="3745080" cy="22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5" name="Picture 6" descr="2"/>
          <p:cNvPicPr/>
          <p:nvPr/>
        </p:nvPicPr>
        <p:blipFill>
          <a:blip r:embed="rId3"/>
          <a:stretch/>
        </p:blipFill>
        <p:spPr>
          <a:xfrm>
            <a:off x="2843280" y="4273560"/>
            <a:ext cx="3097080" cy="222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АМЕТИСТОВАЯ ЗВЕЗДА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5076720" y="1197000"/>
            <a:ext cx="3610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РАЗНОВИДНОСТЬ КВАРЦА. ЦВЕТ ОБУСЛОВЛЕН СТРУКТУРНОЙ ПРИМЕСЬЮ FE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В КИТАЕ ИЗ СВЕТЛЫХ АМЕТИСТОВ ВЫРЕЗАЛИ ФЛАКОНЫ И МЕЛКИЕ ШКАТУЛКИ. В СРЕДНИЕ ВЕКА АМЕТИСТ ВЫСОКО ЦЕНИЛСЯ НА ВОСТОКЕ И В ЕВРОПЕ, ГДЕ СЧИТАЛСЯ ПРЕДПОЧТИТЕЛЬНЫМ ДЛЯ УКРАШЕНИЙ ПРЕДМЕТОВ ЦЕРКОВНОГО ОБИХОДА И ОДЕЖДЫ СВЯЩЕННИКОВ. ПРИ ПОСВЯЩЕНИИ В САН КАРДИНАЛА ПОСВЯЩЕННОМУ ВРУЧАЛОСЬ КОЛЬЦО С АМЕТИСТОМ, ОТЧЕГО В КАТОЛИЧЕСКИХ СТРАНАХ КАМЕНЬ НАЗЫВАЛСЯ ЕПИСКОПСКИМ, ПАСТЫРСКИМ, А НА РУСИ АРХИЕРЕЙСКИМ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29" name="Picture 4" descr="293829pvz"/>
          <p:cNvPicPr/>
          <p:nvPr/>
        </p:nvPicPr>
        <p:blipFill>
          <a:blip r:embed="rId1"/>
          <a:stretch/>
        </p:blipFill>
        <p:spPr>
          <a:xfrm>
            <a:off x="196920" y="898560"/>
            <a:ext cx="4859280" cy="558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3816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ИЗУМРУД И АГАТ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32" name="Picture 4" descr="293842khc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9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6" descr="2677111heb"/>
          <p:cNvPicPr/>
          <p:nvPr/>
        </p:nvPicPr>
        <p:blipFill>
          <a:blip r:embed="rId1"/>
          <a:stretch/>
        </p:blipFill>
        <p:spPr>
          <a:xfrm>
            <a:off x="1763640" y="2276640"/>
            <a:ext cx="5761080" cy="42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4" name="Picture 4" descr="293834zvh"/>
          <p:cNvPicPr/>
          <p:nvPr/>
        </p:nvPicPr>
        <p:blipFill>
          <a:blip r:embed="rId2"/>
          <a:stretch/>
        </p:blipFill>
        <p:spPr>
          <a:xfrm>
            <a:off x="6230880" y="0"/>
            <a:ext cx="2587680" cy="40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5" name="Picture 5" descr="2544516prq"/>
          <p:cNvPicPr/>
          <p:nvPr/>
        </p:nvPicPr>
        <p:blipFill>
          <a:blip r:embed="rId3"/>
          <a:stretch/>
        </p:blipFill>
        <p:spPr>
          <a:xfrm>
            <a:off x="628560" y="260280"/>
            <a:ext cx="2268720" cy="25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757080" y="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«ГОРКА САМОЦВЕТОВ»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37" name="Picture 7" descr="gorka_samocvetov_4t"/>
          <p:cNvPicPr/>
          <p:nvPr/>
        </p:nvPicPr>
        <p:blipFill>
          <a:blip r:embed="rId1"/>
          <a:stretch/>
        </p:blipFill>
        <p:spPr>
          <a:xfrm>
            <a:off x="0" y="1341360"/>
            <a:ext cx="4427640" cy="551664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38" name="Picture 4" descr="gorka_samocvetov_1t"/>
          <p:cNvPicPr/>
          <p:nvPr/>
        </p:nvPicPr>
        <p:blipFill>
          <a:blip r:embed="rId2"/>
          <a:stretch/>
        </p:blipFill>
        <p:spPr>
          <a:xfrm>
            <a:off x="4643280" y="1341360"/>
            <a:ext cx="4500720" cy="551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КОБАЛЬТОКАЛЬЦИТ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685800" y="2367000"/>
            <a:ext cx="382896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41" name="Picture 7" descr="201921040408"/>
          <p:cNvPicPr/>
          <p:nvPr/>
        </p:nvPicPr>
        <p:blipFill>
          <a:blip r:embed="rId1"/>
          <a:stretch/>
        </p:blipFill>
        <p:spPr>
          <a:xfrm>
            <a:off x="4859280" y="1341360"/>
            <a:ext cx="4033800" cy="259236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42" name="Picture 6" descr="171039300905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551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3" name="Picture 8" descr="005537240110"/>
          <p:cNvPicPr/>
          <p:nvPr/>
        </p:nvPicPr>
        <p:blipFill>
          <a:blip r:embed="rId3"/>
          <a:stretch/>
        </p:blipFill>
        <p:spPr>
          <a:xfrm>
            <a:off x="4932360" y="4076640"/>
            <a:ext cx="3887640" cy="278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ХАЛЦЕДОН - ЭТО МИНЕРАЛ, СКРЫТОКРИСТАЛЛИЧЕСКАЯ РАЗНОВИДНОСТЬ КВАРЦА, СОСТОЯЩАЯ ИЗ ТОНЧАЙШИХ ВОЛОКОН, РАЗЛИЧИМЫХ ЛИШЬ ПОД МИКРОСКОПОМ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45" name="Picture 9" descr="121316240110"/>
          <p:cNvPicPr/>
          <p:nvPr/>
        </p:nvPicPr>
        <p:blipFill>
          <a:blip r:embed="rId1"/>
          <a:stretch/>
        </p:blipFill>
        <p:spPr>
          <a:xfrm>
            <a:off x="4992840" y="4162320"/>
            <a:ext cx="3828960" cy="241164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46" name="Picture 10" descr="130335240110"/>
          <p:cNvPicPr/>
          <p:nvPr/>
        </p:nvPicPr>
        <p:blipFill>
          <a:blip r:embed="rId2"/>
          <a:stretch/>
        </p:blipFill>
        <p:spPr>
          <a:xfrm>
            <a:off x="5102280" y="1698480"/>
            <a:ext cx="3610080" cy="235116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47" name="Picture 11" descr="200131131005"/>
          <p:cNvPicPr/>
          <p:nvPr/>
        </p:nvPicPr>
        <p:blipFill>
          <a:blip r:embed="rId3"/>
          <a:stretch/>
        </p:blipFill>
        <p:spPr>
          <a:xfrm>
            <a:off x="457200" y="2203560"/>
            <a:ext cx="4044960" cy="369252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ХРИЗОЛИТ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ХРИЗОЛИТОМ НАЗЫВАЮТ ПРОЗРАЧНУЮ РАЗНОВИДНОСТЬ МИНЕРАЛА ОЛИВИНА - СИЛИКАТА ЖЕЛЕЗА И МАГНИЯ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24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2400" indent="-212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СЛОВО «ХРИЗОЛИТ» (ТО ЕСТЬ «ЗОЛОТОЙ КАМЕНЬ»; ГРЕЧ. CHRYSOS — «ЗОЛОТОЙ») СУЩЕСТВОВАЛО УЖЕ В ГЛУБОКОЙ ДРЕВНОСТИ. ОНО ВСТРЕЧАЕТСЯ В СТАРИННЫХ ТЕКСТАХ, НАЧИНАЯ С III В. ДО Н. Э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24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2400" indent="-212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ИНОГДА КАМЕНЬ НАЗЫВАЮТ ВЕЧЕРНИМ ИЗУМРУДОМ, ТАК КАК ПРИ ИСКУССТВЕННОМ ОСВЕЩЕНИИ ЖЕЛТЫЙ ОТТЕНОК ИСЧЕЗАЕТ, И КАМЕНЬ КАЖЕТСЯ ЧИСТО-ЗЕЛЕНЫМ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50" name="Picture 8" descr="231028220109"/>
          <p:cNvPicPr/>
          <p:nvPr/>
        </p:nvPicPr>
        <p:blipFill>
          <a:blip r:embed="rId1"/>
          <a:stretch/>
        </p:blipFill>
        <p:spPr>
          <a:xfrm>
            <a:off x="4648320" y="2019240"/>
            <a:ext cx="4038480" cy="403884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МАЛАХИТ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457200" y="198072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53" name="Picture 9" descr="123524281009"/>
          <p:cNvPicPr/>
          <p:nvPr/>
        </p:nvPicPr>
        <p:blipFill>
          <a:blip r:embed="rId1"/>
          <a:stretch/>
        </p:blipFill>
        <p:spPr>
          <a:xfrm>
            <a:off x="4716360" y="1341360"/>
            <a:ext cx="3888000" cy="251928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54" name="Picture 10" descr="IMG5ku5v8"/>
          <p:cNvPicPr/>
          <p:nvPr/>
        </p:nvPicPr>
        <p:blipFill>
          <a:blip r:embed="rId2"/>
          <a:stretch/>
        </p:blipFill>
        <p:spPr>
          <a:xfrm>
            <a:off x="1258920" y="4152960"/>
            <a:ext cx="2457360" cy="245736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55" name="Picture 11" descr="142501060606"/>
          <p:cNvPicPr/>
          <p:nvPr/>
        </p:nvPicPr>
        <p:blipFill>
          <a:blip r:embed="rId3"/>
          <a:stretch/>
        </p:blipFill>
        <p:spPr>
          <a:xfrm>
            <a:off x="5715000" y="4152960"/>
            <a:ext cx="2371680" cy="237168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56" name="Picture 8" descr="122843281009"/>
          <p:cNvPicPr/>
          <p:nvPr/>
        </p:nvPicPr>
        <p:blipFill>
          <a:blip r:embed="rId4"/>
          <a:stretch/>
        </p:blipFill>
        <p:spPr>
          <a:xfrm>
            <a:off x="468360" y="1341360"/>
            <a:ext cx="4032360" cy="25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ТОПАЗ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58" name="Picture 10" descr="211220010409"/>
          <p:cNvPicPr/>
          <p:nvPr/>
        </p:nvPicPr>
        <p:blipFill>
          <a:blip r:embed="rId1"/>
          <a:stretch/>
        </p:blipFill>
        <p:spPr>
          <a:xfrm>
            <a:off x="900000" y="3860640"/>
            <a:ext cx="3024360" cy="277812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СОГЛАСНО БИБЛИИ, ТОПАЗ - ОДИН ИЗ 12 БИБЛЕЙСКИХ КАМНЕЙ, КОТОРЫМИ БЫЛА УКРАШЕНА ПОЛОТНЯНАЯ СУМА ("НАПЕРСНИК") ПЕРВОСВЯЩЕННИКА, КОГДА ОН ОТПРАВЛЯЛ БОГОСЛУЖЕНИЕ ИЕГОВЕ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60" name="Picture 9" descr="152550140905"/>
          <p:cNvPicPr/>
          <p:nvPr/>
        </p:nvPicPr>
        <p:blipFill>
          <a:blip r:embed="rId2"/>
          <a:stretch/>
        </p:blipFill>
        <p:spPr>
          <a:xfrm>
            <a:off x="395280" y="1484280"/>
            <a:ext cx="4032360" cy="22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68360" y="151920"/>
            <a:ext cx="822960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w Cen MT"/>
              </a:rPr>
              <a:t>«УРАЛЬСКИЕ ГОРЫ» 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90" name="Picture 7" descr="604957846"/>
          <p:cNvPicPr/>
          <p:nvPr/>
        </p:nvPicPr>
        <p:blipFill>
          <a:blip r:embed="rId1"/>
          <a:stretch/>
        </p:blipFill>
        <p:spPr>
          <a:xfrm>
            <a:off x="4863960" y="1081080"/>
            <a:ext cx="4280040" cy="545616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991" name="Picture 4" descr="161880314"/>
          <p:cNvPicPr/>
          <p:nvPr/>
        </p:nvPicPr>
        <p:blipFill>
          <a:blip r:embed="rId2"/>
          <a:stretch/>
        </p:blipFill>
        <p:spPr>
          <a:xfrm>
            <a:off x="324000" y="907920"/>
            <a:ext cx="3995640" cy="49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2" name="TextBox 1"/>
          <p:cNvSpPr/>
          <p:nvPr/>
        </p:nvSpPr>
        <p:spPr>
          <a:xfrm>
            <a:off x="4788000" y="9079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ЯШМА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457200" y="198072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63" name="Picture 9" descr="214108170207"/>
          <p:cNvPicPr/>
          <p:nvPr/>
        </p:nvPicPr>
        <p:blipFill>
          <a:blip r:embed="rId1"/>
          <a:stretch/>
        </p:blipFill>
        <p:spPr>
          <a:xfrm>
            <a:off x="1531800" y="4378320"/>
            <a:ext cx="1905120" cy="190512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w Cen MT"/>
              </a:rPr>
              <a:t>ИЗВЕСТЕН ЧЕЛОВЕКУ С ЭПОХИ ПАЛЕОЛИТА, КОГДА ИЗ НЕГО ДЕЛАЛИ ОРУЖИЕ И ИНСТРУМЕНТЫ.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w Cen MT"/>
              </a:rPr>
              <a:t>ПОЗДНЕЕ ИЗ ЯШМЫ СТАЛИ ВЫТАЧИВАТЬ РАЗЛИЧНЫЕ УКРАШЕНИЯ И ТАЛИСМАНЫ. В СТРАНАХ ВОСТОКА ЯШМА СЧИТАЛАСЬ СИМВОЛОМ КРАСОТЫ, ИЗЯЩЕСТВА И БОГАТСТВА. В ДРЕВНЕЙ ГРЕЦИИ КАМЕНЬ СЛУЖИЛ ОБЕРЕГОМ ОТ СГЛАЗА МОЛОДЫХ МАТЕРЕЙ И МЛАДЕНЦЕВ. ГИППОКРАТ ЛЕЧИЛ ЯШМОЙ ЛИХОРАДКУ И ЭПИЛЕПСИЮ. С РАСПРОСТРАНЕНИЕМ ХРИСТИАНСТВА СТАЛИ СЧИТАТЬ, ЧТО МАГИЧЕСКИМИ СВОЙСТВАМИ ОБЛАДАЕТ ЯШМА, ОСВЯЩЕННАЯ В ЦЕРКВИ. А.С. ПУШКИН НОСИЛ БРАСЛЕТ С ЗЕЛЕНОЙ ЯШМОЙ, СЧИТАЯ ЕЕ ПОМОЩНИЦЕЙ В ЛЮБОВНЫХ ДЕЛАХ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65" name="Picture 8" descr="113128230808"/>
          <p:cNvPicPr/>
          <p:nvPr/>
        </p:nvPicPr>
        <p:blipFill>
          <a:blip r:embed="rId2"/>
          <a:stretch/>
        </p:blipFill>
        <p:spPr>
          <a:xfrm>
            <a:off x="468360" y="1557360"/>
            <a:ext cx="403236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РЕКИ УРАЛА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457200" y="198072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95" name="Picture 10" descr="1243059786"/>
          <p:cNvPicPr/>
          <p:nvPr/>
        </p:nvPicPr>
        <p:blipFill>
          <a:blip r:embed="rId1"/>
          <a:stretch/>
        </p:blipFill>
        <p:spPr>
          <a:xfrm>
            <a:off x="4932360" y="1557360"/>
            <a:ext cx="3672000" cy="223200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996" name="Picture 9" descr="1227546436"/>
          <p:cNvPicPr/>
          <p:nvPr/>
        </p:nvPicPr>
        <p:blipFill>
          <a:blip r:embed="rId2"/>
          <a:stretch/>
        </p:blipFill>
        <p:spPr>
          <a:xfrm>
            <a:off x="1719360" y="4500720"/>
            <a:ext cx="2776320" cy="221760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997" name="Picture 13" descr="1227776828"/>
          <p:cNvPicPr/>
          <p:nvPr/>
        </p:nvPicPr>
        <p:blipFill>
          <a:blip r:embed="rId3"/>
          <a:stretch/>
        </p:blipFill>
        <p:spPr>
          <a:xfrm>
            <a:off x="4932360" y="4500720"/>
            <a:ext cx="2492280" cy="199044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998" name="Picture 8" descr="1227979491"/>
          <p:cNvPicPr/>
          <p:nvPr/>
        </p:nvPicPr>
        <p:blipFill>
          <a:blip r:embed="rId4"/>
          <a:stretch/>
        </p:blipFill>
        <p:spPr>
          <a:xfrm>
            <a:off x="468360" y="1557360"/>
            <a:ext cx="4032360" cy="22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ГОРА НАРОДНАЯ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00" name="Picture 21" descr="523993"/>
          <p:cNvPicPr/>
          <p:nvPr/>
        </p:nvPicPr>
        <p:blipFill>
          <a:blip r:embed="rId1"/>
          <a:stretch/>
        </p:blipFill>
        <p:spPr>
          <a:xfrm>
            <a:off x="179280" y="2133720"/>
            <a:ext cx="4651560" cy="298584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w Cen MT"/>
              </a:rPr>
              <a:t>ГОРА НАРОДНАЯ НАИВЫСШАЯ ВЕРШИНА (1895 М) УРАЛА. РАСПОЛОЖЕНА НА ГРАНИЦЕ КОМИ И ХАНТЫ-МАНСИЙСКОГО АВТ. ОКРУГА, ПРИПОЛЯРНЫЙ УРАЛ. ОТКРЫТА ГЕОЛОГОМ А. Н. АЛЕШКОВЫМ В 1927 ГОДУ ВО ВРЕМЯ ЭКСПЕДИЦИИ НА СЕВЕРНЫЙ УРАЛ. ГОРНЫЙ ХРЕБЕТ ДОСТИГАЕТ В ДАННОМ РАЙОНЕ НАИБОЛЬШЕЙ ШИРИНЫ. ХАРАКТЕРЕН АЛЬПИЙСКИЙ ТИП РЕЛЬЕФА С ОТВЕСНЫМИ СКЛОНАМИ, ГЛУБОКИМИ УЩЕЛЬЯМИ. ОБИЛИЕ ЛЕДНИКОВЫХ ФОРМ, НАЛИЧИЕ КАРАВ И ЦИРКОВ, В ГЛУБИНЕ КОТОРЫХ ЗАЛЕГАЮТ ОЗЁРА. В ВЫСОКОГОРНОЙ ЗОНЕ ВСТРЕЧАЮТСЯ ПЛОСКОВЕРШИННЫЕ МАССИВЫ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СТОЛБЫ ВЫВЕТРИВАНИЯ НА ПЛАТО МАНЬПУПУНЕР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457200" y="198072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4648320" y="198072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05" name="Picture 9" descr="1232476254"/>
          <p:cNvPicPr/>
          <p:nvPr/>
        </p:nvPicPr>
        <p:blipFill>
          <a:blip r:embed="rId1"/>
          <a:stretch/>
        </p:blipFill>
        <p:spPr>
          <a:xfrm>
            <a:off x="468360" y="4141800"/>
            <a:ext cx="4027320" cy="263520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06" name="Picture 11" descr="1232475842"/>
          <p:cNvPicPr/>
          <p:nvPr/>
        </p:nvPicPr>
        <p:blipFill>
          <a:blip r:embed="rId2"/>
          <a:stretch/>
        </p:blipFill>
        <p:spPr>
          <a:xfrm>
            <a:off x="4643280" y="3933720"/>
            <a:ext cx="4043520" cy="284328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07" name="Picture 4" descr="1232476322"/>
          <p:cNvPicPr/>
          <p:nvPr/>
        </p:nvPicPr>
        <p:blipFill>
          <a:blip r:embed="rId3"/>
          <a:stretch/>
        </p:blipFill>
        <p:spPr>
          <a:xfrm>
            <a:off x="468360" y="1557360"/>
            <a:ext cx="4032360" cy="237636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08" name="Picture 10" descr="1232475900"/>
          <p:cNvPicPr/>
          <p:nvPr/>
        </p:nvPicPr>
        <p:blipFill>
          <a:blip r:embed="rId4"/>
          <a:stretch/>
        </p:blipFill>
        <p:spPr>
          <a:xfrm>
            <a:off x="4643280" y="1557360"/>
            <a:ext cx="4032360" cy="230328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ПРЕДУРАЛЬЕ, ПОЛЯРНЫЙ УРАЛ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10" name="Picture 7" descr="img233236694"/>
          <p:cNvPicPr/>
          <p:nvPr/>
        </p:nvPicPr>
        <p:blipFill>
          <a:blip r:embed="rId1"/>
          <a:stretch/>
        </p:blipFill>
        <p:spPr>
          <a:xfrm>
            <a:off x="900000" y="4149720"/>
            <a:ext cx="3465720" cy="230508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11" name="Picture 13" descr="img663351440"/>
          <p:cNvPicPr/>
          <p:nvPr/>
        </p:nvPicPr>
        <p:blipFill>
          <a:blip r:embed="rId2"/>
          <a:stretch/>
        </p:blipFill>
        <p:spPr>
          <a:xfrm>
            <a:off x="2738520" y="1341360"/>
            <a:ext cx="3776760" cy="259236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12" name="Picture 12" descr="img353756713"/>
          <p:cNvPicPr/>
          <p:nvPr/>
        </p:nvPicPr>
        <p:blipFill>
          <a:blip r:embed="rId3"/>
          <a:stretch/>
        </p:blipFill>
        <p:spPr>
          <a:xfrm>
            <a:off x="5292720" y="4149720"/>
            <a:ext cx="3003480" cy="230508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01800" y="249120"/>
            <a:ext cx="777384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УРАЛЬСКИЕ ГОРЫ. ЮЖНЫЙ УРАЛ, ГОРНЫЙ МАССИВ ИРЕМЕЛЬ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15" name="Picture 4" descr="R181_15"/>
          <p:cNvPicPr/>
          <p:nvPr/>
        </p:nvPicPr>
        <p:blipFill>
          <a:blip r:embed="rId1"/>
          <a:stretch/>
        </p:blipFill>
        <p:spPr>
          <a:xfrm>
            <a:off x="468360" y="1844640"/>
            <a:ext cx="8207280" cy="453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90120" y="189000"/>
            <a:ext cx="77742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УРАЛЬСКИЕ ГОРЫ. ЮЖНЫЙ УРАЛ, ХРЕБЕТ ЗИГАЛЬГА,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18" name="Picture 4" descr="R184_27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УРАЛЬСКИЕ ГОРЫ. ЮЖНЫЙ УРАЛ, ГОРА ПОПЕРЕЧНАЯ. ВИД НА ЗАХОДЯЩЕЕ СОЛНЦЕ С ВЕРШИНЫ ГОРЫ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21" name="Picture 4" descr="R184_30"/>
          <p:cNvPicPr/>
          <p:nvPr/>
        </p:nvPicPr>
        <p:blipFill>
          <a:blip r:embed="rId1"/>
          <a:stretch/>
        </p:blipFill>
        <p:spPr>
          <a:xfrm>
            <a:off x="539640" y="1557360"/>
            <a:ext cx="8136000" cy="47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5:56:43Z</dcterms:created>
  <dc:creator>Таня</dc:creator>
  <dc:description/>
  <dc:language>en-US</dc:language>
  <cp:lastModifiedBy>1</cp:lastModifiedBy>
  <dcterms:modified xsi:type="dcterms:W3CDTF">2021-05-26T11:30:04Z</dcterms:modified>
  <cp:revision>24</cp:revision>
  <dc:subject/>
  <dc:title>Столбы выветривания на плато Маньпупунер</dc:title>
</cp:coreProperties>
</file>