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5F91-80F6-47BB-B6D4-D94568C5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C2F-5D78-4B47-A1F2-F5B58723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C82-12C7-4746-81D3-D4605C73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719-4315-4EB4-A912-DA208600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AD0-C6A2-48FE-9AC7-F598217B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F88-214C-42B2-9797-ED02ED12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374-1B62-41F6-B822-0AF7251A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AAF-5BBA-4E5D-B74A-8E7D810E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767-013D-443C-BF8F-C292B763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7E9-C8B4-4146-BB8E-DC8DC3D6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6B19-F8FC-45E4-BDA8-DFFEEDD0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480-D4B3-446B-BAEC-4BCCF137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fab"/>
            </a:gs>
            <a:gs pos="100000">
              <a:srgbClr val="ffe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C304-F20B-4880-93D3-B797063C25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9040" y="19836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МАДОУ «Детский сад №4» с.Объяч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23640" y="5373720"/>
            <a:ext cx="7048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оставитель: учитель –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закова М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755640" y="1413000"/>
            <a:ext cx="7777080" cy="23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елая АРИФМЕТИКА</a:t>
            </a:r>
            <a:endParaRPr b="1" lang="en-US" sz="1800" spc="1" strike="noStrike">
              <a:ln w="38160">
                <a:solidFill>
                  <a:srgbClr val="a50021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268360" y="3068640"/>
            <a:ext cx="4824720" cy="187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ЁЛЫЕ СЧИТАЛКИ</a:t>
            </a:r>
            <a:endParaRPr b="1" lang="en-US" sz="1800" spc="1" strike="noStrike">
              <a:ln w="38160">
                <a:solidFill>
                  <a:srgbClr val="00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4356000" y="371628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65080" cy="803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3"/>
          <a:stretch/>
        </p:blipFill>
        <p:spPr>
          <a:xfrm>
            <a:off x="7596360" y="573408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4"/>
          <a:stretch/>
        </p:blipFill>
        <p:spPr>
          <a:xfrm>
            <a:off x="7885080" y="18900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5"/>
          <a:stretch/>
        </p:blipFill>
        <p:spPr>
          <a:xfrm>
            <a:off x="2411280" y="206064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6"/>
          <a:stretch/>
        </p:blipFill>
        <p:spPr>
          <a:xfrm>
            <a:off x="826920" y="566100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7"/>
          <a:stretch/>
        </p:blipFill>
        <p:spPr>
          <a:xfrm>
            <a:off x="7812000" y="2924280"/>
            <a:ext cx="865440" cy="803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4932360" cy="4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Кот Корней - рыб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339640" y="404640"/>
            <a:ext cx="44276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На траве лежит улов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считайте, сколько штук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Он поймал зубастых щук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колько выловил Корней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лосатых оку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06"/>
          <p:cNvPicPr/>
          <p:nvPr/>
        </p:nvPicPr>
        <p:blipFill>
          <a:blip r:embed="rId1"/>
          <a:stretch/>
        </p:blipFill>
        <p:spPr>
          <a:xfrm>
            <a:off x="1835280" y="2205000"/>
            <a:ext cx="525600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356544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айчики и ё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435640" y="475920"/>
            <a:ext cx="3132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сосчитай-к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на той же кочке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й цветочки.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1591"/>
          <p:cNvPicPr/>
          <p:nvPr/>
        </p:nvPicPr>
        <p:blipFill>
          <a:blip r:embed="rId1"/>
          <a:stretch/>
        </p:blipFill>
        <p:spPr>
          <a:xfrm>
            <a:off x="1619280" y="1557360"/>
            <a:ext cx="6003720" cy="5199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755640" y="692280"/>
            <a:ext cx="378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шки над бугром торчат..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ара — это зайк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за бугром зайчат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881080" cy="1052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Планета Мартин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3241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осмонавты прилетел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 планету Мартинел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ного видели план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о такой, как эта — нет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ам кристаллов очень много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де же к кораблю дорога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й скорей кристаллы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х в пути найдёшь немало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о не пропусти их только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ойден путь? Кристаллов скольк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288"/>
          <p:cNvPicPr/>
          <p:nvPr/>
        </p:nvPicPr>
        <p:blipFill>
          <a:blip r:embed="rId1"/>
          <a:stretch/>
        </p:blipFill>
        <p:spPr>
          <a:xfrm>
            <a:off x="3492360" y="260280"/>
            <a:ext cx="5480280" cy="645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4149720"/>
            <a:ext cx="4932360" cy="503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Чудо-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5280" y="4770000"/>
            <a:ext cx="3527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До чего же хороши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овые карандаши!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не рисуют всё подряд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от — солдаты стали в ряд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А в ряду их сколько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А потом они в полёт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Запустили самолёт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амолётов сколь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292"/>
          <p:cNvPicPr/>
          <p:nvPr/>
        </p:nvPicPr>
        <p:blipFill>
          <a:blip r:embed="rId1"/>
          <a:stretch/>
        </p:blipFill>
        <p:spPr>
          <a:xfrm>
            <a:off x="1042920" y="63360"/>
            <a:ext cx="7128000" cy="3942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5292720" y="4076640"/>
            <a:ext cx="3527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арашюты-купола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миг раскрасить я смогла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арашютов сколько?</a:t>
            </a:r>
            <a:br>
              <a:rPr sz="20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рандашики устали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Чтобы ночью отдыхали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пать в коробку уложу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тром снова разбужу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х в коробке сколь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рнавальные ма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59280" y="836640"/>
            <a:ext cx="338472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Пчёлки и 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796000" y="2204640"/>
            <a:ext cx="334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 цветочки-медоносы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илетели пчёлы, ос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жужж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Мы, млад и стар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Очень любим пить нектар!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тебе жужжат вопрос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Сколько пчёлок? Сколько ос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4084"/>
          <p:cNvPicPr/>
          <p:nvPr/>
        </p:nvPicPr>
        <p:blipFill>
          <a:blip r:embed="rId1"/>
          <a:stretch/>
        </p:blipFill>
        <p:spPr>
          <a:xfrm>
            <a:off x="179280" y="549360"/>
            <a:ext cx="5730840" cy="5883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705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Рекомендации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764640"/>
            <a:ext cx="80229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У вас есть прекрасная возможность разыграть каждый стишок, ведь ребёнок учится иг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Для начала пусть  ребёнок показывает одинаковое количество палочек или пальчиков, соответствующих верному от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Далее предложите ребёнку готовые цифры и попросите показать правильный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Не жалейте времени, чтобы научить ребёнка определять состав числа – это очень важно для развития логического мышления и последующе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09744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Мотыльки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и васил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91280" y="1916280"/>
            <a:ext cx="295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синеют у ре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Чудо-диво василь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ы, малыш, мне подскаж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асильков во ржи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идишь колосков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ьётся мотыльков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ю я пок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рылышки у мотыл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4-626"/>
          <p:cNvPicPr/>
          <p:nvPr/>
        </p:nvPicPr>
        <p:blipFill>
          <a:blip r:embed="rId1"/>
          <a:stretch/>
        </p:blipFill>
        <p:spPr>
          <a:xfrm>
            <a:off x="250920" y="260280"/>
            <a:ext cx="5448240" cy="638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24-626"/>
          <p:cNvPicPr/>
          <p:nvPr/>
        </p:nvPicPr>
        <p:blipFill>
          <a:blip r:embed="rId2"/>
          <a:stretch/>
        </p:blipFill>
        <p:spPr>
          <a:xfrm>
            <a:off x="468360" y="260280"/>
            <a:ext cx="5448240" cy="6381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24-626"/>
          <p:cNvPicPr/>
          <p:nvPr/>
        </p:nvPicPr>
        <p:blipFill>
          <a:blip r:embed="rId3"/>
          <a:stretch/>
        </p:blipFill>
        <p:spPr>
          <a:xfrm>
            <a:off x="468360" y="260280"/>
            <a:ext cx="5448240" cy="6381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672000" cy="105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Беличьи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867280" y="1267920"/>
            <a:ext cx="345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Рыжие бел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грали в горелк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Лишь только мелькали хвосты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 веток на вет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ыгали дет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 очень большой высоты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Дети скакал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мамы считали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резвится ребят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так рабо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бились со счёт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ы сосчитай-ка бельча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4-667"/>
          <p:cNvPicPr/>
          <p:nvPr/>
        </p:nvPicPr>
        <p:blipFill>
          <a:blip r:embed="rId1"/>
          <a:stretch/>
        </p:blipFill>
        <p:spPr>
          <a:xfrm>
            <a:off x="0" y="404640"/>
            <a:ext cx="5638680" cy="597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3499920"/>
            <a:ext cx="568980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Белки и о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50560" y="4508280"/>
            <a:ext cx="4537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Белки для потехи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Щёлкали орехи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Как расколется оре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лышен белок звонкий сме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270"/>
          <p:cNvPicPr/>
          <p:nvPr/>
        </p:nvPicPr>
        <p:blipFill>
          <a:blip r:embed="rId1"/>
          <a:stretch/>
        </p:blipFill>
        <p:spPr>
          <a:xfrm>
            <a:off x="900000" y="189000"/>
            <a:ext cx="7734240" cy="35146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4788000" y="4581360"/>
            <a:ext cx="41767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считать бы только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Раскололи сколько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считай ещё и те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Что остались в скорлу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4464000" cy="76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олотые апель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360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ъем огромный апельсин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потом ещё один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можешь в вазе сосчитать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остаётся? ..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4-676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5148360" y="62064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осмотри сперва на вазу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потом считай все сразу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Если б я не ел совс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их было?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33796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 пшеничном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915920"/>
            <a:ext cx="2984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ышки в поле у ре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ли колос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олодцы! Букет готов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 каждом колосков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мышек в поле этом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там из них с букетом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то за бабочкой гонялся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 колоском одним остался?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4-641"/>
          <p:cNvPicPr/>
          <p:nvPr/>
        </p:nvPicPr>
        <p:blipFill>
          <a:blip r:embed="rId1"/>
          <a:stretch/>
        </p:blipFill>
        <p:spPr>
          <a:xfrm>
            <a:off x="3348000" y="549360"/>
            <a:ext cx="5567400" cy="5905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3933360"/>
            <a:ext cx="7488360" cy="50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ы не бойтесь, кр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94920" y="4508640"/>
            <a:ext cx="331164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озле норки заскреблась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отихоньку кошка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спугала всех мышат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аленьких. Немножко?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се трясутся малыши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 не понарошку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Быстро все до одного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лезли под рогожку.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24-653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3600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4643280" y="4221000"/>
            <a:ext cx="36720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м знаком усатый зверь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ет страшнее кошки!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аловата в норку дверь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ы не бойтесь, крошки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о малютки всё дрожат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спокой их ты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оль не видишь здесь мышат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осчитай хвос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55344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Тянем-потя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700000" y="907560"/>
            <a:ext cx="4103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Репка выросла большая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компания какая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ет урожай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всех их сосчит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4-659"/>
          <p:cNvPicPr/>
          <p:nvPr/>
        </p:nvPicPr>
        <p:blipFill>
          <a:blip r:embed="rId1"/>
          <a:stretch/>
        </p:blipFill>
        <p:spPr>
          <a:xfrm>
            <a:off x="826920" y="1949400"/>
            <a:ext cx="7704360" cy="4908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4436640"/>
            <a:ext cx="5042160" cy="3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Совушки и шля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94920" y="5013000"/>
            <a:ext cx="388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девали совуш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ы на головуш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одна всю ночь ле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у где-то потеря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24-662"/>
          <p:cNvPicPr/>
          <p:nvPr/>
        </p:nvPicPr>
        <p:blipFill>
          <a:blip r:embed="rId1"/>
          <a:stretch/>
        </p:blipFill>
        <p:spPr>
          <a:xfrm>
            <a:off x="468360" y="189000"/>
            <a:ext cx="8064360" cy="40719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4822920" y="5013360"/>
            <a:ext cx="432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идит одна. Сердита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олова-то непокры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лювик вниз, поджала лап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сов надели шляп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4:26:21Z</dcterms:created>
  <dc:creator>лрвапшиывар</dc:creator>
  <dc:description/>
  <dc:language>en-US</dc:language>
  <cp:lastModifiedBy>Admin</cp:lastModifiedBy>
  <dcterms:modified xsi:type="dcterms:W3CDTF">2019-12-19T20:37:40Z</dcterms:modified>
  <cp:revision>7</cp:revision>
  <dc:subject/>
  <dc:title>Автор стихов и рисунков Валентина Черняева</dc:title>
</cp:coreProperties>
</file>