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4661-8C21-48BA-BD3C-1DCD6F88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536C-5273-4738-8942-226EFE4F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AECB-FA51-4309-AB38-50680954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211A-13D0-41DB-A39C-ADAC7DD5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09AC-B303-4F14-AA8A-249D4091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888D-513E-4AF0-9962-0468CAEE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A196-777C-4DF0-A9FA-528CB0C6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9588-7436-4A89-8F03-8AC88456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C949-0FB8-4613-93BE-D57A48B6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34CE-88CB-4A43-B5C2-10C1703B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CCF5-1A8A-431B-9FD2-0550E548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2F4D-A451-4735-8B82-AF8295D1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E682-87FF-4173-AE78-A4A212C5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33C5-76DB-4C46-BE17-8E1B9530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5D62-CB8F-4ADC-BC71-B68AC065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F1C7-CC9E-45F7-8BA7-34F144AF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B201-2F47-43C3-A6D5-93A6460A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9909-FE12-438C-A7C7-C8DD8A53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65BB-7483-4B87-ADEA-3DF8EE05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4FE3-665B-4064-A773-A812AB54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D496-022D-40F9-BCF4-F5F35330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C778-5D06-46DC-B034-8FFA1064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38CD-2EA7-453B-ACD2-CFFD2F45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50DC-37E7-4BA0-91AF-A8DA5980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ECFF-4954-4B89-813E-99BD723E430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69B7-5CA2-4E2B-BE76-F88C85D7C5C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6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Технология направленного применения утренней гимнастики в начальной школе с использованием музыкального сопровождение для повышения двигательной активности и улучшения мозгового кровообращения школьников в течении учебного дня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итель физической культуры ГБОУ СОШ №184 Супонева Анна Викторовн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4" descr="234234sport"/>
          <p:cNvPicPr/>
          <p:nvPr/>
        </p:nvPicPr>
        <p:blipFill>
          <a:blip r:embed="rId1"/>
          <a:stretch/>
        </p:blipFill>
        <p:spPr>
          <a:xfrm>
            <a:off x="324000" y="1197000"/>
            <a:ext cx="267156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234234sport"/>
          <p:cNvPicPr/>
          <p:nvPr/>
        </p:nvPicPr>
        <p:blipFill>
          <a:blip r:embed="rId2"/>
          <a:stretch/>
        </p:blipFill>
        <p:spPr>
          <a:xfrm>
            <a:off x="6732720" y="5429160"/>
            <a:ext cx="26715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чение утренней гимнаст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тренняя гимнастика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существляемая после ночного сна, выводит организм ребенка из состояния заторможенности физиологических процессов, усиливая деятельность всех органов и систем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imgb" descr="314"/>
          <p:cNvPicPr/>
          <p:nvPr/>
        </p:nvPicPr>
        <p:blipFill>
          <a:blip r:embed="rId1"/>
          <a:stretch/>
        </p:blipFill>
        <p:spPr>
          <a:xfrm>
            <a:off x="826920" y="2362320"/>
            <a:ext cx="35658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и утренней гимнаст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2361960"/>
            <a:ext cx="4357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процессе утренней гимнастики необходимо обеспечить правильную физическую, психическую и эмоциональную нагрузку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imgb" descr="27104857"/>
          <p:cNvPicPr/>
          <p:nvPr/>
        </p:nvPicPr>
        <p:blipFill>
          <a:blip r:embed="rId1"/>
          <a:stretch/>
        </p:blipFill>
        <p:spPr>
          <a:xfrm>
            <a:off x="4932360" y="2362320"/>
            <a:ext cx="35272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лияние утренней гимнастики на возбудимость коры головного мозга младших школьник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ыполнение физических упражнений утренней гимнастики усиливает возбудимость коры головного мозга, а также реактивность всей центральной нервной системы. Целый поток импульсов, идущих в головной мозг от всех  рецепторов — зрительного, слухового, опорно-двигательного, кожного, — вызывает и восстанавливает работоспособность нервной системы и жизнедеятельность организма в целом.</a:t>
            </a:r>
            <a:r>
              <a:rPr b="0" lang="ru-RU" sz="9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imgb" descr="morning_exercises"/>
          <p:cNvPicPr/>
          <p:nvPr/>
        </p:nvPicPr>
        <p:blipFill>
          <a:blip r:embed="rId1"/>
          <a:stretch/>
        </p:blipFill>
        <p:spPr>
          <a:xfrm>
            <a:off x="4761000" y="2421000"/>
            <a:ext cx="3770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тренняя гимнастика – не только оздоровительное мероприятие но и воспитательный метод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Регулярное проведение утренней гимнастик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определенные утренние часы после ночного сна,  воспитывает у детей внимание, целеустремленность, способствует повышению умственной деятельности, вызывает эмоции и радостные ощущения, организует и мобилизует организм человека, переключая его на деятельное, рабочее состояние, прививает гигиенические навыки, пропагандирует и повышает санитарную культуру занимающихся и способствует приобщению широких масс населения к физической культуре и спорту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imgb" descr="detki"/>
          <p:cNvPicPr/>
          <p:nvPr/>
        </p:nvPicPr>
        <p:blipFill>
          <a:blip r:embed="rId1"/>
          <a:stretch/>
        </p:blipFill>
        <p:spPr>
          <a:xfrm>
            <a:off x="684360" y="2565360"/>
            <a:ext cx="4248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Использование музыкального сопровождения утренней гимнастик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10920" y="2361960"/>
            <a:ext cx="3997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ыполнение упражнений под музыку помогает создать правильные представления о характере движений, их темпе и ритме. Дети хорошо воспринимают оттенки музыкального произведения и в соответствии с музыкой меняют характер своих движени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imgb" descr="7c2a_UtXcwm1g2O"/>
          <p:cNvPicPr/>
          <p:nvPr/>
        </p:nvPicPr>
        <p:blipFill>
          <a:blip r:embed="rId1"/>
          <a:stretch/>
        </p:blipFill>
        <p:spPr>
          <a:xfrm>
            <a:off x="4782960" y="2362320"/>
            <a:ext cx="372456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правленное применение музыкального сопровождения при выполнении общеразвивающих упражнений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Чтобы правильно подобрать музыкальное сопровождение, нужно хорошо представлять себе каждое упражнение, понимать его смысл и назначение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узыкальное сопровождение общеразвивающих упражнений целесообразно в том случае, если они достаточно просты, хорошо освоены детьми и выполняются ими свободно и непринужденно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ыполняйте утреннюю гимнастику!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imgb" descr="utrennyaya-zaryadka_1283520507"/>
          <p:cNvPicPr/>
          <p:nvPr/>
        </p:nvPicPr>
        <p:blipFill>
          <a:blip r:embed="rId1"/>
          <a:stretch/>
        </p:blipFill>
        <p:spPr>
          <a:xfrm>
            <a:off x="1332000" y="2492280"/>
            <a:ext cx="6985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22:13:32Z</dcterms:created>
  <dc:creator>user</dc:creator>
  <dc:description/>
  <dc:language>en-US</dc:language>
  <cp:lastModifiedBy>Vadim</cp:lastModifiedBy>
  <dcterms:modified xsi:type="dcterms:W3CDTF">2021-05-27T15:23:43Z</dcterms:modified>
  <cp:revision>8</cp:revision>
  <dc:subject/>
  <dc:title>СЕМИНАР УЧИТЕЛЕЙ ФИЗИЧЕСКОЙ КУЛЬТУРЫ НОГИНСКОГО МУНИЦИПАЛЬНОГО РАЙОНА  В МОУ СОШ № 26</dc:title>
</cp:coreProperties>
</file>