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5AA-F485-4BFF-9947-10049445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DDF-5FD8-45E0-B42F-18883DA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9E7-0139-4093-ACD1-551590F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AED-6493-4498-A79E-409C3B41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D4F-821F-4340-A302-7FDC8D62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8D2-842F-465E-802E-E85872CD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4A5-BF5D-4626-B579-908D8CFD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B78-A8BC-4612-8988-407441D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27A-050B-491A-89D2-70793B0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0D69-8AF1-457C-B153-4C9691F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A9A3-E651-4DED-9567-9405679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FBB-C747-40C1-A9A1-3754F3D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09DA-9A50-407F-B6D2-E2FDA39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598-808C-4BA7-B7BA-F25150F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1430-EAD9-40D7-A3DF-957FD09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E8F1-76C7-4131-B727-B9B847A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43A5-5634-4CE2-A843-3E036F3A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795-BAE3-43D0-9CEA-87201BA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5CB-449C-4B79-AB17-2FA68B8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9BD-0D2C-4FC7-A6EB-D0AA36B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832-4981-4698-849D-EAA8F05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ABC-53A6-475F-A91A-ACD6BF2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2BF-C068-4CAB-A1B7-9CB4669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6C3-A993-4E69-8178-0720017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EF3-B0EE-43EF-A67C-548B8D735F8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6E52-FAE0-40F8-B83E-02B035B32B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Технология направленного применения утренней гимнастики в начальной школе с использованием музыкального сопровождение для повышения двигательной активности и улучшения мозгового кровообращения школьников в течении учебного дня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физической культуры ГБОУ СОШ №184 Супонева Анна Викторо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234234sport"/>
          <p:cNvPicPr/>
          <p:nvPr/>
        </p:nvPicPr>
        <p:blipFill>
          <a:blip r:embed="rId1"/>
          <a:stretch/>
        </p:blipFill>
        <p:spPr>
          <a:xfrm>
            <a:off x="324000" y="1197000"/>
            <a:ext cx="26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34234sport"/>
          <p:cNvPicPr/>
          <p:nvPr/>
        </p:nvPicPr>
        <p:blipFill>
          <a:blip r:embed="rId2"/>
          <a:stretch/>
        </p:blipFill>
        <p:spPr>
          <a:xfrm>
            <a:off x="6732720" y="5429160"/>
            <a:ext cx="2671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утренней гимна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тренняя гимнастик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яемая после ночного сна, выводит организм ребенка из состояния заторможенности физиологических процессов, усиливая деятельность всех органов и сист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imgb" descr="314"/>
          <p:cNvPicPr/>
          <p:nvPr/>
        </p:nvPicPr>
        <p:blipFill>
          <a:blip r:embed="rId1"/>
          <a:stretch/>
        </p:blipFill>
        <p:spPr>
          <a:xfrm>
            <a:off x="826920" y="2362320"/>
            <a:ext cx="35658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 утренней гимна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2361960"/>
            <a:ext cx="435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утренней гимнастики необходимо обеспечить правильную физическую, психическую и эмоциональную нагруз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mgb" descr="27104857"/>
          <p:cNvPicPr/>
          <p:nvPr/>
        </p:nvPicPr>
        <p:blipFill>
          <a:blip r:embed="rId1"/>
          <a:stretch/>
        </p:blipFill>
        <p:spPr>
          <a:xfrm>
            <a:off x="4932360" y="2362320"/>
            <a:ext cx="3527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лияние утренней гимнастики на возбудимость коры головного мозга младших шк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ение физических упражнений утренней гимнастики усиливает возбудимость коры головного мозга, а также реактивность всей центральной нервной системы. Целый поток импульсов, идущих в головной мозг от всех  рецепторов — зрительного, слухового, опорно-двигательного, кожного, — вызывает и восстанавливает работоспособность нервной системы и жизнедеятельность организма в целом.</a:t>
            </a: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imgb" descr="morning_exercises"/>
          <p:cNvPicPr/>
          <p:nvPr/>
        </p:nvPicPr>
        <p:blipFill>
          <a:blip r:embed="rId1"/>
          <a:stretch/>
        </p:blipFill>
        <p:spPr>
          <a:xfrm>
            <a:off x="4761000" y="2421000"/>
            <a:ext cx="3770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тренняя гимнастика – не только оздоровительное мероприятие но и воспитательный мето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егулярное проведение утренней гимнаст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определенные утренние часы после ночного сна,  воспитывает у детей внимание, целеустремленность, способствует повышению умственной деятельности, вызывает эмоции и радостные ощущения, организует и мобилизует организм человека, переключая его на деятельное, рабочее состояние, прививает гигиенические навыки, пропагандирует и повышает санитарную культуру занимающихся и способствует приобщению широких масс населения к физической культуре и спорт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imgb" descr="detki"/>
          <p:cNvPicPr/>
          <p:nvPr/>
        </p:nvPicPr>
        <p:blipFill>
          <a:blip r:embed="rId1"/>
          <a:stretch/>
        </p:blipFill>
        <p:spPr>
          <a:xfrm>
            <a:off x="684360" y="2565360"/>
            <a:ext cx="42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спользование музыкального сопровождения утренней гимнастик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2361960"/>
            <a:ext cx="3997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ение упражнений под музыку помогает создать правильные представления о характере движений, их темпе и ритме. Дети хорошо воспринимают оттенки музыкального произведения и в соответствии с музыкой меняют характер своих движени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imgb" descr="7c2a_UtXcwm1g2O"/>
          <p:cNvPicPr/>
          <p:nvPr/>
        </p:nvPicPr>
        <p:blipFill>
          <a:blip r:embed="rId1"/>
          <a:stretch/>
        </p:blipFill>
        <p:spPr>
          <a:xfrm>
            <a:off x="4782960" y="2362320"/>
            <a:ext cx="37245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правленное применение музыкального сопровождения при выполнении общеразвивающих упражнени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бы правильно подобрать музыкальное сопровождение, нужно хорошо представлять себе каждое упражнение, понимать его смысл и назначен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узыкальное сопровождение общеразвивающих упражнений целесообразно в том случае, если они достаточно просты, хорошо освоены детьми и выполняются ими свободно и непринужденн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полняйте утреннюю гимнастику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imgb" descr="utrennyaya-zaryadka_1283520507"/>
          <p:cNvPicPr/>
          <p:nvPr/>
        </p:nvPicPr>
        <p:blipFill>
          <a:blip r:embed="rId1"/>
          <a:stretch/>
        </p:blipFill>
        <p:spPr>
          <a:xfrm>
            <a:off x="1332000" y="2492280"/>
            <a:ext cx="6985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2:13:32Z</dcterms:created>
  <dc:creator>user</dc:creator>
  <dc:description/>
  <dc:language>en-US</dc:language>
  <cp:lastModifiedBy>Vadim</cp:lastModifiedBy>
  <dcterms:modified xsi:type="dcterms:W3CDTF">2021-05-27T15:23:43Z</dcterms:modified>
  <cp:revision>8</cp:revision>
  <dc:subject/>
  <dc:title>СЕМИНАР УЧИТЕЛЕЙ ФИЗИЧЕСКОЙ КУЛЬТУРЫ НОГИНСКОГО МУНИЦИПАЛЬНОГО РАЙОНА  В МОУ СОШ № 26</dc:title>
</cp:coreProperties>
</file>