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CE7-9F42-4965-8E0C-E91F6CBE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98-75A1-45E2-B10F-86EB6C3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097-E7E5-4455-8DAC-D63F767C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DEF-CC0C-4A51-8FAB-5A4ADC09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7DA-31D7-4DEF-9DB8-D5BF8167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AC9-F3E2-400B-A0B6-5ACEF782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187-3A0D-449F-BAFE-A6550CC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094-54B3-4B1D-979C-C8F4EA1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F42-9F9F-493C-AA03-77D60E5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F38-58B4-4E26-85F3-6649BB3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CFA-640D-4B88-9303-427474F3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A85-456C-404B-B759-52E9209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C36-3CC9-4368-926D-7E3C9360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ccff"/>
                </a:solidFill>
                <a:latin typeface="Times New Roman"/>
              </a:rPr>
              <a:t>ВЕЛИКАЯ ОТЕЧЕСТВЕННАЯ ВОЙН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1941 - 1945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r.mp3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8097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9"/>
          <p:cNvPicPr/>
          <p:nvPr/>
        </p:nvPicPr>
        <p:blipFill>
          <a:blip r:embed="rId1"/>
          <a:stretch/>
        </p:blipFill>
        <p:spPr>
          <a:xfrm>
            <a:off x="1476360" y="1052640"/>
            <a:ext cx="6480360" cy="5502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" name="WordArt 4"/>
          <p:cNvSpPr txBox="1"/>
          <p:nvPr/>
        </p:nvSpPr>
        <p:spPr>
          <a:xfrm>
            <a:off x="1403280" y="260280"/>
            <a:ext cx="682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ДЛЯ ПОБЕДЫ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9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Таня1"/>
          <p:cNvPicPr/>
          <p:nvPr/>
        </p:nvPicPr>
        <p:blipFill>
          <a:blip r:embed="rId1"/>
          <a:stretch/>
        </p:blipFill>
        <p:spPr>
          <a:xfrm>
            <a:off x="611280" y="1131840"/>
            <a:ext cx="7993080" cy="54864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WordArt 4"/>
          <p:cNvSpPr txBox="1"/>
          <p:nvPr/>
        </p:nvSpPr>
        <p:spPr>
          <a:xfrm>
            <a:off x="971640" y="260280"/>
            <a:ext cx="7343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7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26920" y="260280"/>
            <a:ext cx="7452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95280" y="1413000"/>
            <a:ext cx="87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Зимой 1941- 42 гг. Ленинград сковала лютая стужа. Не было топлива и электри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т голода люди умирали прямо на улиц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день рабочие получали лишь до 250 граммов суррогатного хлеба, а служащие, иждивенцы и дети всего 125 граммов! Муки в этом хлебе не было. Его выпекали из мякины, отрубей, целлюлозы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24000" y="40464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25 блокадных грамм… С огнём и кровью пополам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297680" cy="28796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3"/>
          <p:cNvSpPr txBox="1"/>
          <p:nvPr/>
        </p:nvSpPr>
        <p:spPr>
          <a:xfrm>
            <a:off x="971640" y="404640"/>
            <a:ext cx="7451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179280" y="5516640"/>
            <a:ext cx="1728720" cy="1224000"/>
            <a:chOff x="179280" y="5516640"/>
            <a:chExt cx="1728720" cy="1224000"/>
          </a:xfrm>
        </p:grpSpPr>
        <p:sp>
          <p:nvSpPr>
            <p:cNvPr id="81" name="Line 5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10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93080" cy="5114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403280" y="26028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Ленинград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ремя блокад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ибл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00 000 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87" name="Line 6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546600" cy="39942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в тылу 1"/>
          <p:cNvPicPr/>
          <p:nvPr/>
        </p:nvPicPr>
        <p:blipFill>
          <a:blip r:embed="rId1"/>
          <a:stretch/>
        </p:blipFill>
        <p:spPr>
          <a:xfrm>
            <a:off x="905040" y="1138320"/>
            <a:ext cx="7627680" cy="55274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WordArt 3"/>
          <p:cNvSpPr txBox="1"/>
          <p:nvPr/>
        </p:nvSpPr>
        <p:spPr>
          <a:xfrm>
            <a:off x="1042920" y="260280"/>
            <a:ext cx="709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580000" y="206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налета вражеской ави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в тылу 2"/>
          <p:cNvPicPr/>
          <p:nvPr/>
        </p:nvPicPr>
        <p:blipFill>
          <a:blip r:embed="rId1"/>
          <a:stretch/>
        </p:blipFill>
        <p:spPr>
          <a:xfrm>
            <a:off x="179280" y="260280"/>
            <a:ext cx="4600800" cy="64087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WordArt 4"/>
          <p:cNvSpPr txBox="1"/>
          <p:nvPr/>
        </p:nvSpPr>
        <p:spPr>
          <a:xfrm>
            <a:off x="5219640" y="333360"/>
            <a:ext cx="36352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в тылу 3"/>
          <p:cNvPicPr/>
          <p:nvPr/>
        </p:nvPicPr>
        <p:blipFill>
          <a:blip r:embed="rId1"/>
          <a:stretch/>
        </p:blipFill>
        <p:spPr>
          <a:xfrm>
            <a:off x="755640" y="1197000"/>
            <a:ext cx="7843680" cy="51116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Text Box 3"/>
          <p:cNvSpPr/>
          <p:nvPr/>
        </p:nvSpPr>
        <p:spPr>
          <a:xfrm>
            <a:off x="611280" y="64008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жен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32000" y="260280"/>
            <a:ext cx="6784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682560" y="16524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9640" y="105264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фашистских концлагерях содержалось более 20 миллионов человек из 30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и них около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 миллионов дете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konzlager1"/>
          <p:cNvPicPr/>
          <p:nvPr/>
        </p:nvPicPr>
        <p:blipFill>
          <a:blip r:embed="rId1"/>
          <a:stretch/>
        </p:blipFill>
        <p:spPr>
          <a:xfrm>
            <a:off x="1332000" y="2949480"/>
            <a:ext cx="6769080" cy="36910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12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71640" y="18900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3" descr="konzlager"/>
          <p:cNvPicPr/>
          <p:nvPr/>
        </p:nvPicPr>
        <p:blipFill>
          <a:blip r:embed="rId1"/>
          <a:stretch/>
        </p:blipFill>
        <p:spPr>
          <a:xfrm>
            <a:off x="395280" y="1644480"/>
            <a:ext cx="8354880" cy="4764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8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СЕГОДНЯ, 22 ИЮНЯ 1941 ГОДА В 4 ЧАСА УТРА …»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1"/>
          <a:stretch/>
        </p:blipFill>
        <p:spPr>
          <a:xfrm>
            <a:off x="900000" y="1413000"/>
            <a:ext cx="6912000" cy="4957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ПАРАД ПОБЕДЫ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parade.avi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9 МАЯ – ДЕНЬ ПОБЕДЫ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&amp;Scy;&amp;acy;&amp;lcy;&amp;yucy;&amp;tcy; &amp;Pcy;&amp;ocy;&amp;bcy;&amp;iecy;&amp;dcy;&amp;ycy; 09 &amp;mcy;&amp;acy;&amp;yacy; 1945 &amp;gcy;. &amp;Mcy;&amp;iecy;&amp;scy;&amp;tcy;&amp;ocy; &amp;scy;&amp;hardcy;&amp;iecy;&amp;mcy;&amp;kcy;&amp;icy;: &amp;Mcy;&amp;ocy;&amp;scy;&amp;kcy;&amp;vcy;&amp;acy; &amp;Acy;&amp;vcy;&amp;tcy;&amp;ocy;&amp;rcy; &amp;scy;&amp;hardcy;&amp;iecy;&amp;mcy;&amp;kcy;&amp;icy;: &amp;KHcy;&amp;acy;&amp;lcy;&amp;icy;&amp;pcy; &amp;YAcy;&amp;kcy;&amp;ocy;&amp;vcy; &amp;Ncy;&amp;icy;&amp;kcy;&amp;ocy;&amp;lcy;&amp;acy;&amp;iecy;&amp;vcy;&amp;icy;&amp;chcy; &amp;TScy;&amp;Acy;&amp;Acy;&amp;Dcy;&amp;Mcy; &amp;iecy;&amp;dcy;. &amp;khcy;&amp;rcy;. 1-38677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vd.mp3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108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5"/>
          <p:cNvGrpSpPr/>
          <p:nvPr/>
        </p:nvGrpSpPr>
        <p:grpSpPr>
          <a:xfrm>
            <a:off x="179280" y="5516640"/>
            <a:ext cx="1728720" cy="1224000"/>
            <a:chOff x="179280" y="5516640"/>
            <a:chExt cx="1728720" cy="1224000"/>
          </a:xfrm>
        </p:grpSpPr>
        <p:sp>
          <p:nvSpPr>
            <p:cNvPr id="112" name="Line 6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Parad"/>
          <p:cNvPicPr/>
          <p:nvPr/>
        </p:nvPicPr>
        <p:blipFill>
          <a:blip r:embed="rId1"/>
          <a:stretch/>
        </p:blipFill>
        <p:spPr>
          <a:xfrm>
            <a:off x="4427640" y="549360"/>
            <a:ext cx="4440240" cy="583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788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ЧАСТНИКИ ПАРАДА В МОСКВЕ НА КРАСНОЙ ПЛОЩАД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ТПРАВЛЯЮТСЯ НА ВОЙНУ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1"/>
          <a:stretch/>
        </p:blipFill>
        <p:spPr>
          <a:xfrm>
            <a:off x="4643280" y="404640"/>
            <a:ext cx="3646800" cy="569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543560" cy="56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АШИ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ЛДАТ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ТПРАВЛЯЮТСЯ НА ФРОНТ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трелка вправо 2"/>
          <p:cNvSpPr/>
          <p:nvPr/>
        </p:nvSpPr>
        <p:spPr>
          <a:xfrm>
            <a:off x="7596360" y="6381720"/>
            <a:ext cx="792000" cy="28728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1042920" y="189000"/>
            <a:ext cx="70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ОЙН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4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611280" y="2276640"/>
            <a:ext cx="308268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54" name="Group 7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55" name="Line 8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Ленингр мальчишки Мзиури.mp3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4067280" y="2637000"/>
            <a:ext cx="4824360" cy="328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68360" y="620640"/>
            <a:ext cx="813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9 мая 1942 года ЦК ВЛКСМ обратился ко всем учащимся с призывом: наравне с отцами и матерями, работать для фро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этот призыв школьники ответили активным участием во всех патриотических дви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468360" y="189000"/>
            <a:ext cx="833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4" descr="19"/>
          <p:cNvPicPr/>
          <p:nvPr/>
        </p:nvPicPr>
        <p:blipFill>
          <a:blip r:embed="rId1"/>
          <a:stretch/>
        </p:blipFill>
        <p:spPr>
          <a:xfrm>
            <a:off x="1403280" y="2852640"/>
            <a:ext cx="6553440" cy="37324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26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8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53071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WordArt 3"/>
          <p:cNvSpPr txBox="1"/>
          <p:nvPr/>
        </p:nvSpPr>
        <p:spPr>
          <a:xfrm>
            <a:off x="468360" y="260280"/>
            <a:ext cx="833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9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3"/>
          <p:cNvSpPr txBox="1"/>
          <p:nvPr/>
        </p:nvSpPr>
        <p:spPr>
          <a:xfrm>
            <a:off x="5580000" y="333360"/>
            <a:ext cx="33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МЕСТО ОТЦ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завод"/>
          <p:cNvPicPr/>
          <p:nvPr/>
        </p:nvPicPr>
        <p:blipFill>
          <a:blip r:embed="rId1"/>
          <a:stretch/>
        </p:blipFill>
        <p:spPr>
          <a:xfrm>
            <a:off x="395280" y="260280"/>
            <a:ext cx="4913280" cy="635796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8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403280" y="476280"/>
            <a:ext cx="682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ДЛЯ ПОБЕДЫ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4" descr="партизаны"/>
          <p:cNvPicPr/>
          <p:nvPr/>
        </p:nvPicPr>
        <p:blipFill>
          <a:blip r:embed="rId1"/>
          <a:srcRect l="0" t="5902" r="0" b="34933"/>
          <a:stretch/>
        </p:blipFill>
        <p:spPr>
          <a:xfrm>
            <a:off x="324000" y="1628640"/>
            <a:ext cx="8569080" cy="482616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27:17Z</dcterms:created>
  <dc:creator>Брыксина</dc:creator>
  <dc:description/>
  <dc:language>en-US</dc:language>
  <cp:lastModifiedBy>User</cp:lastModifiedBy>
  <dcterms:modified xsi:type="dcterms:W3CDTF">2015-05-07T07:51:09Z</dcterms:modified>
  <cp:revision>24</cp:revision>
  <dc:subject/>
  <dc:title>Слайд 1</dc:title>
</cp:coreProperties>
</file>