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4D6-8009-4690-878F-DE2B63FD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F47-5E9D-49AD-80FA-B583ECC2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3ED-A95E-49D7-9ADE-E70E9ADD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B0D-07A3-4FEB-B445-289DD26D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A50-4FC3-4EC9-9CCA-F6A5C7B4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EF9-82BB-4CEA-9212-9AD1D47F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615-1C4D-4F34-BEA8-216251AB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F7B-EBCD-4CA6-A685-648F74E3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3F5-52DB-4BCD-B144-79888BC0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113-E55D-4BC0-A59C-FDD387B5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3B3-BA84-429A-9496-84823308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F42-F833-49D0-95AC-23B6219F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7128-C386-4D41-8F01-C06C0882F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ccccff"/>
                </a:solidFill>
                <a:latin typeface="Times New Roman"/>
              </a:rPr>
              <a:t>ВЕЛИКАЯ ОТЕЧЕСТВЕННАЯ ВОЙНА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1941 - 1945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r.mp3" descr=""/>
          <p:cNvPicPr/>
          <p:nvPr/>
        </p:nvPicPr>
        <p:blipFill>
          <a:blip r:embed="rId1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8097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9"/>
          <p:cNvPicPr/>
          <p:nvPr/>
        </p:nvPicPr>
        <p:blipFill>
          <a:blip r:embed="rId1"/>
          <a:stretch/>
        </p:blipFill>
        <p:spPr>
          <a:xfrm>
            <a:off x="1476360" y="1052640"/>
            <a:ext cx="6480360" cy="55022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2" name="WordArt 4"/>
          <p:cNvSpPr txBox="1"/>
          <p:nvPr/>
        </p:nvSpPr>
        <p:spPr>
          <a:xfrm>
            <a:off x="1403280" y="260280"/>
            <a:ext cx="6823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ДЛЯ ПОБЕДЫ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9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Таня1"/>
          <p:cNvPicPr/>
          <p:nvPr/>
        </p:nvPicPr>
        <p:blipFill>
          <a:blip r:embed="rId1"/>
          <a:stretch/>
        </p:blipFill>
        <p:spPr>
          <a:xfrm>
            <a:off x="611280" y="1131840"/>
            <a:ext cx="7993080" cy="548640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4" name="WordArt 4"/>
          <p:cNvSpPr txBox="1"/>
          <p:nvPr/>
        </p:nvSpPr>
        <p:spPr>
          <a:xfrm>
            <a:off x="971640" y="260280"/>
            <a:ext cx="73436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БЛОКАД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7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826920" y="260280"/>
            <a:ext cx="74520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БЛОКАД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95280" y="1413000"/>
            <a:ext cx="8748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Зимой 1941- 42 гг. Ленинград сковала лютая стужа. Не было топлива и электриче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т голода люди умирали прямо на улиц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день рабочие получали лишь до 250 граммов суррогатного хлеба, а служащие, иждивенцы и дети всего 125 граммов! Муки в этом хлебе не было. Его выпекали из мякины, отрубей, целлюлозы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24000" y="40464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25 блокадных грамм… С огнём и кровью пополам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4297680" cy="287964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3"/>
          <p:cNvSpPr txBox="1"/>
          <p:nvPr/>
        </p:nvSpPr>
        <p:spPr>
          <a:xfrm>
            <a:off x="971640" y="404640"/>
            <a:ext cx="74516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БЛОКАД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179280" y="5516640"/>
            <a:ext cx="1728720" cy="1224000"/>
            <a:chOff x="179280" y="5516640"/>
            <a:chExt cx="1728720" cy="1224000"/>
          </a:xfrm>
        </p:grpSpPr>
        <p:sp>
          <p:nvSpPr>
            <p:cNvPr id="81" name="Line 5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6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7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Picture 10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93080" cy="5114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403280" y="260280"/>
            <a:ext cx="669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Ленинград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ремя блокад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гибл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00 000 челове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179280" y="189000"/>
            <a:ext cx="8856720" cy="6551640"/>
            <a:chOff x="179280" y="189000"/>
            <a:chExt cx="8856720" cy="6551640"/>
          </a:xfrm>
        </p:grpSpPr>
        <p:sp>
          <p:nvSpPr>
            <p:cNvPr id="87" name="Line 6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7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8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7738920" y="40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8820000" y="189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6546600" cy="39942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в тылу 1"/>
          <p:cNvPicPr/>
          <p:nvPr/>
        </p:nvPicPr>
        <p:blipFill>
          <a:blip r:embed="rId1"/>
          <a:stretch/>
        </p:blipFill>
        <p:spPr>
          <a:xfrm>
            <a:off x="905040" y="1138320"/>
            <a:ext cx="7627680" cy="55274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4" name="WordArt 3"/>
          <p:cNvSpPr txBox="1"/>
          <p:nvPr/>
        </p:nvSpPr>
        <p:spPr>
          <a:xfrm>
            <a:off x="1042920" y="260280"/>
            <a:ext cx="709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ЫЛУ ВРАГА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580000" y="206064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налета вражеской авиа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в тылу 2"/>
          <p:cNvPicPr/>
          <p:nvPr/>
        </p:nvPicPr>
        <p:blipFill>
          <a:blip r:embed="rId1"/>
          <a:stretch/>
        </p:blipFill>
        <p:spPr>
          <a:xfrm>
            <a:off x="179280" y="260280"/>
            <a:ext cx="4600800" cy="640872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" name="WordArt 4"/>
          <p:cNvSpPr txBox="1"/>
          <p:nvPr/>
        </p:nvSpPr>
        <p:spPr>
          <a:xfrm>
            <a:off x="5219640" y="333360"/>
            <a:ext cx="363528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ЫЛУ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РАГА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в тылу 3"/>
          <p:cNvPicPr/>
          <p:nvPr/>
        </p:nvPicPr>
        <p:blipFill>
          <a:blip r:embed="rId1"/>
          <a:stretch/>
        </p:blipFill>
        <p:spPr>
          <a:xfrm>
            <a:off x="755640" y="1197000"/>
            <a:ext cx="7843680" cy="51116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Text Box 3"/>
          <p:cNvSpPr/>
          <p:nvPr/>
        </p:nvSpPr>
        <p:spPr>
          <a:xfrm>
            <a:off x="611280" y="64008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жен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332000" y="260280"/>
            <a:ext cx="678492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ЫЛУ ВРАГА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682560" y="165240"/>
            <a:ext cx="777708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КОНЦЛАГЕРЕЙ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39640" y="105264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фашистских концлагерях содержалось более 20 миллионов человек из 30 стран ми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ди них около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 миллионов детей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konzlager1"/>
          <p:cNvPicPr/>
          <p:nvPr/>
        </p:nvPicPr>
        <p:blipFill>
          <a:blip r:embed="rId1"/>
          <a:stretch/>
        </p:blipFill>
        <p:spPr>
          <a:xfrm>
            <a:off x="1332000" y="2949480"/>
            <a:ext cx="6769080" cy="369108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12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71640" y="189000"/>
            <a:ext cx="777708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КОНЦЛАГЕРЕЙ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3" descr="konzlager"/>
          <p:cNvPicPr/>
          <p:nvPr/>
        </p:nvPicPr>
        <p:blipFill>
          <a:blip r:embed="rId1"/>
          <a:stretch/>
        </p:blipFill>
        <p:spPr>
          <a:xfrm>
            <a:off x="395280" y="1644480"/>
            <a:ext cx="8354880" cy="47642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8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СЕГОДНЯ, 22 ИЮНЯ 1941 ГОДА В 4 ЧАСА УТРА …»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&amp;ZHcy;&amp;icy;&amp;tcy;&amp;iecy;&amp;lcy;&amp;icy; &amp;Vcy;&amp;lcy;&amp;acy;&amp;dcy;&amp;icy;&amp;vcy;&amp;ocy;&amp;scy;&amp;tcy;&amp;ocy;&amp;kcy;&amp;acy; &amp;scy;&amp;lcy;&amp;ucy;&amp;shcy;&amp;acy;&amp;yucy;&amp;tcy; &amp;pcy;&amp;ocy; &amp;rcy;&amp;acy;&amp;dcy;&amp;icy;&amp;ocy; &amp;scy;&amp;ocy;&amp;ocy;&amp;bcy;&amp;shchcy;&amp;iecy;&amp;ncy;&amp;icy;&amp;iecy; &amp;ocy; &amp;ncy;&amp;acy;&amp;pcy;&amp;acy;&amp;dcy;&amp;iecy;&amp;ncy;&amp;icy;&amp;icy; &amp;gcy;&amp;icy;&amp;tcy;&amp;lcy;&amp;iecy;&amp;rcy;&amp;ocy;&amp;vcy;&amp;scy;&amp;kcy;&amp;ocy;&amp;jcy; &amp;Gcy;&amp;iecy;&amp;rcy;&amp;mcy;&amp;acy;&amp;ncy;&amp;icy;&amp;icy; &amp;ncy;&amp;acy; &amp;Scy;&amp;Scy;&amp;Scy;&amp;Rcy; 22 &amp;icy;&amp;yucy;&amp;ncy;&amp;yacy; 1941 &amp;gcy;. &amp;Mcy;&amp;iecy;&amp;scy;&amp;tcy;&amp;ocy; &amp;scy;&amp;hardcy;&amp;iecy;&amp;mcy;&amp;kcy;&amp;icy;: &amp;Vcy;&amp;lcy;&amp;acy;&amp;dcy;&amp;icy;&amp;vcy;&amp;ocy;&amp;scy;&amp;tcy;&amp;ocy;&amp;kcy; &amp;Acy;&amp;vcy;&amp;tcy;&amp;ocy;&amp;rcy; &amp;scy;&amp;hardcy;&amp;iecy;&amp;mcy;&amp;kcy;&amp;icy;: &amp;Mcy;&amp;yacy;&amp;scy;&amp;ncy;&amp;icy;&amp;kcy;&amp;ocy;&amp;vcy; &amp;Vcy;. &amp;Fcy;. &amp;Gcy;&amp;Acy;&amp;Pcy;&amp;Kcy; &amp;iecy;&amp;dcy;.&amp;khcy;&amp;rcy;.&amp;Pcy;-3629"/>
          <p:cNvPicPr/>
          <p:nvPr/>
        </p:nvPicPr>
        <p:blipFill>
          <a:blip r:embed="rId1"/>
          <a:stretch/>
        </p:blipFill>
        <p:spPr>
          <a:xfrm>
            <a:off x="900000" y="1413000"/>
            <a:ext cx="6912000" cy="4957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ПАРАД ПОБЕДЫ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parade.avi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1344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9 МАЯ – ДЕНЬ ПОБЕДЫ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&amp;Scy;&amp;acy;&amp;lcy;&amp;yucy;&amp;tcy; &amp;Pcy;&amp;ocy;&amp;bcy;&amp;iecy;&amp;dcy;&amp;ycy; 09 &amp;mcy;&amp;acy;&amp;yacy; 1945 &amp;gcy;. &amp;Mcy;&amp;iecy;&amp;scy;&amp;tcy;&amp;ocy; &amp;scy;&amp;hardcy;&amp;iecy;&amp;mcy;&amp;kcy;&amp;icy;: &amp;Mcy;&amp;ocy;&amp;scy;&amp;kcy;&amp;vcy;&amp;acy; &amp;Acy;&amp;vcy;&amp;tcy;&amp;ocy;&amp;rcy; &amp;scy;&amp;hardcy;&amp;iecy;&amp;mcy;&amp;kcy;&amp;icy;: &amp;KHcy;&amp;acy;&amp;lcy;&amp;icy;&amp;pcy; &amp;YAcy;&amp;kcy;&amp;ocy;&amp;vcy; &amp;Ncy;&amp;icy;&amp;kcy;&amp;ocy;&amp;lcy;&amp;acy;&amp;iecy;&amp;vcy;&amp;icy;&amp;chcy; &amp;TScy;&amp;Acy;&amp;Acy;&amp;Dcy;&amp;Mcy; &amp;iecy;&amp;dcy;. &amp;khcy;&amp;rcy;. 1-38677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5040360"/>
          </a:xfrm>
          <a:prstGeom prst="rect">
            <a:avLst/>
          </a:prstGeom>
          <a:ln w="0">
            <a:noFill/>
          </a:ln>
        </p:spPr>
      </p:pic>
      <p:pic>
        <p:nvPicPr>
          <p:cNvPr id="110" name="vd.mp3" descr=""/>
          <p:cNvPicPr/>
          <p:nvPr/>
        </p:nvPicPr>
        <p:blipFill>
          <a:blip r:embed="rId2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108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5"/>
          <p:cNvGrpSpPr/>
          <p:nvPr/>
        </p:nvGrpSpPr>
        <p:grpSpPr>
          <a:xfrm>
            <a:off x="179280" y="5516640"/>
            <a:ext cx="1728720" cy="1224000"/>
            <a:chOff x="179280" y="5516640"/>
            <a:chExt cx="1728720" cy="1224000"/>
          </a:xfrm>
        </p:grpSpPr>
        <p:sp>
          <p:nvSpPr>
            <p:cNvPr id="112" name="Line 6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7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161928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Parad"/>
          <p:cNvPicPr/>
          <p:nvPr/>
        </p:nvPicPr>
        <p:blipFill>
          <a:blip r:embed="rId1"/>
          <a:stretch/>
        </p:blipFill>
        <p:spPr>
          <a:xfrm>
            <a:off x="4427640" y="549360"/>
            <a:ext cx="4440240" cy="5832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7880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УЧАСТНИКИ ПАРАДА В МОСКВЕ НА КРАСНОЙ ПЛОЩАДИ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ТПРАВЛЯЮТСЯ НА ВОЙНУ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&amp;Scy;&amp;ocy;&amp;vcy;&amp;iecy;&amp;tcy;&amp;scy;&amp;kcy;&amp;icy;&amp;iecy; &amp;vcy;&amp;ocy;&amp;icy;&amp;ncy;&amp;ycy; &amp;ocy;&amp;tcy;&amp;pcy;&amp;rcy;&amp;acy;&amp;vcy;&amp;lcy;&amp;yacy;&amp;yucy;&amp;tcy;&amp;scy;&amp;yacy; &amp;ncy;&amp;acy; &amp;fcy;&amp;rcy;&amp;ocy;&amp;ncy;&amp;tcy; 1941 &amp;gcy;. &amp;Mcy;&amp;iecy;&amp;scy;&amp;tcy;&amp;ocy; &amp;scy;&amp;hardcy;&amp;iecy;&amp;mcy;&amp;kcy;&amp;icy;: &amp;Tcy;&amp;acy;&amp;mcy;&amp;bcy;&amp;ocy;&amp;vcy;c&amp;kcy;&amp;acy;&amp;yacy; &amp;ocy;&amp;bcy;&amp;lcy;&amp;acy;&amp;scy;&amp;tcy;&amp;softcy; &amp;Acy;&amp;vcy;&amp;tcy;&amp;ocy;&amp;rcy; &amp;scy;&amp;hardcy;&amp;iecy;&amp;mcy;&amp;kcy;&amp;icy;: &amp;CHcy;&amp;iecy;&amp;rcy;&amp;ncy;&amp;ocy;&amp;vcy; &amp;Dcy;. &amp;Rcy;&amp;Gcy;&amp;Acy;&amp;Kcy;&amp;Fcy;&amp;Dcy; &amp;iecy;&amp;dcy;.&amp;khcy;&amp;rcy;.0-256305"/>
          <p:cNvPicPr/>
          <p:nvPr/>
        </p:nvPicPr>
        <p:blipFill>
          <a:blip r:embed="rId1"/>
          <a:stretch/>
        </p:blipFill>
        <p:spPr>
          <a:xfrm>
            <a:off x="4643280" y="404640"/>
            <a:ext cx="3646800" cy="5697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4543560" cy="562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НАШИ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ОЛДАТЫ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ТПРАВЛЯЮТСЯ НА ФРОНТ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трелка вправо 2"/>
          <p:cNvSpPr/>
          <p:nvPr/>
        </p:nvSpPr>
        <p:spPr>
          <a:xfrm>
            <a:off x="7596360" y="6381720"/>
            <a:ext cx="792000" cy="287280"/>
          </a:xfrm>
          <a:prstGeom prst="rightArrow">
            <a:avLst>
              <a:gd name="adj1" fmla="val 50000"/>
              <a:gd name="adj2" fmla="val 5012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3"/>
          <p:cNvSpPr txBox="1"/>
          <p:nvPr/>
        </p:nvSpPr>
        <p:spPr>
          <a:xfrm>
            <a:off x="1042920" y="189000"/>
            <a:ext cx="70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ОЙН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4" descr="сын полка"/>
          <p:cNvPicPr/>
          <p:nvPr/>
        </p:nvPicPr>
        <p:blipFill>
          <a:blip r:embed="rId1"/>
          <a:srcRect l="18358" t="0" r="18398" b="0"/>
          <a:stretch/>
        </p:blipFill>
        <p:spPr>
          <a:xfrm>
            <a:off x="611280" y="2276640"/>
            <a:ext cx="3082680" cy="3657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grpSp>
        <p:nvGrpSpPr>
          <p:cNvPr id="54" name="Group 7"/>
          <p:cNvGrpSpPr/>
          <p:nvPr/>
        </p:nvGrpSpPr>
        <p:grpSpPr>
          <a:xfrm>
            <a:off x="179280" y="189000"/>
            <a:ext cx="8856720" cy="6551640"/>
            <a:chOff x="179280" y="189000"/>
            <a:chExt cx="8856720" cy="6551640"/>
          </a:xfrm>
        </p:grpSpPr>
        <p:sp>
          <p:nvSpPr>
            <p:cNvPr id="55" name="Line 8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>
              <a:off x="7738920" y="40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8820000" y="189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Ленингр мальчишки Мзиури.mp3" descr=""/>
          <p:cNvPicPr/>
          <p:nvPr/>
        </p:nvPicPr>
        <p:blipFill>
          <a:blip r:embed="rId2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3"/>
          <a:stretch/>
        </p:blipFill>
        <p:spPr>
          <a:xfrm>
            <a:off x="4067280" y="2637000"/>
            <a:ext cx="4824360" cy="3281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68360" y="620640"/>
            <a:ext cx="813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9 мая 1942 года ЦК ВЛКСМ обратился ко всем учащимся с призывом: наравне с отцами и матерями, работать для фро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этот призыв школьники ответили активным участием во всех патриотических движ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468360" y="189000"/>
            <a:ext cx="833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 ТЫЛУ: ВМЕСТО ОТЦ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4" descr="19"/>
          <p:cNvPicPr/>
          <p:nvPr/>
        </p:nvPicPr>
        <p:blipFill>
          <a:blip r:embed="rId1"/>
          <a:stretch/>
        </p:blipFill>
        <p:spPr>
          <a:xfrm>
            <a:off x="1403280" y="2852640"/>
            <a:ext cx="6553440" cy="373248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26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8"/>
          <p:cNvPicPr/>
          <p:nvPr/>
        </p:nvPicPr>
        <p:blipFill>
          <a:blip r:embed="rId1"/>
          <a:stretch/>
        </p:blipFill>
        <p:spPr>
          <a:xfrm>
            <a:off x="1042920" y="1197000"/>
            <a:ext cx="7201080" cy="530712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" name="WordArt 3"/>
          <p:cNvSpPr txBox="1"/>
          <p:nvPr/>
        </p:nvSpPr>
        <p:spPr>
          <a:xfrm>
            <a:off x="468360" y="260280"/>
            <a:ext cx="8334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 ТЫЛУ: ВМЕСТО ОТЦ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9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3"/>
          <p:cNvSpPr txBox="1"/>
          <p:nvPr/>
        </p:nvSpPr>
        <p:spPr>
          <a:xfrm>
            <a:off x="5580000" y="333360"/>
            <a:ext cx="334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 ТЫЛУ: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МЕСТО ОТЦ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5" descr="завод"/>
          <p:cNvPicPr/>
          <p:nvPr/>
        </p:nvPicPr>
        <p:blipFill>
          <a:blip r:embed="rId1"/>
          <a:stretch/>
        </p:blipFill>
        <p:spPr>
          <a:xfrm>
            <a:off x="395280" y="260280"/>
            <a:ext cx="4913280" cy="635796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8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403280" y="476280"/>
            <a:ext cx="6823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ДЛЯ ПОБЕДЫ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Picture 4" descr="партизаны"/>
          <p:cNvPicPr/>
          <p:nvPr/>
        </p:nvPicPr>
        <p:blipFill>
          <a:blip r:embed="rId1"/>
          <a:srcRect l="0" t="5902" r="0" b="34933"/>
          <a:stretch/>
        </p:blipFill>
        <p:spPr>
          <a:xfrm>
            <a:off x="324000" y="1628640"/>
            <a:ext cx="8569080" cy="482616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10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4:27:17Z</dcterms:created>
  <dc:creator>Брыксина</dc:creator>
  <dc:description/>
  <dc:language>en-US</dc:language>
  <cp:lastModifiedBy>User</cp:lastModifiedBy>
  <dcterms:modified xsi:type="dcterms:W3CDTF">2015-05-07T07:51:09Z</dcterms:modified>
  <cp:revision>24</cp:revision>
  <dc:subject/>
  <dc:title>Слайд 1</dc:title>
</cp:coreProperties>
</file>