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CFE-BDBA-422B-8F29-DF708EE3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FC3-716F-4414-B468-3E8F00A5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7FD-AB0B-4A72-996A-93E6099F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FC6-F472-4B25-879D-9CA7811F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1B6B-17BE-4E70-9EF0-D684F083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C63C-E670-47A7-882C-0177AE94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36F7-AC36-465C-92E2-F1A4665D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4381-D388-4BE8-AC99-5E20563A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C8CB-246C-496D-9CF9-75AEE56D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0983-680F-4E8D-AB59-3792935C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3DD3-D0E8-47C5-92AF-0161EDAC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DE4-BAB3-4773-9B6A-D60B7C61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7E5E-4E17-4DAD-8E78-6F751990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BEE2-6048-4109-A35B-8512721A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1E2F-78F3-45FA-9870-380FEEBA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933C-E32B-449D-A101-38936D4E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A411-C610-4812-8B0A-BA0254E6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4AE-6D25-45CC-90F7-3E8E5B7E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297-164A-43E2-8AFF-B8E08B70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607-EAE8-4C4D-BEEC-853EFEA7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052-CB0A-402D-9371-D6BF96C4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D5D-EFA0-4E7B-A1F8-15CA91A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144-04A3-4E0F-90A1-A79130DF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2C1-5BF1-4682-9059-909ECBE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4C59-2414-42A8-8219-A910358FA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DB1F-D9E0-41F0-9E9A-7CCA804399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99ff99"/>
                </a:solidFill>
                <a:uFillTx/>
                <a:latin typeface="Arial"/>
              </a:rPr>
              <a:t>Необычные уроки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99ff99"/>
                </a:solidFill>
                <a:uFillTx/>
                <a:latin typeface="Arial"/>
              </a:rPr>
              <a:t>письма.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96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ьгамова Л.Ш., учитель начальных                                                      МОУ «СОШ №56 УИМ» г. Магнитогор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6" descr="iCAI5GVWG"/>
          <p:cNvPicPr/>
          <p:nvPr/>
        </p:nvPicPr>
        <p:blipFill>
          <a:blip r:embed="rId1"/>
          <a:stretch/>
        </p:blipFill>
        <p:spPr>
          <a:xfrm>
            <a:off x="6588000" y="1844640"/>
            <a:ext cx="2221200" cy="2809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iCAADDWP5"/>
          <p:cNvPicPr/>
          <p:nvPr/>
        </p:nvPicPr>
        <p:blipFill>
          <a:blip r:embed="rId2"/>
          <a:stretch/>
        </p:blipFill>
        <p:spPr>
          <a:xfrm>
            <a:off x="204840" y="1844640"/>
            <a:ext cx="439092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1293741013_31"/>
          <p:cNvPicPr/>
          <p:nvPr/>
        </p:nvPicPr>
        <p:blipFill>
          <a:blip r:embed="rId1"/>
          <a:stretch/>
        </p:blipFill>
        <p:spPr>
          <a:xfrm>
            <a:off x="1908000" y="189000"/>
            <a:ext cx="5328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99"/>
                </a:solidFill>
                <a:latin typeface="Arial"/>
              </a:rPr>
              <a:t>Обобщен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Какое открытие сделали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сегодня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В чем испытывали затруд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Что было самым интерес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За что вы можете похвалить себя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или своих товарищ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i"/>
          <p:cNvPicPr/>
          <p:nvPr/>
        </p:nvPicPr>
        <p:blipFill>
          <a:blip r:embed="rId1"/>
          <a:stretch/>
        </p:blipFill>
        <p:spPr>
          <a:xfrm>
            <a:off x="5580000" y="4292640"/>
            <a:ext cx="1784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755640" y="3213000"/>
            <a:ext cx="720108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!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2" name="Picture 5" descr="i"/>
          <p:cNvPicPr/>
          <p:nvPr/>
        </p:nvPicPr>
        <p:blipFill>
          <a:blip r:embed="rId1"/>
          <a:stretch/>
        </p:blipFill>
        <p:spPr>
          <a:xfrm>
            <a:off x="3102120" y="189000"/>
            <a:ext cx="2379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ание – стихотворное обращение к какому – либо лицу или группе лиц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217" name="Picture 4" descr="iCACD13PO"/>
          <p:cNvPicPr/>
          <p:nvPr/>
        </p:nvPicPr>
        <p:blipFill>
          <a:blip r:embed="rId1"/>
          <a:stretch/>
        </p:blipFill>
        <p:spPr>
          <a:xfrm>
            <a:off x="4859280" y="3284640"/>
            <a:ext cx="2363760" cy="2300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iCARYNI07"/>
          <p:cNvPicPr/>
          <p:nvPr/>
        </p:nvPicPr>
        <p:blipFill>
          <a:blip r:embed="rId2"/>
          <a:stretch/>
        </p:blipFill>
        <p:spPr>
          <a:xfrm>
            <a:off x="1692360" y="3284640"/>
            <a:ext cx="2122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ная поч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iCA3V3G1G"/>
          <p:cNvPicPr/>
          <p:nvPr/>
        </p:nvPicPr>
        <p:blipFill>
          <a:blip r:embed="rId1"/>
          <a:stretch/>
        </p:blipFill>
        <p:spPr>
          <a:xfrm>
            <a:off x="755640" y="2276640"/>
            <a:ext cx="1871640" cy="230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iCAZXQHGD"/>
          <p:cNvPicPr/>
          <p:nvPr/>
        </p:nvPicPr>
        <p:blipFill>
          <a:blip r:embed="rId2"/>
          <a:stretch/>
        </p:blipFill>
        <p:spPr>
          <a:xfrm>
            <a:off x="6012000" y="2565360"/>
            <a:ext cx="2592360" cy="2135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iCAXFI35V"/>
          <p:cNvPicPr/>
          <p:nvPr/>
        </p:nvPicPr>
        <p:blipFill>
          <a:blip r:embed="rId3"/>
          <a:stretch/>
        </p:blipFill>
        <p:spPr>
          <a:xfrm>
            <a:off x="3276720" y="4221000"/>
            <a:ext cx="2131920" cy="216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i"/>
          <p:cNvPicPr/>
          <p:nvPr/>
        </p:nvPicPr>
        <p:blipFill>
          <a:blip r:embed="rId4"/>
          <a:stretch/>
        </p:blipFill>
        <p:spPr>
          <a:xfrm>
            <a:off x="3276720" y="1817640"/>
            <a:ext cx="237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вый урок. Ю.Н.Кушак «Почтовая история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4" descr="7911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Ю.Н.Кушак – поэт, журналист, переводчи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10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хи Ю.Н Кушака –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добрые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мудр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асто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наивные,прост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восприятия и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лег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запоминают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о их отличает особая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глуби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где соседствуют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обыч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необыч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забав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серьез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0554849"/>
          <p:cNvPicPr/>
          <p:nvPr/>
        </p:nvPicPr>
        <p:blipFill>
          <a:blip r:embed="rId1"/>
          <a:stretch/>
        </p:blipFill>
        <p:spPr>
          <a:xfrm>
            <a:off x="5238720" y="2224080"/>
            <a:ext cx="285768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Ю.Н.Кушак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-Почему нравится быть писателем? Это всё равно, что спросить: а почему вам нравится жить? Стихи начал писать с шести лет в детсадовском возрасте. Вот с тех пор живу и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пишу,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когда пишется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iCAFD1YXC"/>
          <p:cNvPicPr/>
          <p:nvPr/>
        </p:nvPicPr>
        <p:blipFill>
          <a:blip r:embed="rId1"/>
          <a:stretch/>
        </p:blipFill>
        <p:spPr>
          <a:xfrm>
            <a:off x="6659640" y="260280"/>
            <a:ext cx="15336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Arial"/>
              </a:rPr>
              <a:t>Юрий Наумович Кушак</a:t>
            </a:r>
            <a:br>
              <a:rPr sz="4000"/>
            </a:br>
            <a:r>
              <a:rPr b="0" lang="ru-RU" sz="4000" spc="-1" strike="noStrike">
                <a:solidFill>
                  <a:srgbClr val="99ff99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19 апреля 1936 г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Сказал приятель мне: – Прости,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Но что за ерунда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Про всяких птиц и про зверей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Писать в твои года.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Ты всюду видишь чудеса,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Но нет чудес, поверь: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Не может птица говорить,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Дружить со зверем зверь.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И я ему ответил так: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– Ты просто слеп и глух!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Об этом мне вчера сказал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На улице петух.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И это подтвердил пингвин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В присутствии моржих,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А если ты не веришь мне –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Пойди спроси у них.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Но если звери промолчат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Или зевнут в ответ,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То, значит, говорить с тобой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У них охоты нет. </a:t>
            </a:r>
            <a:br>
              <a:rPr sz="1600"/>
            </a:br>
            <a:r>
              <a:rPr b="1" lang="ru-RU" sz="1600" spc="-1" strike="noStrike" u="sng">
                <a:solidFill>
                  <a:srgbClr val="99ff99"/>
                </a:solidFill>
                <a:uFillTx/>
                <a:latin typeface="Arial"/>
              </a:rPr>
              <a:t>(«Разговор по душам»)</a:t>
            </a:r>
            <a:r>
              <a:rPr b="0" lang="ru-RU" sz="16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0554849"/>
          <p:cNvPicPr/>
          <p:nvPr/>
        </p:nvPicPr>
        <p:blipFill>
          <a:blip r:embed="rId1"/>
          <a:stretch/>
        </p:blipFill>
        <p:spPr>
          <a:xfrm>
            <a:off x="4530600" y="1628640"/>
            <a:ext cx="414504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Адресат-</a:t>
            </a:r>
            <a:r>
              <a:rPr b="0" lang="en-US" sz="4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тот, кому адресовано письмо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Адресант – отправитель; тот кто отправляет письм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3" descr="iCAW22CYV"/>
          <p:cNvPicPr/>
          <p:nvPr/>
        </p:nvPicPr>
        <p:blipFill>
          <a:blip r:embed="rId1"/>
          <a:stretch/>
        </p:blipFill>
        <p:spPr>
          <a:xfrm>
            <a:off x="3419640" y="2205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iCAKP4ZVX"/>
          <p:cNvPicPr/>
          <p:nvPr/>
        </p:nvPicPr>
        <p:blipFill>
          <a:blip r:embed="rId2"/>
          <a:stretch/>
        </p:blipFill>
        <p:spPr>
          <a:xfrm>
            <a:off x="7164360" y="4797360"/>
            <a:ext cx="15778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Модель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пись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Обращение к адреса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Причина написания пись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Пожелание адреса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Подпись адреса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iCAN52LCQ"/>
          <p:cNvPicPr/>
          <p:nvPr/>
        </p:nvPicPr>
        <p:blipFill>
          <a:blip r:embed="rId1"/>
          <a:stretch/>
        </p:blipFill>
        <p:spPr>
          <a:xfrm>
            <a:off x="5292720" y="1700280"/>
            <a:ext cx="2521080" cy="1882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iCAV5BZQ8"/>
          <p:cNvPicPr/>
          <p:nvPr/>
        </p:nvPicPr>
        <p:blipFill>
          <a:blip r:embed="rId2"/>
          <a:stretch/>
        </p:blipFill>
        <p:spPr>
          <a:xfrm>
            <a:off x="5219640" y="3968640"/>
            <a:ext cx="2808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6:51:50Z</dcterms:created>
  <dc:creator>Admin</dc:creator>
  <dc:description/>
  <dc:language>en-US</dc:language>
  <cp:lastModifiedBy>User</cp:lastModifiedBy>
  <dcterms:modified xsi:type="dcterms:W3CDTF">2021-05-28T05:17:58Z</dcterms:modified>
  <cp:revision>50</cp:revision>
  <dc:subject/>
  <dc:title>Тема: Необычные уроки письма.  Первый урок. Ю.Н. Кушак «Почтовая история»</dc:title>
</cp:coreProperties>
</file>