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CAA-97E7-48CA-AC4A-B8743009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E31-44CA-4A9C-91E1-D9F281C3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1A2-DB79-4876-A0C2-446808A8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D8F-15BE-489C-AE14-AF67A005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1A92-AC90-4ECC-9354-AB8EBBC3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C5BE-56A3-42AC-BFCA-0259A77C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0CE6-FFB0-453A-A1CB-706B9639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D2F6-A63A-46F7-A6D4-0E976E14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8D30-164A-49E9-9F11-CFBD448A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A3C3-D190-418F-8C65-12197A1C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35DC-40F3-4B80-A528-915D22DB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D93-9260-46A7-86A0-7C03A141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15DD-02A5-4512-BCA2-3C3855EC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EC59-2A25-4A8F-BADC-1E3D8F4F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93A5-2C2D-4C0C-9F35-D3D7FC9C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5FE3-93AF-416C-A92A-65649370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26A0-2601-4249-A124-AB7F6C4B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EE3-D7C2-4AB8-9755-B2F918B6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40A-C417-4D91-AD38-00683B09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D43-5A45-4EDC-BE42-33DB78E8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E4D-27AF-49D0-8609-D1D1B67A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547-B014-45AC-853D-F2ACBB0B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9EC-C68B-4C71-B723-EA299000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338-EC81-42B3-8BFC-0E393BD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DFA6-26DC-4D1E-8DB1-8283C4C55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F860-6D7D-464E-A3D8-7DF4AD5133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99ff99"/>
                </a:solidFill>
                <a:uFillTx/>
                <a:latin typeface="Arial"/>
              </a:rPr>
              <a:t>Необычные уроки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99ff99"/>
                </a:solidFill>
                <a:uFillTx/>
                <a:latin typeface="Arial"/>
              </a:rPr>
              <a:t>письма.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96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ьгамова Л.Ш., учитель начальных                                                      МОУ «СОШ №56 УИМ» г. Магнитогор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6" descr="iCAI5GVWG"/>
          <p:cNvPicPr/>
          <p:nvPr/>
        </p:nvPicPr>
        <p:blipFill>
          <a:blip r:embed="rId1"/>
          <a:stretch/>
        </p:blipFill>
        <p:spPr>
          <a:xfrm>
            <a:off x="6588000" y="1844640"/>
            <a:ext cx="2221200" cy="2809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iCAADDWP5"/>
          <p:cNvPicPr/>
          <p:nvPr/>
        </p:nvPicPr>
        <p:blipFill>
          <a:blip r:embed="rId2"/>
          <a:stretch/>
        </p:blipFill>
        <p:spPr>
          <a:xfrm>
            <a:off x="204840" y="1844640"/>
            <a:ext cx="439092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1293741013_31"/>
          <p:cNvPicPr/>
          <p:nvPr/>
        </p:nvPicPr>
        <p:blipFill>
          <a:blip r:embed="rId1"/>
          <a:stretch/>
        </p:blipFill>
        <p:spPr>
          <a:xfrm>
            <a:off x="1908000" y="189000"/>
            <a:ext cx="5328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99"/>
                </a:solidFill>
                <a:latin typeface="Arial"/>
              </a:rPr>
              <a:t>Обобщен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Какое открытие сделали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сегодня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В чем испытывали затруд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Что было самым интерес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За что вы можете похвалить себя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или своих товарищ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i"/>
          <p:cNvPicPr/>
          <p:nvPr/>
        </p:nvPicPr>
        <p:blipFill>
          <a:blip r:embed="rId1"/>
          <a:stretch/>
        </p:blipFill>
        <p:spPr>
          <a:xfrm>
            <a:off x="5580000" y="4292640"/>
            <a:ext cx="17845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755640" y="3213000"/>
            <a:ext cx="720108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работу!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2" name="Picture 5" descr="i"/>
          <p:cNvPicPr/>
          <p:nvPr/>
        </p:nvPicPr>
        <p:blipFill>
          <a:blip r:embed="rId1"/>
          <a:stretch/>
        </p:blipFill>
        <p:spPr>
          <a:xfrm>
            <a:off x="3102120" y="189000"/>
            <a:ext cx="2379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ание – стихотворное обращение к какому – либо лицу или группе лиц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217" name="Picture 4" descr="iCACD13PO"/>
          <p:cNvPicPr/>
          <p:nvPr/>
        </p:nvPicPr>
        <p:blipFill>
          <a:blip r:embed="rId1"/>
          <a:stretch/>
        </p:blipFill>
        <p:spPr>
          <a:xfrm>
            <a:off x="4859280" y="3284640"/>
            <a:ext cx="2363760" cy="2300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iCARYNI07"/>
          <p:cNvPicPr/>
          <p:nvPr/>
        </p:nvPicPr>
        <p:blipFill>
          <a:blip r:embed="rId2"/>
          <a:stretch/>
        </p:blipFill>
        <p:spPr>
          <a:xfrm>
            <a:off x="1692360" y="3284640"/>
            <a:ext cx="2122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ная поч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iCA3V3G1G"/>
          <p:cNvPicPr/>
          <p:nvPr/>
        </p:nvPicPr>
        <p:blipFill>
          <a:blip r:embed="rId1"/>
          <a:stretch/>
        </p:blipFill>
        <p:spPr>
          <a:xfrm>
            <a:off x="755640" y="2276640"/>
            <a:ext cx="1871640" cy="230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iCAZXQHGD"/>
          <p:cNvPicPr/>
          <p:nvPr/>
        </p:nvPicPr>
        <p:blipFill>
          <a:blip r:embed="rId2"/>
          <a:stretch/>
        </p:blipFill>
        <p:spPr>
          <a:xfrm>
            <a:off x="6012000" y="2565360"/>
            <a:ext cx="2592360" cy="2135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iCAXFI35V"/>
          <p:cNvPicPr/>
          <p:nvPr/>
        </p:nvPicPr>
        <p:blipFill>
          <a:blip r:embed="rId3"/>
          <a:stretch/>
        </p:blipFill>
        <p:spPr>
          <a:xfrm>
            <a:off x="3276720" y="4221000"/>
            <a:ext cx="2131920" cy="216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i"/>
          <p:cNvPicPr/>
          <p:nvPr/>
        </p:nvPicPr>
        <p:blipFill>
          <a:blip r:embed="rId4"/>
          <a:stretch/>
        </p:blipFill>
        <p:spPr>
          <a:xfrm>
            <a:off x="3276720" y="1817640"/>
            <a:ext cx="237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вый урок. Ю.Н.Кушак «Почтовая история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4" descr="7911"/>
          <p:cNvPicPr/>
          <p:nvPr/>
        </p:nvPicPr>
        <p:blipFill>
          <a:blip r:embed="rId1"/>
          <a:stretch/>
        </p:blipFill>
        <p:spPr>
          <a:xfrm>
            <a:off x="1042920" y="1916280"/>
            <a:ext cx="698508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Ю.Н.Кушак – поэт, журналист, переводчи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10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хи Ю.Н Кушака –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добрые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мудр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асто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наивные,прост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восприятия и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лег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запоминают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о их отличает особая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глуби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где соседствуют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обыч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необыч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забав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серьез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6" descr="0554849"/>
          <p:cNvPicPr/>
          <p:nvPr/>
        </p:nvPicPr>
        <p:blipFill>
          <a:blip r:embed="rId1"/>
          <a:stretch/>
        </p:blipFill>
        <p:spPr>
          <a:xfrm>
            <a:off x="5238720" y="2224080"/>
            <a:ext cx="285768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Ю.Н.Кушак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-Почему нравится быть писателем? Это всё равно, что спросить: а почему вам нравится жить? Стихи начал писать с шести лет в детсадовском возрасте. Вот с тех пор живу и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пишу,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ff99"/>
                </a:solidFill>
                <a:latin typeface="Arial"/>
              </a:rPr>
              <a:t>когда пишется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iCAFD1YXC"/>
          <p:cNvPicPr/>
          <p:nvPr/>
        </p:nvPicPr>
        <p:blipFill>
          <a:blip r:embed="rId1"/>
          <a:stretch/>
        </p:blipFill>
        <p:spPr>
          <a:xfrm>
            <a:off x="6659640" y="260280"/>
            <a:ext cx="15336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Arial"/>
              </a:rPr>
              <a:t>Юрий Наумович Кушак</a:t>
            </a:r>
            <a:br>
              <a:rPr sz="4000"/>
            </a:br>
            <a:r>
              <a:rPr b="0" lang="ru-RU" sz="4000" spc="-1" strike="noStrike">
                <a:solidFill>
                  <a:srgbClr val="99ff99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19 апреля 1936 г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Сказал приятель мне: – Прости,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Но что за ерунда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Про всяких птиц и про зверей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Писать в твои года.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Ты всюду видишь чудеса,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Но нет чудес, поверь: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Не может птица говорить,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Дружить со зверем зверь.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И я ему ответил так: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– Ты просто слеп и глух!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Об этом мне вчера сказал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На улице петух.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И это подтвердил пингвин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В присутствии моржих,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А если ты не веришь мне –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Пойди спроси у них.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Но если звери промолчат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Или зевнут в ответ,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То, значит, говорить с тобой </a:t>
            </a:r>
            <a:br>
              <a:rPr sz="1600"/>
            </a:b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У них охоты нет. </a:t>
            </a:r>
            <a:br>
              <a:rPr sz="1600"/>
            </a:br>
            <a:r>
              <a:rPr b="1" lang="ru-RU" sz="1600" spc="-1" strike="noStrike" u="sng">
                <a:solidFill>
                  <a:srgbClr val="99ff99"/>
                </a:solidFill>
                <a:uFillTx/>
                <a:latin typeface="Arial"/>
              </a:rPr>
              <a:t>(«Разговор по душам»)</a:t>
            </a:r>
            <a:r>
              <a:rPr b="0" lang="ru-RU" sz="16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0554849"/>
          <p:cNvPicPr/>
          <p:nvPr/>
        </p:nvPicPr>
        <p:blipFill>
          <a:blip r:embed="rId1"/>
          <a:stretch/>
        </p:blipFill>
        <p:spPr>
          <a:xfrm>
            <a:off x="4530600" y="1628640"/>
            <a:ext cx="414504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ff99"/>
                </a:solidFill>
                <a:latin typeface="Arial"/>
              </a:rPr>
              <a:t>Адресат-</a:t>
            </a:r>
            <a:r>
              <a:rPr b="0" lang="en-US" sz="4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99ff99"/>
                </a:solidFill>
                <a:latin typeface="Arial"/>
              </a:rPr>
              <a:t>тот, кому адресовано письмо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Адресант – отправитель; тот кто отправляет письм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3" descr="iCAW22CYV"/>
          <p:cNvPicPr/>
          <p:nvPr/>
        </p:nvPicPr>
        <p:blipFill>
          <a:blip r:embed="rId1"/>
          <a:stretch/>
        </p:blipFill>
        <p:spPr>
          <a:xfrm>
            <a:off x="3419640" y="2205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iCAKP4ZVX"/>
          <p:cNvPicPr/>
          <p:nvPr/>
        </p:nvPicPr>
        <p:blipFill>
          <a:blip r:embed="rId2"/>
          <a:stretch/>
        </p:blipFill>
        <p:spPr>
          <a:xfrm>
            <a:off x="7164360" y="4797360"/>
            <a:ext cx="15778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Модель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пись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Обращение к адреса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Причина написания пись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Пожелание адреса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Подпись адреса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6" descr="iCAN52LCQ"/>
          <p:cNvPicPr/>
          <p:nvPr/>
        </p:nvPicPr>
        <p:blipFill>
          <a:blip r:embed="rId1"/>
          <a:stretch/>
        </p:blipFill>
        <p:spPr>
          <a:xfrm>
            <a:off x="5292720" y="1700280"/>
            <a:ext cx="2521080" cy="1882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iCAV5BZQ8"/>
          <p:cNvPicPr/>
          <p:nvPr/>
        </p:nvPicPr>
        <p:blipFill>
          <a:blip r:embed="rId2"/>
          <a:stretch/>
        </p:blipFill>
        <p:spPr>
          <a:xfrm>
            <a:off x="5219640" y="3968640"/>
            <a:ext cx="28083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6:51:50Z</dcterms:created>
  <dc:creator>Admin</dc:creator>
  <dc:description/>
  <dc:language>en-US</dc:language>
  <cp:lastModifiedBy>User</cp:lastModifiedBy>
  <dcterms:modified xsi:type="dcterms:W3CDTF">2021-05-28T05:17:58Z</dcterms:modified>
  <cp:revision>50</cp:revision>
  <dc:subject/>
  <dc:title>Тема: Необычные уроки письма.  Первый урок. Ю.Н. Кушак «Почтовая история»</dc:title>
</cp:coreProperties>
</file>