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2DF4-195B-4E94-B7FD-409CF66C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BBB-0DD9-4917-9ADF-3636FDAD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65FC-DCE4-4484-BC3C-F6A084C7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383-760C-49A6-87BE-C7990B56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4B5F-0483-40C3-B823-69FA2BAC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1F7F-065D-44C0-AC06-6F8A4E9C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DEEA-A38C-4017-974C-31397553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05E1-4670-410A-8DF5-B4F23A9A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A6E4-15E5-47CE-B0B7-EB25B4D1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53C1-9183-45E4-B934-7BBDEFA8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8567-4BAC-4BCD-8E87-D2212889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BCBB-63C6-477F-A84B-6228F413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A210-52A8-489E-B1E0-1CF8745D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DF1C-1E64-4CE8-A6C5-93E5FCE2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A169-AAAD-4344-9A1D-9BCEA215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CC56-2BD6-44CA-9E52-AE968087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B046-3A18-483B-BDA7-3D3B48E2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CF9-120D-409E-B35E-894F637C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9227-8773-478E-AFB4-B819D5C0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E593-CF67-48B9-80DE-18DC6C4D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CD54-58FB-4584-9EC5-87BF61B0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448-EDD9-4E4B-B098-4BFE3196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275-7F59-4056-8A5E-EAE19FD1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4254-808B-41D7-96C7-5530534C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ACA9-FC74-4723-942D-BB8648EA7F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43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4320"/>
              <a:ext cx="1203120" cy="685332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720"/>
              <a:chOff x="7848720" y="360"/>
              <a:chExt cx="1295280" cy="630972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3760"/>
                <a:chOff x="8381880" y="360"/>
                <a:chExt cx="762120" cy="22737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200"/>
                    <a:ext cx="424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440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956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2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7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2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3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3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3440"/>
                <a:ext cx="828720" cy="4706640"/>
                <a:chOff x="7848720" y="1603440"/>
                <a:chExt cx="828720" cy="47066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3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5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8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5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2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4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680"/>
              <a:ext cx="1190520" cy="193860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920"/>
              <a:ext cx="1219320" cy="19987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0240"/>
              <a:ext cx="1231920" cy="40341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0600"/>
              <a:ext cx="979560" cy="21826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1280"/>
              <a:ext cx="914400" cy="50446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6400"/>
              <a:ext cx="909720" cy="306936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4320"/>
              <a:ext cx="576360" cy="33501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5760"/>
              <a:ext cx="300240" cy="33505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5760"/>
              <a:ext cx="88920" cy="6853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800"/>
              <a:ext cx="1165320" cy="61848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6480" y="3318120"/>
              <a:ext cx="6853320" cy="225360"/>
            </a:xfrm>
            <a:custGeom>
              <a:avLst/>
              <a:gdLst>
                <a:gd name="textAreaLeft" fmla="*/ 667800 w 6853320"/>
                <a:gd name="textAreaRight" fmla="*/ 6185520 w 685332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E292-D459-4BA1-831F-2C4B89408A0F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6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1294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d1528"/>
                </a:solidFill>
                <a:latin typeface="Arial"/>
              </a:rPr>
              <a:t>Прогрессивная  форма стрижки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214800" y="4929120"/>
            <a:ext cx="402120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400" spc="-1" strike="noStrike">
              <a:solidFill>
                <a:srgbClr val="4d1528"/>
              </a:solidFill>
              <a:latin typeface="Arial"/>
            </a:endParaRPr>
          </a:p>
        </p:txBody>
      </p:sp>
      <p:pic>
        <p:nvPicPr>
          <p:cNvPr id="194" name="Рисунок 4" descr="https://baza-prichesok.ru/photo/img/strizhka-meduza-na-srednie-volosy-foto-8.jpg"/>
          <p:cNvPicPr/>
          <p:nvPr/>
        </p:nvPicPr>
        <p:blipFill>
          <a:blip r:embed="rId1"/>
          <a:stretch/>
        </p:blipFill>
        <p:spPr>
          <a:xfrm>
            <a:off x="1952640" y="2060640"/>
            <a:ext cx="3556080" cy="4681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Рисунок 3" descr="https://womanadvice.ru/sites/default/files/kakie_pricheski_v_mode_2013_6.jpg"/>
          <p:cNvPicPr/>
          <p:nvPr/>
        </p:nvPicPr>
        <p:blipFill>
          <a:blip r:embed="rId1"/>
          <a:stretch/>
        </p:blipFill>
        <p:spPr>
          <a:xfrm>
            <a:off x="108000" y="162000"/>
            <a:ext cx="2879640" cy="32670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http://www.blackpantera.ru/articles/wp-content/uploads/2019/12/kaskad_77.jpg"/>
          <p:cNvPicPr/>
          <p:nvPr/>
        </p:nvPicPr>
        <p:blipFill>
          <a:blip r:embed="rId2"/>
          <a:stretch/>
        </p:blipFill>
        <p:spPr>
          <a:xfrm>
            <a:off x="2987640" y="162000"/>
            <a:ext cx="2592360" cy="32670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5" descr="https://baza-prichesok.ru/photo/img/strizhka-meduza-na-srednie-volosy-foto-8.jpg"/>
          <p:cNvPicPr/>
          <p:nvPr/>
        </p:nvPicPr>
        <p:blipFill>
          <a:blip r:embed="rId3"/>
          <a:stretch/>
        </p:blipFill>
        <p:spPr>
          <a:xfrm>
            <a:off x="5508720" y="162000"/>
            <a:ext cx="2303280" cy="32670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6" descr="https://im0-tub-ru.yandex.net/i?id=84670fcc31708013de14e21ace02ff45-l&amp;n=13"/>
          <p:cNvPicPr/>
          <p:nvPr/>
        </p:nvPicPr>
        <p:blipFill>
          <a:blip r:embed="rId4"/>
          <a:stretch/>
        </p:blipFill>
        <p:spPr>
          <a:xfrm>
            <a:off x="108000" y="3429000"/>
            <a:ext cx="2879640" cy="31687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7" descr="https://the-hairs.ru/wp-content/uploads/2017/02/strizhki-kaskad-15.jpg"/>
          <p:cNvPicPr/>
          <p:nvPr/>
        </p:nvPicPr>
        <p:blipFill>
          <a:blip r:embed="rId5"/>
          <a:stretch/>
        </p:blipFill>
        <p:spPr>
          <a:xfrm>
            <a:off x="2987640" y="3429000"/>
            <a:ext cx="2521080" cy="31687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8" descr="https://avrorra.com/wp-content/uploads/2018/10/post_5bc13ce100811.jpeg"/>
          <p:cNvPicPr/>
          <p:nvPr/>
        </p:nvPicPr>
        <p:blipFill>
          <a:blip r:embed="rId6"/>
          <a:stretch/>
        </p:blipFill>
        <p:spPr>
          <a:xfrm>
            <a:off x="5364000" y="3429000"/>
            <a:ext cx="244800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2" name="Рисунок 5" descr="https://avon-061.ru/wp-content/uploads/3/7/c/37c35c59224742ed22243b9289cec123.jpg"/>
          <p:cNvPicPr/>
          <p:nvPr/>
        </p:nvPicPr>
        <p:blipFill>
          <a:blip r:embed="rId1"/>
          <a:stretch/>
        </p:blipFill>
        <p:spPr>
          <a:xfrm>
            <a:off x="539640" y="120600"/>
            <a:ext cx="6840720" cy="6624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a242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Рисунок 4" descr="https://inststyle.com/wp-content/uploads/2020/02/lesenka-7.jpg"/>
          <p:cNvPicPr/>
          <p:nvPr/>
        </p:nvPicPr>
        <p:blipFill>
          <a:blip r:embed="rId1"/>
          <a:stretch/>
        </p:blipFill>
        <p:spPr>
          <a:xfrm>
            <a:off x="79200" y="333360"/>
            <a:ext cx="761400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242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4149360"/>
            <a:ext cx="738648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63160" y="1598760"/>
            <a:ext cx="36162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032000" y="1598760"/>
            <a:ext cx="361764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400" spc="-1" strike="noStrike">
              <a:solidFill>
                <a:srgbClr val="6d2c27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наменитые работы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 Тициана Вечеллио         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9" name="Picture 6" descr="31"/>
          <p:cNvPicPr/>
          <p:nvPr/>
        </p:nvPicPr>
        <p:blipFill>
          <a:blip r:embed="rId1"/>
          <a:stretch/>
        </p:blipFill>
        <p:spPr>
          <a:xfrm>
            <a:off x="539640" y="1557360"/>
            <a:ext cx="2843280" cy="34862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30"/>
          <p:cNvPicPr/>
          <p:nvPr/>
        </p:nvPicPr>
        <p:blipFill>
          <a:blip r:embed="rId2"/>
          <a:stretch/>
        </p:blipFill>
        <p:spPr>
          <a:xfrm>
            <a:off x="4643280" y="1557360"/>
            <a:ext cx="2795760" cy="34862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3922200"/>
            <a:ext cx="738648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«Кающаяся Мария                                   «Флора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Магдалина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Альбрехт Дюрер ( 1471 – 1528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5a2420"/>
                </a:solidFill>
                <a:latin typeface="Arial"/>
              </a:rPr>
              <a:t>Немецкий живописец и график. Основоположник искусства немецкого Возрождения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4" name="Picture 6" descr="albreht_01_big"/>
          <p:cNvPicPr/>
          <p:nvPr/>
        </p:nvPicPr>
        <p:blipFill>
          <a:blip r:embed="rId1"/>
          <a:stretch/>
        </p:blipFill>
        <p:spPr>
          <a:xfrm>
            <a:off x="324000" y="1484280"/>
            <a:ext cx="3520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наменитые работы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 Альбрехта Дюрера</a:t>
            </a:r>
            <a:r>
              <a:rPr b="0" lang="ru-RU" sz="1800" spc="-1" strike="noStrike">
                <a:solidFill>
                  <a:srgbClr val="813731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6" name="Picture 8" descr="albreht_18_big"/>
          <p:cNvPicPr/>
          <p:nvPr/>
        </p:nvPicPr>
        <p:blipFill>
          <a:blip r:embed="rId1"/>
          <a:stretch/>
        </p:blipFill>
        <p:spPr>
          <a:xfrm>
            <a:off x="395280" y="1484280"/>
            <a:ext cx="2708280" cy="3630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albreht_06_big"/>
          <p:cNvPicPr/>
          <p:nvPr/>
        </p:nvPicPr>
        <p:blipFill>
          <a:blip r:embed="rId2"/>
          <a:stretch/>
        </p:blipFill>
        <p:spPr>
          <a:xfrm>
            <a:off x="4572000" y="1484280"/>
            <a:ext cx="2701800" cy="36306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3922200"/>
            <a:ext cx="738648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82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32823"/>
                </a:solidFill>
                <a:latin typeface="Arial"/>
              </a:rPr>
              <a:t>«Молодая венецианская                           «Мадонна с ребёнком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823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632823"/>
                </a:solidFill>
                <a:latin typeface="Arial"/>
              </a:rPr>
              <a:t>женщина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Архитектура эпохи Возрожде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0" name="Picture 10" descr="fourW16"/>
          <p:cNvPicPr/>
          <p:nvPr/>
        </p:nvPicPr>
        <p:blipFill>
          <a:blip r:embed="rId1"/>
          <a:stretch/>
        </p:blipFill>
        <p:spPr>
          <a:xfrm>
            <a:off x="468360" y="1268280"/>
            <a:ext cx="3060720" cy="2232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fourW18"/>
          <p:cNvPicPr/>
          <p:nvPr/>
        </p:nvPicPr>
        <p:blipFill>
          <a:blip r:embed="rId2"/>
          <a:stretch/>
        </p:blipFill>
        <p:spPr>
          <a:xfrm>
            <a:off x="4211640" y="3860640"/>
            <a:ext cx="3025800" cy="2305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oneW07"/>
          <p:cNvPicPr/>
          <p:nvPr/>
        </p:nvPicPr>
        <p:blipFill>
          <a:blip r:embed="rId3"/>
          <a:stretch/>
        </p:blipFill>
        <p:spPr>
          <a:xfrm>
            <a:off x="468360" y="3860640"/>
            <a:ext cx="3095640" cy="2232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3" descr="twoW10"/>
          <p:cNvPicPr/>
          <p:nvPr/>
        </p:nvPicPr>
        <p:blipFill>
          <a:blip r:embed="rId4"/>
          <a:stretch/>
        </p:blipFill>
        <p:spPr>
          <a:xfrm>
            <a:off x="4211640" y="1268280"/>
            <a:ext cx="305424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68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68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68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68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илуэт форм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Объект 5" descr="Силуэт прогрессивной стрижки"/>
          <p:cNvPicPr/>
          <p:nvPr/>
        </p:nvPicPr>
        <p:blipFill>
          <a:blip r:embed="rId1"/>
          <a:stretch/>
        </p:blipFill>
        <p:spPr>
          <a:xfrm>
            <a:off x="0" y="1557360"/>
            <a:ext cx="774072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9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собенности архитекту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143160" y="1142640"/>
            <a:ext cx="48578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d2c27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6d2c27"/>
                </a:solidFill>
                <a:latin typeface="Arial"/>
              </a:rPr>
              <a:t>Архитектура возрождения выросла в борьбе со старой готической архитектуро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d2c27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6d2c27"/>
                </a:solidFill>
                <a:latin typeface="Arial"/>
              </a:rPr>
              <a:t>Главные принципы: симметрия планов и композиций зданий и равномерное распределение, размещение на равных интервалах друг от друга всех элементов фаса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d2c27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d2c27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d2c27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6d2c27"/>
                </a:solidFill>
                <a:latin typeface="Arial"/>
              </a:rPr>
              <a:t>Интернетресурсы:        1.Википедия; 2.</a:t>
            </a:r>
            <a:r>
              <a:rPr b="0" i="1" lang="en-US" sz="2400" spc="-1" strike="noStrike">
                <a:solidFill>
                  <a:srgbClr val="6d2c27"/>
                </a:solidFill>
                <a:latin typeface="Arial"/>
              </a:rPr>
              <a:t>http://smallbay.ru/renessitaly.html</a:t>
            </a:r>
            <a:r>
              <a:rPr b="0" i="1" lang="ru-RU" sz="2400" spc="-1" strike="noStrike">
                <a:solidFill>
                  <a:srgbClr val="6d2c27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6" name="Picture 6" descr="fourW10"/>
          <p:cNvPicPr/>
          <p:nvPr/>
        </p:nvPicPr>
        <p:blipFill>
          <a:blip r:embed="rId1"/>
          <a:stretch/>
        </p:blipFill>
        <p:spPr>
          <a:xfrm>
            <a:off x="468360" y="1628640"/>
            <a:ext cx="2867040" cy="4286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2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2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3350"/>
                            </p:stCondLst>
                            <p:childTnLst>
                              <p:par>
                                <p:cTn id="2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2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4250"/>
                            </p:stCondLst>
                            <p:childTnLst>
                              <p:par>
                                <p:cTn id="2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ура- активированная</a:t>
            </a:r>
            <a:r>
              <a:rPr b="1" lang="ru-RU" sz="4000" spc="-1" strike="noStrike">
                <a:solidFill>
                  <a:srgbClr val="813731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23b34"/>
              </a:solidFill>
              <a:latin typeface="Arial"/>
            </a:endParaRPr>
          </a:p>
        </p:txBody>
      </p:sp>
      <p:pic>
        <p:nvPicPr>
          <p:cNvPr id="200" name="Рисунок 4" descr="http://www.fashionbabies.ru/wp-content/uploads/2019/04/progresiya_tekstura.jpg"/>
          <p:cNvPicPr/>
          <p:nvPr/>
        </p:nvPicPr>
        <p:blipFill>
          <a:blip r:embed="rId1"/>
          <a:stretch/>
        </p:blipFill>
        <p:spPr>
          <a:xfrm>
            <a:off x="250920" y="1341360"/>
            <a:ext cx="729144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труктура прогрессивной форм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3616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Рисунок 5" descr="Структура прогрессивной формы"/>
          <p:cNvPicPr/>
          <p:nvPr/>
        </p:nvPicPr>
        <p:blipFill>
          <a:blip r:embed="rId1"/>
          <a:stretch/>
        </p:blipFill>
        <p:spPr>
          <a:xfrm>
            <a:off x="108000" y="1474920"/>
            <a:ext cx="5904000" cy="4681440"/>
          </a:xfrm>
          <a:prstGeom prst="rect">
            <a:avLst/>
          </a:prstGeom>
          <a:ln w="0">
            <a:noFill/>
          </a:ln>
        </p:spPr>
      </p:pic>
      <p:pic>
        <p:nvPicPr>
          <p:cNvPr id="204" name="Объект 6" descr="https://krasivyepricheski.com/sites/default/files/i/5019/3-2/590f4207e69b.jpg"/>
          <p:cNvPicPr/>
          <p:nvPr/>
        </p:nvPicPr>
        <p:blipFill>
          <a:blip r:embed="rId2"/>
          <a:stretch/>
        </p:blipFill>
        <p:spPr>
          <a:xfrm>
            <a:off x="4211640" y="1484280"/>
            <a:ext cx="36180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9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оборы – горизонтальные, вертикальные, диагональны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160" y="2997000"/>
            <a:ext cx="361620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032000" y="4365720"/>
            <a:ext cx="3617640" cy="17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аспределени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Рисунок 5" descr="http://www.fashionbabies.ru/wp-content/uploads/2019/04/obratnaja_strizhka-1.jpg"/>
          <p:cNvPicPr/>
          <p:nvPr/>
        </p:nvPicPr>
        <p:blipFill>
          <a:blip r:embed="rId1"/>
          <a:stretch/>
        </p:blipFill>
        <p:spPr>
          <a:xfrm>
            <a:off x="108000" y="1341360"/>
            <a:ext cx="3527280" cy="287964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6" descr="http://www.fashionbabies.ru/wp-content/uploads/2019/04/progresiya_vertik_razdelenija.jpg"/>
          <p:cNvPicPr/>
          <p:nvPr/>
        </p:nvPicPr>
        <p:blipFill>
          <a:blip r:embed="rId2"/>
          <a:stretch/>
        </p:blipFill>
        <p:spPr>
          <a:xfrm>
            <a:off x="4284720" y="1341360"/>
            <a:ext cx="3240000" cy="2879640"/>
          </a:xfrm>
          <a:prstGeom prst="rect">
            <a:avLst/>
          </a:prstGeom>
          <a:ln w="0">
            <a:noFill/>
          </a:ln>
        </p:spPr>
      </p:pic>
      <p:pic>
        <p:nvPicPr>
          <p:cNvPr id="212" name="Объект 7" descr="http://www.fashionbabies.ru/wp-content/uploads/2019/04/progresiya_diagonal_nazad.jpg"/>
          <p:cNvPicPr/>
          <p:nvPr/>
        </p:nvPicPr>
        <p:blipFill>
          <a:blip r:embed="rId3"/>
          <a:stretch/>
        </p:blipFill>
        <p:spPr>
          <a:xfrm>
            <a:off x="1841400" y="4221000"/>
            <a:ext cx="3527640" cy="2521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Объект 4" descr="https://avatars.mds.yandex.net/get-turbo/3081272/rth1bb837785247e8a0c0a9b971e2342566/max_g480_c12_r4x3_pd10"/>
          <p:cNvPicPr/>
          <p:nvPr/>
        </p:nvPicPr>
        <p:blipFill>
          <a:blip r:embed="rId1"/>
          <a:stretch/>
        </p:blipFill>
        <p:spPr>
          <a:xfrm>
            <a:off x="263520" y="1268280"/>
            <a:ext cx="733284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Образующая линия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57400" y="142884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6d2c27"/>
              </a:solidFill>
              <a:latin typeface="Arial Unicode MS"/>
              <a:ea typeface="Arial Unicode MS"/>
            </a:endParaRPr>
          </a:p>
        </p:txBody>
      </p:sp>
      <p:pic>
        <p:nvPicPr>
          <p:cNvPr id="218" name="Объект 10" descr="https://ds04.infourok.ru/uploads/ex/0b55/000a92a4-ab0d1e29/img10.jpg"/>
          <p:cNvPicPr/>
          <p:nvPr/>
        </p:nvPicPr>
        <p:blipFill>
          <a:blip r:embed="rId1"/>
          <a:stretch/>
        </p:blipFill>
        <p:spPr>
          <a:xfrm>
            <a:off x="263520" y="1268280"/>
            <a:ext cx="726120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68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68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6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6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Рисунок 7" descr="https://xn----8sbwhcvsb9dvc.xn--p1ai/wp-content/uploads/img-hnmjbt.jpg"/>
          <p:cNvPicPr/>
          <p:nvPr/>
        </p:nvPicPr>
        <p:blipFill>
          <a:blip r:embed="rId1"/>
          <a:stretch/>
        </p:blipFill>
        <p:spPr>
          <a:xfrm>
            <a:off x="179280" y="1197000"/>
            <a:ext cx="74883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5:24:27Z</dcterms:created>
  <dc:creator>Элина</dc:creator>
  <dc:description/>
  <dc:language>en-US</dc:language>
  <cp:lastModifiedBy>майя федорова</cp:lastModifiedBy>
  <dcterms:modified xsi:type="dcterms:W3CDTF">2020-12-02T19:35:21Z</dcterms:modified>
  <cp:revision>25</cp:revision>
  <dc:subject/>
  <dc:title>Особенности эпохи Возрождения</dc:title>
</cp:coreProperties>
</file>