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51D-6802-4343-BFBC-D5BF86AA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614-D9C1-44F5-B938-55F5B8A8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F71-0F28-41CB-8A5F-F382F3A8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3D9-8C87-41DC-A169-B0DB52D2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355E-258A-4AEF-BC8C-5D8F0F2D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1F94-F876-4A97-8E9C-13F292BA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458D-6E2E-4D25-BC64-6E653D0B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3248-16C4-4F4F-8D50-9DF7CEE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11D4-CC1D-469D-AB81-96301D11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0516-8006-4C4B-8844-430F5FA1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2432-3C9C-4D0F-90EB-77D0F61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965-D95F-4C46-B8E4-13363E47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361A-3798-4477-94C4-762E22DB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5101-572B-4B51-ADEB-551F13B2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DC4D-2270-42CD-9376-65F6237D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EEB3-2404-4596-9480-BEF06F65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3CFE-BE1D-4D42-8723-4D971189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8850-EFC9-4667-B62F-DD8E4939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CCD0-8925-4E4E-8A46-7716176A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D39B-6E4B-4FB7-A2DB-66FAAF9E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5280-9265-499E-956F-7C67D0D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092B5-A9CB-437C-83E4-5BE9889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540-DF5B-448C-9DD2-40B7A6D0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2A0A-2388-4CAE-AD43-A8305E8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2677-567D-4D31-AE5E-2C14A16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D2CE-86F8-4639-9C7E-37BB42EE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5891-0D7F-4FEE-97C5-6265C08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56FE-21CA-47D1-B5FE-61188369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99BF-5F07-44BB-A44F-0A8FCE10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3173-999A-4203-90DD-69BB44CF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FFA3-0AB8-4C39-9C70-7D472370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93D8-6640-4ACC-8EE5-5079D922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9C02-7D65-4A7E-8C01-20D3625B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815-2BDE-4331-8D93-7B9768C5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89F5-E5AC-4B76-84DE-67B2A772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BF9B-E217-4EAA-BD0C-B7AB8AB7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BD32-C110-4297-97F0-F4D09115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34115-D27F-44BA-9581-95AD431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261F-34B0-4070-B393-B751D537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13F1-1318-4867-8A09-D193E7AB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F7906-2EC5-46C6-A159-1132A1E3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AC89-3691-4097-BA82-2094EC61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D2A0-19C1-469F-AB00-3A97191A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FFA1E-1EAF-487F-A469-82F6B026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60F-F8F1-4D2F-BF77-9E3C6562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E847F-A19A-43F2-A1EE-5F7BEC23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358E4-5C9B-4501-96F2-887DC16C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4C16-70AA-4C61-93ED-CC6FBF89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5A721-CF64-4800-B307-50B3CB63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52A83-9931-4E25-A05F-0EDC3785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619A2-0590-40E6-AB44-D454D675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5C7F9-59F6-40FF-9E2F-E1BFDA70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2FE75-38F7-4CE6-A301-48138AF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39E9-E249-4153-998E-F5548935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A8F1-9B6F-44BA-A10E-8A286EE8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BA7-A8A0-43DD-985D-06BF5FFC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3C7AC-9F9F-4542-BDD8-75559D5C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2D017-1AAE-484C-A5D5-7577B4DD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E69AC-FF55-47F5-BAF6-1D8242E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16DF-FE42-46E4-BD46-84A5E45D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8F420-892D-4079-BC3E-78C749C3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5DFC1-8063-4182-80D2-023DDBAE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CCDCF-2872-4C9D-AF1E-01CF6E33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FDA54-0F8F-4FBD-93DE-492FE01A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5FDC-F837-4D33-B4ED-86FB4A7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31CBA-C02E-4D7E-B847-938588A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232-4FB4-44FD-9BAC-7F22D060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3118F-072D-4DF5-9D7E-2E8A2D1F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A6814-8B90-4054-BCED-9C68E72B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88D10-56FE-4A5F-B493-12156EE4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FA260-9A4E-4A3D-803A-FB23659B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FC039-6EE2-47FC-B33E-952DD0D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0901-B3BA-4BBC-B0D4-E77E0249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83A31-45A5-408F-85F1-966C3646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09F0E-1179-42A1-B2A2-8CA6C5C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12F78-63D5-41DD-9E58-0778ADAC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49905-5971-425A-A179-7FB734A4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731-534F-4545-90A5-F46C85FB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5FFE8-ABB7-4361-932D-7B6100AE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FA723-0E15-4A01-8DEB-6C7B4CD0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E5A46-AD1A-49B6-9D60-F2A55ADD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47B6B-6A93-4678-9EA2-829CADE7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843E5-028D-46F3-AD94-99F5D847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AA6-2027-427D-A8F5-CB4C3B34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C9C5-6A07-4255-99F8-824723EEE5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FE3D-0C9F-4506-8FFD-FA03E94731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01D7-0843-4834-BE82-C4AAE6E8A9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6116-2AE9-4A91-8944-272814372C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5CA-7CBE-434D-9DD7-65DEAFF89D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BCA9-CBFE-4A3C-AE53-2086F59F37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EDBE-64AB-450C-8791-E0E8E31F544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астер класс по изготовлению массажного коврика для ног.(для детей раннего возраста)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71360" y="214308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Цель: здоровьесберегающих технологий в дошкольном образовании обеспечение и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оспитание вале логической культур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Задачи: сохранить здоровье дете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орудов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м понадоби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врик 30/100 с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гов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рандаш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мешки галь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еевой пистол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орудование.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3" descr="IMG_20201204_132540.jpg"/>
          <p:cNvPicPr/>
          <p:nvPr/>
        </p:nvPicPr>
        <p:blipFill>
          <a:blip r:embed="rId1"/>
          <a:stretch/>
        </p:blipFill>
        <p:spPr>
          <a:xfrm>
            <a:off x="3384720" y="14479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ам понадобится: карандаши, пуговицы,клеевой пистолет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IMG_20201207_071902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клеиваем (можно пришивать) на коврик карандаши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5" descr="IMG_20201208_143643.jpg"/>
          <p:cNvPicPr/>
          <p:nvPr/>
        </p:nvPicPr>
        <p:blipFill>
          <a:blip r:embed="rId1"/>
          <a:stretch/>
        </p:blipFill>
        <p:spPr>
          <a:xfrm>
            <a:off x="3384720" y="14479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клеиваем пуговиц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IMG_20201208_143547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клеиваем камушки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IMG_20201208_143558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ети с удовольствием ходят по массажному коврику после сн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3" descr="IMG_20201210_142046.jpg"/>
          <p:cNvPicPr/>
          <p:nvPr/>
        </p:nvPicPr>
        <p:blipFill>
          <a:blip r:embed="rId1"/>
          <a:stretch/>
        </p:blipFill>
        <p:spPr>
          <a:xfrm>
            <a:off x="3384720" y="14479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9T10:24:16Z</dcterms:created>
  <dc:creator>Пользователь</dc:creator>
  <dc:description/>
  <dc:language>en-US</dc:language>
  <cp:lastModifiedBy>Пользователь</cp:lastModifiedBy>
  <dcterms:modified xsi:type="dcterms:W3CDTF">2021-05-29T09:23:29Z</dcterms:modified>
  <cp:revision>9</cp:revision>
  <dc:subject/>
  <dc:title>Мастер</dc:title>
</cp:coreProperties>
</file>