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6B5-E29B-4421-B963-7D28B480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2ED-F825-4309-A5C6-05E4A96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FB1-CC2D-4CD5-B549-B9DDC6E7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B21-CD9F-432E-9258-C671E34F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D372-0B42-499D-AC1C-5FCDDC2C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BC88-6C7F-4444-8883-537EC349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A000-43B4-4066-97F2-507E6F5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367-445C-497E-8065-6A3A2891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1EE-FB69-46A9-AC4E-8BD4AC57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48F-4039-48B2-B4C5-B67BD93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B8C-BBC8-42EA-8002-AD1F515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EFB-23D3-46B5-ACF9-0B12E987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76D-800A-4BBC-A44C-D5E13AA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DE8F-085A-40E6-8F70-53A73ED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CC30-0ABA-4A56-AA6E-36EA7CC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0F0-E491-4F8B-90C6-2631DBA5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D67-9CE0-4B23-A650-A3A9DC6D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EE59-588B-40DB-940A-F667633E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E92C-9E5E-4F95-B68F-8737EDA8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4F46-0705-46C7-B0DF-ED8EC37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999E-399C-4887-AAC4-C65EE21C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B4E1-EEE0-4580-AFF4-0C6B876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E63-43EF-4BF3-B8BA-5969DC8C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06B5-F052-484D-9450-1B73F464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9817-0B29-447F-A814-411D351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6053-CD5E-4EF6-BD89-3D49456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A8A5-870C-40A1-AFCE-59F6F9C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B8A5-8E51-46B0-AA49-54A3E82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C08B-23DD-4D64-943A-6BBA684F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E126-9C0B-4CEE-8D34-2F756885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4BA5-F3AA-47AC-8B55-28D8049B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5135-37EF-4889-96B6-F29FBDCD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E253-535D-4BA7-ADFE-7C6FC5B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F7-DDED-4471-8BCD-3869DF5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DF25-FFE6-4EE0-AB47-231B2495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7BCD-D479-45E7-8369-BA0352E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6D2F-3F71-4CD0-A405-CF8F0DC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2CE0-2494-4778-9395-AE8A466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F603-D57A-47C6-8033-12B31F7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101E-A595-45D4-A677-FF18A2D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7DDA-5461-406B-AD25-34CDECF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2DEE-F1C9-4EF8-97C5-22A58E4B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E135-3C19-4F15-A3F8-90B1C5E0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6712A-E8A0-4575-9FE8-03FE5CA3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37-997B-4524-87D6-212F982E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F2AA-748D-46C3-92A5-85FDC6E4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A127-CF60-4968-AB90-8794F533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6251-A84D-426B-93C6-1C4E2EF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483B-A0AF-4CFA-A8F9-21649F8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33E1-D79D-4421-98F0-2AA71029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F8FF-BC16-4784-B0E8-630B617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84F5-8399-4E71-B2B1-0F146C3E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32B6-208C-45E0-AB49-7E3DA53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4616-5C01-41A4-8BA0-F010FAAE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AE22-D7C9-4FD1-81F9-5A77BB46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707-2430-4845-94A3-2A22898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DDA3-1C1D-4243-86B8-A1FB97B2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56C8-C7DC-4F9D-AF17-4F9DE2AF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DC29-6969-4D07-9BB7-2309B26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FEA36-E56C-492A-A1F2-E7BC4DCF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585E-2D03-4C97-83D2-5DDF9B6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256C-1943-447D-B729-171991CC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A56B-137C-463E-877D-9B836C6B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75627-BC55-444F-8C5B-321A996F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A613-BDCA-4B28-B7AB-7B29D2D9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7FD6-4480-4DF9-AA53-CCFF0A1D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CC-C030-417C-95B8-673A370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123B-AA22-47C9-AC69-C7A56325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534C-2892-457C-8785-92EC016C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2718-64DC-459C-B0CC-A269BF3B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0BA7-C493-417E-9B9A-0D7190D0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7801-1863-4B4A-B3BD-EA25209B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DADD-C985-4444-A212-8FFDB24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CB4F-1E80-4A48-B400-E1FEE224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1580-7575-412F-8A97-7680611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39E9-FB16-41D7-A937-78C23DBC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B7EC-42B1-4068-A6D2-1DD441E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958-2CF3-4F31-894D-0ED6561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1600C-EADF-465C-87BE-83C0851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416D-8918-4E9B-A3D5-C9EAE33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D4DE-5172-44A5-BA6A-F05AEDF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DD19-1A65-4F50-8767-0E954FB3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84B4-E4A8-4506-8D98-55529DCB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404-43F9-429B-8EF3-E76175B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04F9-3441-497C-AA37-F38BCF9E05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272-0767-44FA-85F8-FE6EF7D600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131-D3D5-471F-A00B-F8E6E84ABE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86D0-604C-4E4F-9573-E144407B0E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8CB6-0B89-4A78-A55B-45208EABC6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B382-8D1C-4B83-AF0C-426D057546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1E26-50E5-48DF-BED5-633A33589C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стер класс по изготовлению массажного коврика для ног.(для детей раннего возраста)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360" y="214308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Цель: здоровьесберегающих технологий в дошкольном образовании обеспечение и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оспитание вале логической культу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Задачи: сохранить здоровье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рудов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м понадоби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врик 30/100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гов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андаш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мешки галь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еевой писто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рудование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IMG_20201204_132540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ам понадобится: карандаши, пуговицы,клеевой пистолет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IMG_20201207_071902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клеиваем (можно пришивать) на коврик карандаш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5" descr="IMG_20201208_143643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клеиваем пуговиц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IMG_20201208_143547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клеиваем камушк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IMG_20201208_143558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ти с удовольствием ходят по массажному коврику после сн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IMG_20201210_142046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9T10:24:16Z</dcterms:created>
  <dc:creator>Пользователь</dc:creator>
  <dc:description/>
  <dc:language>en-US</dc:language>
  <cp:lastModifiedBy>Пользователь</cp:lastModifiedBy>
  <dcterms:modified xsi:type="dcterms:W3CDTF">2021-05-29T09:23:29Z</dcterms:modified>
  <cp:revision>9</cp:revision>
  <dc:subject/>
  <dc:title>Мастер</dc:title>
</cp:coreProperties>
</file>