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E326-2481-48E8-8D39-D2C4895867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AB50-2959-41FD-99CB-A68DAC7855B6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8183-BBBD-45AE-B138-39842706122A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1579-6FE2-4C9B-888D-17B228511DB1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D070-69F5-4916-AB6D-28DFDAF55E7C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4F0C-B800-4435-AD34-F0493F7591C5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B8F5-4C7F-4FA5-AE41-3503BE234D94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607D-D147-45FD-9197-BB06D01EAC10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399B-617A-4A3A-8541-325B1507C308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08E-B3D0-482E-8CE3-75936F4FCB81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25EC-B70E-4190-933C-6166C194A76E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0B11-3A4D-43D0-AA7C-534AACF7B370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99F6-351D-44F2-B6EF-4B270258C1A0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00CC-0643-4AD7-8F7E-0BBEFF92F87E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92E0-7793-463B-8A5A-075EA01184B3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51BD-B18F-4EB7-802D-CA3DC710FA9B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3EDF-7511-4BAC-9530-294F86E0C45A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BE30-15B5-4777-85E0-C80311A5969B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49A-5666-4BB6-BE10-00A41C3EAE05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4B59-CDF6-4401-B305-41A48C79A7B7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E207-E6A6-4140-BF3F-AE187E16C568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4F42-F1C6-400E-8C6C-70FCB25CFAB9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51E3-1FC9-40CC-B1B6-9B10B27A380C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D0B4-F576-4C90-B86A-DC350B521A97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E1D1-9353-4FF1-9FC6-27501B8B22D8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7336-F4EA-4523-87B0-B8B573FC2137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ACE-73DB-4CA8-A1EC-DE4009A94027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2A93-06C2-440C-858C-FAA4012E6F00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1BEB-73DD-40F4-A793-9A5C90004C59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4AB6-79A3-4054-9826-46B88D445A6F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38F-41E1-4057-ACF6-8406F7B4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520" y="435132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534-5560-4BF1-A53A-BB503A54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6364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7A5-1207-4347-B534-530D98B3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416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79816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9052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4416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79816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AA0-BCA6-490C-88DA-24862252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5334-2CC7-47CB-BF86-26E244F6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C11E-BA4D-4A70-87EF-A2936E33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531E-3351-4D2F-A6AF-9EAFD65D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D598-E83A-4EAD-AD8C-A5A54928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CE32-98D6-483F-85FE-CFDB8698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41200" y="250560"/>
            <a:ext cx="8244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E2D6-6A02-4F44-8822-B7E7A47F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29AF-F4BE-463A-BD08-A79EC76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A35-4E83-4DD6-811B-364DE070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46364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66E3-ABEA-4BF7-AB57-37867BA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6147-6EE4-45EC-8A6D-1239D9DF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0520" y="435132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9808-38BA-4284-A11E-D6FE89DD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46364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69EF-F2B9-4990-9BC1-6047B235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4416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9816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9052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04416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79816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2B1D-10AB-4046-9F0E-7DF8D151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D54-E5B8-4004-B844-AE5D1EAF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81B-572B-4E1C-A974-4652B588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254-E6D0-4FE3-8D06-8CCBC83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41200" y="250560"/>
            <a:ext cx="8244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B1F-EBB5-4CA0-A591-E840A9CC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C05-1273-4FFD-BEEB-1AA9A4B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6364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581-E7B7-44F7-8079-AD69CBC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F6E-2DD2-43E9-AFAF-298D0206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97640" cy="7573680"/>
            <a:chOff x="0" y="0"/>
            <a:chExt cx="10097640" cy="7573680"/>
          </a:xfrm>
        </p:grpSpPr>
        <p:sp>
          <p:nvSpPr>
            <p:cNvPr id="1" name=""/>
            <p:cNvSpPr/>
            <p:nvPr/>
          </p:nvSpPr>
          <p:spPr>
            <a:xfrm>
              <a:off x="0" y="7325280"/>
              <a:ext cx="8906040" cy="2484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906040" cy="220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767800" y="0"/>
              <a:ext cx="1326240" cy="7560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652240" y="1440"/>
              <a:ext cx="1427040" cy="6954120"/>
              <a:chOff x="8652240" y="1440"/>
              <a:chExt cx="1427040" cy="69541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9239760" y="1440"/>
                <a:ext cx="839520" cy="2502000"/>
                <a:chOff x="9239760" y="1440"/>
                <a:chExt cx="839520" cy="250200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9595080" y="1440"/>
                  <a:ext cx="307800" cy="304560"/>
                  <a:chOff x="9595080" y="1440"/>
                  <a:chExt cx="307800" cy="30456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9595080" y="1440"/>
                    <a:ext cx="307800" cy="304560"/>
                    <a:chOff x="9595080" y="1440"/>
                    <a:chExt cx="307800" cy="30456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9637920" y="-41400"/>
                      <a:ext cx="22176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9647640" y="103320"/>
                      <a:ext cx="15588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9727560" y="142200"/>
                    <a:ext cx="30240" cy="2952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9652320" y="81720"/>
                    <a:ext cx="478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9732600" y="67320"/>
                    <a:ext cx="70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9807840" y="12276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1240" bIns="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9727200" y="210600"/>
                    <a:ext cx="70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9669600" y="182880"/>
                    <a:ext cx="428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39760" y="2516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4200" y="251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491400" y="5878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407880" y="1007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54200" y="923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575640" y="1343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754200" y="1763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9754200" y="2183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8652240" y="1763640"/>
                <a:ext cx="912960" cy="5191920"/>
                <a:chOff x="8652240" y="1763640"/>
                <a:chExt cx="912960" cy="519192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987760" y="17636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071640" y="2099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987760" y="2771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9239760" y="3023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820000" y="3191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903880" y="3527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9239760" y="3611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55880" y="4115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735760" y="3863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735760" y="4283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987760" y="4535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55880" y="2435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652240" y="4787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735760" y="5375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155880" y="5795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735760" y="59630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903880" y="62150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735760" y="6635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9071640" y="64670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8767800" y="5410800"/>
              <a:ext cx="1312200" cy="21384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751960" y="5355000"/>
              <a:ext cx="1343880" cy="22046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39720" y="3106080"/>
              <a:ext cx="1357920" cy="445032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30440" y="3900600"/>
              <a:ext cx="1079640" cy="2408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088200" y="470520"/>
              <a:ext cx="1008000" cy="55648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95040" y="288720"/>
              <a:ext cx="1002600" cy="3385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57000" y="0"/>
              <a:ext cx="635040" cy="36957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57000" y="1440"/>
              <a:ext cx="330840" cy="36961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71320" y="1440"/>
              <a:ext cx="97920" cy="7560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73200" y="6867000"/>
              <a:ext cx="1284480" cy="6825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766760" y="3655800"/>
              <a:ext cx="7560000" cy="248400"/>
            </a:xfrm>
            <a:custGeom>
              <a:avLst/>
              <a:gdLst>
                <a:gd name="textAreaLeft" fmla="*/ 730440 w 7560000"/>
                <a:gd name="textAreaRight" fmla="*/ 6829560 w 7560000"/>
                <a:gd name="textAreaTop" fmla="*/ 23760 h 248400"/>
                <a:gd name="textAreaBottom" fmla="*/ 2246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3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SzPct val="100000"/>
              <a:buBlip>
                <a:blip r:embed="rId3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2f1311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2f1311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2f1311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2f1311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31560" y="6879960"/>
            <a:ext cx="1965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489040" y="6887880"/>
            <a:ext cx="3810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468840" y="6887880"/>
            <a:ext cx="19350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85E68F9-F0D9-46F7-BB1B-D0E47B8DD77B}" type="slidenum">
              <a:rPr b="0" lang="en-US" sz="11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10097640" cy="7573680"/>
            <a:chOff x="0" y="0"/>
            <a:chExt cx="10097640" cy="7573680"/>
          </a:xfrm>
        </p:grpSpPr>
        <p:sp>
          <p:nvSpPr>
            <p:cNvPr id="97" name=""/>
            <p:cNvSpPr/>
            <p:nvPr/>
          </p:nvSpPr>
          <p:spPr>
            <a:xfrm>
              <a:off x="0" y="7325280"/>
              <a:ext cx="8906040" cy="2484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906040" cy="220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67800" y="0"/>
              <a:ext cx="1326240" cy="7560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8652240" y="1440"/>
              <a:ext cx="1427040" cy="6954120"/>
              <a:chOff x="8652240" y="1440"/>
              <a:chExt cx="1427040" cy="69541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9239760" y="1440"/>
                <a:ext cx="839520" cy="2502000"/>
                <a:chOff x="9239760" y="1440"/>
                <a:chExt cx="839520" cy="250200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9595080" y="1440"/>
                  <a:ext cx="307800" cy="304560"/>
                  <a:chOff x="9595080" y="1440"/>
                  <a:chExt cx="307800" cy="30456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9595080" y="1440"/>
                    <a:ext cx="307800" cy="304560"/>
                    <a:chOff x="9595080" y="1440"/>
                    <a:chExt cx="307800" cy="30456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9637920" y="-41400"/>
                      <a:ext cx="22176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9647640" y="103320"/>
                      <a:ext cx="15588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9727560" y="142200"/>
                    <a:ext cx="30240" cy="2952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9652320" y="81720"/>
                    <a:ext cx="478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9732600" y="67320"/>
                    <a:ext cx="70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9807840" y="12276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1240" bIns="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9727200" y="210600"/>
                    <a:ext cx="70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9669600" y="182880"/>
                    <a:ext cx="428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39760" y="2516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4200" y="251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491400" y="5878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407880" y="1007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54200" y="923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575640" y="1343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754200" y="1763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9754200" y="2183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8652240" y="1763640"/>
                <a:ext cx="912960" cy="5191920"/>
                <a:chOff x="8652240" y="1763640"/>
                <a:chExt cx="912960" cy="519192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987760" y="17636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071640" y="2099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987760" y="2771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9239760" y="3023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820000" y="3191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903880" y="3527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9239760" y="3611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55880" y="4115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735760" y="3863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735760" y="4283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987760" y="4535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55880" y="2435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652240" y="4787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735760" y="5375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155880" y="5795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735760" y="59630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903880" y="62150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735760" y="6635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9071640" y="64670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8767800" y="5410800"/>
              <a:ext cx="1312200" cy="21384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51960" y="5355000"/>
              <a:ext cx="1343880" cy="22046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39720" y="3106080"/>
              <a:ext cx="1357920" cy="445032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30440" y="3900600"/>
              <a:ext cx="1079640" cy="2408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88200" y="470520"/>
              <a:ext cx="1008000" cy="55648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95040" y="288720"/>
              <a:ext cx="1002600" cy="3385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57000" y="0"/>
              <a:ext cx="635040" cy="36957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57000" y="1440"/>
              <a:ext cx="330840" cy="36961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71320" y="1440"/>
              <a:ext cx="97920" cy="7560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73200" y="6867000"/>
              <a:ext cx="1284480" cy="6825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766760" y="3655800"/>
              <a:ext cx="7560000" cy="248400"/>
            </a:xfrm>
            <a:custGeom>
              <a:avLst/>
              <a:gdLst>
                <a:gd name="textAreaLeft" fmla="*/ 730440 w 7560000"/>
                <a:gd name="textAreaRight" fmla="*/ 6829560 w 7560000"/>
                <a:gd name="textAreaTop" fmla="*/ 23760 h 248400"/>
                <a:gd name="textAreaBottom" fmla="*/ 2246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1509480"/>
            <a:ext cx="7680240" cy="226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31560" y="6879960"/>
            <a:ext cx="1965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489040" y="6887880"/>
            <a:ext cx="3810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468840" y="6887880"/>
            <a:ext cx="19350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A61C62A-BF90-4E93-987E-C5E54427B15A}" type="slidenum">
              <a:rPr b="0" lang="en-US" sz="11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lvl="2" marL="1008000" algn="ctr">
              <a:spcBef>
                <a:spcPts val="649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3" marL="1511280" algn="ctr">
              <a:spcBef>
                <a:spcPts val="550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4" marL="2016000" algn="ctr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5" marL="20160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6" marL="20160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4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7520" y="476280"/>
            <a:ext cx="8069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6300" spc="-1" strike="noStrike">
                <a:solidFill>
                  <a:srgbClr val="f0b854"/>
                </a:solidFill>
                <a:latin typeface="Arial Unicode MS"/>
                <a:ea typeface="MS PMincho"/>
              </a:rPr>
              <a:t>Проект</a:t>
            </a:r>
            <a:r>
              <a:rPr b="1" lang="en-US" sz="5100" spc="-1" strike="noStrike">
                <a:solidFill>
                  <a:srgbClr val="f0b854"/>
                </a:solidFill>
                <a:latin typeface="Times New Roman"/>
                <a:ea typeface="MS PMincho"/>
              </a:rPr>
              <a:t> </a:t>
            </a:r>
            <a:endParaRPr b="0" lang="en-US" sz="51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78000" y="1768320"/>
            <a:ext cx="8062560" cy="4913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460600" y="5073480"/>
            <a:ext cx="381636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66"/>
                </a:solidFill>
                <a:latin typeface="Arial"/>
                <a:ea typeface="Tahoma"/>
              </a:rPr>
              <a:t>г. Ярославль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66"/>
                </a:solidFill>
                <a:latin typeface="Arial"/>
                <a:ea typeface="Tahoma"/>
              </a:rPr>
              <a:t>МДОУ «Детский сад №214»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66"/>
                </a:solidFill>
                <a:latin typeface="Arial"/>
                <a:ea typeface="Tahoma"/>
              </a:rPr>
              <a:t>Воспитатель: </a:t>
            </a:r>
            <a:r>
              <a:rPr b="1" lang="de-DE" sz="1800" spc="-1" strike="noStrike">
                <a:solidFill>
                  <a:srgbClr val="ff3366"/>
                </a:solidFill>
                <a:latin typeface="Arial"/>
                <a:ea typeface="Arial Unicode MS"/>
              </a:rPr>
              <a:t>Степанова С.В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360360" y="2747880"/>
            <a:ext cx="812952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423720" y="244440"/>
            <a:ext cx="789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0b854"/>
                </a:solidFill>
                <a:latin typeface="Arial"/>
                <a:ea typeface="Arial"/>
              </a:rPr>
              <a:t>Подготовительный этап</a:t>
            </a:r>
            <a:endParaRPr b="0" lang="en-US" sz="4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91960" y="1162080"/>
            <a:ext cx="8205840" cy="5052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опрос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 родителей «Любите ли Вы театр?»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наглядная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 информация для родителей:</a:t>
            </a:r>
            <a:br>
              <a:rPr sz="2600"/>
            </a:b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«Театрализованная деятельность в детском саду»,</a:t>
            </a:r>
            <a:br>
              <a:rPr sz="2600"/>
            </a:b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«Театр как средство развития и воспитания детей дошкольного возраста»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определение 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целей и задач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разработка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 проекта в группе: «В гостях у сказки»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индивидуальные 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беседы, консультации с родителями по выявлению их заинтересованности в пополнении театрального уголка, их способностей в той или иной области рукоделия и возможностей.</a:t>
            </a:r>
            <a:br>
              <a:rPr sz="2600"/>
            </a:b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79280" y="539640"/>
            <a:ext cx="95378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1200" y="250920"/>
            <a:ext cx="82440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de-DE" sz="4800" spc="-1" strike="noStrike">
                <a:solidFill>
                  <a:srgbClr val="f0b854"/>
                </a:solidFill>
                <a:latin typeface="Monotype Corsiva"/>
              </a:rPr>
              <a:t>Основной этап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0520" y="845640"/>
            <a:ext cx="814392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86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9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распределение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заданий между родителями (сшить костюмы, с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делать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 маски, пополнить уголок различными театрами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: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 настольный, пальчиковый, кукольный)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показать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детям спектакли с разными видами театров, научить детей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показывать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 театр.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начать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 подготовку спектакля с участием детей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сказка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«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Репка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»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7320" y="204840"/>
            <a:ext cx="81882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5400" spc="-1" strike="noStrike">
                <a:solidFill>
                  <a:srgbClr val="f0b854"/>
                </a:solidFill>
                <a:latin typeface="Monotype Corsiva"/>
              </a:rPr>
              <a:t>Как всё происходило ….Мы …..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80960" y="1988640"/>
            <a:ext cx="7640640" cy="10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4400" spc="-1" strike="noStrike">
                <a:solidFill>
                  <a:srgbClr val="f0b854"/>
                </a:solidFill>
                <a:latin typeface="Monotype Corsiva"/>
              </a:rPr>
              <a:t>Читали книг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20840" y="2924280"/>
            <a:ext cx="7864200" cy="41828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5400" spc="-1" strike="noStrike">
                <a:solidFill>
                  <a:srgbClr val="f0b854"/>
                </a:solidFill>
                <a:latin typeface="Monotype Corsiva"/>
              </a:rPr>
              <a:t>Играли в настольные игры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800" y="1743120"/>
            <a:ext cx="7126200" cy="5344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1200" y="221760"/>
            <a:ext cx="8244000" cy="15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5400" spc="-1" strike="noStrike">
                <a:solidFill>
                  <a:srgbClr val="f0b854"/>
                </a:solidFill>
                <a:latin typeface="Monotype Corsiva"/>
              </a:rPr>
              <a:t>Смотрели сказки и спектакл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57120" y="2033640"/>
            <a:ext cx="3484800" cy="46483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267080" y="2631960"/>
            <a:ext cx="4070520" cy="34005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4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5400" spc="-1" strike="noStrike">
                <a:solidFill>
                  <a:srgbClr val="f0b854"/>
                </a:solidFill>
                <a:latin typeface="Monotype Corsiva"/>
              </a:rPr>
              <a:t>Смотрели спектакли по разным сказкам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87200" y="2011320"/>
            <a:ext cx="388008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317840" y="3711600"/>
            <a:ext cx="4200840" cy="31510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4800" spc="-1" strike="noStrike">
                <a:solidFill>
                  <a:srgbClr val="f0b854"/>
                </a:solidFill>
                <a:latin typeface="Monotype Corsiva"/>
              </a:rPr>
              <a:t>Учились сами показывать спектакли,</a:t>
            </a:r>
            <a:r>
              <a:rPr b="0" lang="ru-RU" sz="4800" spc="-1" strike="noStrike">
                <a:solidFill>
                  <a:srgbClr val="f0b854"/>
                </a:solidFill>
                <a:latin typeface="Monotype Corsiva"/>
              </a:rPr>
              <a:t> </a:t>
            </a:r>
            <a:r>
              <a:rPr b="0" lang="de-DE" sz="4800" spc="-1" strike="noStrike">
                <a:solidFill>
                  <a:srgbClr val="f0b854"/>
                </a:solidFill>
                <a:latin typeface="Monotype Corsiva"/>
              </a:rPr>
              <a:t>используя разные виды театров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6240" y="2446200"/>
            <a:ext cx="377316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241880" y="3598920"/>
            <a:ext cx="4200480" cy="31496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1200" y="250920"/>
            <a:ext cx="82440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4800" spc="-1" strike="noStrike">
                <a:solidFill>
                  <a:srgbClr val="f0b854"/>
                </a:solidFill>
                <a:latin typeface="Monotype Corsiva"/>
              </a:rPr>
              <a:t>Учились сами показывать спектакли,</a:t>
            </a:r>
            <a:r>
              <a:rPr b="0" lang="ru-RU" sz="4800" spc="-1" strike="noStrike">
                <a:solidFill>
                  <a:srgbClr val="f0b854"/>
                </a:solidFill>
                <a:latin typeface="Monotype Corsiva"/>
              </a:rPr>
              <a:t> </a:t>
            </a:r>
            <a:r>
              <a:rPr b="0" lang="de-DE" sz="4800" spc="-1" strike="noStrike">
                <a:solidFill>
                  <a:srgbClr val="f0b854"/>
                </a:solidFill>
                <a:latin typeface="Monotype Corsiva"/>
              </a:rPr>
              <a:t>используя разные виды театров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98440" y="2487600"/>
            <a:ext cx="377028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202280" y="3933720"/>
            <a:ext cx="4200480" cy="31496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Monotype Corsiva"/>
              </a:rPr>
              <a:t>В группе и на улиц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8680" y="1582560"/>
            <a:ext cx="3571920" cy="47642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11520" y="1568520"/>
            <a:ext cx="3571920" cy="47638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24240" y="2401920"/>
            <a:ext cx="3880080" cy="32176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90520" y="1913040"/>
            <a:ext cx="3571920" cy="41688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52" name=""/>
          <p:cNvSpPr/>
          <p:nvPr/>
        </p:nvSpPr>
        <p:spPr>
          <a:xfrm>
            <a:off x="274680" y="287280"/>
            <a:ext cx="818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b854"/>
                </a:solidFill>
                <a:latin typeface="Arial Unicode MS"/>
                <a:ea typeface="Arial"/>
              </a:rPr>
              <a:t>Инсценировка сказки «Репка»</a:t>
            </a:r>
            <a:endParaRPr b="0" lang="en-US" sz="44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401760" y="900000"/>
            <a:ext cx="8088120" cy="58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Тема проекта</a:t>
            </a:r>
            <a:r>
              <a:rPr b="0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:</a:t>
            </a:r>
            <a:r>
              <a:rPr b="0" lang="de-DE" sz="40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«В гостях у сказки»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Вид проекта</a:t>
            </a:r>
            <a:r>
              <a:rPr b="0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:</a:t>
            </a:r>
            <a:r>
              <a:rPr b="0" lang="de-DE" sz="40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долгосрочный, групповой, ролево-игровой, творческий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Сроки реализации</a:t>
            </a:r>
            <a:r>
              <a:rPr b="0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:</a:t>
            </a:r>
            <a:r>
              <a:rPr b="0" lang="de-DE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сентябрь 2020г</a:t>
            </a:r>
            <a:r>
              <a:rPr b="0" lang="de-DE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 – апрель 2021г.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000" spc="-1" strike="noStrike">
                <a:solidFill>
                  <a:srgbClr val="f0b854"/>
                </a:solidFill>
                <a:latin typeface="Arial Unicode MS"/>
              </a:rPr>
              <a:t>Показ магнитного театра «Реп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92120" y="2576520"/>
            <a:ext cx="377352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18080" y="1876320"/>
            <a:ext cx="3571920" cy="47624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1200" y="250920"/>
            <a:ext cx="8244000" cy="14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f0b854"/>
                </a:solidFill>
                <a:latin typeface="Arial Unicode MS"/>
              </a:rPr>
              <a:t>Показ настольного и пальчикового театров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9760" y="1822320"/>
            <a:ext cx="377028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202280" y="3639960"/>
            <a:ext cx="4200480" cy="31514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6800" y="250920"/>
            <a:ext cx="824364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</a:rPr>
              <a:t>Мы сами делали декораци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89000" y="2039760"/>
            <a:ext cx="377352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195800" y="3583080"/>
            <a:ext cx="4200480" cy="31510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1200" y="474480"/>
            <a:ext cx="8244000" cy="8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</a:rPr>
              <a:t>Репетировал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41360" y="1563840"/>
            <a:ext cx="3529080" cy="26906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38200" y="4505400"/>
            <a:ext cx="3419280" cy="25192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00560" y="2759040"/>
            <a:ext cx="3973320" cy="32799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Monotype Corsiva"/>
              </a:rPr>
              <a:t>Примеряли костюмы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55720" y="1778040"/>
            <a:ext cx="7305480" cy="43257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360360" y="900000"/>
            <a:ext cx="9539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</a:rPr>
              <a:t>Заключительный этап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0520" y="1645920"/>
            <a:ext cx="792648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86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9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Работы родителей: изготовление родителями  костюмов, помощь в приобретении и изготовлениии театров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, участие в конкурсе «Сказки гуляют по свету»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Театрализованное развлечение 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«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Играем в сказку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»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: показ музыкальной  сказки «Теремок».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 Unicode MS"/>
              </a:rPr>
              <a:t>Конкурс </a:t>
            </a:r>
            <a:br>
              <a:rPr sz="4400"/>
            </a:br>
            <a:r>
              <a:rPr b="1" lang="en-US" sz="4400" spc="-1" strike="noStrike">
                <a:solidFill>
                  <a:srgbClr val="f7d47d"/>
                </a:solidFill>
                <a:latin typeface="Arial Unicode MS"/>
              </a:rPr>
              <a:t>«Сказки гуляют по свету»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93840" y="1774800"/>
            <a:ext cx="2700360" cy="2941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01560" y="4829040"/>
            <a:ext cx="4286520" cy="24973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332320" y="1733400"/>
            <a:ext cx="2567160" cy="2946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5202360" y="4770360"/>
            <a:ext cx="29923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4720" y="111600"/>
            <a:ext cx="791208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</a:rPr>
              <a:t>И вот что у нас получилось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8600" y="1978200"/>
            <a:ext cx="3206520" cy="47289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300560" y="1959120"/>
            <a:ext cx="3614760" cy="4748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47760" y="1978200"/>
            <a:ext cx="3565440" cy="47289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76680" y="1992240"/>
            <a:ext cx="3475080" cy="47865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81" name=""/>
          <p:cNvSpPr/>
          <p:nvPr/>
        </p:nvSpPr>
        <p:spPr>
          <a:xfrm>
            <a:off x="351000" y="185760"/>
            <a:ext cx="79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  <a:ea typeface="Arial"/>
              </a:rPr>
              <a:t>И вот что у нас получилось</a:t>
            </a:r>
            <a:endParaRPr b="0" lang="en-US" sz="54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49160" y="1960560"/>
            <a:ext cx="3571920" cy="4995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803840" y="1965240"/>
            <a:ext cx="3351240" cy="49132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84" name=""/>
          <p:cNvSpPr/>
          <p:nvPr/>
        </p:nvSpPr>
        <p:spPr>
          <a:xfrm>
            <a:off x="596880" y="187200"/>
            <a:ext cx="77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  <a:ea typeface="Arial"/>
              </a:rPr>
              <a:t>И вот что у нас получилось</a:t>
            </a:r>
            <a:endParaRPr b="0" lang="en-US" sz="54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674640" y="900000"/>
            <a:ext cx="8685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0120" y="250920"/>
            <a:ext cx="7388280" cy="19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Arial Unicode MS"/>
              </a:rPr>
              <a:t>Цель проекта</a:t>
            </a:r>
            <a:r>
              <a:rPr b="0" lang="de-DE" sz="5400" spc="-1" strike="noStrike">
                <a:solidFill>
                  <a:srgbClr val="f0b854"/>
                </a:solidFill>
                <a:latin typeface="Arial Unicode MS"/>
              </a:rPr>
              <a:t>:</a:t>
            </a:r>
            <a:br>
              <a:rPr sz="5400"/>
            </a:br>
            <a:r>
              <a:rPr b="0" lang="ru-RU" sz="3600" spc="-1" strike="noStrike">
                <a:solidFill>
                  <a:srgbClr val="2f1311"/>
                </a:solidFill>
                <a:latin typeface="Arial Unicode MS"/>
              </a:rPr>
              <a:t>приобщать к сказкам посредством различных видов театр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50960" y="2139840"/>
            <a:ext cx="7224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78000" y="374760"/>
            <a:ext cx="797868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539640" y="900000"/>
            <a:ext cx="93600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24400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Times New Roman"/>
              </a:rPr>
              <a:t>Задачи проекта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4240" y="1109520"/>
            <a:ext cx="8564760" cy="62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побуждать интерес к </a:t>
            </a:r>
            <a:r>
              <a:rPr b="0" lang="ru-RU" sz="3400" spc="-1" strike="noStrike">
                <a:solidFill>
                  <a:srgbClr val="2f1311"/>
                </a:solidFill>
                <a:latin typeface="Arial Unicode MS"/>
              </a:rPr>
              <a:t>театрализованной</a:t>
            </a: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 деятельности;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привлекать детей к совместной театрализованной деятельности;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формировать представление о различных видах театра;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развивать речь, воображение и мышление;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помогать робким и застенчивым детям включаться в театрализованную игру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79280" y="720720"/>
            <a:ext cx="990144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Ресурсное обеспечени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8640" y="985680"/>
            <a:ext cx="8258040" cy="6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настольные театры: «Репка», «Курочка Ряба» «Три поросенка» «Теремок» и т.д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пальчиковый театр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театр на фланелеграфе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костюмированный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масочный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перчаточный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7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кукольный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8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театр на тарелочках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9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театр из киндеров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10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дидактические игры: лото «Сказки», «Мои любимые сказки», раскраски по мотивам сказок «Теремок», «Колобок», «Репка», » «Курочка Ряба», пазлы по сюжетам сказок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4232160" y="2570040"/>
            <a:ext cx="4052880" cy="26654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360360" y="1079640"/>
            <a:ext cx="80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Участники проекта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590840"/>
            <a:ext cx="77356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86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9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воспитатели,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78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7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музыкальный работник,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78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учитель-логопед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78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7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дети группы,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78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7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родители воспитанников.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0">
              <a:lnSpc>
                <a:spcPct val="100000"/>
              </a:lnSpc>
              <a:spcBef>
                <a:spcPts val="11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Ожидаемый результат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12760" y="1554120"/>
            <a:ext cx="8231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дети должны научиться пользоваться настольным и пальчиковым театром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сформировать умение передавать характер персонажа интонационной выразительностью речи, мимикой, жестами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постановка сказки «Теремок»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пополнение театрального уголка.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0" y="689040"/>
            <a:ext cx="439092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358920" y="21744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0b854"/>
                </a:solidFill>
                <a:latin typeface="Arial Unicode MS"/>
                <a:ea typeface="Arial"/>
              </a:rPr>
              <a:t>Предварительная работа: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1720" y="991800"/>
            <a:ext cx="3995640" cy="5467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артикуляционная гимнастика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активизацию словарного 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запаса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воображение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формирование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разговорной речи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речевое дыхание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хороводные игры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7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подвижные игры с героями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сказок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8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обыгрывание эпизодов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9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заучивание потешек, стихов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38440" y="1022040"/>
            <a:ext cx="3995640" cy="600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0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чистоговорки и скороговорки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отбивание ритма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подбор и изучение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педагогической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л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итературы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чтение русских народных сказок «Репка»,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«Теремок», «Колобок», «Курочка Ряба»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 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стихотворений, 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потешек,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 загадок о героях сказок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рассматривание игрушек и иллюстраций к сказкам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комплекс утренней гимнастики «Курочка и цыплята»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показ кукольного театра: «Теремок», «Колобок»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de-DE" sz="5400" spc="-1" strike="noStrike">
                <a:solidFill>
                  <a:srgbClr val="f0b854"/>
                </a:solidFill>
                <a:latin typeface="Monotype Corsiva"/>
              </a:rPr>
              <a:t>Взаимодействие</a:t>
            </a: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 </a:t>
            </a:r>
            <a:r>
              <a:rPr b="1" i="1" lang="de-DE" sz="5400" spc="-1" strike="noStrike">
                <a:solidFill>
                  <a:srgbClr val="f0b854"/>
                </a:solidFill>
                <a:latin typeface="Monotype Corsiva"/>
              </a:rPr>
              <a:t>с родителями</a:t>
            </a: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просматривание родителей с детьми телепередач с участием кукольных персонажей</a:t>
            </a:r>
            <a:r>
              <a:rPr b="0" lang="ru-RU" sz="3500" spc="-1" strike="noStrike">
                <a:solidFill>
                  <a:srgbClr val="2f1311"/>
                </a:solidFill>
                <a:latin typeface="Monotype Corsiva"/>
              </a:rPr>
              <a:t>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совместная художественная деятельность (рисование, аппликация, конструирование) на тему «Театр и куклы»</a:t>
            </a:r>
            <a:r>
              <a:rPr b="0" lang="ru-RU" sz="3500" spc="-1" strike="noStrike">
                <a:solidFill>
                  <a:srgbClr val="2f1311"/>
                </a:solidFill>
                <a:latin typeface="Monotype Corsiva"/>
              </a:rPr>
              <a:t>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организация домашних кукольных представлений.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User</dc:creator>
  <dc:description/>
  <dc:language>en-US</dc:language>
  <cp:lastModifiedBy>Сетлана</cp:lastModifiedBy>
  <dcterms:modified xsi:type="dcterms:W3CDTF">2021-05-29T13:16:42Z</dcterms:modified>
  <cp:revision>33</cp:revision>
  <dc:subject/>
  <dc:title>Проект по театрализованной деятельности во 2 младшей группе «В гостях у сказки»</dc:title>
</cp:coreProperties>
</file>