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3.wmf" ContentType="image/x-wmf"/>
  <Override PartName="/ppt/media/image2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3.jpeg" ContentType="image/jpeg"/>
  <Override PartName="/ppt/media/image15.png" ContentType="image/pn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F16-169A-4419-B1BF-EC484017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6EB-D69C-4A43-B7D3-CD27A01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183-D2E2-43B5-BACA-58A10C7B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B99-C537-41E6-9CAB-1EA33428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DF7-8BE7-4FF4-ABFF-9C27665A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1C7-959E-4E57-ABFA-17F64E77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FE2-BBAE-423E-BCA4-2EED7B8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C54-0577-44C7-A65B-2E48404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93C-C07C-4D78-9ED7-4D6BFAF8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09B-D5F6-4F98-8FFF-D48A516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FAD-95B9-4BE1-B3C1-FF13B43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0EA-C05C-4B52-B5DF-F8EF134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0E5-7FBF-453C-A969-8B5B8B19F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ages.google.ru/imgres?imgurl=http://easycat.ru/img/lev/lion1.jpg&amp;imgrefurl=http://easycat.ru/lev.html&amp;usg=__Vd-ArAbfEHtMCV7UeaTg5bHUkJ0=&amp;h=268&amp;w=320&amp;sz=23&amp;hl=ru&amp;start=4&amp;tbnid=cXsx8xSnoNL1_M:&amp;tbnh=99&amp;tbnw=118&amp;prev=/images%3Fq%3D%25D0%25BB%25D0%25B5%25D0%25B2%26gbv%3D2%26hl%3Dru%26newwindow%3D1%26rlz%3D1T4SKPB_ru___RU305%26sa%3DG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ariadna-hobby.ru/data/home/izdeliya/photo/podushka_sobaka.jpg&amp;imgrefurl=http://www.ariadna-hobby.ru/ru/detail/sendvalues/izdeliya/29/&amp;usg=__8cestDlPDtd3i9oaW4UTbCNIBHs=&amp;h=409&amp;w=450&amp;sz=50&amp;hl=ru&amp;start=15&amp;tbnid=7D3sUamN4S1JzM:&amp;tbnh=115&amp;tbnw=127&amp;prev=/images%3Fq%3D%25D1%2581%25D0%25BE%25D0%25B1%25D0%25B0%25D0%25BA%25D0%25B0%26gbv%3D2%26hl%3Dru%26newwindow%3D1%26rlz%3D1T4SKPB_ru___RU305%26sa%3DG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ru/imgres?imgurl=http://www.trky.ru/wwpic/174255026547a75f0b1cb4c&amp;imgrefurl=http://trky.ru/&amp;usg=__UQD0bTE1YNuN5yFN5zyq5kp7BbM=&amp;h=600&amp;w=800&amp;sz=124&amp;hl=ru&amp;start=12&amp;tbnid=GemsrIZIJVAXXM:&amp;tbnh=107&amp;tbnw=143&amp;prev=/images%3Fq%3D%25D1%2580%25D0%25B5%25D0%25BA%25D0%25B0%2B%25D0%25A2%25D0%25B8%25D0%25B3%25D1%2580%26gbv%3D2%26hl%3Dru%26newwindow%3D1%26rlz%3D1T4SKPB_ru___RU305%26sa%3DG" TargetMode="External"/><Relationship Id="rId8" Type="http://schemas.openxmlformats.org/officeDocument/2006/relationships/image" Target="../media/image31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646000" y="716040"/>
            <a:ext cx="38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Урок русского языка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2 класс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203640" y="260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6" descr="рыжик"/>
          <p:cNvPicPr/>
          <p:nvPr/>
        </p:nvPicPr>
        <p:blipFill>
          <a:blip r:embed="rId3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0010530_n"/>
          <p:cNvPicPr/>
          <p:nvPr/>
        </p:nvPicPr>
        <p:blipFill>
          <a:blip r:embed="rId4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88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Р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059280" y="3284640"/>
            <a:ext cx="58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под ёлкой можно найти много рыжиков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93" name="Picture 9" descr="J0233040"/>
          <p:cNvPicPr/>
          <p:nvPr/>
        </p:nvPicPr>
        <p:blipFill>
          <a:blip r:embed="rId2"/>
          <a:stretch/>
        </p:blipFill>
        <p:spPr>
          <a:xfrm>
            <a:off x="324000" y="1197000"/>
            <a:ext cx="1836720" cy="1825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роза"/>
          <p:cNvPicPr/>
          <p:nvPr/>
        </p:nvPicPr>
        <p:blipFill>
          <a:blip r:embed="rId3"/>
          <a:stretch/>
        </p:blipFill>
        <p:spPr>
          <a:xfrm>
            <a:off x="324000" y="3213000"/>
            <a:ext cx="1800000" cy="17398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95" name="Picture 4" descr="Лещенко"/>
          <p:cNvPicPr/>
          <p:nvPr/>
        </p:nvPicPr>
        <p:blipFill>
          <a:blip r:embed="rId4"/>
          <a:stretch/>
        </p:blipFill>
        <p:spPr>
          <a:xfrm>
            <a:off x="4572000" y="1125360"/>
            <a:ext cx="2016000" cy="17290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96" name="Picture 6" descr="lion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068640"/>
            <a:ext cx="2087640" cy="18716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97" name="WordArt 4"/>
          <p:cNvSpPr txBox="1"/>
          <p:nvPr/>
        </p:nvSpPr>
        <p:spPr>
          <a:xfrm>
            <a:off x="2340000" y="33336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2268360" y="1844640"/>
            <a:ext cx="2016360" cy="720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оза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2268360" y="3789360"/>
            <a:ext cx="2016360" cy="720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оза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6732720" y="1773360"/>
            <a:ext cx="2016000" cy="72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Лев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6804000" y="3933720"/>
            <a:ext cx="20160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лев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042920" y="551664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саду  . оза поливала  . озу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77920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315480" y="5516640"/>
            <a:ext cx="4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106" name="Picture 9" descr="podushka_soba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2232000" cy="20210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7" name="Picture 4" descr="шарик"/>
          <p:cNvPicPr/>
          <p:nvPr/>
        </p:nvPicPr>
        <p:blipFill>
          <a:blip r:embed="rId4"/>
          <a:stretch/>
        </p:blipFill>
        <p:spPr>
          <a:xfrm>
            <a:off x="250920" y="3141720"/>
            <a:ext cx="2232000" cy="18572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8" name="Picture 7" descr="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981000"/>
            <a:ext cx="2305080" cy="19432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9" name="Picture 5" descr="174255026547a75f0b1cb4c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068640"/>
            <a:ext cx="2376720" cy="19288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110" name="WordArt 4"/>
          <p:cNvSpPr txBox="1"/>
          <p:nvPr/>
        </p:nvSpPr>
        <p:spPr>
          <a:xfrm>
            <a:off x="2340000" y="260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2556000" y="1557360"/>
            <a:ext cx="2016000" cy="72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Шар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56000" y="3645000"/>
            <a:ext cx="20160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шар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7093080" y="1484280"/>
            <a:ext cx="1728720" cy="72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тиг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7164360" y="3860640"/>
            <a:ext cx="1728720" cy="7207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Тиг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79280" y="5229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оздушный – …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храняет дом - …    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572000" y="5229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ка – …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хищный зверь - …    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крепле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179280" y="5373720"/>
            <a:ext cx="4248360" cy="934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то обозначают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эти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9680" y="1557360"/>
            <a:ext cx="381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Г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ена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Р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екс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щенок    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ош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П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шок 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Т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з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79280" y="4869000"/>
            <a:ext cx="4248360" cy="1800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Допиши кличку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животным. Составь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едложение и запиши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его.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008880" y="2133720"/>
            <a:ext cx="22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хтар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017160" y="270828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ань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73280" y="407664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ушок и Тузик подружились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25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6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kniga12"/>
          <p:cNvPicPr/>
          <p:nvPr/>
        </p:nvPicPr>
        <p:blipFill>
          <a:blip r:embed="rId1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Взаимопровер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4" descr="53014"/>
          <p:cNvPicPr/>
          <p:nvPr/>
        </p:nvPicPr>
        <p:blipFill>
          <a:blip r:embed="rId4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42" name="Text Box 5"/>
          <p:cNvSpPr/>
          <p:nvPr/>
        </p:nvSpPr>
        <p:spPr>
          <a:xfrm>
            <a:off x="250920" y="2060640"/>
            <a:ext cx="8642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Bookman Old Style"/>
              </a:rPr>
              <a:t>Летом Катя и Иван жили в деревне Сосновка. По утрам Катя кормила кошку Мурку, а Иван – собаку Рекса. Во дворе у дедушки Гриши жили корова Бурёнка, коза Милка и петух Крикун.</a:t>
            </a:r>
            <a:endParaRPr b="1" i="1" lang="en-US" sz="39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24000" y="3500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еобходимо знать о слове, чтобы правильно его написать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262728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Минутка чистописания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п"/>
          <p:cNvPicPr/>
          <p:nvPr/>
        </p:nvPicPr>
        <p:blipFill>
          <a:blip r:embed="rId3"/>
          <a:stretch/>
        </p:blipFill>
        <p:spPr>
          <a:xfrm>
            <a:off x="250920" y="1628640"/>
            <a:ext cx="3889440" cy="271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6" descr="т"/>
          <p:cNvPicPr/>
          <p:nvPr/>
        </p:nvPicPr>
        <p:blipFill>
          <a:blip r:embed="rId4"/>
          <a:stretch/>
        </p:blipFill>
        <p:spPr>
          <a:xfrm>
            <a:off x="4572000" y="1628640"/>
            <a:ext cx="4103640" cy="27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7" descr="г"/>
          <p:cNvPicPr/>
          <p:nvPr/>
        </p:nvPicPr>
        <p:blipFill>
          <a:blip r:embed="rId5"/>
          <a:stretch/>
        </p:blipFill>
        <p:spPr>
          <a:xfrm>
            <a:off x="250920" y="4351320"/>
            <a:ext cx="3889440" cy="2506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24000" y="177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треляный      …      , считать                              …         ,      …        на хвосте принесла, как      …        на сене.</a:t>
            </a:r>
            <a:endParaRPr b="1" i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476880" y="1700280"/>
            <a:ext cx="22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й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43880" y="2276640"/>
            <a:ext cx="16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рон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31680" y="2276640"/>
            <a:ext cx="19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397040" y="2852640"/>
            <a:ext cx="19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а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250920" y="4581360"/>
            <a:ext cx="4248000" cy="7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огда так говорят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50920" y="4581360"/>
            <a:ext cx="4248000" cy="93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 какой бук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ы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764040" y="38577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р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79280" y="5084640"/>
            <a:ext cx="4392720" cy="13575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128520"/>
            <a:ext cx="4608360" cy="1998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5"/>
          <p:cNvSpPr/>
          <p:nvPr/>
        </p:nvSpPr>
        <p:spPr>
          <a:xfrm>
            <a:off x="5148360" y="2708280"/>
            <a:ext cx="3714480" cy="1357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6480" y="914400"/>
            <a:ext cx="4992480" cy="5919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3"/>
          <a:stretch/>
        </p:blipFill>
        <p:spPr>
          <a:xfrm>
            <a:off x="5151600" y="914400"/>
            <a:ext cx="3206520" cy="798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4"/>
          <a:stretch/>
        </p:blipFill>
        <p:spPr>
          <a:xfrm>
            <a:off x="5151600" y="1487520"/>
            <a:ext cx="38163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5"/>
          <a:stretch/>
        </p:blipFill>
        <p:spPr>
          <a:xfrm>
            <a:off x="5145120" y="255420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633840"/>
            <a:ext cx="371304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7"/>
          <a:stretch/>
        </p:blipFill>
        <p:spPr>
          <a:xfrm>
            <a:off x="5218200" y="4200480"/>
            <a:ext cx="3213000" cy="79848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128520"/>
            <a:ext cx="4608360" cy="1998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42920" y="17146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а животного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должна соответствовать цвету, внешним особенностям.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лев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Лев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1"/>
          <p:cNvPicPr/>
          <p:nvPr/>
        </p:nvPicPr>
        <p:blipFill>
          <a:blip r:embed="rId1"/>
          <a:stretch/>
        </p:blipFill>
        <p:spPr>
          <a:xfrm>
            <a:off x="3419640" y="1413000"/>
            <a:ext cx="3095640" cy="28969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80" name="Picture 9" descr="Орёл"/>
          <p:cNvPicPr/>
          <p:nvPr/>
        </p:nvPicPr>
        <p:blipFill>
          <a:blip r:embed="rId2"/>
          <a:stretch/>
        </p:blipFill>
        <p:spPr>
          <a:xfrm>
            <a:off x="179280" y="189000"/>
            <a:ext cx="2971800" cy="3024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81" name="WordArt 4"/>
          <p:cNvSpPr txBox="1"/>
          <p:nvPr/>
        </p:nvSpPr>
        <p:spPr>
          <a:xfrm>
            <a:off x="3203640" y="40464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6659640" y="2708280"/>
            <a:ext cx="2340000" cy="72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рёл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250920" y="3500280"/>
            <a:ext cx="2663640" cy="72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рёл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50920" y="5013360"/>
            <a:ext cx="4248000" cy="12952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 какой бук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ы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Почему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Админ</cp:lastModifiedBy>
  <dcterms:modified xsi:type="dcterms:W3CDTF">2012-11-09T07:27:55Z</dcterms:modified>
  <cp:revision>16</cp:revision>
  <dc:subject/>
  <dc:title>Слайд 1</dc:title>
</cp:coreProperties>
</file>