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gif" ContentType="image/gif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91F-1E19-4BF1-89B1-A50948DB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A2C-239A-4357-8644-6D2156BE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8DA-65A6-40C7-8FF0-A9FC1280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57C-24B7-49F2-817E-49D2CBE6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236-8556-4D86-B8B7-CE5C7B6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CB7-61F4-49A1-95F1-7A2A89B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FFF-E1DB-413F-973C-3F24621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A80-1657-4D55-BE24-2DD7D27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40E-6B5F-46A2-8076-AC0D723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AB4-8D32-439D-832B-92A482C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8CF-B80D-4011-BC35-66413A3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1D7-5D84-416C-9F3E-723ED7D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25C-7EBB-4410-9617-C2D41365FB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3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12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0.xml"/><Relationship Id="rId4" Type="http://schemas.openxmlformats.org/officeDocument/2006/relationships/image" Target="../media/image9.jpeg"/><Relationship Id="rId5" Type="http://schemas.openxmlformats.org/officeDocument/2006/relationships/slide" Target="slide9.xml"/><Relationship Id="rId6" Type="http://schemas.openxmlformats.org/officeDocument/2006/relationships/image" Target="../media/image10.jpeg"/><Relationship Id="rId7" Type="http://schemas.openxmlformats.org/officeDocument/2006/relationships/slide" Target="slide8.xml"/><Relationship Id="rId8" Type="http://schemas.openxmlformats.org/officeDocument/2006/relationships/image" Target="../media/image11.jpeg"/><Relationship Id="rId9" Type="http://schemas.openxmlformats.org/officeDocument/2006/relationships/slide" Target="slide10.xml"/><Relationship Id="rId10" Type="http://schemas.openxmlformats.org/officeDocument/2006/relationships/image" Target="../media/image12.jpeg"/><Relationship Id="rId11" Type="http://schemas.openxmlformats.org/officeDocument/2006/relationships/slide" Target="slide13.xml"/><Relationship Id="rId12" Type="http://schemas.openxmlformats.org/officeDocument/2006/relationships/image" Target="../media/image13.jpeg"/><Relationship Id="rId13" Type="http://schemas.openxmlformats.org/officeDocument/2006/relationships/slide" Target="slide12.xml"/><Relationship Id="rId14" Type="http://schemas.openxmlformats.org/officeDocument/2006/relationships/image" Target="../media/image14.jpeg"/><Relationship Id="rId15" Type="http://schemas.openxmlformats.org/officeDocument/2006/relationships/slide" Target="slide11.xml"/><Relationship Id="rId16" Type="http://schemas.openxmlformats.org/officeDocument/2006/relationships/image" Target="../media/image15.jpeg"/><Relationship Id="rId17" Type="http://schemas.openxmlformats.org/officeDocument/2006/relationships/slide" Target="slide16.xml"/><Relationship Id="rId18" Type="http://schemas.openxmlformats.org/officeDocument/2006/relationships/image" Target="../media/image16.jpeg"/><Relationship Id="rId19" Type="http://schemas.openxmlformats.org/officeDocument/2006/relationships/slide" Target=""/><Relationship Id="rId20" Type="http://schemas.openxmlformats.org/officeDocument/2006/relationships/image" Target="../media/image17.jpeg"/><Relationship Id="rId21" Type="http://schemas.openxmlformats.org/officeDocument/2006/relationships/slide" Target="slide14.xml"/><Relationship Id="rId22" Type="http://schemas.openxmlformats.org/officeDocument/2006/relationships/image" Target="../media/image18.jpeg"/><Relationship Id="rId23" Type="http://schemas.openxmlformats.org/officeDocument/2006/relationships/slide" Target="slide17.xml"/><Relationship Id="rId24" Type="http://schemas.openxmlformats.org/officeDocument/2006/relationships/image" Target="../media/image19.jpeg"/><Relationship Id="rId25" Type="http://schemas.openxmlformats.org/officeDocument/2006/relationships/slide" Target="slide18.xml"/><Relationship Id="rId26" Type="http://schemas.openxmlformats.org/officeDocument/2006/relationships/image" Target="../media/image20.jpe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50920" y="1197000"/>
            <a:ext cx="532440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А-ГЕРО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ЕНН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3" descr="Face2"/>
          <p:cNvPicPr/>
          <p:nvPr/>
        </p:nvPicPr>
        <p:blipFill>
          <a:blip r:embed="rId1"/>
          <a:stretch/>
        </p:blipFill>
        <p:spPr>
          <a:xfrm>
            <a:off x="5940360" y="1916280"/>
            <a:ext cx="2830680" cy="43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003 День Победы.mp3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2521080" y="189000"/>
            <a:ext cx="42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ЕВ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6"/>
          <p:cNvSpPr/>
          <p:nvPr/>
        </p:nvSpPr>
        <p:spPr>
          <a:xfrm>
            <a:off x="1258920" y="907920"/>
            <a:ext cx="640872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476360" y="836640"/>
            <a:ext cx="597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778 дней столица Украины была оккупирована немецкими захватчиками. Подвиг Киева увековечен в присвоении ему звания Города-Героя. В городе был воздвигнут Мемориальный комплекс "Национальный музей истории Великой Отечественной войны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0" y="5076720"/>
            <a:ext cx="7057800" cy="1780920"/>
            <a:chOff x="0" y="5076720"/>
            <a:chExt cx="7057800" cy="1780920"/>
          </a:xfrm>
        </p:grpSpPr>
        <p:pic>
          <p:nvPicPr>
            <p:cNvPr id="196" name="Picture 9" descr="Киев_Музей II Мировой войны"/>
            <p:cNvPicPr/>
            <p:nvPr/>
          </p:nvPicPr>
          <p:blipFill>
            <a:blip r:embed="rId2"/>
            <a:stretch/>
          </p:blipFill>
          <p:spPr>
            <a:xfrm>
              <a:off x="0" y="5076720"/>
              <a:ext cx="2822400" cy="1780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7" name="WordArt 10"/>
            <p:cNvSpPr txBox="1"/>
            <p:nvPr/>
          </p:nvSpPr>
          <p:spPr>
            <a:xfrm>
              <a:off x="3097080" y="5652720"/>
              <a:ext cx="3960720" cy="80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узей II Мировой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войны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98" name="Text Box 11">
            <a:hlinkClick r:id="rId3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24000" y="5086440"/>
            <a:ext cx="5616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995640" y="1198440"/>
            <a:ext cx="4753080" cy="374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11640" y="1773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У стен советской столицы  германские войска потерпели своё первое крупное поражение с начала бое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1763640" y="189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В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395280" y="1052640"/>
            <a:ext cx="3313080" cy="2989080"/>
            <a:chOff x="395280" y="1052640"/>
            <a:chExt cx="3313080" cy="2989080"/>
          </a:xfrm>
        </p:grpSpPr>
        <p:pic>
          <p:nvPicPr>
            <p:cNvPr id="204" name="Picture 9" descr="Москва_Кремль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3313080" cy="2413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05" name="WordArt 10"/>
            <p:cNvSpPr txBox="1"/>
            <p:nvPr/>
          </p:nvSpPr>
          <p:spPr>
            <a:xfrm>
              <a:off x="1116000" y="1052640"/>
              <a:ext cx="2232000" cy="45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Кремль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06" name="Text Box 11"/>
          <p:cNvSpPr/>
          <p:nvPr/>
        </p:nvSpPr>
        <p:spPr>
          <a:xfrm>
            <a:off x="396720" y="530208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Битва под Москвой продолжалась около 7 месяцев (203 дня и ночи) - с 30 сентября 1941 года по 20 апреля 194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Золотая звезда"/>
          <p:cNvPicPr/>
          <p:nvPr/>
        </p:nvPicPr>
        <p:blipFill>
          <a:blip r:embed="rId2"/>
          <a:stretch/>
        </p:blipFill>
        <p:spPr>
          <a:xfrm>
            <a:off x="8388360" y="90360"/>
            <a:ext cx="614520" cy="1177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02-Песня защитников Москвы(Карснознаменный ансамбль).WAV" descr=""/>
          <p:cNvPicPr/>
          <p:nvPr/>
        </p:nvPicPr>
        <p:blipFill>
          <a:blip r:embed="rId3"/>
          <a:stretch/>
        </p:blipFill>
        <p:spPr>
          <a:xfrm>
            <a:off x="6588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1280" y="4654440"/>
            <a:ext cx="493236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476360" y="907920"/>
            <a:ext cx="648036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47640" y="1052640"/>
            <a:ext cx="64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 время трехлетней оккупации в Минске и его окрестностях немцы уничтожили более 400 тысяч человек, а сам город превратили в руины и пепел. Но Минск не сдался. В 1974 году Минск получил звание «Город-герой».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50920" y="515772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Был открыт 8 мая 198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324000" y="3573360"/>
            <a:ext cx="7919640" cy="2808000"/>
            <a:chOff x="324000" y="3573360"/>
            <a:chExt cx="7919640" cy="2808000"/>
          </a:xfrm>
        </p:grpSpPr>
        <p:pic>
          <p:nvPicPr>
            <p:cNvPr id="217" name="Picture 11" descr="Минск_Город-герой"/>
            <p:cNvPicPr/>
            <p:nvPr/>
          </p:nvPicPr>
          <p:blipFill>
            <a:blip r:embed="rId2"/>
            <a:stretch/>
          </p:blipFill>
          <p:spPr>
            <a:xfrm>
              <a:off x="5582520" y="3573360"/>
              <a:ext cx="2661120" cy="2808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8" name="WordArt 12"/>
            <p:cNvSpPr txBox="1"/>
            <p:nvPr/>
          </p:nvSpPr>
          <p:spPr>
            <a:xfrm>
              <a:off x="324000" y="3808440"/>
              <a:ext cx="4876920" cy="86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рхитектурно-скульптурный комплекс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Минск - город-герой". 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3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ЕРЧ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/>
          <p:cNvSpPr/>
          <p:nvPr/>
        </p:nvSpPr>
        <p:spPr>
          <a:xfrm>
            <a:off x="1187280" y="1052640"/>
            <a:ext cx="7056720" cy="46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258920" y="1773360"/>
            <a:ext cx="7058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Город Керчь был освобожд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11 апреля 194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 героизм, мужество в Великой Отечественной войне городу  присвоено 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«Города-героя» в 1975 году.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395280" y="4957920"/>
            <a:ext cx="6840720" cy="1711080"/>
            <a:chOff x="395280" y="4957920"/>
            <a:chExt cx="6840720" cy="1711080"/>
          </a:xfrm>
        </p:grpSpPr>
        <p:pic>
          <p:nvPicPr>
            <p:cNvPr id="225" name="Picture 9" descr="Керчь_Аджимушкайский мемориал"/>
            <p:cNvPicPr/>
            <p:nvPr/>
          </p:nvPicPr>
          <p:blipFill>
            <a:blip r:embed="rId2"/>
            <a:srcRect l="0" t="6717" r="0" b="0"/>
            <a:stretch/>
          </p:blipFill>
          <p:spPr>
            <a:xfrm>
              <a:off x="395280" y="4957920"/>
              <a:ext cx="2592360" cy="1711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26" name="WordArt 10"/>
            <p:cNvSpPr txBox="1"/>
            <p:nvPr/>
          </p:nvSpPr>
          <p:spPr>
            <a:xfrm>
              <a:off x="3348000" y="5877000"/>
              <a:ext cx="388800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джимушкайский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емориал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27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187280" y="1052640"/>
            <a:ext cx="6697800" cy="48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547640" y="189000"/>
            <a:ext cx="5867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ОРОССИЙ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476360" y="1125360"/>
            <a:ext cx="6191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За доблесть и мужество Новороссийску было присвоено звание «Города-геро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День освобождения города от захватч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16 сентября 1943 г. – традицио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тмечается как День рождения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Nowr3"/>
          <p:cNvPicPr/>
          <p:nvPr/>
        </p:nvPicPr>
        <p:blipFill>
          <a:blip r:embed="rId2"/>
          <a:stretch/>
        </p:blipFill>
        <p:spPr>
          <a:xfrm>
            <a:off x="4788000" y="3716280"/>
            <a:ext cx="410364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3" name="Picture 9" descr="img"/>
          <p:cNvPicPr/>
          <p:nvPr/>
        </p:nvPicPr>
        <p:blipFill>
          <a:blip r:embed="rId3"/>
          <a:stretch/>
        </p:blipFill>
        <p:spPr>
          <a:xfrm>
            <a:off x="250920" y="3811680"/>
            <a:ext cx="3960720" cy="2930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4" name="Text Box 10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2521080" y="189000"/>
            <a:ext cx="449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Л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Picture 5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1187280" y="1052640"/>
            <a:ext cx="6697800" cy="38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476360" y="1268280"/>
            <a:ext cx="6191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В суровые дни войны Тула выстоя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Враг не смог захватить 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За мужество и героизм проявленную туляками, город был награжден в 1976 году званием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468360" y="5084640"/>
            <a:ext cx="7226640" cy="1666080"/>
            <a:chOff x="468360" y="5084640"/>
            <a:chExt cx="7226640" cy="1666080"/>
          </a:xfrm>
        </p:grpSpPr>
        <p:pic>
          <p:nvPicPr>
            <p:cNvPr id="240" name="Picture 9" descr="Tul"/>
            <p:cNvPicPr/>
            <p:nvPr/>
          </p:nvPicPr>
          <p:blipFill>
            <a:blip r:embed="rId2"/>
            <a:srcRect l="6820" t="8874" r="68209" b="16639"/>
            <a:stretch/>
          </p:blipFill>
          <p:spPr>
            <a:xfrm>
              <a:off x="468360" y="5084640"/>
              <a:ext cx="2230560" cy="1511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41" name="Text Box 10"/>
            <p:cNvSpPr/>
            <p:nvPr/>
          </p:nvSpPr>
          <p:spPr>
            <a:xfrm>
              <a:off x="3273120" y="5084640"/>
              <a:ext cx="442188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Тула веками оружье ковала,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Стала похожа сама на ружье.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Слышится звон боевого металла</a:t>
              </a:r>
              <a:br>
                <a:rPr sz="2000"/>
              </a:b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В древних названиях улиц е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808080"/>
                  </a:solidFill>
                  <a:latin typeface="Arial"/>
                </a:rPr>
                <a:t>В. Лазар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826920" y="907920"/>
            <a:ext cx="7561440" cy="52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476360" y="189000"/>
            <a:ext cx="554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РМА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1042920" y="981000"/>
            <a:ext cx="715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Фашистская Германия пыталась за 3 дня захватить Мурман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Планы врага были сор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Мурманску было присвоено в 1985 году высокое звание - "Город-Герой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179280" y="3284640"/>
            <a:ext cx="5111640" cy="3257280"/>
            <a:chOff x="179280" y="3284640"/>
            <a:chExt cx="5111640" cy="3257280"/>
          </a:xfrm>
        </p:grpSpPr>
        <p:pic>
          <p:nvPicPr>
            <p:cNvPr id="249" name="Picture 10" descr="Мурманск_Памятник Анатолию Бредову"/>
            <p:cNvPicPr/>
            <p:nvPr/>
          </p:nvPicPr>
          <p:blipFill>
            <a:blip r:embed="rId2"/>
            <a:stretch/>
          </p:blipFill>
          <p:spPr>
            <a:xfrm>
              <a:off x="179280" y="3284640"/>
              <a:ext cx="2003400" cy="3257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50" name="WordArt 11"/>
            <p:cNvSpPr txBox="1"/>
            <p:nvPr/>
          </p:nvSpPr>
          <p:spPr>
            <a:xfrm>
              <a:off x="2224080" y="5923800"/>
              <a:ext cx="3066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Анатолию Бредову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826920" y="907920"/>
            <a:ext cx="7345440" cy="439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2195640" y="189000"/>
            <a:ext cx="48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ОЛЕНСК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900000" y="112536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моленское сражение продолжалось 2 месяца: с 10 июля по 10 сентября 1941 года. В результате сражения был сорван гитлеровский план «молниеносной вой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моленску было присвоено звание</a:t>
            </a:r>
            <a:br>
              <a:rPr sz="2400"/>
            </a:b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«Город-герой» в 198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79280" y="4221000"/>
            <a:ext cx="6264000" cy="2454120"/>
            <a:chOff x="179280" y="4221000"/>
            <a:chExt cx="6264000" cy="2454120"/>
          </a:xfrm>
        </p:grpSpPr>
        <p:pic>
          <p:nvPicPr>
            <p:cNvPr id="256" name="Picture 9" descr="Смоленск_Памятник защитникам"/>
            <p:cNvPicPr/>
            <p:nvPr/>
          </p:nvPicPr>
          <p:blipFill>
            <a:blip r:embed="rId2"/>
            <a:stretch/>
          </p:blipFill>
          <p:spPr>
            <a:xfrm>
              <a:off x="179280" y="4221000"/>
              <a:ext cx="1770120" cy="2454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57" name="WordArt 10"/>
            <p:cNvSpPr txBox="1"/>
            <p:nvPr/>
          </p:nvSpPr>
          <p:spPr>
            <a:xfrm>
              <a:off x="2700720" y="5623920"/>
              <a:ext cx="3742560" cy="79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защитникам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258" name="Text Box 11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2627280" y="836640"/>
            <a:ext cx="5759640" cy="453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1836720" y="189000"/>
            <a:ext cx="54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ЕСТСКАЯ КРЕПОСТ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700360" y="112536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Немецкое командование планировало захватить в первые часы войны г. Брест и Брестскую креп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24000" y="2349360"/>
            <a:ext cx="8495640" cy="4186080"/>
            <a:chOff x="324000" y="2349360"/>
            <a:chExt cx="8495640" cy="4186080"/>
          </a:xfrm>
        </p:grpSpPr>
        <p:pic>
          <p:nvPicPr>
            <p:cNvPr id="265" name="Picture 10" descr="БК_Главный монумент и вечный огонь"/>
            <p:cNvPicPr/>
            <p:nvPr/>
          </p:nvPicPr>
          <p:blipFill>
            <a:blip r:embed="rId2"/>
            <a:stretch/>
          </p:blipFill>
          <p:spPr>
            <a:xfrm>
              <a:off x="324000" y="2349360"/>
              <a:ext cx="3380400" cy="4186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6" name="WordArt 11"/>
            <p:cNvSpPr txBox="1"/>
            <p:nvPr/>
          </p:nvSpPr>
          <p:spPr>
            <a:xfrm>
              <a:off x="4165920" y="5587200"/>
              <a:ext cx="4653720" cy="79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Главный монумент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и вечный огонь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pic>
        <p:nvPicPr>
          <p:cNvPr id="267" name="13-Алеша(М.Николаева,Г.Кордов).WAV" descr=""/>
          <p:cNvPicPr/>
          <p:nvPr/>
        </p:nvPicPr>
        <p:blipFill>
          <a:blip r:embed="rId3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1547640" y="836640"/>
            <a:ext cx="683928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836720" y="189000"/>
            <a:ext cx="54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ЕСТСКАЯ КРЕПОСТ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0" name="Picture 6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692360" y="1268280"/>
            <a:ext cx="65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борона Брестской крепости - пример мужества и стойкости советского народа в борьбе за свободу и независимость Родины, яркое проявление нерушимого единства народов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08.05.1965 года крепости присвоено почетное звание "Крепость-герой" с вручением ордена Ленина и медали "Золотая Звезд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На территории крепости создан музей обороны Брестской креп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9"/>
          <p:cNvGrpSpPr/>
          <p:nvPr/>
        </p:nvGrpSpPr>
        <p:grpSpPr>
          <a:xfrm>
            <a:off x="250920" y="4508640"/>
            <a:ext cx="6913440" cy="2092320"/>
            <a:chOff x="250920" y="4508640"/>
            <a:chExt cx="6913440" cy="2092320"/>
          </a:xfrm>
        </p:grpSpPr>
        <p:sp>
          <p:nvSpPr>
            <p:cNvPr id="274" name="WordArt 10"/>
            <p:cNvSpPr txBox="1"/>
            <p:nvPr/>
          </p:nvSpPr>
          <p:spPr>
            <a:xfrm>
              <a:off x="3851280" y="5734080"/>
              <a:ext cx="3313080" cy="67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скульптура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Жажда"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  <p:pic>
          <p:nvPicPr>
            <p:cNvPr id="275" name="Picture 11" descr="БК_скульптура жажда"/>
            <p:cNvPicPr/>
            <p:nvPr/>
          </p:nvPicPr>
          <p:blipFill>
            <a:blip r:embed="rId2"/>
            <a:stretch/>
          </p:blipFill>
          <p:spPr>
            <a:xfrm>
              <a:off x="250920" y="4508640"/>
              <a:ext cx="3240000" cy="2092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549440" y="1197000"/>
            <a:ext cx="6335640" cy="3240000"/>
          </a:xfrm>
          <a:prstGeom prst="foldedCorner">
            <a:avLst>
              <a:gd name="adj" fmla="val 25731"/>
            </a:avLst>
          </a:prstGeom>
          <a:blipFill rotWithShape="0">
            <a:blip r:embed="rId1">
              <a:alphaModFix amt="5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76360" y="1413000"/>
            <a:ext cx="64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Высшая степень отличия, присваиваемая Президиумом Верховного Совета СССР городам за массовый героизм и мужество его защитников, проявленные в Великой Отечественной войне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187280" y="18900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-ГЕРО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5229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ервыми городами-героями были наз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Ленинград, Сталинград, Севастополь, Од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5"/>
          <p:cNvSpPr txBox="1"/>
          <p:nvPr/>
        </p:nvSpPr>
        <p:spPr>
          <a:xfrm>
            <a:off x="2484360" y="2708280"/>
            <a:ext cx="431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А-ГЕРО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3747600" y="260280"/>
            <a:ext cx="1759680" cy="1451160"/>
            <a:chOff x="3747600" y="260280"/>
            <a:chExt cx="1759680" cy="1451160"/>
          </a:xfrm>
        </p:grpSpPr>
        <p:pic>
          <p:nvPicPr>
            <p:cNvPr id="99" name="Picture 7" descr="Ленинград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995640" y="835200"/>
              <a:ext cx="1270080" cy="876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0" name="Text Box 8"/>
            <p:cNvSpPr/>
            <p:nvPr/>
          </p:nvSpPr>
          <p:spPr>
            <a:xfrm>
              <a:off x="3747600" y="2602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ЛЕНИНГР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1812600" y="620640"/>
            <a:ext cx="2183400" cy="1368360"/>
            <a:chOff x="1812600" y="620640"/>
            <a:chExt cx="2183400" cy="1368360"/>
          </a:xfrm>
        </p:grpSpPr>
        <p:pic>
          <p:nvPicPr>
            <p:cNvPr id="102" name="Picture 10" descr="Севастополь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208240" y="1125360"/>
              <a:ext cx="1270080" cy="863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3" name="Text Box 11"/>
            <p:cNvSpPr/>
            <p:nvPr/>
          </p:nvSpPr>
          <p:spPr>
            <a:xfrm>
              <a:off x="1812600" y="62064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СЕВАСТОП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5736240" y="4508640"/>
            <a:ext cx="1282680" cy="1772640"/>
            <a:chOff x="5736240" y="4508640"/>
            <a:chExt cx="1282680" cy="1772640"/>
          </a:xfrm>
        </p:grpSpPr>
        <p:pic>
          <p:nvPicPr>
            <p:cNvPr id="105" name="Picture 13" descr="Одесса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807160" y="5011560"/>
              <a:ext cx="1193760" cy="1269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6" name="Text Box 14"/>
            <p:cNvSpPr/>
            <p:nvPr/>
          </p:nvSpPr>
          <p:spPr>
            <a:xfrm>
              <a:off x="573624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ОДЕС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435640" y="620640"/>
            <a:ext cx="1764000" cy="1455840"/>
            <a:chOff x="5435640" y="620640"/>
            <a:chExt cx="1764000" cy="1455840"/>
          </a:xfrm>
        </p:grpSpPr>
        <p:pic>
          <p:nvPicPr>
            <p:cNvPr id="108" name="Picture 16" descr="Волгоград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724360" y="1123920"/>
              <a:ext cx="1270080" cy="952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Text Box 17"/>
            <p:cNvSpPr/>
            <p:nvPr/>
          </p:nvSpPr>
          <p:spPr>
            <a:xfrm>
              <a:off x="5435640" y="6206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ВОЛГОГР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8"/>
          <p:cNvGrpSpPr/>
          <p:nvPr/>
        </p:nvGrpSpPr>
        <p:grpSpPr>
          <a:xfrm>
            <a:off x="3675240" y="4827600"/>
            <a:ext cx="1904760" cy="1770120"/>
            <a:chOff x="3675240" y="4827600"/>
            <a:chExt cx="1904760" cy="1770120"/>
          </a:xfrm>
        </p:grpSpPr>
        <p:pic>
          <p:nvPicPr>
            <p:cNvPr id="111" name="Picture 19" descr="Киев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675240" y="5403960"/>
              <a:ext cx="1904760" cy="1193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2" name="Text Box 20"/>
            <p:cNvSpPr/>
            <p:nvPr/>
          </p:nvSpPr>
          <p:spPr>
            <a:xfrm>
              <a:off x="4194000" y="482760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КИ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1"/>
          <p:cNvGrpSpPr/>
          <p:nvPr/>
        </p:nvGrpSpPr>
        <p:grpSpPr>
          <a:xfrm>
            <a:off x="638280" y="981000"/>
            <a:ext cx="1269720" cy="1393560"/>
            <a:chOff x="638280" y="981000"/>
            <a:chExt cx="1269720" cy="1393560"/>
          </a:xfrm>
        </p:grpSpPr>
        <p:pic>
          <p:nvPicPr>
            <p:cNvPr id="114" name="Picture 22" descr="Керчь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8280" y="1485720"/>
              <a:ext cx="1269720" cy="888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5" name="Text Box 23"/>
            <p:cNvSpPr/>
            <p:nvPr/>
          </p:nvSpPr>
          <p:spPr>
            <a:xfrm>
              <a:off x="750960" y="98100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КЕР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7380360" y="1052640"/>
            <a:ext cx="1270080" cy="1414440"/>
            <a:chOff x="7380360" y="1052640"/>
            <a:chExt cx="1270080" cy="1414440"/>
          </a:xfrm>
        </p:grpSpPr>
        <p:pic>
          <p:nvPicPr>
            <p:cNvPr id="117" name="Picture 25" descr="Минск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380360" y="1628640"/>
              <a:ext cx="1270080" cy="838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8" name="Text Box 26"/>
            <p:cNvSpPr/>
            <p:nvPr/>
          </p:nvSpPr>
          <p:spPr>
            <a:xfrm>
              <a:off x="7497000" y="10526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И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7"/>
          <p:cNvGrpSpPr/>
          <p:nvPr/>
        </p:nvGrpSpPr>
        <p:grpSpPr>
          <a:xfrm>
            <a:off x="7351920" y="2619360"/>
            <a:ext cx="1299240" cy="1457280"/>
            <a:chOff x="7351920" y="2619360"/>
            <a:chExt cx="1299240" cy="1457280"/>
          </a:xfrm>
        </p:grpSpPr>
        <p:pic>
          <p:nvPicPr>
            <p:cNvPr id="120" name="Picture 28" descr="Москва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80360" y="3124080"/>
              <a:ext cx="1270080" cy="952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1" name="Text Box 29"/>
            <p:cNvSpPr/>
            <p:nvPr/>
          </p:nvSpPr>
          <p:spPr>
            <a:xfrm>
              <a:off x="7351920" y="261936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ОСК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0"/>
          <p:cNvGrpSpPr/>
          <p:nvPr/>
        </p:nvGrpSpPr>
        <p:grpSpPr>
          <a:xfrm>
            <a:off x="6746400" y="4076640"/>
            <a:ext cx="1640880" cy="1774800"/>
            <a:chOff x="6746400" y="4076640"/>
            <a:chExt cx="1640880" cy="1774800"/>
          </a:xfrm>
        </p:grpSpPr>
        <p:pic>
          <p:nvPicPr>
            <p:cNvPr id="123" name="Picture 31" descr="Мурманск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31320" y="4581360"/>
              <a:ext cx="76176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" name="Text Box 32"/>
            <p:cNvSpPr/>
            <p:nvPr/>
          </p:nvSpPr>
          <p:spPr>
            <a:xfrm>
              <a:off x="6746400" y="4076640"/>
              <a:ext cx="164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МУРМА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3"/>
          <p:cNvGrpSpPr/>
          <p:nvPr/>
        </p:nvGrpSpPr>
        <p:grpSpPr>
          <a:xfrm>
            <a:off x="179280" y="3789360"/>
            <a:ext cx="863280" cy="1809720"/>
            <a:chOff x="179280" y="3789360"/>
            <a:chExt cx="863280" cy="1809720"/>
          </a:xfrm>
        </p:grpSpPr>
        <p:pic>
          <p:nvPicPr>
            <p:cNvPr id="126" name="Picture 34" descr="Тула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179280" y="4329000"/>
              <a:ext cx="86328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7" name="Text Box 35"/>
            <p:cNvSpPr/>
            <p:nvPr/>
          </p:nvSpPr>
          <p:spPr>
            <a:xfrm>
              <a:off x="180720" y="378936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Т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6"/>
          <p:cNvGrpSpPr/>
          <p:nvPr/>
        </p:nvGrpSpPr>
        <p:grpSpPr>
          <a:xfrm>
            <a:off x="-720" y="2421000"/>
            <a:ext cx="2387520" cy="1363680"/>
            <a:chOff x="-720" y="2421000"/>
            <a:chExt cx="2387520" cy="1363680"/>
          </a:xfrm>
        </p:grpSpPr>
        <p:pic>
          <p:nvPicPr>
            <p:cNvPr id="129" name="Picture 37" descr="Новороссийск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68360" y="2997360"/>
              <a:ext cx="1270080" cy="787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0" name="Text Box 38"/>
            <p:cNvSpPr/>
            <p:nvPr/>
          </p:nvSpPr>
          <p:spPr>
            <a:xfrm>
              <a:off x="-720" y="2421000"/>
              <a:ext cx="23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НОВОРОССИЙ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2132280" y="4832280"/>
            <a:ext cx="1646640" cy="1765440"/>
            <a:chOff x="2132280" y="4832280"/>
            <a:chExt cx="1646640" cy="1765440"/>
          </a:xfrm>
        </p:grpSpPr>
        <p:pic>
          <p:nvPicPr>
            <p:cNvPr id="132" name="Picture 40" descr="Смоленск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442960" y="5327640"/>
              <a:ext cx="939960" cy="1270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3" name="Text Box 41"/>
            <p:cNvSpPr/>
            <p:nvPr/>
          </p:nvSpPr>
          <p:spPr>
            <a:xfrm>
              <a:off x="2132280" y="483228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СМОЛЕН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2"/>
          <p:cNvGrpSpPr/>
          <p:nvPr/>
        </p:nvGrpSpPr>
        <p:grpSpPr>
          <a:xfrm>
            <a:off x="1258920" y="4149720"/>
            <a:ext cx="1179000" cy="2061720"/>
            <a:chOff x="1258920" y="4149720"/>
            <a:chExt cx="1179000" cy="2061720"/>
          </a:xfrm>
        </p:grpSpPr>
        <p:pic>
          <p:nvPicPr>
            <p:cNvPr id="135" name="Picture 43" descr="Брестская крепость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1258920" y="4941720"/>
              <a:ext cx="863640" cy="1269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36" name="Text Box 44"/>
            <p:cNvSpPr/>
            <p:nvPr/>
          </p:nvSpPr>
          <p:spPr>
            <a:xfrm>
              <a:off x="1396080" y="414972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8080"/>
                  </a:solidFill>
                  <a:uFillTx/>
                  <a:latin typeface="Arial"/>
                </a:rPr>
                <a:t>БР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332000" y="1268280"/>
            <a:ext cx="6480000" cy="20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521080" y="260280"/>
            <a:ext cx="410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332000" y="1268280"/>
            <a:ext cx="61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За подвиг во вре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Великой Отечественной вой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этому городу присвоено почётное з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«Город – герой»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и вручена медаль 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«Золотая Звезда».</a:t>
            </a: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Arial"/>
              </a:rPr>
              <a:t>Город выдержал 900 дневную блока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95280" y="3357720"/>
            <a:ext cx="8497440" cy="3193560"/>
            <a:chOff x="395280" y="3357720"/>
            <a:chExt cx="8497440" cy="3193560"/>
          </a:xfrm>
        </p:grpSpPr>
        <p:pic>
          <p:nvPicPr>
            <p:cNvPr id="141" name="Picture 8" descr="Золотая звезда"/>
            <p:cNvPicPr/>
            <p:nvPr/>
          </p:nvPicPr>
          <p:blipFill>
            <a:blip r:embed="rId1"/>
            <a:stretch/>
          </p:blipFill>
          <p:spPr>
            <a:xfrm>
              <a:off x="395280" y="3357720"/>
              <a:ext cx="1844280" cy="31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2516760" y="5125680"/>
              <a:ext cx="522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808080"/>
                  </a:solidFill>
                  <a:latin typeface="Arial"/>
                </a:rPr>
                <a:t>Учреждена Указом Президиума Верховного Совета СССР</a:t>
              </a:r>
              <a:br>
                <a:rPr sz="2200"/>
              </a:br>
              <a:r>
                <a:rPr b="1" lang="ru-RU" sz="2200" spc="-1" strike="noStrike">
                  <a:solidFill>
                    <a:srgbClr val="808080"/>
                  </a:solidFill>
                  <a:latin typeface="Arial"/>
                </a:rPr>
                <a:t>от 1 августа 1939 год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10"/>
            <p:cNvSpPr txBox="1"/>
            <p:nvPr/>
          </p:nvSpPr>
          <p:spPr>
            <a:xfrm>
              <a:off x="2436120" y="3873600"/>
              <a:ext cx="64566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едаль "Золотая звезда"</a:t>
              </a:r>
              <a:endPara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44" name="Text Box 11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4356000" y="3860640"/>
            <a:ext cx="446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7640" y="3933720"/>
            <a:ext cx="446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"Потомок знай! В суровые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ерны народу, долгу и Отчиз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Через торосы Ладожского ль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тсюда мы вели Дорог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Чтоб жизнь не умирала никогда.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95280" y="4149720"/>
            <a:ext cx="7488000" cy="2413080"/>
            <a:chOff x="395280" y="4149720"/>
            <a:chExt cx="7488000" cy="2413080"/>
          </a:xfrm>
        </p:grpSpPr>
        <p:pic>
          <p:nvPicPr>
            <p:cNvPr id="148" name="Picture 7" descr="Ленинград_Пояс славы"/>
            <p:cNvPicPr/>
            <p:nvPr/>
          </p:nvPicPr>
          <p:blipFill>
            <a:blip r:embed="rId1"/>
            <a:stretch/>
          </p:blipFill>
          <p:spPr>
            <a:xfrm>
              <a:off x="395280" y="4149720"/>
              <a:ext cx="3671640" cy="2413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9" name="WordArt 8"/>
            <p:cNvSpPr txBox="1"/>
            <p:nvPr/>
          </p:nvSpPr>
          <p:spPr>
            <a:xfrm>
              <a:off x="4263840" y="5950080"/>
              <a:ext cx="36194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ояс Славы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1042920" y="476280"/>
            <a:ext cx="7561440" cy="2790720"/>
            <a:chOff x="1042920" y="476280"/>
            <a:chExt cx="7561440" cy="2790720"/>
          </a:xfrm>
        </p:grpSpPr>
        <p:pic>
          <p:nvPicPr>
            <p:cNvPr id="151" name="Picture 10" descr="Ленинград_Безымянная высота"/>
            <p:cNvPicPr/>
            <p:nvPr/>
          </p:nvPicPr>
          <p:blipFill>
            <a:blip r:embed="rId2"/>
            <a:stretch/>
          </p:blipFill>
          <p:spPr>
            <a:xfrm>
              <a:off x="4932360" y="476280"/>
              <a:ext cx="3672000" cy="2790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2" name="WordArt 11"/>
            <p:cNvSpPr txBox="1"/>
            <p:nvPr/>
          </p:nvSpPr>
          <p:spPr>
            <a:xfrm>
              <a:off x="1042920" y="963360"/>
              <a:ext cx="361944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Безымянная высота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53" name="AutoShape 12"/>
          <p:cNvSpPr/>
          <p:nvPr/>
        </p:nvSpPr>
        <p:spPr>
          <a:xfrm>
            <a:off x="250920" y="1628640"/>
            <a:ext cx="453708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24000" y="162864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Этот памятник посвящен защитникам Ленинграда.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395280" y="18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15">
            <a:hlinkClick r:id="rId3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898560" y="1125360"/>
            <a:ext cx="77058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5435640" y="2708280"/>
            <a:ext cx="349236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2124000" y="260280"/>
            <a:ext cx="514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ГО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Мамаев курган с "Историко-мемориальным комплексом "Героям Сталинградской битвы"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651640" y="27813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В районе Мамаева курга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2 февраля 1943 года закончилась Сталинградская битва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324000" y="2349360"/>
            <a:ext cx="4903560" cy="4319640"/>
            <a:chOff x="324000" y="2349360"/>
            <a:chExt cx="4903560" cy="4319640"/>
          </a:xfrm>
        </p:grpSpPr>
        <p:pic>
          <p:nvPicPr>
            <p:cNvPr id="163" name="Picture 10" descr="Волгоград_Водная композиция"/>
            <p:cNvPicPr/>
            <p:nvPr/>
          </p:nvPicPr>
          <p:blipFill>
            <a:blip r:embed="rId1"/>
            <a:stretch/>
          </p:blipFill>
          <p:spPr>
            <a:xfrm>
              <a:off x="324000" y="2349360"/>
              <a:ext cx="4903560" cy="3678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4" name="WordArt 11"/>
            <p:cNvSpPr txBox="1"/>
            <p:nvPr/>
          </p:nvSpPr>
          <p:spPr>
            <a:xfrm>
              <a:off x="1332000" y="6237360"/>
              <a:ext cx="2950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8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Водная композиция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65" name="Text Box 12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476360" y="907920"/>
            <a:ext cx="6480360" cy="244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2050920" y="189000"/>
            <a:ext cx="522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АСТОПОЛ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466560" y="3645000"/>
            <a:ext cx="8677080" cy="2952360"/>
            <a:chOff x="466560" y="3645000"/>
            <a:chExt cx="8677080" cy="2952360"/>
          </a:xfrm>
        </p:grpSpPr>
        <p:pic>
          <p:nvPicPr>
            <p:cNvPr id="169" name="Picture 7" descr="Севастополь_Памятник бронепоезду Железняков"/>
            <p:cNvPicPr/>
            <p:nvPr/>
          </p:nvPicPr>
          <p:blipFill>
            <a:blip r:embed="rId1"/>
            <a:stretch/>
          </p:blipFill>
          <p:spPr>
            <a:xfrm>
              <a:off x="466560" y="3645000"/>
              <a:ext cx="4200120" cy="2952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0" name="WordArt 8"/>
            <p:cNvSpPr txBox="1"/>
            <p:nvPr/>
          </p:nvSpPr>
          <p:spPr>
            <a:xfrm>
              <a:off x="4881240" y="3954960"/>
              <a:ext cx="4262400" cy="140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бронепоезду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"Железняков"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71" name="Text Box 9"/>
          <p:cNvSpPr/>
          <p:nvPr/>
        </p:nvSpPr>
        <p:spPr>
          <a:xfrm>
            <a:off x="1547640" y="1268280"/>
            <a:ext cx="64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 городе установлен паровоз ЭЛ-2500 с надписью "Смерть фашистам". В период обороны он водил в бой легендарный бронепоезд "Железняков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. "Зеленым призраком" называли фашисты бронепоез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476360" y="1050840"/>
            <a:ext cx="662472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979640" y="260280"/>
            <a:ext cx="52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АСТОПОЛ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47640" y="1195560"/>
            <a:ext cx="64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Танк Т-34 установлен в мае 1944 г. на Зеленой горке, над братской могилой 24 павших танк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тот танк в числе первых ворвался в Севастоп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179280" y="3284640"/>
            <a:ext cx="8424720" cy="3312720"/>
            <a:chOff x="179280" y="3284640"/>
            <a:chExt cx="8424720" cy="3312720"/>
          </a:xfrm>
        </p:grpSpPr>
        <p:sp>
          <p:nvSpPr>
            <p:cNvPr id="177" name="WordArt 8"/>
            <p:cNvSpPr txBox="1"/>
            <p:nvPr/>
          </p:nvSpPr>
          <p:spPr>
            <a:xfrm>
              <a:off x="4501440" y="3603960"/>
              <a:ext cx="4102560" cy="141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героям-танкист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  <p:pic>
          <p:nvPicPr>
            <p:cNvPr id="178" name="Picture 9" descr="Севастополь_Памятник героям-танкистам"/>
            <p:cNvPicPr/>
            <p:nvPr/>
          </p:nvPicPr>
          <p:blipFill>
            <a:blip r:embed="rId1"/>
            <a:stretch/>
          </p:blipFill>
          <p:spPr>
            <a:xfrm>
              <a:off x="179280" y="3284640"/>
              <a:ext cx="4109040" cy="3312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79" name="Text Box 10">
            <a:hlinkClick r:id="rId2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1763640" y="189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ЕСС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476360" y="907920"/>
            <a:ext cx="6480360" cy="28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>
                  <a:alpha val="85098"/>
                </a:srgbClr>
              </a:gs>
              <a:gs pos="100000">
                <a:srgbClr val="ffff00">
                  <a:alpha val="5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547640" y="1484280"/>
            <a:ext cx="64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Одесская оборона - героическая оборона во время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5 августа - 16 ок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Золотая звезда"/>
          <p:cNvPicPr/>
          <p:nvPr/>
        </p:nvPicPr>
        <p:blipFill>
          <a:blip r:embed="rId1"/>
          <a:stretch/>
        </p:blipFill>
        <p:spPr>
          <a:xfrm>
            <a:off x="8244000" y="333360"/>
            <a:ext cx="614160" cy="11779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8"/>
          <p:cNvGrpSpPr/>
          <p:nvPr/>
        </p:nvGrpSpPr>
        <p:grpSpPr>
          <a:xfrm>
            <a:off x="324000" y="4005360"/>
            <a:ext cx="7056360" cy="2663640"/>
            <a:chOff x="324000" y="4005360"/>
            <a:chExt cx="7056360" cy="2663640"/>
          </a:xfrm>
        </p:grpSpPr>
        <p:pic>
          <p:nvPicPr>
            <p:cNvPr id="185" name="Picture 9" descr="Одесса_Монумент летчикам"/>
            <p:cNvPicPr/>
            <p:nvPr/>
          </p:nvPicPr>
          <p:blipFill>
            <a:blip r:embed="rId2"/>
            <a:stretch/>
          </p:blipFill>
          <p:spPr>
            <a:xfrm>
              <a:off x="324000" y="4005360"/>
              <a:ext cx="2920680" cy="2590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6" name="WordArt 10"/>
            <p:cNvSpPr txBox="1"/>
            <p:nvPr/>
          </p:nvSpPr>
          <p:spPr>
            <a:xfrm>
              <a:off x="3348000" y="6093000"/>
              <a:ext cx="4032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Монумент летчик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3851280" y="3573360"/>
            <a:ext cx="4968360" cy="2592000"/>
            <a:chOff x="3851280" y="3573360"/>
            <a:chExt cx="4968360" cy="2592000"/>
          </a:xfrm>
        </p:grpSpPr>
        <p:pic>
          <p:nvPicPr>
            <p:cNvPr id="188" name="Picture 12" descr="Одесса_памятник защитникам"/>
            <p:cNvPicPr/>
            <p:nvPr/>
          </p:nvPicPr>
          <p:blipFill>
            <a:blip r:embed="rId3"/>
            <a:stretch/>
          </p:blipFill>
          <p:spPr>
            <a:xfrm>
              <a:off x="6551280" y="3573360"/>
              <a:ext cx="2268360" cy="259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9" name="WordArt 13"/>
            <p:cNvSpPr txBox="1"/>
            <p:nvPr/>
          </p:nvSpPr>
          <p:spPr>
            <a:xfrm>
              <a:off x="3851280" y="4631040"/>
              <a:ext cx="2618640" cy="14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Памятник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защитникам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urier New"/>
                </a:rPr>
                <a:t>Одессы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  <a:ea typeface="Courier New"/>
              </a:endParaRPr>
            </a:p>
          </p:txBody>
        </p:sp>
      </p:grpSp>
      <p:sp>
        <p:nvSpPr>
          <p:cNvPr id="190" name="Text Box 14">
            <a:hlinkClick r:id="rId4" action="ppaction://hlinksldjump"/>
          </p:cNvPr>
          <p:cNvSpPr/>
          <p:nvPr/>
        </p:nvSpPr>
        <p:spPr>
          <a:xfrm>
            <a:off x="8244000" y="6367320"/>
            <a:ext cx="936360" cy="733320"/>
          </a:xfrm>
          <a:prstGeom prst="rect">
            <a:avLst/>
          </a:prstGeom>
          <a:gradFill rotWithShape="0">
            <a:gsLst>
              <a:gs pos="0">
                <a:srgbClr val="ffffc5">
                  <a:alpha val="80000"/>
                </a:srgbClr>
              </a:gs>
              <a:gs pos="100000">
                <a:srgbClr val="d2d2a2">
                  <a:alpha val="7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6:58:12Z</dcterms:created>
  <dc:creator>Брыксина</dc:creator>
  <dc:description/>
  <dc:language>en-US</dc:language>
  <cp:lastModifiedBy>АИ</cp:lastModifiedBy>
  <dcterms:modified xsi:type="dcterms:W3CDTF">2010-04-05T05:36:26Z</dcterms:modified>
  <cp:revision>38</cp:revision>
  <dc:subject/>
  <dc:title>Слайд 1</dc:title>
</cp:coreProperties>
</file>