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170-616B-4536-ABC0-BCD77070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EE7-05C9-459C-ADCA-65C476F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7FB-C8BE-4B04-AAFA-65E36B8D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F06-92D7-4A43-8BB1-C95145F1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A93A-B239-4F76-889C-5436F9D0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0DA6-A659-426D-8081-0973EB7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4961-B04A-4B93-807F-20710528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634B-996F-47CB-A7B0-A3BC3A73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FBF8-B347-4239-8E10-3D81547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3D5E-4F94-41BC-859C-4760772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AF4C-A284-48FE-AB57-CE45C37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ABB-B6E2-4FC8-A208-136C4EE5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29F0-1EFB-44FC-BF48-6A913FB8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6566-B68C-47C5-B10E-6194471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DB63-BE3C-479F-B630-2EAA7DA0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F996-51C7-432D-B202-EA5E1E5E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DD98-A147-472E-B1E4-43BA4D79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60A-0C98-46FB-8330-E63BFF37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91A-E469-4612-A823-F22776AE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BB0-4E89-4627-AA43-9C59D56B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3A8-97FF-4A6C-8100-7AD80573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189-7CFA-461A-BDA7-DE6F956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DA4-553C-4233-AD73-4FA7D90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552-C02E-4BB4-9A20-F4F679C1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3C31-E205-467A-85CB-6DF610B931F6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41B6-AF7B-4E30-9F38-3F7E905ECFD6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77120" cy="33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Izhitsa"/>
              </a:rPr>
              <a:t>ПРАЗДНИК СЛАВЯНСКОЙ ПИСЬМЕННОСТИ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Izhitsa"/>
              </a:rPr>
              <a:t>И КУЛЬТУРЫ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АИ\Desktop\КириллМефодий\1102.jpg"/>
          <p:cNvPicPr/>
          <p:nvPr/>
        </p:nvPicPr>
        <p:blipFill>
          <a:blip r:embed="rId1"/>
          <a:stretch/>
        </p:blipFill>
        <p:spPr>
          <a:xfrm>
            <a:off x="2124000" y="189000"/>
            <a:ext cx="4608720" cy="64278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83160" cy="626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87" name="Picture 4" descr=""/>
          <p:cNvPicPr/>
          <p:nvPr/>
        </p:nvPicPr>
        <p:blipFill>
          <a:blip r:embed="rId2">
            <a:lum bright="10000"/>
          </a:blip>
          <a:srcRect l="0" t="15050" r="0" b="0"/>
          <a:stretch/>
        </p:blipFill>
        <p:spPr>
          <a:xfrm>
            <a:off x="4932360" y="260280"/>
            <a:ext cx="3816360" cy="28861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88" name="Picture 8" descr=""/>
          <p:cNvPicPr/>
          <p:nvPr/>
        </p:nvPicPr>
        <p:blipFill>
          <a:blip r:embed="rId3"/>
          <a:srcRect l="0" t="0" r="0" b="12558"/>
          <a:stretch/>
        </p:blipFill>
        <p:spPr>
          <a:xfrm>
            <a:off x="4932360" y="3284640"/>
            <a:ext cx="3830760" cy="31669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4975200" cy="61930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АИ\Desktop\КириллМефодий\600px-Кирилл_и_Мефодий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19280" y="549360"/>
            <a:ext cx="5905440" cy="59040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АИ\Desktop\КириллМефодий\4374.jpg"/>
          <p:cNvPicPr/>
          <p:nvPr/>
        </p:nvPicPr>
        <p:blipFill>
          <a:blip r:embed="rId1"/>
          <a:stretch/>
        </p:blipFill>
        <p:spPr>
          <a:xfrm>
            <a:off x="1763640" y="404640"/>
            <a:ext cx="5545080" cy="6169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9280" y="-4635360"/>
            <a:ext cx="860436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Дружба крепкая не сломается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Не расклеится от дождей и вью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Друг в беде не бросит, лишнего не спросит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Друг в беде не бросит, лишнего не спросит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Мы поссоримся и помиримся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"Не разлить водой" - шутят все вок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 полдень или в полночь друг придет на помощь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 полдень или в полночь друг придет на помощь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Друг всегда меня сможет выручить,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Если что-нибудь приключится в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Нужным быть кому-то в трудную минуту -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Нужным быть кому-то в трудную минуту -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от что значит настоящий верный дру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4" name="настоящий друг.mp3" descr=""/>
          <p:cNvPicPr/>
          <p:nvPr/>
        </p:nvPicPr>
        <p:blipFill>
          <a:blip r:embed="rId1"/>
          <a:stretch/>
        </p:blipFill>
        <p:spPr>
          <a:xfrm>
            <a:off x="8532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0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20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20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20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0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20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20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20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20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20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20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20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20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20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20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20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20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20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20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20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20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200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00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200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200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200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00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00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200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200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200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C:\Users\АИ\Desktop\КириллМефодий\alfavit-russkogo-yazika-a4.jpg"/>
          <p:cNvPicPr/>
          <p:nvPr/>
        </p:nvPicPr>
        <p:blipFill>
          <a:blip r:embed="rId1"/>
          <a:stretch/>
        </p:blipFill>
        <p:spPr>
          <a:xfrm>
            <a:off x="2379600" y="260280"/>
            <a:ext cx="4524480" cy="64008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8480" cy="57452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7:06:13Z</dcterms:created>
  <dc:creator>АИ</dc:creator>
  <dc:description/>
  <dc:language>en-US</dc:language>
  <cp:lastModifiedBy>Фабер_АИ</cp:lastModifiedBy>
  <dcterms:modified xsi:type="dcterms:W3CDTF">2021-05-30T12:29:50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