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B7D-97AD-43C9-B728-C6B52790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073-F6D8-4B6C-A3D9-E83BFC69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52D-77A5-41C9-86F1-74325CFA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F45-CB88-433D-A51D-B79B389F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1903-65E6-4E95-B53C-75266950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A0C-C87B-443D-9ABC-576AEE28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4D1-41DE-486D-9F50-75F778E1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A1F-02B0-4F07-BDA0-C5B8329C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1AF-EBBD-46E0-B145-17755C44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9E65-6DE8-4001-9527-C68C685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FA1B-182C-4586-BA4C-FF8C2A6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841-C91B-4A36-8E86-E313A985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131-A053-4461-B1FE-6F5F221F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E539-C5D3-499D-BCFF-630495B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AFE8-4009-469F-B039-A6A0C709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34D-3F81-4B98-BBC3-F54CC2AF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F983-75B3-4CAA-9E33-074BECDB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4CB-EB48-4341-A1AE-39C6578A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783-09CE-4993-81D9-0472206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971-AFED-48CD-804A-6786648B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E8F-ABC4-4DE4-944F-3F74837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287-96A1-4A52-84F9-B4039AE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14F-6354-47D8-85C5-5AF7493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948-77B6-45CF-954F-90ED9B12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C1BD-4510-4776-9005-46EE6E940C4D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1182-2A0E-4D7D-AD76-40C58BBDE19D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77120" cy="33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Izhitsa"/>
              </a:rPr>
              <a:t>ПРАЗДНИК СЛАВЯНСКОЙ ПИСЬМЕННОСТИ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Izhitsa"/>
              </a:rPr>
              <a:t>И КУЛЬТУРЫ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АИ\Desktop\КириллМефодий\1102.jpg"/>
          <p:cNvPicPr/>
          <p:nvPr/>
        </p:nvPicPr>
        <p:blipFill>
          <a:blip r:embed="rId1"/>
          <a:stretch/>
        </p:blipFill>
        <p:spPr>
          <a:xfrm>
            <a:off x="2124000" y="189000"/>
            <a:ext cx="4608720" cy="64278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83160" cy="626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87" name="Picture 4" descr=""/>
          <p:cNvPicPr/>
          <p:nvPr/>
        </p:nvPicPr>
        <p:blipFill>
          <a:blip r:embed="rId2">
            <a:lum bright="10000"/>
          </a:blip>
          <a:srcRect l="0" t="15050" r="0" b="0"/>
          <a:stretch/>
        </p:blipFill>
        <p:spPr>
          <a:xfrm>
            <a:off x="4932360" y="260280"/>
            <a:ext cx="3816360" cy="28861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88" name="Picture 8" descr=""/>
          <p:cNvPicPr/>
          <p:nvPr/>
        </p:nvPicPr>
        <p:blipFill>
          <a:blip r:embed="rId3"/>
          <a:srcRect l="0" t="0" r="0" b="12558"/>
          <a:stretch/>
        </p:blipFill>
        <p:spPr>
          <a:xfrm>
            <a:off x="4932360" y="3284640"/>
            <a:ext cx="3830760" cy="31669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4975200" cy="61930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АИ\Desktop\КириллМефодий\600px-Кирилл_и_Мефодий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19280" y="549360"/>
            <a:ext cx="5905440" cy="5904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АИ\Desktop\КириллМефодий\4374.jpg"/>
          <p:cNvPicPr/>
          <p:nvPr/>
        </p:nvPicPr>
        <p:blipFill>
          <a:blip r:embed="rId1"/>
          <a:stretch/>
        </p:blipFill>
        <p:spPr>
          <a:xfrm>
            <a:off x="1763640" y="404640"/>
            <a:ext cx="5545080" cy="6169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9280" y="-4635360"/>
            <a:ext cx="860436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жба крепкая не сломается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Не расклеится от дождей и вью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г в беде не бросит, лишнего не спросит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г в беде не бросит, лишнего не спросит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Мы поссоримся и помиримся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"Не разлить водой" - шутят все вок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 полдень или в полночь друг придет на помощь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 полдень или в полночь друг придет на помощь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г всегда меня сможет выручить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Если что-нибудь приключится в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Нужным быть кому-то в трудную минуту -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Нужным быть кому-то в трудную минуту -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4" name="настоящий друг.mp3" descr=""/>
          <p:cNvPicPr/>
          <p:nvPr/>
        </p:nvPicPr>
        <p:blipFill>
          <a:blip r:embed="rId1"/>
          <a:stretch/>
        </p:blipFill>
        <p:spPr>
          <a:xfrm>
            <a:off x="8532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0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20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20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0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20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20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20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20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20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20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20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20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20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20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20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20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20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20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20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20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20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20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20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20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0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0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20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20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20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C:\Users\АИ\Desktop\КириллМефодий\alfavit-russkogo-yazika-a4.jpg"/>
          <p:cNvPicPr/>
          <p:nvPr/>
        </p:nvPicPr>
        <p:blipFill>
          <a:blip r:embed="rId1"/>
          <a:stretch/>
        </p:blipFill>
        <p:spPr>
          <a:xfrm>
            <a:off x="2379600" y="260280"/>
            <a:ext cx="4524480" cy="64008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8480" cy="57452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7:06:13Z</dcterms:created>
  <dc:creator>АИ</dc:creator>
  <dc:description/>
  <dc:language>en-US</dc:language>
  <cp:lastModifiedBy>Фабер_АИ</cp:lastModifiedBy>
  <dcterms:modified xsi:type="dcterms:W3CDTF">2021-05-30T12:29:50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