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129-2BD8-48F8-8D0A-633BDBF9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410-B03C-4DD7-895B-377296BB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7C1-84DE-42E1-8BC1-44F5C34F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F94-E05C-406D-942A-B0FA648C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4C8-B815-4533-B93C-68745198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025-F5EE-47F0-BAE6-8058B511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1B9-4337-495A-B26C-0F26DE44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F1B-3E46-4B29-A5C6-3FD3AF0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D1E-40DD-48AF-85C5-DE10397E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311-2B66-40E7-8851-8F32994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5F5-0CF6-48A8-BE40-C7B38827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D53-740D-4042-80FE-64BCF1C0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8B36-4966-4F38-95FF-A6D5403D2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Айгуль Азиханова</cp:lastModifiedBy>
  <dcterms:modified xsi:type="dcterms:W3CDTF">2020-03-18T19:01:39Z</dcterms:modified>
  <cp:revision>17</cp:revision>
  <dc:subject/>
  <dc:title>Слайд 1</dc:title>
</cp:coreProperties>
</file>