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96E-A2E3-49A8-93E8-5B7C641F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0C22-DC96-4EEE-83FB-6632E162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D8B-FC51-415B-ADA7-5A779B5E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D34-46DA-481F-9BD6-27963D48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FFF-0D80-40DE-B6B5-0071811A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E4F-6318-498E-803E-7BD27C89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677-5F7C-4ED8-BBC4-AD4C9EB8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D3C-D054-4603-A736-7790DACE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A4E-8D54-480B-8397-E71A00DA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66B-7830-49B2-8CCE-204F8B0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E40-FA5C-42F1-93A3-B1EC5008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B20-90E1-45AE-803A-92A512EC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376F-86B4-46C2-AC87-2271935A6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773360"/>
            <a:ext cx="523872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4196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Айгуль Азиханова</cp:lastModifiedBy>
  <dcterms:modified xsi:type="dcterms:W3CDTF">2020-03-18T19:01:39Z</dcterms:modified>
  <cp:revision>17</cp:revision>
  <dc:subject/>
  <dc:title>Слайд 1</dc:title>
</cp:coreProperties>
</file>