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9.png" ContentType="image/png"/>
  <Override PartName="/ppt/media/image5.gif" ContentType="image/gif"/>
  <Override PartName="/ppt/media/image14.jpeg" ContentType="image/jpeg"/>
  <Override PartName="/ppt/media/image21.jpeg" ContentType="image/jpeg"/>
  <Override PartName="/ppt/media/image13.gif" ContentType="image/gif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3.gif" ContentType="image/gif"/>
  <Override PartName="/ppt/media/image17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AB19-856F-4780-90F8-387C43351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22B3-480B-453C-96A9-DCD1F27F8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D443-142D-4562-A3C6-5D54129C8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F5E6-98E3-44D0-A7C7-19E5DDF10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4977-7A21-448C-9AF9-AC1DDD044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FB97-D9DD-40FA-B4DC-4A629ED89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8CEE-BC13-4A38-8D07-611F12E96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4B80-6C92-44B6-A3B2-011B3F265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25C0-0B11-4B01-AE38-29CDA4F0D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36FC-7F09-4DCF-BC4B-F14FA6A8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7248-B6DD-4C0C-953F-A2796808B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C8B2-CEFB-4DB7-96FD-9FB5A53D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E1091-06E5-49E0-9A2E-036F0484AE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7/7f/Simon-stevin.jpeg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iki.saripkro.ru/images/Ermak_balakovo_4.jpg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95280" y="189000"/>
            <a:ext cx="468000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еловая иг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124000" y="3429000"/>
            <a:ext cx="597708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роценты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в нашей жизни.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3" name="" descr="animated percent sign"/>
          <p:cNvPicPr/>
          <p:nvPr/>
        </p:nvPicPr>
        <p:blipFill>
          <a:blip r:embed="rId6"/>
          <a:stretch/>
        </p:blipFill>
        <p:spPr>
          <a:xfrm>
            <a:off x="6443640" y="476280"/>
            <a:ext cx="199080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50920" y="26028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Устная рабо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35280" y="2602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Как перевести проценты в дроб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763560"/>
            <a:ext cx="8209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еведите проценты в дроб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%;   25%;   10%;   75%;   20%;   30%;   65%;   6%;   2,5%;   0,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35280" y="22510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Как перевести дробь в процент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8360" y="2852640"/>
            <a:ext cx="806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еведите дробь в процен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,5;   0,6;   0,1;   0,02;   0,27;   0,93;   1,26;   1,2;   1,06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684360" y="3933720"/>
                <a:ext cx="223200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4788000" y="3284640"/>
                <a:ext cx="38088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а</m:t>
                        </m:r>
                      </m:num>
                      <m:den>
                        <m:r>
                          <m:t xml:space="preserve">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6732720" y="3284640"/>
                <a:ext cx="30960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а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1116000" y="141480"/>
            <a:ext cx="727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При решении задач на проценты и ча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полезно использовать табличную форму записи условия зада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619280" y="1773360"/>
          <a:ext cx="5545080" cy="1431720"/>
        </p:xfrm>
        <a:graphic>
          <a:graphicData uri="http://schemas.openxmlformats.org/drawingml/2006/table">
            <a:tbl>
              <a:tblPr/>
              <a:tblGrid>
                <a:gridCol w="1492200"/>
                <a:gridCol w="426960"/>
                <a:gridCol w="1706760"/>
                <a:gridCol w="426960"/>
                <a:gridCol w="14922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об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ь числа, 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1937520" y="3475440"/>
            <a:ext cx="302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 ·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а;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04160" y="347544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 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58040" y="4314960"/>
            <a:ext cx="7011000" cy="13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араметры: А –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проценты, переведенные в дроб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 – часть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0"/>
                            </p:stCondLst>
                            <p:childTnLst>
                              <p:par>
                                <p:cTn id="1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68360" y="1123200"/>
            <a:ext cx="583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классе 30 учеников, из них 60% учеников успевают на «4» и «5». Сколько ударников в класс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476360" y="2997360"/>
          <a:ext cx="6120720" cy="2159640"/>
        </p:xfrm>
        <a:graphic>
          <a:graphicData uri="http://schemas.openxmlformats.org/drawingml/2006/table">
            <a:tbl>
              <a:tblPr/>
              <a:tblGrid>
                <a:gridCol w="1648080"/>
                <a:gridCol w="470880"/>
                <a:gridCol w="1883520"/>
                <a:gridCol w="470880"/>
                <a:gridCol w="1647360"/>
              </a:tblGrid>
              <a:tr h="101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об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ь числа, 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"/>
          <p:cNvSpPr/>
          <p:nvPr/>
        </p:nvSpPr>
        <p:spPr>
          <a:xfrm>
            <a:off x="1139400" y="4312080"/>
            <a:ext cx="692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3120" y="260280"/>
            <a:ext cx="29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Устная рабо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588000" y="333360"/>
            <a:ext cx="2365560" cy="14652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050920" y="429264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81440" y="429264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%=0,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10200" y="436572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30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·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  <a:ea typeface="Arial"/>
              </a:rPr>
              <a:t>0,6=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826920" y="476280"/>
            <a:ext cx="54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  Найти размер вклада, 30%  которого составляют 7500 ру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684360" y="2276640"/>
          <a:ext cx="6622920" cy="2127240"/>
        </p:xfrm>
        <a:graphic>
          <a:graphicData uri="http://schemas.openxmlformats.org/drawingml/2006/table">
            <a:tbl>
              <a:tblPr/>
              <a:tblGrid>
                <a:gridCol w="2307960"/>
                <a:gridCol w="454320"/>
                <a:gridCol w="1817640"/>
                <a:gridCol w="453960"/>
                <a:gridCol w="1589040"/>
              </a:tblGrid>
              <a:tr h="96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об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ь числа, 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72360" y="247680"/>
            <a:ext cx="2520720" cy="1562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11280" y="3503520"/>
            <a:ext cx="2520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7500:0,3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635280" y="35002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%=0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35002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350028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2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4360" y="333360"/>
            <a:ext cx="518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  Каково процентное содержание меди в руде, если 225 кг руды содержат 34,2 кг мед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900000" y="2563920"/>
          <a:ext cx="7272000" cy="2952360"/>
        </p:xfrm>
        <a:graphic>
          <a:graphicData uri="http://schemas.openxmlformats.org/drawingml/2006/table">
            <a:tbl>
              <a:tblPr/>
              <a:tblGrid>
                <a:gridCol w="1960920"/>
                <a:gridCol w="558720"/>
                <a:gridCol w="2237400"/>
                <a:gridCol w="558720"/>
                <a:gridCol w="1956240"/>
              </a:tblGrid>
              <a:tr h="12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об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ь числа, 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372360" y="482760"/>
            <a:ext cx="2232000" cy="13842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547640" y="436572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659640" y="429264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4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48000" y="407664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34,2:225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788000" y="407664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0,1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80000" y="4653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=15,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901080" y="143280"/>
            <a:ext cx="719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Начисление «простых и сложных процентов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»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51696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сберкассу положили 10000 руб., на которые начисляют 4% годовых. Сколько денег будет в конце первого года хранения? ( Процентную ставку выражаем десятичной дробью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71280" y="2637000"/>
          <a:ext cx="8964720" cy="2187360"/>
        </p:xfrm>
        <a:graphic>
          <a:graphicData uri="http://schemas.openxmlformats.org/drawingml/2006/table">
            <a:tbl>
              <a:tblPr/>
              <a:tblGrid>
                <a:gridCol w="2989440"/>
                <a:gridCol w="2985840"/>
                <a:gridCol w="29894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оначальный капит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ная став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ыл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ечный капит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"/>
          <p:cNvSpPr/>
          <p:nvPr/>
        </p:nvSpPr>
        <p:spPr>
          <a:xfrm>
            <a:off x="395280" y="5316840"/>
            <a:ext cx="83883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К</a:t>
            </a:r>
            <a:r>
              <a:rPr b="0" lang="ru-RU" sz="2400" spc="-1" strike="noStrike" baseline="-25000">
                <a:solidFill>
                  <a:srgbClr val="ff33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Р+ Р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=Р(1+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конечный капитал после первого года хран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32000" y="38606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227640" y="278136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300720" y="342900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,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916360" y="6453360"/>
            <a:ext cx="201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56360" y="390852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00·0,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940360" y="436572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00(1+0,04)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101080" y="436572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19640" y="2276640"/>
            <a:ext cx="151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32000" y="4365720"/>
            <a:ext cx="13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=Р+ Р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356000" y="436572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Р(1+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85800" y="359280"/>
            <a:ext cx="78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колько денег будет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в конце второго го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хранения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78840" y="810360"/>
            <a:ext cx="570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К</a:t>
            </a:r>
            <a:r>
              <a:rPr b="0" lang="ru-RU" sz="24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К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К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К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1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= Р·(1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· (1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=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Р(1+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0" lang="ru-RU" sz="24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19920" y="1386720"/>
            <a:ext cx="8519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0000(1+0,04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10000·1,042=10000·1,0816=10816(ру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12720" y="2014920"/>
            <a:ext cx="788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колько денег будет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в конце третьего го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хран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31480" y="2494800"/>
            <a:ext cx="1556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К</a:t>
            </a:r>
            <a:r>
              <a:rPr b="0" lang="ru-RU" sz="2400" spc="-1" strike="noStrike" baseline="-25000">
                <a:solidFill>
                  <a:srgbClr val="ff33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=Р(1+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0" lang="ru-RU" sz="2400" spc="-1" strike="noStrike" baseline="30000">
                <a:solidFill>
                  <a:srgbClr val="ff33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27520" y="2998080"/>
            <a:ext cx="7355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10000(1+0,04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10000·1,124864=11248,64(руб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5080" y="3599280"/>
            <a:ext cx="501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олько денег будет через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л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77920" y="4079160"/>
            <a:ext cx="165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К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=Р·(1+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0" lang="en-US" sz="2400" spc="-1" strike="noStrike" baseline="30000">
                <a:solidFill>
                  <a:srgbClr val="ff33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483336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аметры: Р – начальный капит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– конечный капит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роцентная ставка (в виде десятичной дроб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число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11280" y="618480"/>
            <a:ext cx="770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центы называю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сты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если они начисляются только на первоначальный капит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Формула «простых процентов»: К=Р+ Р·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=Р(1+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39640" y="3762000"/>
            <a:ext cx="81360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центы называю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ложны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если они начисляются на наращенный капит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Формула «сложных процентов»: К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Arial"/>
              </a:rPr>
              <a:t>n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=Р·(1+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1" lang="en-US" sz="2400" spc="-1" strike="noStrike" baseline="30000">
                <a:solidFill>
                  <a:srgbClr val="ff33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95280" y="209160"/>
            <a:ext cx="84978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общение формулы «сложных процентов» в случае, когда прирост величины на каждом этапе свой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 = Р·(1+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1" lang="ru-RU" sz="2400" spc="-1" strike="noStrike" baseline="-25000">
                <a:solidFill>
                  <a:srgbClr val="ff3300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)· (1+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1" lang="ru-RU" sz="24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)· (1+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1" lang="ru-RU" sz="2400" spc="-1" strike="noStrike" baseline="-25000">
                <a:solidFill>
                  <a:srgbClr val="ff33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)· …·(1+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Arial"/>
              </a:rPr>
              <a:t>n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5360" y="1772280"/>
            <a:ext cx="137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9280" y="2202840"/>
            <a:ext cx="878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ену товара снизили сначала на 20%, затем новую цену снизили на 15%, и наконец, после перерасчета произвели снижение на 10%. На сколько всего % снизили первоначальную цен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3624480"/>
            <a:ext cx="58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Примем начальную цену товара за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8360" y="429120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Переведем проценты в десятичную дробь: 20%=0,2;  15%=0,15;  10%=0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5160" y="5011920"/>
            <a:ext cx="861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Применим обобщенную формулу «сложных процентов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= 1(1-0,2)(1-0,15)(1-0,1)=0,612=61,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00360" y="5831280"/>
            <a:ext cx="24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вет: на 61,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79280" y="189000"/>
            <a:ext cx="3889440" cy="2735280"/>
          </a:xfrm>
          <a:prstGeom prst="ellipse">
            <a:avLst/>
          </a:prstGeom>
          <a:solidFill>
            <a:srgbClr val="44d86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0920" y="3933720"/>
            <a:ext cx="3889440" cy="2735280"/>
          </a:xfrm>
          <a:prstGeom prst="ellipse">
            <a:avLst/>
          </a:prstGeom>
          <a:solidFill>
            <a:srgbClr val="44d86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254560" y="260280"/>
            <a:ext cx="3889440" cy="2735280"/>
          </a:xfrm>
          <a:prstGeom prst="ellipse">
            <a:avLst/>
          </a:prstGeom>
          <a:solidFill>
            <a:srgbClr val="44d86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03640" y="3933720"/>
            <a:ext cx="3889440" cy="2735280"/>
          </a:xfrm>
          <a:prstGeom prst="ellipse">
            <a:avLst/>
          </a:prstGeom>
          <a:solidFill>
            <a:srgbClr val="44d86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4797360"/>
            <a:ext cx="34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          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Группа «Сельхозакадем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1093680"/>
            <a:ext cx="31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Группа «Архитектор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08720" y="981000"/>
            <a:ext cx="33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Группа «Избирательная комисс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940360" y="468936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Группа «Банковские учреждения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56000" y="2133720"/>
            <a:ext cx="4176720" cy="2808000"/>
          </a:xfrm>
          <a:prstGeom prst="ellipse">
            <a:avLst/>
          </a:prstGeom>
          <a:solidFill>
            <a:srgbClr val="44d86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348000" y="2708280"/>
            <a:ext cx="26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Группа«Сфера обслуживан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animated percent sign"/>
          <p:cNvPicPr/>
          <p:nvPr/>
        </p:nvPicPr>
        <p:blipFill>
          <a:blip r:embed="rId2"/>
          <a:stretch/>
        </p:blipFill>
        <p:spPr>
          <a:xfrm>
            <a:off x="0" y="2708280"/>
            <a:ext cx="190512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55640" y="837720"/>
            <a:ext cx="7488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Цели игры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казать широту применения в жизни процентных вычисл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вторить правила вычисления процентов в разного типа задач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шить задачи на применение процентных вычислений в некоторых профессиях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должить подготовку к ГИ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539640" y="401040"/>
            <a:ext cx="7258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Задания группе «Архитектор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омитет по жилищному строительств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доме 160 двухкомнатных квартир и 240 трехкомнатных квартир. Сколько % от всех квартир составляют трехкомнатны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лужба газификации насе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городе К половину всех зданий составляют одноэтажные строения, 85% из которых являются жилыми домами. Известно, ч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4932360" y="3357720"/>
                <a:ext cx="252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611280" y="401472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троений города К газифицировано. Чего в городе К больше – одноэтажных жилых домов или газифицированных неодноэтажных строени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22520" y="3349800"/>
            <a:ext cx="31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х неодноэтаж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877080" y="5270400"/>
            <a:ext cx="2087640" cy="15876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395280" y="5400720"/>
            <a:ext cx="193356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95280" y="254880"/>
            <a:ext cx="8496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Задания группе «Избирательная комисс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четная пал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ва кандидата в президенты набрали в первом туре выборов одинаковое количество голосов. Во втором туре выборов количество голосов, отданных за первого кандидата, увеличилось  в 1,8 раз, а за второго – на 75%. Какой кандидат набрал во втором туре больше голос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ченический со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 600 учащихся школы в школьном референдуме по вопросу о введении ученического совета участвовали 95% учащихся. На вопрос референдума 70% принявших участие в голосовании ответили «да». Какой процент от числа всех учащихся школы составили те, кто ответил положительн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06200" y="5229360"/>
            <a:ext cx="1260720" cy="1557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7956720" y="5229360"/>
            <a:ext cx="116964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24000" y="174600"/>
            <a:ext cx="856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Задания группе «Сфера обслуживан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Ювелирная мастерск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ювелирном изделии содержание золота составляет 75% от общей массы изделия. Сколько граммов золота содержится в изделии, если его общая масса равна 4 грамм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дел кондитерских заготов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мешали три раствора сахара массой по 200г каждый. Концентрация первого раствора – 14%, концентрация второго – 16%, концентрация третьего – 30%. Сколько сахара ( в граммах) содержится в полученном растворе и какова его концентрация ( в процентах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179280" y="4844880"/>
            <a:ext cx="2305080" cy="18226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6804000" y="4930920"/>
            <a:ext cx="2179800" cy="17366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4067280" y="5013360"/>
            <a:ext cx="117936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24000" y="257040"/>
            <a:ext cx="8569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Задания группе «Сельхозакадем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ивотноводческий отд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рова дает молоко 3,8%-ной жирности, а коза – 4,1%-ной жирности. Молоко какой жирности получится, если смешать молоко коровы и козы в отношении 1:2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дел «Земледели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ощадь поля составляет 84 гектара. В первый день вспахали 21 гектар. Сколько процентов поля не вспахал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68360" y="3573360"/>
            <a:ext cx="2063880" cy="27450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4932360" y="3595680"/>
            <a:ext cx="380520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0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24000" y="255960"/>
            <a:ext cx="8496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Задание группе «Банковские учрежден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дел начислений по вклад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иент открыл в банке счет и положил срочный вклад 5000 рублей. Определите сумму вклада через 2 года, если банк начисляет сложные проценты по ставке 30% годовых и дополнительных вложений не поступа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дел эконом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на на товар сначала повысилась на 13%, потом понизилась на 20% от новой цены, после чего стала равна 11300 рублей. Определите первоначальную цену това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324000" y="426564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292720" y="4356000"/>
            <a:ext cx="330048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0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-37800"/>
            <a:ext cx="9144000" cy="69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Домашнее задани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 Выполнить задания тес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Сколько процентов составляет число 24 от числа 15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62,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2) 120              3) 16              4) 1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Найдите число, которое на 15% больше числа 13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145              2) 149,5           3) 19,5           4) 110,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В семейной коллекции дисков на каждый диск с музыкой приходится 4 диска с мультфильмами и 4 диска с фильмами. Сколько процентов от всех дисков составляют диски с мультфильмами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30                 2) 45               3) 37,5            4) 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) В некоторой школе среди выпускников 9 класса 13 двоечников, что составляет 6,5% от всех выпускников. Сколько всего выпускников 9 класса в этой школ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845               2) 200             3) 213             4) 18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) У фермера 145 кроликов, причем 125 из них небелого цвета. Определите, сколько процентов от общего количества составляют белые кролики. Ответ округлите до целы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16                 2) 14               3) 86               4) 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) Сколько граммов сахара содержит 15%-ный раствор массой 0,3 кг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45                 2) 4,5              3) 20               4) 0,04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) Найдите отношение величин скоростей 61,2км/ч и 5м/с. Ответ выразите в процент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3,4                2) 340             3) 12,24           4) 12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) В банк положили 12000 рублей. В соответствии с договором банком по окончании года будет начисляться 15% от суммы, находящейся на счете. Какова будет сумма средств на вкладе по истечении двух лет, если договором не предусмотрено дополнительное вложение денег?    Ответ: ………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ополнительное задани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 Составьте 3 задачи на проценты, решаемые сотрудниками любой выбранной вами професс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7164360" y="44280"/>
            <a:ext cx="1908360" cy="11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0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468360" y="765000"/>
            <a:ext cx="2160720" cy="518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484360" y="907920"/>
            <a:ext cx="6264360" cy="504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ужны ли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нания о процентах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 современном мире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0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528840"/>
            <a:ext cx="7591320" cy="57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75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Ход иг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ступление консультантов по вопроса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историческая справка о возникновении названия процент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правила нахождения процента от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авила нахождения числа по его процент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авила вычисления простых и сложных проц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меры решения зада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дачи команд: быстро и верно решить задачи; представить решение, ответ и мнения по поводу деловых качеств представителей некоторых специальност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ведение итогов игр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716360" y="337320"/>
            <a:ext cx="41767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ово «процент» происходит от латинского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pro centu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что буквально означает «на сотню», «со ста» или «за сотню». В популярной литературе возникновение этого термина связывается с внедрением в Европе десятичной системы счисления в XV в. Но идея выражения частей целого постоянно в одних и тех же величинах, вызванная практическими соображениями, родилась еще в древности у вавилонян. Ряд задач клинописных табличек посвящен исчислению процентов, однако вавилонские ростовщики считали не «со ста», а «с шестидесяти». Проценты были особенно распространены в Древнем Риме. Римляне называли процентами деньги, которые платил должник заимодавцу за каждую сотн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55640" y="333360"/>
            <a:ext cx="2906640" cy="3456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animated percent sign"/>
          <p:cNvPicPr/>
          <p:nvPr/>
        </p:nvPicPr>
        <p:blipFill>
          <a:blip r:embed="rId3"/>
          <a:stretch/>
        </p:blipFill>
        <p:spPr>
          <a:xfrm>
            <a:off x="826920" y="4354560"/>
            <a:ext cx="280836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9640" y="522900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-видимому, процент возник в Европе вместе с ростовщичеством. Есть мнение, что понятие процент ввел бельгийский ученый Симон Стевин. В 1584 г. он опубликовал таблицы процент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Файл:Simon-stevin.jpe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360" y="333360"/>
            <a:ext cx="3124080" cy="4267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5580000" y="404640"/>
            <a:ext cx="284328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95280" y="4724280"/>
            <a:ext cx="84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потребление термина «процент» в России начинается в конце XVIII в. Долгое время под процентами понималось исключительно прибыль или убыток на каждые 100 рублей. Они применялись только в торговых и денежных сделках. Затем область их применения расширилась, проценты встречаются в хозяйственных и финансовых расчетах, статистике, науке и техни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547640" y="620640"/>
            <a:ext cx="5689800" cy="38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95280" y="5059440"/>
            <a:ext cx="842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ресно происхождение обозначения процента. Существует версия, что знак % происходит от итальянского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pro cento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сто), которое в процентных расчетах часто сокращенно писалось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cto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Отсюда путем дальнейшего сокращения в скорописи буква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евратилась в наклонную черту (/), возник современный знак процен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0920" y="404640"/>
            <a:ext cx="8569080" cy="22449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2916360" y="2755800"/>
            <a:ext cx="2879640" cy="22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24000" y="4960440"/>
            <a:ext cx="85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акже есть предположение, что знак % возник в результате опечатки. В Париже в 1685 г. была напечатана книга – руководство по коммерческой арифметике, где по ошибке наборщик напечатал знак %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Картинка 4 из 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76360" y="476280"/>
            <a:ext cx="5975280" cy="39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9640" y="5084640"/>
            <a:ext cx="806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55640" y="33336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ейчас проценты употребляются для сравнения однородных положительных колич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1341360"/>
            <a:ext cx="324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дин процент – это по определению одна сота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1%= 1/1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22520" y="1341360"/>
            <a:ext cx="264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тветственн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p% = p/1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1280" y="2924280"/>
            <a:ext cx="324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ин процент от количества А – это, по определению, одна сотая часть количества А: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1%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т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вен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1/10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292720" y="3249720"/>
            <a:ext cx="287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тветственн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p%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т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вен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p/100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8T12:56:45Z</dcterms:created>
  <dc:creator>Зиновьевы</dc:creator>
  <dc:description/>
  <dc:language>en-US</dc:language>
  <cp:lastModifiedBy>ufssp</cp:lastModifiedBy>
  <dcterms:modified xsi:type="dcterms:W3CDTF">2013-03-30T08:08:23Z</dcterms:modified>
  <cp:revision>31</cp:revision>
  <dc:subject/>
  <dc:title>Слайд 1</dc:title>
</cp:coreProperties>
</file>