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png" ContentType="image/png"/>
  <Override PartName="/ppt/media/image5.gif" ContentType="image/gif"/>
  <Override PartName="/ppt/media/image14.jpeg" ContentType="image/jpeg"/>
  <Override PartName="/ppt/media/image21.jpeg" ContentType="image/jpeg"/>
  <Override PartName="/ppt/media/image13.gif" ContentType="image/gif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D75-2713-4677-BC82-7E863C07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FE4-E8B5-4B17-8E29-F7DCA1AC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D92-68C2-459C-A503-9F43BA4E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72B-E69B-4419-9A08-D667AD89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448-9245-4BE3-909E-5822BCD1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A98-91E0-4D43-8219-311675AA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CC3-007C-4683-9A65-8B57C252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231-EA8D-43A9-BE2A-6A0C472C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677-5228-47FF-BCFE-2889E995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323-30C4-4DA9-8C3A-53C4C565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26D-B9F2-4AF7-9E3B-4DB4F9EE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87F-FE22-4AF3-9312-6A231B61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9054-6C50-44EC-B113-B2AEEBC82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7/7f/Simon-stevin.jpe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saripkro.ru/images/Ermak_balakovo_4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89000"/>
            <a:ext cx="4680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лов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24000" y="3429000"/>
            <a:ext cx="597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ц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нашей жизн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animated percent sign"/>
          <p:cNvPicPr/>
          <p:nvPr/>
        </p:nvPicPr>
        <p:blipFill>
          <a:blip r:embed="rId6"/>
          <a:stretch/>
        </p:blipFill>
        <p:spPr>
          <a:xfrm>
            <a:off x="6443640" y="476280"/>
            <a:ext cx="19908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26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Устная рабо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260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ак перевести проценты в дроб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763560"/>
            <a:ext cx="820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ведите проценты в дроб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;   25%;   10%;   75%;   20%;   30%;   65%;   6%;   2,5%;   0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225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ак перевести дробь в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85264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ведите дробь в проц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5;   0,6;   0,1;   0,02;   0,27;   0,93;   1,26;   1,2;   1,06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4360" y="3933720"/>
                <a:ext cx="2232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788000" y="3284640"/>
                <a:ext cx="3808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732720" y="3284640"/>
                <a:ext cx="309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116000" y="14148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и решении задач на проценты и ча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езно использовать табличную форму записи условия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619280" y="1773360"/>
          <a:ext cx="5545080" cy="1431720"/>
        </p:xfrm>
        <a:graphic>
          <a:graphicData uri="http://schemas.openxmlformats.org/drawingml/2006/table">
            <a:tbl>
              <a:tblPr/>
              <a:tblGrid>
                <a:gridCol w="1492200"/>
                <a:gridCol w="426960"/>
                <a:gridCol w="1706760"/>
                <a:gridCol w="426960"/>
                <a:gridCol w="149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числа,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937520" y="347544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а;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04160" y="3475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58040" y="4314960"/>
            <a:ext cx="7011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ы: А –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проценты, переведенные в дро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часть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12320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лассе 30 учеников, из них 60% учеников успевают на «4» и «5». Сколько ударников в класс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2997360"/>
          <a:ext cx="6120720" cy="2159640"/>
        </p:xfrm>
        <a:graphic>
          <a:graphicData uri="http://schemas.openxmlformats.org/drawingml/2006/table">
            <a:tbl>
              <a:tblPr/>
              <a:tblGrid>
                <a:gridCol w="1648080"/>
                <a:gridCol w="470880"/>
                <a:gridCol w="1883520"/>
                <a:gridCol w="470880"/>
                <a:gridCol w="164736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числа,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1139400" y="4312080"/>
            <a:ext cx="69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3120" y="260280"/>
            <a:ext cx="29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Уст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365560" cy="146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50920" y="429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1440" y="42926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=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0200" y="4365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0,6=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47628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Найти размер вклада, 30%  которого составляют 7500 р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4360" y="2276640"/>
          <a:ext cx="6622920" cy="2127240"/>
        </p:xfrm>
        <a:graphic>
          <a:graphicData uri="http://schemas.openxmlformats.org/drawingml/2006/table">
            <a:tbl>
              <a:tblPr/>
              <a:tblGrid>
                <a:gridCol w="2307960"/>
                <a:gridCol w="454320"/>
                <a:gridCol w="1817640"/>
                <a:gridCol w="453960"/>
                <a:gridCol w="1589040"/>
              </a:tblGrid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числа,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72360" y="247680"/>
            <a:ext cx="2520720" cy="156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3503520"/>
            <a:ext cx="25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500:0,3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=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350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3500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33336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Каково процентное содержание меди в руде, если 225 кг руды содержат 34,2 кг ме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0000" y="2563920"/>
          <a:ext cx="7272000" cy="2952360"/>
        </p:xfrm>
        <a:graphic>
          <a:graphicData uri="http://schemas.openxmlformats.org/drawingml/2006/table">
            <a:tbl>
              <a:tblPr/>
              <a:tblGrid>
                <a:gridCol w="1960920"/>
                <a:gridCol w="558720"/>
                <a:gridCol w="2237400"/>
                <a:gridCol w="558720"/>
                <a:gridCol w="1956240"/>
              </a:tblGrid>
              <a:tr h="12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числа,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372360" y="482760"/>
            <a:ext cx="2232000" cy="138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47640" y="4365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4292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407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4,2:22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40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,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465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15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1080" y="143280"/>
            <a:ext cx="71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ачисление «простых и сложных процентов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169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беркассу положили 10000 руб., на которые начисляют 4% годовых. Сколько денег будет в конце первого года хранения? ( Процентную ставку выражаем десятичной дробь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1280" y="2637000"/>
          <a:ext cx="8964720" cy="218736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капи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ая ста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чный капи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95280" y="5316840"/>
            <a:ext cx="838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Р+ Р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=Р(1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ечный капитал после первого года хра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386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7640" y="278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342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6453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6360" y="39085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·0,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4365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(1+0,04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01080" y="4365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227664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4365720"/>
            <a:ext cx="13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=Р+ Р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4365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(1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359280"/>
            <a:ext cx="78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денег буде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в конце второго г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ранени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8840" y="810360"/>
            <a:ext cx="570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 Р·(1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· (1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(1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9920" y="1386720"/>
            <a:ext cx="85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00(1+0,0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0·1,042=10000·1,0816=10816(р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2720" y="2014920"/>
            <a:ext cx="78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денег буде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в конце третьего г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ра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31480" y="2494800"/>
            <a:ext cx="155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=Р(1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27520" y="2998080"/>
            <a:ext cx="73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0(1+0,0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0·1,124864=11248,64(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080" y="359928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денег будет чере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77920" y="4079160"/>
            <a:ext cx="165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=Р·(1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833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ы: Р – начальный кап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– конечный кап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нтная ставка (в виде десятичной дроб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сло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11280" y="61848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ы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и начисляются только на первоначальны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ормула «простых процентов»: К=Р+ Р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=Р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62000"/>
            <a:ext cx="8136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ы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ж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и начисляются на наращенны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ормула «сложных процентов»: К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=Р·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209160"/>
            <a:ext cx="8497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формулы «сложных процентов» в случае, когда прирост величины на каждом этапе св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= Р·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· 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· 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· …·(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5360" y="177228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220284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у товара снизили сначала на 20%, затем новую цену снизили на 15%, и наконец, после перерасчета произвели снижение на 10%. На сколько всего % снизили первоначальную це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62448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римем начальную цену товара з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42912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ереведем проценты в десятичную дробь: 20%=0,2;  15%=0,15;  10%=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160" y="5011920"/>
            <a:ext cx="861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меним обобщенную формулу «сложных процентов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= 1(1-0,2)(1-0,15)(1-0,1)=0,612=61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360" y="58312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на 61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189000"/>
            <a:ext cx="3889440" cy="2735280"/>
          </a:xfrm>
          <a:prstGeom prst="ellipse">
            <a:avLst/>
          </a:prstGeom>
          <a:solidFill>
            <a:srgbClr val="44d8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933720"/>
            <a:ext cx="3889440" cy="2735280"/>
          </a:xfrm>
          <a:prstGeom prst="ellipse">
            <a:avLst/>
          </a:prstGeom>
          <a:solidFill>
            <a:srgbClr val="44d8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4560" y="260280"/>
            <a:ext cx="3889440" cy="2735280"/>
          </a:xfrm>
          <a:prstGeom prst="ellipse">
            <a:avLst/>
          </a:prstGeom>
          <a:solidFill>
            <a:srgbClr val="44d8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3933720"/>
            <a:ext cx="3889440" cy="2735280"/>
          </a:xfrm>
          <a:prstGeom prst="ellipse">
            <a:avLst/>
          </a:prstGeom>
          <a:solidFill>
            <a:srgbClr val="44d8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4797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руппа «Сельхозакадем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093680"/>
            <a:ext cx="31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руппа «Архитекто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981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руппа «Избирательная комисс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4689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руппа «Банковские учрежде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2133720"/>
            <a:ext cx="4176720" cy="2808000"/>
          </a:xfrm>
          <a:prstGeom prst="ellipse">
            <a:avLst/>
          </a:prstGeom>
          <a:solidFill>
            <a:srgbClr val="44d8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2708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руппа«Сфера обслужи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animated percent sign"/>
          <p:cNvPicPr/>
          <p:nvPr/>
        </p:nvPicPr>
        <p:blipFill>
          <a:blip r:embed="rId2"/>
          <a:stretch/>
        </p:blipFill>
        <p:spPr>
          <a:xfrm>
            <a:off x="0" y="2708280"/>
            <a:ext cx="1905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837720"/>
            <a:ext cx="748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и игр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ть широту применения в жизни процентных вычис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торить правила вычисления процентов в разного типа задач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ь задачи на применение процентных вычислений в некоторых профессия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жить подготовку к ГИ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401040"/>
            <a:ext cx="725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Задания группе «Архитекто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итет по жилищному строитель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оме 160 двухкомнатных квартир и 240 трехкомнатных квартир. Сколько % от всех квартир составляют трехкомнат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ужба газификации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ороде К половину всех зданий составляют одноэтажные строения, 85% из которых являются жилыми домами. Извест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32360" y="3357720"/>
                <a:ext cx="25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401472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й города К газифицировано. Чего в городе К больше – одноэтажных жилых домов или газифицированных неодноэтажных стро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22520" y="3349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неодноэтаж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77080" y="5270400"/>
            <a:ext cx="2087640" cy="158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95280" y="5400720"/>
            <a:ext cx="19335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25488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дания группе «Избирательная коми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четная па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а кандидата в президенты набрали в первом туре выборов одинаковое количество голосов. Во втором туре выборов количество голосов, отданных за первого кандидата, увеличилось  в 1,8 раз, а за второго – на 75%. Какой кандидат набрал во втором туре больше голос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нический со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600 учащихся школы в школьном референдуме по вопросу о введении ученического совета участвовали 95% учащихся. На вопрос референдума 70% принявших участие в голосовании ответили «да». Какой процент от числа всех учащихся школы составили те, кто ответил положите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06200" y="5229360"/>
            <a:ext cx="12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956720" y="5229360"/>
            <a:ext cx="11696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1746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дания группе «Сфера обслужи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велирная мастер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ювелирном изделии содержание золота составляет 75% от общей массы изделия. Сколько граммов золота содержится в изделии, если его общая масса равна 4 грам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дел кондитерских загот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шали три раствора сахара массой по 200г каждый. Концентрация первого раствора – 14%, концентрация второго – 16%, концентрация третьего – 30%. Сколько сахара ( в граммах) содержится в полученном растворе и какова его концентрация ( в процентах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4844880"/>
            <a:ext cx="2305080" cy="1822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804000" y="4930920"/>
            <a:ext cx="2179800" cy="1736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067280" y="5013360"/>
            <a:ext cx="1179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25704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дания группе «Сельхозакадем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оводческий от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ва дает молоко 3,8%-ной жирности, а коза – 4,1%-ной жирности. Молоко какой жирности получится, если смешать молоко коровы и козы в отношении 1: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 «Земледел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поля составляет 84 гектара. В первый день вспахали 21 гектар. Сколько процентов поля не вспах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2063880" cy="2745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32360" y="3595680"/>
            <a:ext cx="38052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255960"/>
            <a:ext cx="84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дание группе «Банковские учрежд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 начислений по вкла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ент открыл в банке счет и положил срочный вклад 5000 рублей. Определите сумму вклада через 2 года, если банк начисляет сложные проценты по ставке 30% годовых и дополнительных вложений не поступ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 на товар сначала повысилась на 13%, потом понизилась на 20% от новой цены, после чего стала равна 11300 рублей. Определите первоначальную цену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4265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92720" y="4356000"/>
            <a:ext cx="33004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-37800"/>
            <a:ext cx="914400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Домашнее зад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Выполнить задания тес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Сколько процентов составляет число 24 от числа 1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62,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2) 120              3) 16              4) 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Найдите число, которое на 15% больше числа 13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145              2) 149,5           3) 19,5           4) 11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В семейной коллекции дисков на каждый диск с музыкой приходится 4 диска с мультфильмами и 4 диска с фильмами. Сколько процентов от всех дисков составляют диски с мультфильма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30                 2) 45               3) 37,5            4)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) В некоторой школе среди выпускников 9 класса 13 двоечников, что составляет 6,5% от всех выпускников. Сколько всего выпускников 9 класса в этой школ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845               2) 200             3) 213             4) 1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) У фермера 145 кроликов, причем 125 из них небелого цвета. Определите, сколько процентов от общего количества составляют белые кролики. Ответ округлите до цел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16                 2) 14               3) 86               4)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) Сколько граммов сахара содержит 15%-ный раствор массой 0,3 кг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45                 2) 4,5              3) 20               4) 0,0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) Найдите отношение величин скоростей 61,2км/ч и 5м/с. Ответ выразите в процен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3,4                2) 340             3) 12,24           4) 12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) В банк положили 12000 рублей. В соответствии с договором банком по окончании года будет начисляться 15% от суммы, находящейся на счете. Какова будет сумма средств на вкладе по истечении двух лет, если договором не предусмотрено дополнительное вложение денег?    Ответ: 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ое зад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Составьте 3 задачи на проценты, решаемые сотрудниками любой выбранной вами профе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164360" y="44280"/>
            <a:ext cx="190836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360" y="765000"/>
            <a:ext cx="216072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484360" y="907920"/>
            <a:ext cx="626436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ужны л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нания о процента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современном мире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528840"/>
            <a:ext cx="7591320" cy="57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д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тупление консультантов по вопрос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сторическая справка о возникновении названия проц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равила нахождения процента от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а нахождения числа по его процен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а вычисления простых и сложных проц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ы решения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команд: быстро и верно решить задачи; представить решение, ответ и мнения по поводу деловых качеств представителей некоторых специаль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ведение итогов иг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716360" y="337320"/>
            <a:ext cx="4176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 «процент» происходит от латинског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 cent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буквально означает «на сотню», «со ста» или «за сотню». В популярной литературе возникновение этого термина связывается с внедрением в Европе десятичной системы счисления в XV в. Но идея выражения частей целого постоянно в одних и тех же величинах, вызванная практическими соображениями, родилась еще в древности у вавилонян. Ряд задач клинописных табличек посвящен исчислению процентов, однако вавилонские ростовщики считали не «со ста», а «с шестидесяти». Проценты были особенно распространены в Древнем Риме. Римляне называли процентами деньги, которые платил должник заимодавцу за каждую сотн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2906640" cy="345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animated percent sign"/>
          <p:cNvPicPr/>
          <p:nvPr/>
        </p:nvPicPr>
        <p:blipFill>
          <a:blip r:embed="rId3"/>
          <a:stretch/>
        </p:blipFill>
        <p:spPr>
          <a:xfrm>
            <a:off x="826920" y="4354560"/>
            <a:ext cx="2808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5229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видимому, процент возник в Европе вместе с ростовщичеством. Есть мнение, что понятие процент ввел бельгийский ученый Симон Стевин. В 1584 г. он опубликовал таблицы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Файл:Simon-stevin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3124080" cy="426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80000" y="404640"/>
            <a:ext cx="2843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47242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отребление термина «процент» в России начинается в конце XVIII в. Долгое время под процентами понималось исключительно прибыль или убыток на каждые 100 рублей. Они применялись только в торговых и денежных сделках. Затем область их применения расширилась, проценты встречаются в хозяйственных и финансовых расчетах, статистике, науке и техн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620640"/>
            <a:ext cx="56898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50594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 происхождение обозначения процента. Существует версия, что знак % происходит от итальянског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 cent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о), которое в процентных расчетах часто сокращенно писалос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ct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тсюда путем дальнейшего сокращения в скорописи букв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вратилась в наклонную черту (/), возник современный знак проц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569080" cy="2244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16360" y="2755800"/>
            <a:ext cx="2879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9604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же есть предположение, что знак % возник в результате опечатки. В Париже в 1685 г. была напечатана книга – руководство по коммерческой арифметике, где по ошибке наборщик напечатал знак %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артинка 4 из 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476280"/>
            <a:ext cx="59752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508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333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йчас проценты употребляются для сравнения однородных положительных коли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34136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процент – это по определению одна сота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%= 1/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22520" y="134136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% = p/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924280"/>
            <a:ext cx="32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процент от количества А – это, по определению, одна сотая часть количества А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ен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/1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3249720"/>
            <a:ext cx="28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ен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/10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2:56:45Z</dcterms:created>
  <dc:creator>Зиновьевы</dc:creator>
  <dc:description/>
  <dc:language>en-US</dc:language>
  <cp:lastModifiedBy>ufssp</cp:lastModifiedBy>
  <dcterms:modified xsi:type="dcterms:W3CDTF">2013-03-30T08:08:23Z</dcterms:modified>
  <cp:revision>31</cp:revision>
  <dc:subject/>
  <dc:title>Слайд 1</dc:title>
</cp:coreProperties>
</file>