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EC853-5436-43BE-A678-1C9EF0E13E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9B69A-D0FB-4C0D-9793-6114596FF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734F9-F516-4F27-A514-34B02FFBE6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085-6DC3-44DF-B6F7-31D03D20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262-D915-47DB-BAF0-EC0F235F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430-9B34-4B0E-B6ED-FFF88BC0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938-D7CD-4C04-9447-E9D1AD96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55B-AF16-417F-BA3C-DD4451B1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0E0-14FF-4A8E-8EA6-CCF9B53F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797-4B5D-4267-860A-87012C8E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6E8-6730-4DFD-B3C4-73D2487E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D40-A402-4A13-98A9-5A05ADA2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A25-202F-4A33-8A8E-EE636DD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773-8D87-4291-A0C0-B928EF6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D8A-14AE-4B1D-90E9-C2EE64C5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641E57-F74E-46CD-886F-22DB51C1B1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68400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нажё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й родной, навек люб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ГБОУ СОШ №3 г.о.Чапаевск Каймак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водное животное являет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ндикатором чистоты воды в нашем кра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2448000" y="406728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дяной у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2519280" y="197964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6985080" y="1851120"/>
            <a:ext cx="1912680" cy="1498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ба пло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6912000" y="414036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ной 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м году  город Куйбыш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тал запасной столицей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2519280" y="197964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4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6696000" y="1908000"/>
            <a:ext cx="1871640" cy="1441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4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6912000" y="414036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44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2376360" y="414036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4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свою работ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лично»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ы правильно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ил на вс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Хорошо» - если ты допустил 1-2 ошиб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райся» - если ты допустил 3-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ок. Устрани пробелы в знаниях п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й теме, где были допущены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жешь лучше» - если ты допусти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5 ошибок. Найди ответы на т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вопросы, 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 допущены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68440" y="1707840"/>
            <a:ext cx="8282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, оцените свои знания по теме «Самарская обла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боре правильного ответа, овал станет зелё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цвет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ответили неверно, овал окрасится в красный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ереходе на следующий слайд нажмите н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кленовый лист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не знаете ответ на вопрос, можно най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дополнительные сведения о Самарском крае в интернет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ресурсах, справоч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6012000"/>
            <a:ext cx="12967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60720" y="395280"/>
            <a:ext cx="77040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вестны ли вам размеры Самарской области? Они составля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4103640" y="4572000"/>
            <a:ext cx="338616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4 тыс.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2160720" y="2411280"/>
            <a:ext cx="331308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4 тыс.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6408720" y="2266920"/>
            <a:ext cx="331308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4 тыс.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6012000"/>
            <a:ext cx="1296720" cy="129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своим очертаниям на карте Самарская область напоминает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4960" y="1911240"/>
            <a:ext cx="3106800" cy="712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360360" y="1835280"/>
            <a:ext cx="4392720" cy="1008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87280" y="4788000"/>
            <a:ext cx="4392720" cy="1008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5400720" y="4788000"/>
            <a:ext cx="4392720" cy="1008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ез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2808360" y="3203640"/>
            <a:ext cx="4392720" cy="1008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5940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м году была образована Самарская губер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2664000" y="1908000"/>
            <a:ext cx="242712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5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68" name="Oval 8"/>
          <p:cNvSpPr/>
          <p:nvPr/>
        </p:nvSpPr>
        <p:spPr>
          <a:xfrm>
            <a:off x="4824360" y="313200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6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>
            <a:off x="7056360" y="457200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0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ая высокая точка наше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2376360" y="183528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децкий ку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4464000" y="320364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арёв Ку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201080" y="4356000"/>
            <a:ext cx="242712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а Стр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российский Грушинский фестиваль бардовской песни проводитс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амарской области с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>
            <a:off x="2376360" y="183528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4753080" y="2916360"/>
            <a:ext cx="242712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6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8"/>
          <p:cNvSpPr/>
          <p:nvPr/>
        </p:nvSpPr>
        <p:spPr>
          <a:xfrm>
            <a:off x="7056360" y="4211640"/>
            <a:ext cx="2427480" cy="14176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8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почвы более всего распростране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нашей обл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"/>
          <p:cNvSpPr/>
          <p:nvPr/>
        </p:nvSpPr>
        <p:spPr>
          <a:xfrm>
            <a:off x="396720" y="1922400"/>
            <a:ext cx="3538800" cy="1354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ые 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736720" y="3708360"/>
            <a:ext cx="3732480" cy="151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5545080" y="5565600"/>
            <a:ext cx="3567240" cy="1382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нозё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71640" y="5867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время года у нас самое длин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2376360" y="226692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480000" y="4211640"/>
            <a:ext cx="187200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6335640" y="226692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2376360" y="4284720"/>
            <a:ext cx="1871640" cy="1441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i?id=4f4739baff8b58d55fa57f82581c6eed-l&amp;n=1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69440" y="594036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8:00:51Z</dcterms:created>
  <dc:creator/>
  <dc:description/>
  <dc:language>en-US</dc:language>
  <cp:lastModifiedBy>Ольга Анатольевна</cp:lastModifiedBy>
  <dcterms:modified xsi:type="dcterms:W3CDTF">2020-11-05T09:20:34Z</dcterms:modified>
  <cp:revision>20</cp:revision>
  <dc:subject/>
  <dc:title>Тренажёр </dc:title>
</cp:coreProperties>
</file>