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2D63A8-DD5C-4325-A2C6-55DBD19D2C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4F82A-B45D-49EC-86C7-7828A83438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6F1D29-8501-4D78-B3B3-AF062483E9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F48E-0075-48FC-9691-3B8AB3ECF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584C-8FA8-4715-B4E7-501149A5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3584-5E78-4943-B5F9-0F3FBCD3E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B610-F565-4526-831D-6C868C9FE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8EAB-8639-4D3B-B1F8-B3ECEA07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DE32-43EC-4508-B225-CD1CEECC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27D1-7BCB-4AEC-9C80-2919F459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8D7C-8AE6-46AB-BC55-30F9DBCF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7658-5F98-4D23-A6BB-57E2F8B4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4673-3A63-48C1-9989-059A7735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5F33-5B53-4C6D-A137-DB19B091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D7DB-2A73-48FA-89C0-307DA899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4B54CA4-CC87-4EAC-8A99-84B5F34E26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6360" y="684000"/>
            <a:ext cx="90691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ренажё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рай родной, навек любим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 ГБОУ СОШ №3 г.о.Чапаевск Каймакова Ольга Анатол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ое водное животное являетс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индикатором чистоты воды в нашем кра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5"/>
          <p:cNvSpPr/>
          <p:nvPr/>
        </p:nvSpPr>
        <p:spPr>
          <a:xfrm>
            <a:off x="2448000" y="4067280"/>
            <a:ext cx="1871640" cy="14414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дяной у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6"/>
          <p:cNvSpPr/>
          <p:nvPr/>
        </p:nvSpPr>
        <p:spPr>
          <a:xfrm>
            <a:off x="2519280" y="1979640"/>
            <a:ext cx="1871640" cy="14414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ягу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7"/>
          <p:cNvSpPr/>
          <p:nvPr/>
        </p:nvSpPr>
        <p:spPr>
          <a:xfrm>
            <a:off x="6985080" y="1851120"/>
            <a:ext cx="1912680" cy="14986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ыба пло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8"/>
          <p:cNvSpPr/>
          <p:nvPr/>
        </p:nvSpPr>
        <p:spPr>
          <a:xfrm>
            <a:off x="6912000" y="4140360"/>
            <a:ext cx="1871640" cy="14414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чной р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i?id=4f4739baff8b58d55fa57f82581c6eed-l&amp;n=13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569440" y="5940360"/>
            <a:ext cx="1296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18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каком году  город Куйбышев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стал запасной столицей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5"/>
          <p:cNvSpPr/>
          <p:nvPr/>
        </p:nvSpPr>
        <p:spPr>
          <a:xfrm>
            <a:off x="2519280" y="1979640"/>
            <a:ext cx="1871640" cy="14414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942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6"/>
          <p:cNvSpPr/>
          <p:nvPr/>
        </p:nvSpPr>
        <p:spPr>
          <a:xfrm>
            <a:off x="6696000" y="1908000"/>
            <a:ext cx="1871640" cy="14418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943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6912000" y="4140360"/>
            <a:ext cx="1871640" cy="14414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944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8"/>
          <p:cNvSpPr/>
          <p:nvPr/>
        </p:nvSpPr>
        <p:spPr>
          <a:xfrm>
            <a:off x="2376360" y="4140360"/>
            <a:ext cx="1871640" cy="14414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941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i?id=4f4739baff8b58d55fa57f82581c6eed-l&amp;n=13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569440" y="5940360"/>
            <a:ext cx="1296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22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цени свою работу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Отлично» 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ты правильно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ил на все вопро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Хорошо» - если ты допустил 1-2 ошиб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остарайся» - если ты допустил 3-5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шибок. Устрани пробелы в знаниях по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й теме, где были допущены ошиб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Можешь лучше» - если ты допустил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ее 5 ошибок. Найди ответы на те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вопросы, гд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ли допущены ошиб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но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68440" y="1707840"/>
            <a:ext cx="8282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бята, оцените свои знания по теме «Самарская област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ыборе правильного ответа, овал станет зелёного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цвета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вы ответили неверно, овал окрасится в красный 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ц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переходе на следующий слайд нажмите на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кленовый листоч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вы не знаете ответ на вопрос, можно найт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дополнительные сведения о Самарском крае в интернет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ресурсах, справочни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лаю удач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i?id=4f4739baff8b58d55fa57f82581c6eed-l&amp;n=13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569440" y="6012000"/>
            <a:ext cx="129672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160720" y="395280"/>
            <a:ext cx="770400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звестны ли вам размеры Самарской области? Они составляю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3"/>
          <p:cNvSpPr/>
          <p:nvPr/>
        </p:nvSpPr>
        <p:spPr>
          <a:xfrm>
            <a:off x="4103640" y="4572000"/>
            <a:ext cx="3386160" cy="15843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4 тыс.к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6"/>
          <p:cNvSpPr/>
          <p:nvPr/>
        </p:nvSpPr>
        <p:spPr>
          <a:xfrm>
            <a:off x="2160720" y="2411280"/>
            <a:ext cx="3313080" cy="15843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4 тыс.к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7"/>
          <p:cNvSpPr/>
          <p:nvPr/>
        </p:nvSpPr>
        <p:spPr>
          <a:xfrm>
            <a:off x="6408720" y="2266920"/>
            <a:ext cx="3313080" cy="15843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74 тыс.к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i?id=4f4739baff8b58d55fa57f82581c6eed-l&amp;n=13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569440" y="6012000"/>
            <a:ext cx="1296720" cy="129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3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 своим очертаниям на карте Самарская область напоминает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114960" y="1911240"/>
            <a:ext cx="3106800" cy="712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в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7"/>
          <p:cNvSpPr/>
          <p:nvPr/>
        </p:nvSpPr>
        <p:spPr>
          <a:xfrm>
            <a:off x="360360" y="1835280"/>
            <a:ext cx="4392720" cy="10080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вад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8"/>
          <p:cNvSpPr/>
          <p:nvPr/>
        </p:nvSpPr>
        <p:spPr>
          <a:xfrm>
            <a:off x="287280" y="4788000"/>
            <a:ext cx="4392720" cy="10080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рд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9"/>
          <p:cNvSpPr/>
          <p:nvPr/>
        </p:nvSpPr>
        <p:spPr>
          <a:xfrm>
            <a:off x="5400720" y="4788000"/>
            <a:ext cx="4392720" cy="10080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вез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0"/>
          <p:cNvSpPr/>
          <p:nvPr/>
        </p:nvSpPr>
        <p:spPr>
          <a:xfrm>
            <a:off x="2808360" y="3203640"/>
            <a:ext cx="4392720" cy="10080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1" descr="i?id=4f4739baff8b58d55fa57f82581c6eed-l&amp;n=13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5940360"/>
            <a:ext cx="12970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6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236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каком году была образована Самарская губер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6"/>
          <p:cNvSpPr/>
          <p:nvPr/>
        </p:nvSpPr>
        <p:spPr>
          <a:xfrm>
            <a:off x="2664000" y="1908000"/>
            <a:ext cx="2427120" cy="14176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851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i?id=4f4739baff8b58d55fa57f82581c6eed-l&amp;n=13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569440" y="5940360"/>
            <a:ext cx="1296720" cy="1297080"/>
          </a:xfrm>
          <a:prstGeom prst="rect">
            <a:avLst/>
          </a:prstGeom>
          <a:ln w="0">
            <a:noFill/>
          </a:ln>
        </p:spPr>
      </p:pic>
      <p:sp>
        <p:nvSpPr>
          <p:cNvPr id="68" name="Oval 8"/>
          <p:cNvSpPr/>
          <p:nvPr/>
        </p:nvSpPr>
        <p:spPr>
          <a:xfrm>
            <a:off x="4824360" y="3132000"/>
            <a:ext cx="2427480" cy="14176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862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9"/>
          <p:cNvSpPr/>
          <p:nvPr/>
        </p:nvSpPr>
        <p:spPr>
          <a:xfrm>
            <a:off x="7056360" y="4572000"/>
            <a:ext cx="2427480" cy="14176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90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9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236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амая высокая точка нашего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6"/>
          <p:cNvSpPr/>
          <p:nvPr/>
        </p:nvSpPr>
        <p:spPr>
          <a:xfrm>
            <a:off x="2376360" y="1835280"/>
            <a:ext cx="2427480" cy="14176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лодецкий кург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7"/>
          <p:cNvSpPr/>
          <p:nvPr/>
        </p:nvSpPr>
        <p:spPr>
          <a:xfrm>
            <a:off x="4464000" y="3203640"/>
            <a:ext cx="2427480" cy="14176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арёв Кург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8"/>
          <p:cNvSpPr/>
          <p:nvPr/>
        </p:nvSpPr>
        <p:spPr>
          <a:xfrm>
            <a:off x="7201080" y="4356000"/>
            <a:ext cx="2427120" cy="14176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ра Стре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i?id=4f4739baff8b58d55fa57f82581c6eed-l&amp;n=13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569440" y="5940360"/>
            <a:ext cx="1296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10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сероссийский Грушинский фестиваль бардовской песни проводится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Самарской области с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i?id=4f4739baff8b58d55fa57f82581c6eed-l&amp;n=13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569440" y="5940360"/>
            <a:ext cx="1296720" cy="1297080"/>
          </a:xfrm>
          <a:prstGeom prst="rect">
            <a:avLst/>
          </a:prstGeom>
          <a:ln w="0">
            <a:noFill/>
          </a:ln>
        </p:spPr>
      </p:pic>
      <p:sp>
        <p:nvSpPr>
          <p:cNvPr id="77" name="Oval 6"/>
          <p:cNvSpPr/>
          <p:nvPr/>
        </p:nvSpPr>
        <p:spPr>
          <a:xfrm>
            <a:off x="2376360" y="1835280"/>
            <a:ext cx="2427480" cy="14176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001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7"/>
          <p:cNvSpPr/>
          <p:nvPr/>
        </p:nvSpPr>
        <p:spPr>
          <a:xfrm>
            <a:off x="4753080" y="2916360"/>
            <a:ext cx="2427120" cy="14176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968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8"/>
          <p:cNvSpPr/>
          <p:nvPr/>
        </p:nvSpPr>
        <p:spPr>
          <a:xfrm>
            <a:off x="7056360" y="4211640"/>
            <a:ext cx="2427480" cy="14176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98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13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ие почвы более всего распространены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в нашей обла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4"/>
          <p:cNvSpPr/>
          <p:nvPr/>
        </p:nvSpPr>
        <p:spPr>
          <a:xfrm>
            <a:off x="396720" y="1922400"/>
            <a:ext cx="3538800" cy="135432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рые лес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5"/>
          <p:cNvSpPr/>
          <p:nvPr/>
        </p:nvSpPr>
        <p:spPr>
          <a:xfrm>
            <a:off x="2736720" y="3708360"/>
            <a:ext cx="3732480" cy="15112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сча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6"/>
          <p:cNvSpPr/>
          <p:nvPr/>
        </p:nvSpPr>
        <p:spPr>
          <a:xfrm>
            <a:off x="5545080" y="5565600"/>
            <a:ext cx="3567240" cy="13827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рнозё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i?id=4f4739baff8b58d55fa57f82581c6eed-l&amp;n=13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871640" y="5867280"/>
            <a:ext cx="12970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15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ое время года у нас самое длинн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5"/>
          <p:cNvSpPr/>
          <p:nvPr/>
        </p:nvSpPr>
        <p:spPr>
          <a:xfrm>
            <a:off x="2376360" y="2266920"/>
            <a:ext cx="1871640" cy="14414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е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6"/>
          <p:cNvSpPr/>
          <p:nvPr/>
        </p:nvSpPr>
        <p:spPr>
          <a:xfrm>
            <a:off x="6480000" y="4211640"/>
            <a:ext cx="1872000" cy="14414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7"/>
          <p:cNvSpPr/>
          <p:nvPr/>
        </p:nvSpPr>
        <p:spPr>
          <a:xfrm>
            <a:off x="6335640" y="2266920"/>
            <a:ext cx="1871640" cy="14414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8"/>
          <p:cNvSpPr/>
          <p:nvPr/>
        </p:nvSpPr>
        <p:spPr>
          <a:xfrm>
            <a:off x="2376360" y="4284720"/>
            <a:ext cx="1871640" cy="14414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с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i?id=4f4739baff8b58d55fa57f82581c6eed-l&amp;n=13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569440" y="5940360"/>
            <a:ext cx="1296720" cy="1297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i?id=4f4739baff8b58d55fa57f82581c6eed-l&amp;n=13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69440" y="5940360"/>
            <a:ext cx="1296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17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08:00:51Z</dcterms:created>
  <dc:creator/>
  <dc:description/>
  <dc:language>en-US</dc:language>
  <cp:lastModifiedBy>Ольга Анатольевна</cp:lastModifiedBy>
  <dcterms:modified xsi:type="dcterms:W3CDTF">2020-11-05T09:20:34Z</dcterms:modified>
  <cp:revision>20</cp:revision>
  <dc:subject/>
  <dc:title>Тренажёр </dc:title>
</cp:coreProperties>
</file>