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lap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CBE8-6B6D-4F0A-93DF-22290AFC04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5CCB-27CB-44D5-9072-2F53567E3387}" type="slidenum">
              <a:rPr b="0" lang="ru-RU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ADA-9950-4932-A7BA-0382C55A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5B0-B1B2-4903-A429-5AF2BE88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8A4-60E7-4081-9CEA-F6DE5F5A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DCB-B1BB-42A4-B295-4A48C9CD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8917-42B1-4C8D-98FA-D0B2C005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F1C0-61B4-4E34-8D4C-77D163B0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44EC-70EB-46B1-93AB-EB701A89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0415-95E8-4626-BE39-75930FA3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5A37-EEBF-49D8-B292-5A3A7F15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6CB5-4BC9-490A-BCAD-4BDE09AA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1321-9617-4216-AA04-49ABC9D3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D10-A3DF-4C2A-A339-9155E2FB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1E7D-F689-4A86-AEB6-2DA533B9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281A-AB40-4FDD-B8CF-AF39B8C8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30F5-A9D5-41D9-B5DF-52348DB1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0C9F-DCA7-49AB-BEB3-1E129C81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136F-0D06-443D-A3BF-EE80494A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19C-871E-469A-8BFC-4E18A99A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12E-2C2D-4F43-9772-183911A2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3F0-A01C-4AED-8FCE-E92F18FB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9FB-D9EE-44C2-A9B9-703EFA87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CAB-7EE7-42AE-9DA3-8A80C754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E983-B14F-473C-B68B-51F2C32B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630-0379-46C8-960A-BD8C5643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B882-1AF3-478B-9BC3-1397A6B76CA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688C-7568-4776-ACE6-E7D1DC1F8175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8.xml"/><Relationship Id="rId5" Type="http://schemas.openxmlformats.org/officeDocument/2006/relationships/image" Target="../media/image2.png"/><Relationship Id="rId6" Type="http://schemas.openxmlformats.org/officeDocument/2006/relationships/slide" Target="slide11.xml"/><Relationship Id="rId7" Type="http://schemas.openxmlformats.org/officeDocument/2006/relationships/image" Target="../media/image2.png"/><Relationship Id="rId8" Type="http://schemas.openxmlformats.org/officeDocument/2006/relationships/slide" Target="slide12.xml"/><Relationship Id="rId9" Type="http://schemas.openxmlformats.org/officeDocument/2006/relationships/image" Target="../media/image2.png"/><Relationship Id="rId10" Type="http://schemas.openxmlformats.org/officeDocument/2006/relationships/slide" Target="slide13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&#1050;&#1057;2.doc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Математика 6 класс.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14400" y="2819520"/>
            <a:ext cx="73152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  <a:ea typeface="Tahoma"/>
              </a:rPr>
              <a:t>Прямоугольная система                                координат на                        плоскости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AutoShape 5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"/>
          <p:cNvSpPr/>
          <p:nvPr/>
        </p:nvSpPr>
        <p:spPr>
          <a:xfrm>
            <a:off x="3857760" y="1571760"/>
            <a:ext cx="4286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Р. Декарт –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французский философ, физик, физиолог и математик.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Впервые ввёл прямоугольную систему координат в своей работе «Рассуждение о методе» </a:t>
            </a:r>
            <a:br>
              <a:rPr sz="2800"/>
            </a:b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в 1637 году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4560" y="476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РЕНЕ  ДЕКАРТ (1596-1650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56" name="Picture 2" descr="descartes"/>
          <p:cNvPicPr/>
          <p:nvPr/>
        </p:nvPicPr>
        <p:blipFill>
          <a:blip r:embed="rId1"/>
          <a:stretch/>
        </p:blipFill>
        <p:spPr>
          <a:xfrm>
            <a:off x="571680" y="1571760"/>
            <a:ext cx="300024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ак найти координаты точки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дём из данной точки М перпендикуляры к каждой оси координат. На оси Ох получилась точка с координатой 4, а на оси Оу -  точка с координатой 3. Числа 4 и 3 называют координатами точки М; записывают: 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;3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ервую координату называют абсциссой, вторую – ординат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начит, 4 – абсцисса точки М, а 3 – ордината точки 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AutoShape 5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aphicFrame>
        <p:nvGraphicFramePr>
          <p:cNvPr id="360" name="Object 1024"/>
          <p:cNvGraphicFramePr/>
          <p:nvPr/>
        </p:nvGraphicFramePr>
        <p:xfrm>
          <a:off x="6477120" y="1295280"/>
          <a:ext cx="2361960" cy="472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1" name="Object 10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77120" y="1295280"/>
                    <a:ext cx="23619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AutoShape 22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Построение точки на координатной плоскост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ределим положение точки 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3;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метим на оси Ох точку с координатой –3, а на оси Оу точку с координатой 2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дём через эти точки перпендикуляры к ося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х пересечение и даст нам точку 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3;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AutoShape 5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aphicFrame>
        <p:nvGraphicFramePr>
          <p:cNvPr id="366" name="Object 0"/>
          <p:cNvGraphicFramePr/>
          <p:nvPr/>
        </p:nvGraphicFramePr>
        <p:xfrm>
          <a:off x="5791320" y="1447920"/>
          <a:ext cx="2666880" cy="457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Object 0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1447920"/>
                    <a:ext cx="26668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AutoShape 12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Зада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733920" y="190512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  Построение точек на координатной плоскост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бота в тетрад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бота на  компьютер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Определение координат точек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о рисунку 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о рисунку 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71" name="Picture 5" descr="BD00028_"/>
          <p:cNvPicPr/>
          <p:nvPr/>
        </p:nvPicPr>
        <p:blipFill>
          <a:blip r:embed="rId5"/>
          <a:stretch/>
        </p:blipFill>
        <p:spPr>
          <a:xfrm>
            <a:off x="990720" y="1828800"/>
            <a:ext cx="2454120" cy="266688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8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3" name="AutoShape 10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Нанесите точки на координатную плоскость и соедините их отрезкам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838080" y="1600200"/>
          <a:ext cx="7848720" cy="4343400"/>
        </p:xfrm>
        <a:graphic>
          <a:graphicData uri="http://schemas.openxmlformats.org/drawingml/2006/table">
            <a:tbl>
              <a:tblPr/>
              <a:tblGrid>
                <a:gridCol w="2711520"/>
                <a:gridCol w="2568600"/>
                <a:gridCol w="2568600"/>
              </a:tblGrid>
              <a:tr h="434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7;0)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5;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7;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9;5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0;5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0;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9;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7;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2)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5;6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7;6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4;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1)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6;-3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8;-3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4;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AutoShape 18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7" name="AutoShape 44"/>
          <p:cNvSpPr/>
          <p:nvPr/>
        </p:nvSpPr>
        <p:spPr>
          <a:xfrm>
            <a:off x="5410080" y="5486400"/>
            <a:ext cx="3276720" cy="1143000"/>
          </a:xfrm>
          <a:custGeom>
            <a:avLst/>
            <a:gdLst>
              <a:gd name="textAreaLeft" fmla="*/ 0 w 3276720"/>
              <a:gd name="textAreaRight" fmla="*/ 3277080 w 327672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роверь себя!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  <a:ea typeface="Tahoma"/>
              </a:rPr>
              <a:t>Самолёт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птица, а летает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грузовик, а с                 кабиной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летучая мышь, а с крыльям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80" name="Object 1024"/>
          <p:cNvGraphicFramePr/>
          <p:nvPr/>
        </p:nvGraphicFramePr>
        <p:xfrm>
          <a:off x="4876920" y="1905120"/>
          <a:ext cx="380988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1024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905120"/>
                    <a:ext cx="38098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AutoShape 1030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3" name="AutoShape 1031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75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25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Нанесите точки на координатную плоскость и соедините их отрезкам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838080" y="1905120"/>
          <a:ext cx="7772400" cy="38862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0)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10;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16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1;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9;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8;-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6;-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3;-3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5;-3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0;-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2;-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3;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9;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0)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16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2;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AutoShape 49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7" name="AutoShape 55">
            <a:hlinkClick r:id="" action="ppaction://hlinkshowjump?jump=nextslide"/>
          </p:cNvPr>
          <p:cNvSpPr/>
          <p:nvPr/>
        </p:nvSpPr>
        <p:spPr>
          <a:xfrm>
            <a:off x="5410080" y="5486400"/>
            <a:ext cx="3276720" cy="1143000"/>
          </a:xfrm>
          <a:custGeom>
            <a:avLst/>
            <a:gdLst>
              <a:gd name="textAreaLeft" fmla="*/ 0 w 3276720"/>
              <a:gd name="textAreaRight" fmla="*/ 3277080 w 327672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роверь себя!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Monotype Corsiva"/>
              </a:rPr>
              <a:t>         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  <a:ea typeface="Tahoma"/>
              </a:rPr>
              <a:t>Парусник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 море, в реках и озёрах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Я плаваю, проворный и скоры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реди военных кораблей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звестен скоростью свое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0" name="AutoShape 8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AutoShape 9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aphicFrame>
        <p:nvGraphicFramePr>
          <p:cNvPr id="392" name="Object 1024"/>
          <p:cNvGraphicFramePr/>
          <p:nvPr/>
        </p:nvGraphicFramePr>
        <p:xfrm>
          <a:off x="4800600" y="1828800"/>
          <a:ext cx="3962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1024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828800"/>
                    <a:ext cx="3962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75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6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Нанесите точки на координатную плоскость и соедините их отрезкам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762120" y="1676520"/>
          <a:ext cx="7848360" cy="4174920"/>
        </p:xfrm>
        <a:graphic>
          <a:graphicData uri="http://schemas.openxmlformats.org/drawingml/2006/table">
            <a:tbl>
              <a:tblPr/>
              <a:tblGrid>
                <a:gridCol w="1904760"/>
                <a:gridCol w="1981440"/>
                <a:gridCol w="1981080"/>
                <a:gridCol w="1981080"/>
              </a:tblGrid>
              <a:tr h="41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8;1)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6;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2;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;2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5;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7;-4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9;-3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-2;6)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;8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3;7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5;5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7;7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;2)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3;9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3;1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4;1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5;11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6;10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6;9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5;8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4;8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3;9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AutoShape 28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7" name="AutoShape 29">
            <a:hlinkClick r:id="" action="ppaction://hlinkshowjump?jump=nextslide"/>
          </p:cNvPr>
          <p:cNvSpPr/>
          <p:nvPr/>
        </p:nvSpPr>
        <p:spPr>
          <a:xfrm>
            <a:off x="5410080" y="5486400"/>
            <a:ext cx="3276720" cy="1143000"/>
          </a:xfrm>
          <a:custGeom>
            <a:avLst/>
            <a:gdLst>
              <a:gd name="textAreaLeft" fmla="*/ 0 w 3276720"/>
              <a:gd name="textAreaRight" fmla="*/ 3277080 w 327672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роверь себя!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Monotype Corsiva"/>
              </a:rPr>
              <a:t>Бегун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ждый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день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рядку               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дела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Будешь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ильным,       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будешь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мелым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00" name="Object 1024"/>
          <p:cNvGraphicFramePr/>
          <p:nvPr/>
        </p:nvGraphicFramePr>
        <p:xfrm>
          <a:off x="4800600" y="1905120"/>
          <a:ext cx="3809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05120"/>
                    <a:ext cx="3809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AutoShape 6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3" name="AutoShape 7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75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375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Содержани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62160" y="190512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Введени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Координатная плоскость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Как найти координаты точк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Построение точки на координатной плоскост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10" action="ppaction://hlinksldjump"/>
              </a:rPr>
              <a:t>Зада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0" name="Picture 5" descr="BD04912_"/>
          <p:cNvPicPr/>
          <p:nvPr/>
        </p:nvPicPr>
        <p:blipFill>
          <a:blip r:embed="rId11"/>
          <a:stretch/>
        </p:blipFill>
        <p:spPr>
          <a:xfrm>
            <a:off x="914400" y="1752480"/>
            <a:ext cx="2971800" cy="37116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AutoShape 8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Нанесите точки на координатную плоскость и соедините их отрезкам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762120" y="1676520"/>
          <a:ext cx="7772400" cy="461484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;3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3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3;2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5;2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7;4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8;3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7;1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8;-1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7;-2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5;0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;-2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-4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;-4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;-2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;-2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;0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;2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;3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;4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3;4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4;2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;1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)</a:t>
                      </a: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AutoShape 44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7" name="AutoShape 47">
            <a:hlinkClick r:id="" action="ppaction://hlinkshowjump?jump=nextslide"/>
          </p:cNvPr>
          <p:cNvSpPr/>
          <p:nvPr/>
        </p:nvSpPr>
        <p:spPr>
          <a:xfrm>
            <a:off x="5410080" y="5486400"/>
            <a:ext cx="3276720" cy="1143000"/>
          </a:xfrm>
          <a:custGeom>
            <a:avLst/>
            <a:gdLst>
              <a:gd name="textAreaLeft" fmla="*/ 0 w 3276720"/>
              <a:gd name="textAreaRight" fmla="*/ 3277080 w 327672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роверь себя!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  <a:ea typeface="Tahoma"/>
              </a:rPr>
              <a:t>Рыба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вод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я живу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Без вод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ропаду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10" name="Object 1024"/>
          <p:cNvGraphicFramePr/>
          <p:nvPr/>
        </p:nvGraphicFramePr>
        <p:xfrm>
          <a:off x="3962520" y="1676520"/>
          <a:ext cx="45720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024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676520"/>
                    <a:ext cx="4572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AutoShape 6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3" name="AutoShape 7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75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3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Нанесите точки на координатную плоскость и соедините их отрезкам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838080" y="2057400"/>
          <a:ext cx="7788240" cy="411480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9160"/>
                <a:gridCol w="1557000"/>
                <a:gridCol w="155736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12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;1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5;-6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;-6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;1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1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2;1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4;-6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7;-7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2;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;1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;-7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;-6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;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6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;5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4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;5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6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1#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1;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3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;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13071"/>
                        <a:buBlip>
                          <a:blip r:embed="rId2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;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AutoShape 79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7" name="AutoShape 80">
            <a:hlinkClick r:id="" action="ppaction://hlinkshowjump?jump=nextslide"/>
          </p:cNvPr>
          <p:cNvSpPr/>
          <p:nvPr/>
        </p:nvSpPr>
        <p:spPr>
          <a:xfrm>
            <a:off x="5410080" y="5486400"/>
            <a:ext cx="3276720" cy="1143000"/>
          </a:xfrm>
          <a:custGeom>
            <a:avLst/>
            <a:gdLst>
              <a:gd name="textAreaLeft" fmla="*/ 0 w 3276720"/>
              <a:gd name="textAreaRight" fmla="*/ 3277080 w 327672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роверь себя!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  <a:ea typeface="Tahoma"/>
              </a:rPr>
              <a:t>Ракета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и пера, ни крыла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а быстрее орла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Только выпустит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хвост-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онесётся до звёзд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20" name="Object 1024"/>
          <p:cNvGraphicFramePr/>
          <p:nvPr/>
        </p:nvGraphicFramePr>
        <p:xfrm>
          <a:off x="4994280" y="1523880"/>
          <a:ext cx="36162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1024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94280" y="1523880"/>
                    <a:ext cx="36162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AutoShape 1029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AutoShape 1030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75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4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  <a:ea typeface="Tahoma"/>
              </a:rPr>
              <a:t>Воробей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дите координаты концов отрезков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26" name="Object 1024"/>
          <p:cNvGraphicFramePr/>
          <p:nvPr/>
        </p:nvGraphicFramePr>
        <p:xfrm>
          <a:off x="4633920" y="1523880"/>
          <a:ext cx="412920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1024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3920" y="1523880"/>
                    <a:ext cx="412920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AutoShape 7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9" name="AutoShape 9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0" name="AutoShape 10"/>
          <p:cNvSpPr/>
          <p:nvPr/>
        </p:nvSpPr>
        <p:spPr>
          <a:xfrm>
            <a:off x="914400" y="3505320"/>
            <a:ext cx="3200400" cy="1295280"/>
          </a:xfrm>
          <a:custGeom>
            <a:avLst/>
            <a:gdLst>
              <a:gd name="textAreaLeft" fmla="*/ 0 w 3200400"/>
              <a:gd name="textAreaRight" fmla="*/ 3200760 w 320040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28440">
            <a:solidFill>
              <a:srgbClr val="3d0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Проверь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себя!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  <a:ea typeface="Tahoma"/>
              </a:rPr>
              <a:t>Уточка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дите координаты концов отрезков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33" name="Object 1024"/>
          <p:cNvGraphicFramePr/>
          <p:nvPr/>
        </p:nvGraphicFramePr>
        <p:xfrm>
          <a:off x="4840200" y="1905120"/>
          <a:ext cx="3730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1024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0200" y="1905120"/>
                    <a:ext cx="3730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AutoShape 6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6" name="AutoShape 8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7" name="AutoShape 9"/>
          <p:cNvSpPr/>
          <p:nvPr/>
        </p:nvSpPr>
        <p:spPr>
          <a:xfrm>
            <a:off x="914400" y="3505320"/>
            <a:ext cx="3200400" cy="1295280"/>
          </a:xfrm>
          <a:custGeom>
            <a:avLst/>
            <a:gdLst>
              <a:gd name="textAreaLeft" fmla="*/ 0 w 3200400"/>
              <a:gd name="textAreaRight" fmla="*/ 3200760 w 320040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28440">
            <a:solidFill>
              <a:srgbClr val="3d0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Проверь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себя!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2600" y="304560"/>
            <a:ext cx="78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4572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0720" indent="0">
              <a:lnSpc>
                <a:spcPct val="10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100" spc="-1" strike="noStrike">
                <a:solidFill>
                  <a:srgbClr val="ff0066"/>
                </a:solidFill>
                <a:latin typeface="Monotype Corsiva"/>
              </a:rPr>
              <a:t>Молодец!</a:t>
            </a:r>
            <a:endParaRPr b="0" lang="en-US" sz="91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40" name="Picture 9" descr="PE01832_"/>
          <p:cNvPicPr/>
          <p:nvPr/>
        </p:nvPicPr>
        <p:blipFill>
          <a:blip r:embed="rId1"/>
          <a:stretch/>
        </p:blipFill>
        <p:spPr>
          <a:xfrm>
            <a:off x="4786200" y="1285920"/>
            <a:ext cx="4038840" cy="4572000"/>
          </a:xfrm>
          <a:prstGeom prst="rect">
            <a:avLst/>
          </a:prstGeom>
          <a:ln w="0">
            <a:noFill/>
          </a:ln>
        </p:spPr>
      </p:pic>
      <p:sp>
        <p:nvSpPr>
          <p:cNvPr id="441" name="AutoShape 12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2" name="AutoShape 14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Координатный луч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457200" y="2666880"/>
            <a:ext cx="8229600" cy="76320"/>
            <a:chOff x="457200" y="2666880"/>
            <a:chExt cx="8229600" cy="76320"/>
          </a:xfrm>
        </p:grpSpPr>
        <p:sp>
          <p:nvSpPr>
            <p:cNvPr id="225" name="Line 4"/>
            <p:cNvSpPr/>
            <p:nvPr/>
          </p:nvSpPr>
          <p:spPr>
            <a:xfrm>
              <a:off x="457200" y="2743200"/>
              <a:ext cx="8229600" cy="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457200" y="2666880"/>
              <a:ext cx="0" cy="7632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7" name="Line 6"/>
          <p:cNvSpPr/>
          <p:nvPr/>
        </p:nvSpPr>
        <p:spPr>
          <a:xfrm>
            <a:off x="1143000" y="2666880"/>
            <a:ext cx="0" cy="763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Line 7"/>
          <p:cNvSpPr/>
          <p:nvPr/>
        </p:nvSpPr>
        <p:spPr>
          <a:xfrm>
            <a:off x="1828800" y="2666880"/>
            <a:ext cx="0" cy="763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2514600" y="2666880"/>
            <a:ext cx="0" cy="763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3200400" y="2666880"/>
            <a:ext cx="0" cy="763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3886200" y="2666880"/>
            <a:ext cx="0" cy="763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>
            <a:off x="4572000" y="2666880"/>
            <a:ext cx="0" cy="763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>
            <a:off x="5943600" y="2666880"/>
            <a:ext cx="0" cy="763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Line 13"/>
          <p:cNvSpPr/>
          <p:nvPr/>
        </p:nvSpPr>
        <p:spPr>
          <a:xfrm>
            <a:off x="5257800" y="2666880"/>
            <a:ext cx="0" cy="763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27684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8406360" y="221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2854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9712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16570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23428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30286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37144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44002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50860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57718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2226600" y="282888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А(3)  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Text Box 33"/>
          <p:cNvSpPr/>
          <p:nvPr/>
        </p:nvSpPr>
        <p:spPr>
          <a:xfrm>
            <a:off x="1178280" y="18572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3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Text Box 34"/>
          <p:cNvSpPr/>
          <p:nvPr/>
        </p:nvSpPr>
        <p:spPr>
          <a:xfrm>
            <a:off x="5017320" y="28479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С(7)  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27684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Text Box 36"/>
          <p:cNvSpPr/>
          <p:nvPr/>
        </p:nvSpPr>
        <p:spPr>
          <a:xfrm>
            <a:off x="28548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Line 37"/>
          <p:cNvSpPr/>
          <p:nvPr/>
        </p:nvSpPr>
        <p:spPr>
          <a:xfrm flipV="1">
            <a:off x="465120" y="1701360"/>
            <a:ext cx="0" cy="592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Line 38"/>
          <p:cNvSpPr/>
          <p:nvPr/>
        </p:nvSpPr>
        <p:spPr>
          <a:xfrm flipH="1" flipV="1">
            <a:off x="2516040" y="2107800"/>
            <a:ext cx="5040" cy="1983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53" name="Group 58"/>
          <p:cNvGrpSpPr/>
          <p:nvPr/>
        </p:nvGrpSpPr>
        <p:grpSpPr>
          <a:xfrm>
            <a:off x="475920" y="2147760"/>
            <a:ext cx="2056320" cy="1800"/>
            <a:chOff x="475920" y="2147760"/>
            <a:chExt cx="2056320" cy="1800"/>
          </a:xfrm>
        </p:grpSpPr>
        <p:sp>
          <p:nvSpPr>
            <p:cNvPr id="254" name="Line 39"/>
            <p:cNvSpPr/>
            <p:nvPr/>
          </p:nvSpPr>
          <p:spPr>
            <a:xfrm>
              <a:off x="1216080" y="2147760"/>
              <a:ext cx="1316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5" name="Line 40"/>
            <p:cNvSpPr/>
            <p:nvPr/>
          </p:nvSpPr>
          <p:spPr>
            <a:xfrm flipH="1">
              <a:off x="475920" y="2149560"/>
              <a:ext cx="7477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56" name="Line 48"/>
          <p:cNvSpPr/>
          <p:nvPr/>
        </p:nvSpPr>
        <p:spPr>
          <a:xfrm flipV="1">
            <a:off x="5248440" y="1676520"/>
            <a:ext cx="0" cy="5904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Text Box 51"/>
          <p:cNvSpPr/>
          <p:nvPr/>
        </p:nvSpPr>
        <p:spPr>
          <a:xfrm>
            <a:off x="2767320" y="143676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7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Line 59"/>
          <p:cNvSpPr/>
          <p:nvPr/>
        </p:nvSpPr>
        <p:spPr>
          <a:xfrm>
            <a:off x="8286840" y="2743200"/>
            <a:ext cx="5223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428760" y="342900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Координатная прямая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-32400" y="4500720"/>
            <a:ext cx="8925120" cy="999360"/>
            <a:chOff x="-32400" y="4500720"/>
            <a:chExt cx="8925120" cy="999360"/>
          </a:xfrm>
        </p:grpSpPr>
        <p:grpSp>
          <p:nvGrpSpPr>
            <p:cNvPr id="261" name="Group 6"/>
            <p:cNvGrpSpPr/>
            <p:nvPr/>
          </p:nvGrpSpPr>
          <p:grpSpPr>
            <a:xfrm>
              <a:off x="71280" y="4861080"/>
              <a:ext cx="8775720" cy="135000"/>
              <a:chOff x="71280" y="4861080"/>
              <a:chExt cx="8775720" cy="135000"/>
            </a:xfrm>
          </p:grpSpPr>
          <p:sp>
            <p:nvSpPr>
              <p:cNvPr id="262" name="Line 7"/>
              <p:cNvSpPr/>
              <p:nvPr/>
            </p:nvSpPr>
            <p:spPr>
              <a:xfrm>
                <a:off x="71280" y="4861080"/>
                <a:ext cx="8775720" cy="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3" name="Line 8"/>
              <p:cNvSpPr/>
              <p:nvPr/>
            </p:nvSpPr>
            <p:spPr>
              <a:xfrm>
                <a:off x="457200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4" name="Line 9"/>
              <p:cNvSpPr/>
              <p:nvPr/>
            </p:nvSpPr>
            <p:spPr>
              <a:xfrm>
                <a:off x="313200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5" name="Line 10"/>
              <p:cNvSpPr/>
              <p:nvPr/>
            </p:nvSpPr>
            <p:spPr>
              <a:xfrm>
                <a:off x="385128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6" name="Line 11"/>
              <p:cNvSpPr/>
              <p:nvPr/>
            </p:nvSpPr>
            <p:spPr>
              <a:xfrm>
                <a:off x="601200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7" name="Line 12"/>
              <p:cNvSpPr/>
              <p:nvPr/>
            </p:nvSpPr>
            <p:spPr>
              <a:xfrm>
                <a:off x="529272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8" name="Line 13"/>
              <p:cNvSpPr/>
              <p:nvPr/>
            </p:nvSpPr>
            <p:spPr>
              <a:xfrm>
                <a:off x="673272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9" name="Line 14"/>
              <p:cNvSpPr/>
              <p:nvPr/>
            </p:nvSpPr>
            <p:spPr>
              <a:xfrm>
                <a:off x="817236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70" name="Line 15"/>
              <p:cNvSpPr/>
              <p:nvPr/>
            </p:nvSpPr>
            <p:spPr>
              <a:xfrm>
                <a:off x="745164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71" name="Line 16"/>
              <p:cNvSpPr/>
              <p:nvPr/>
            </p:nvSpPr>
            <p:spPr>
              <a:xfrm>
                <a:off x="241128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72" name="Line 17"/>
              <p:cNvSpPr/>
              <p:nvPr/>
            </p:nvSpPr>
            <p:spPr>
              <a:xfrm>
                <a:off x="169236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73" name="Line 18"/>
              <p:cNvSpPr/>
              <p:nvPr/>
            </p:nvSpPr>
            <p:spPr>
              <a:xfrm>
                <a:off x="97164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74" name="Line 19"/>
              <p:cNvSpPr/>
              <p:nvPr/>
            </p:nvSpPr>
            <p:spPr>
              <a:xfrm>
                <a:off x="250920" y="4861080"/>
                <a:ext cx="0" cy="13500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75" name="Text Box 20"/>
            <p:cNvSpPr/>
            <p:nvPr/>
          </p:nvSpPr>
          <p:spPr>
            <a:xfrm>
              <a:off x="4373280" y="504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6" name="Text Box 21"/>
            <p:cNvSpPr/>
            <p:nvPr/>
          </p:nvSpPr>
          <p:spPr>
            <a:xfrm>
              <a:off x="5092560" y="504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7" name="Text Box 22"/>
            <p:cNvSpPr/>
            <p:nvPr/>
          </p:nvSpPr>
          <p:spPr>
            <a:xfrm>
              <a:off x="7252920" y="504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8" name="Text Box 23"/>
            <p:cNvSpPr/>
            <p:nvPr/>
          </p:nvSpPr>
          <p:spPr>
            <a:xfrm>
              <a:off x="6532200" y="504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9" name="Text Box 24"/>
            <p:cNvSpPr/>
            <p:nvPr/>
          </p:nvSpPr>
          <p:spPr>
            <a:xfrm>
              <a:off x="5813280" y="504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0" name="Text Box 25"/>
            <p:cNvSpPr/>
            <p:nvPr/>
          </p:nvSpPr>
          <p:spPr>
            <a:xfrm>
              <a:off x="7973640" y="504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1" name="Text Box 26"/>
            <p:cNvSpPr/>
            <p:nvPr/>
          </p:nvSpPr>
          <p:spPr>
            <a:xfrm>
              <a:off x="3639600" y="5040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2" name="Text Box 27"/>
            <p:cNvSpPr/>
            <p:nvPr/>
          </p:nvSpPr>
          <p:spPr>
            <a:xfrm>
              <a:off x="2918880" y="5040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3" name="Text Box 28"/>
            <p:cNvSpPr/>
            <p:nvPr/>
          </p:nvSpPr>
          <p:spPr>
            <a:xfrm>
              <a:off x="2199600" y="5040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4" name="Text Box 29"/>
            <p:cNvSpPr/>
            <p:nvPr/>
          </p:nvSpPr>
          <p:spPr>
            <a:xfrm>
              <a:off x="1478880" y="5040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5" name="Text Box 30"/>
            <p:cNvSpPr/>
            <p:nvPr/>
          </p:nvSpPr>
          <p:spPr>
            <a:xfrm>
              <a:off x="759600" y="5040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6" name="Text Box 31"/>
            <p:cNvSpPr/>
            <p:nvPr/>
          </p:nvSpPr>
          <p:spPr>
            <a:xfrm>
              <a:off x="-32400" y="5040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-6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7" name="Text Box 32"/>
            <p:cNvSpPr/>
            <p:nvPr/>
          </p:nvSpPr>
          <p:spPr>
            <a:xfrm>
              <a:off x="4364640" y="4500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8" name="Text Box 33"/>
            <p:cNvSpPr/>
            <p:nvPr/>
          </p:nvSpPr>
          <p:spPr>
            <a:xfrm>
              <a:off x="8509320" y="4500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89" name="Text Box 60"/>
          <p:cNvSpPr/>
          <p:nvPr/>
        </p:nvSpPr>
        <p:spPr>
          <a:xfrm>
            <a:off x="2005200" y="421488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М(-3)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6291360" y="42148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(3)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4557600" y="5334120"/>
            <a:ext cx="0" cy="515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6726240" y="5354640"/>
            <a:ext cx="0" cy="503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2400480" y="5310360"/>
            <a:ext cx="0" cy="496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94" name="Group 54"/>
          <p:cNvGrpSpPr/>
          <p:nvPr/>
        </p:nvGrpSpPr>
        <p:grpSpPr>
          <a:xfrm>
            <a:off x="2395440" y="5794200"/>
            <a:ext cx="2147760" cy="0"/>
            <a:chOff x="2395440" y="5794200"/>
            <a:chExt cx="2147760" cy="0"/>
          </a:xfrm>
        </p:grpSpPr>
        <p:sp>
          <p:nvSpPr>
            <p:cNvPr id="295" name="Line 52"/>
            <p:cNvSpPr/>
            <p:nvPr/>
          </p:nvSpPr>
          <p:spPr>
            <a:xfrm>
              <a:off x="2437920" y="5794200"/>
              <a:ext cx="2105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6" name="Line 53"/>
            <p:cNvSpPr/>
            <p:nvPr/>
          </p:nvSpPr>
          <p:spPr>
            <a:xfrm flipH="1">
              <a:off x="2395440" y="5794200"/>
              <a:ext cx="106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7" name="Group 55"/>
          <p:cNvGrpSpPr/>
          <p:nvPr/>
        </p:nvGrpSpPr>
        <p:grpSpPr>
          <a:xfrm>
            <a:off x="4562280" y="5784840"/>
            <a:ext cx="2170080" cy="0"/>
            <a:chOff x="4562280" y="5784840"/>
            <a:chExt cx="2170080" cy="0"/>
          </a:xfrm>
        </p:grpSpPr>
        <p:sp>
          <p:nvSpPr>
            <p:cNvPr id="298" name="Line 56"/>
            <p:cNvSpPr/>
            <p:nvPr/>
          </p:nvSpPr>
          <p:spPr>
            <a:xfrm>
              <a:off x="4605480" y="5784840"/>
              <a:ext cx="21268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9" name="Line 57"/>
            <p:cNvSpPr/>
            <p:nvPr/>
          </p:nvSpPr>
          <p:spPr>
            <a:xfrm flipH="1">
              <a:off x="4562280" y="5784840"/>
              <a:ext cx="1076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0" name="Group 54"/>
          <p:cNvGrpSpPr/>
          <p:nvPr/>
        </p:nvGrpSpPr>
        <p:grpSpPr>
          <a:xfrm>
            <a:off x="2395440" y="5718240"/>
            <a:ext cx="2147760" cy="0"/>
            <a:chOff x="2395440" y="5718240"/>
            <a:chExt cx="2147760" cy="0"/>
          </a:xfrm>
        </p:grpSpPr>
        <p:sp>
          <p:nvSpPr>
            <p:cNvPr id="301" name="Line 52"/>
            <p:cNvSpPr/>
            <p:nvPr/>
          </p:nvSpPr>
          <p:spPr>
            <a:xfrm>
              <a:off x="2437920" y="5718240"/>
              <a:ext cx="2105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2" name="Line 53"/>
            <p:cNvSpPr/>
            <p:nvPr/>
          </p:nvSpPr>
          <p:spPr>
            <a:xfrm flipH="1">
              <a:off x="2395440" y="5718240"/>
              <a:ext cx="106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3" name="Group 55"/>
          <p:cNvGrpSpPr/>
          <p:nvPr/>
        </p:nvGrpSpPr>
        <p:grpSpPr>
          <a:xfrm>
            <a:off x="4562280" y="5708520"/>
            <a:ext cx="2170080" cy="0"/>
            <a:chOff x="4562280" y="5708520"/>
            <a:chExt cx="2170080" cy="0"/>
          </a:xfrm>
        </p:grpSpPr>
        <p:sp>
          <p:nvSpPr>
            <p:cNvPr id="304" name="Line 56"/>
            <p:cNvSpPr/>
            <p:nvPr/>
          </p:nvSpPr>
          <p:spPr>
            <a:xfrm>
              <a:off x="4605480" y="5708520"/>
              <a:ext cx="21268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5" name="Line 57"/>
            <p:cNvSpPr/>
            <p:nvPr/>
          </p:nvSpPr>
          <p:spPr>
            <a:xfrm flipH="1">
              <a:off x="4562280" y="5708520"/>
              <a:ext cx="1076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06" name="Text Box 58"/>
          <p:cNvSpPr/>
          <p:nvPr/>
        </p:nvSpPr>
        <p:spPr>
          <a:xfrm>
            <a:off x="3374640" y="5418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7" name="Text Box 59"/>
          <p:cNvSpPr/>
          <p:nvPr/>
        </p:nvSpPr>
        <p:spPr>
          <a:xfrm>
            <a:off x="5497200" y="5419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308" name="Прямая со стрелкой 98"/>
          <p:cNvCxnSpPr/>
          <p:nvPr/>
        </p:nvCxnSpPr>
        <p:spPr>
          <a:xfrm>
            <a:off x="2428560" y="5715000"/>
            <a:ext cx="207252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09" name="Прямая со стрелкой 99"/>
          <p:cNvCxnSpPr/>
          <p:nvPr/>
        </p:nvCxnSpPr>
        <p:spPr>
          <a:xfrm>
            <a:off x="4571640" y="5715000"/>
            <a:ext cx="207252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0" name="Прямая со стрелкой 91"/>
          <p:cNvCxnSpPr/>
          <p:nvPr/>
        </p:nvCxnSpPr>
        <p:spPr>
          <a:xfrm>
            <a:off x="499680" y="1856880"/>
            <a:ext cx="4715640" cy="25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Место в зал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3714840" y="3071880"/>
            <a:ext cx="5143320" cy="3430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Rectangle: Click to edit Master text styles&#13;&#10;Second level&#13;&#10;Third level&#13;&#10;Fourth level&#13;&#10;Fifth level"/>
          <p:cNvPicPr/>
          <p:nvPr/>
        </p:nvPicPr>
        <p:blipFill>
          <a:blip r:embed="rId2"/>
          <a:srcRect l="23342" t="25781" r="18704" b="0"/>
          <a:stretch/>
        </p:blipFill>
        <p:spPr>
          <a:xfrm>
            <a:off x="285840" y="1143000"/>
            <a:ext cx="530856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714240" y="2858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Игры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1452960" y="4495680"/>
            <a:ext cx="28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«Морской бой»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6004080" y="614376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Шахматы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7" name="Picture 8" descr=""/>
          <p:cNvPicPr/>
          <p:nvPr/>
        </p:nvPicPr>
        <p:blipFill>
          <a:blip r:embed="rId1"/>
          <a:stretch/>
        </p:blipFill>
        <p:spPr>
          <a:xfrm>
            <a:off x="928800" y="928800"/>
            <a:ext cx="7143480" cy="3585960"/>
          </a:xfrm>
          <a:prstGeom prst="rect">
            <a:avLst/>
          </a:prstGeom>
          <a:ln cap="sq" w="38160">
            <a:solidFill>
              <a:srgbClr val="79797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18" name="Picture 9" descr=""/>
          <p:cNvPicPr/>
          <p:nvPr/>
        </p:nvPicPr>
        <p:blipFill>
          <a:blip r:embed="rId2"/>
          <a:stretch/>
        </p:blipFill>
        <p:spPr>
          <a:xfrm>
            <a:off x="4929120" y="3143160"/>
            <a:ext cx="4000680" cy="302112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ы знаете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4953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 знаете, что для определения положения точки на земной поверхности надо знать её географические координаты: долготу и широт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сто в зрительном зале также определяется по двум координатам: номеру ряда и номеру кресл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ординатами пользуются и на плоск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AutoShape 5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2" name="Picture 7" descr="MP00640_"/>
          <p:cNvPicPr/>
          <p:nvPr/>
        </p:nvPicPr>
        <p:blipFill>
          <a:blip r:embed="rId4"/>
          <a:stretch/>
        </p:blipFill>
        <p:spPr>
          <a:xfrm>
            <a:off x="5334120" y="1523880"/>
            <a:ext cx="3809880" cy="379440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9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026"/>
          <p:cNvSpPr/>
          <p:nvPr/>
        </p:nvSpPr>
        <p:spPr>
          <a:xfrm>
            <a:off x="1219320" y="5335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Что такое координатная плоскость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5" name="Line 1027"/>
          <p:cNvSpPr/>
          <p:nvPr/>
        </p:nvSpPr>
        <p:spPr>
          <a:xfrm>
            <a:off x="3962520" y="3733920"/>
            <a:ext cx="4419360" cy="0"/>
          </a:xfrm>
          <a:prstGeom prst="line">
            <a:avLst/>
          </a:prstGeom>
          <a:ln w="255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6" name="Text Box 1028"/>
          <p:cNvSpPr/>
          <p:nvPr/>
        </p:nvSpPr>
        <p:spPr>
          <a:xfrm>
            <a:off x="830592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7" name="Line 1029"/>
          <p:cNvSpPr/>
          <p:nvPr/>
        </p:nvSpPr>
        <p:spPr>
          <a:xfrm flipV="1">
            <a:off x="6248520" y="1295280"/>
            <a:ext cx="0" cy="4724640"/>
          </a:xfrm>
          <a:prstGeom prst="line">
            <a:avLst/>
          </a:prstGeom>
          <a:ln w="255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28" name="Group 1042"/>
          <p:cNvGrpSpPr/>
          <p:nvPr/>
        </p:nvGrpSpPr>
        <p:grpSpPr>
          <a:xfrm>
            <a:off x="4876920" y="3352680"/>
            <a:ext cx="2743200" cy="856080"/>
            <a:chOff x="4876920" y="3352680"/>
            <a:chExt cx="2743200" cy="856080"/>
          </a:xfrm>
        </p:grpSpPr>
        <p:sp>
          <p:nvSpPr>
            <p:cNvPr id="329" name="Line 1030"/>
            <p:cNvSpPr/>
            <p:nvPr/>
          </p:nvSpPr>
          <p:spPr>
            <a:xfrm>
              <a:off x="6705720" y="365760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0" name="Line 1031"/>
            <p:cNvSpPr/>
            <p:nvPr/>
          </p:nvSpPr>
          <p:spPr>
            <a:xfrm>
              <a:off x="7162920" y="365760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1" name="Line 1032"/>
            <p:cNvSpPr/>
            <p:nvPr/>
          </p:nvSpPr>
          <p:spPr>
            <a:xfrm>
              <a:off x="7620120" y="365760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2" name="Line 1033"/>
            <p:cNvSpPr/>
            <p:nvPr/>
          </p:nvSpPr>
          <p:spPr>
            <a:xfrm>
              <a:off x="5791320" y="365760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3" name="Line 1037"/>
            <p:cNvSpPr/>
            <p:nvPr/>
          </p:nvSpPr>
          <p:spPr>
            <a:xfrm>
              <a:off x="5334120" y="365760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4" name="Line 1038"/>
            <p:cNvSpPr/>
            <p:nvPr/>
          </p:nvSpPr>
          <p:spPr>
            <a:xfrm>
              <a:off x="4876920" y="365760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5" name="Text Box 1039"/>
            <p:cNvSpPr/>
            <p:nvPr/>
          </p:nvSpPr>
          <p:spPr>
            <a:xfrm>
              <a:off x="6553080" y="38098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458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6" name="Text Box 1040"/>
            <p:cNvSpPr/>
            <p:nvPr/>
          </p:nvSpPr>
          <p:spPr>
            <a:xfrm>
              <a:off x="5562720" y="3352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458c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7" name="Text Box 1041"/>
            <p:cNvSpPr/>
            <p:nvPr/>
          </p:nvSpPr>
          <p:spPr>
            <a:xfrm>
              <a:off x="5943600" y="3733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458c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8" name="Group 1051"/>
          <p:cNvGrpSpPr/>
          <p:nvPr/>
        </p:nvGrpSpPr>
        <p:grpSpPr>
          <a:xfrm>
            <a:off x="5867280" y="2362320"/>
            <a:ext cx="685800" cy="2286000"/>
            <a:chOff x="5867280" y="2362320"/>
            <a:chExt cx="685800" cy="2286000"/>
          </a:xfrm>
        </p:grpSpPr>
        <p:sp>
          <p:nvSpPr>
            <p:cNvPr id="339" name="Line 1043"/>
            <p:cNvSpPr/>
            <p:nvPr/>
          </p:nvSpPr>
          <p:spPr>
            <a:xfrm>
              <a:off x="6172200" y="3276720"/>
              <a:ext cx="152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0" name="Line 1044"/>
            <p:cNvSpPr/>
            <p:nvPr/>
          </p:nvSpPr>
          <p:spPr>
            <a:xfrm>
              <a:off x="6172200" y="2819520"/>
              <a:ext cx="152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1" name="Line 1045"/>
            <p:cNvSpPr/>
            <p:nvPr/>
          </p:nvSpPr>
          <p:spPr>
            <a:xfrm>
              <a:off x="6172200" y="2362320"/>
              <a:ext cx="152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2" name="Line 1047"/>
            <p:cNvSpPr/>
            <p:nvPr/>
          </p:nvSpPr>
          <p:spPr>
            <a:xfrm>
              <a:off x="6172200" y="4191120"/>
              <a:ext cx="152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3" name="Line 1048"/>
            <p:cNvSpPr/>
            <p:nvPr/>
          </p:nvSpPr>
          <p:spPr>
            <a:xfrm>
              <a:off x="6172200" y="4648320"/>
              <a:ext cx="152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4" name="Text Box 1049"/>
            <p:cNvSpPr/>
            <p:nvPr/>
          </p:nvSpPr>
          <p:spPr>
            <a:xfrm>
              <a:off x="6248520" y="30481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458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5" name="Text Box 1050"/>
            <p:cNvSpPr/>
            <p:nvPr/>
          </p:nvSpPr>
          <p:spPr>
            <a:xfrm>
              <a:off x="5867280" y="4038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458c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46" name="Text Box 1052"/>
          <p:cNvSpPr/>
          <p:nvPr/>
        </p:nvSpPr>
        <p:spPr>
          <a:xfrm>
            <a:off x="6324480" y="1219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Координатная плоскость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Система координа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Прямоугольная система координа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Декартова система координа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оординатная плоскость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чертим две перпендикулярные прямые. Точку О их пересечения сделаем началом отсчёта на каждой прямой и назовём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ачалом координат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берем единичные отрезки и укажем положительные направления на прямых. У нас получились две координатные прямые. Их называют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сями координат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– ось Ох и ось О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ни образуют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рямоугольную систему координат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на плоск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лоскость, на которой задана прямоугольная система координат, называют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оординатной плоскостью</a:t>
            </a:r>
            <a:r>
              <a:rPr b="0" lang="ru-RU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AutoShape 8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1" name="AutoShape 12">
            <a:hlinkClick r:id="" action="ppaction://hlinkshowjump?jump=previousslide"/>
          </p:cNvPr>
          <p:cNvSpPr/>
          <p:nvPr/>
        </p:nvSpPr>
        <p:spPr>
          <a:xfrm>
            <a:off x="685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143000" y="1440"/>
            <a:ext cx="8001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3:58:21Z</dcterms:created>
  <dc:creator>Наталья</dc:creator>
  <dc:description/>
  <dc:language>en-US</dc:language>
  <cp:lastModifiedBy>а</cp:lastModifiedBy>
  <dcterms:modified xsi:type="dcterms:W3CDTF">2021-05-31T17:36:44Z</dcterms:modified>
  <cp:revision>81</cp:revision>
  <dc:subject/>
  <dc:title>Математика.  6  класс.</dc:title>
</cp:coreProperties>
</file>