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98B-12A8-40B1-BF8F-2351F4A6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433-DC70-4F60-9F3C-17F79736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E7D-B6A6-46F0-A6A4-4B629C18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FD9-C13F-4191-848E-03BA574E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D86-7FAD-46A6-BA39-1E197562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073-F10B-43D8-B7DC-F345AAD9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DF0-5B62-4FBE-ABC1-6BF5AD88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C2A-3F46-4925-844A-FCF23630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93D-28B0-4944-9DFA-528B36A0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975-9A7F-4238-AC3D-F4950F02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500-56BC-4CC9-8785-1C130DEA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642-E4F4-4443-97C9-E7544B22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A91E-B378-4AAB-BE54-745E2EA9B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gerelma@mail.ru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Би велосипедээр ябадагби</a:t>
            </a:r>
            <a:br>
              <a:rPr sz="4400"/>
            </a:b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Я катаюсь на велосипе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320" y="274680"/>
            <a:ext cx="5334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Амар мэндээ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19320"/>
            <a:ext cx="69343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учились говорить, что умеете 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авайте повтор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535640" y="2857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умею рис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7920" y="3441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умею 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925560" y="3441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и уншадаг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865080" y="415296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и хатардаг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4572000" y="41529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умею танце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852480" y="4797360"/>
            <a:ext cx="368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и дууладаг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690440" y="4797360"/>
            <a:ext cx="26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умею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864360" y="548640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и тамардаг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969840" y="2822400"/>
            <a:ext cx="30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и зурадаг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4692240" y="5486400"/>
            <a:ext cx="323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умею пл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ние для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1760" y="9907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ужно написать на бурятском языке в тетради следующие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оя мама умеет танце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ой папа умеет пла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Я умею чи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ой младший брат умеет рис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оя младшая сестра умеет п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ой друг умеет играть в футб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Я умею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енное задание можно отправить в элжуре, по электронной почте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gerelma@mail.r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в вайбере по номеру +7951639002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440" y="228600"/>
            <a:ext cx="80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тупаем к новой теме стр.94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егодня мы научимся говорить, на чем умеют ездить ты и твои близ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ушай – Шаг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ти внимание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лгие глас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кончаниях слов, повтори их ещё раз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елосипед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эр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, мо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ёор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на лошади)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,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аши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ар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, са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ар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на лыжах)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нькиг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2 булэг 17 хэшээл.mp3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5282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38080" y="380520"/>
            <a:ext cx="78487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 устно упр №2 на стр.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эрэй даабари (д.з.) упр.№3 на стр.96 (можно простым карандашом соединить сл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Баяр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1143000" y="873000"/>
            <a:ext cx="7010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 этом упражнении есть знакомые имена. Мы познакомились с ними ещё во второй четверти. Это большая семья Сэсэн Хүүхэн. Если ты их подзабыл, то можешь повторить на стр.5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4-07T16:47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