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4F0-78F4-4D0B-8B14-A01ADD52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C7B-E32F-43D8-9718-E66F73AA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B04-F3B9-481C-83D8-C2B2E201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60F-618E-4AEA-8345-8458F0EB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5DB-2C2D-47B7-BD4A-B48C5531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4E5-14DE-4F8E-962B-9D7C09F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293-4F16-4937-940E-41A7CCE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1A3-AC5B-45A3-AB7A-B9998B5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31C-E4B6-40D9-AB07-A4E8FFAB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806-ACE4-403D-BEE3-B8C14D3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491-7B4C-4E6F-902B-ED5AB3D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21A-DC2E-4415-90DE-F2B8130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4A34-C079-4C9B-8471-3D7F54BE6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gerelma@mail.r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Би велосипедээр ябадагби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Я катаюсь на велосип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320" y="274680"/>
            <a:ext cx="5334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Амар мэндээ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19320"/>
            <a:ext cx="69343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учились говорить, что умеете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авайте повтор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535640" y="2857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рис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7920" y="3441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925560" y="3441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уншадаг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865080" y="415296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хатардаг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572000" y="41529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танце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852480" y="4797360"/>
            <a:ext cx="36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дууладаг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690440" y="479736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864360" y="548640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тамардаг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969840" y="2822400"/>
            <a:ext cx="30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и зурадаг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4692240" y="5486400"/>
            <a:ext cx="32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мею пл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для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176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жно написать на бурятском языке в тетради следующие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я мама умеет танц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й папа умеет пл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Я умею 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й младший брат умеет рис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я младшая сестра умеет п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ой друг умеет играть в фут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Я умею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ное задание можно отправить в элжуре, по электронной почте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gerelma@mail.r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в вайбере по номеру +7951639002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440" y="22860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упаем к новой теме стр.94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годня мы научимся говорить, на чем умеют ездить ты и твои близ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 – Шаг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и внимание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лгие глас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кончаниях слов, повтори их ещё ра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елосипед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эр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мо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ёор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а лошади)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,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аши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ар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са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ар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а лыжах)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нькиг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булэг 17 хэшээл.mp3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5282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38080" y="380520"/>
            <a:ext cx="7848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 устно упр №2 на стр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эрэй даабари (д.з.) упр.№3 на стр.96 (можно простым карандашом соединить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аяр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1143000" y="873000"/>
            <a:ext cx="7010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этом упражнении есть знакомые имена. Мы познакомились с ними ещё во второй четверти. Это большая семья Сэсэн Хүүхэн. Если ты их подзабыл, то можешь повторить на стр.5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4-07T16:47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