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B311-D579-4F2D-98D3-5A7342CB1B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ь: Карманова Ан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ександ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F53C-E9A5-49E9-97F9-6BD0A08BC5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C558-5735-437F-9BAB-3D242DCABE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eaeaea"/>
                </a:solidFill>
                <a:uFillTx/>
                <a:latin typeface="Arial"/>
              </a:rPr>
              <a:t>Иоганн Гутенберг, </a:t>
            </a: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емецкий мастер, изобрёл первый печатный ста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7611-392B-4D4B-9C72-15C651DA0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F766-13DF-4FB2-8C7B-F936BD93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3B31-D882-4B2A-ADDC-E5FE9ABF7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EFC2-86C3-4D6A-9C49-85C1A97C6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8D24A-9F9F-49FE-B759-C59C6B1A4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89BD-DB98-4DA2-A803-B96E778E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E6EF-7148-4E89-87F1-D7259DE6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48EEF-BDB0-452C-9FEE-48CD3634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4151-2B32-4E4E-B934-F39FF05A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C0451-ACD1-4794-988D-D2F84550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B933-0303-4F9C-A6ED-8817E2FE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793B-BA04-4DB9-A710-6A85A396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63783-2F50-46F4-BF18-F68424EA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E12E6-3A2D-454A-8B28-5421D1D2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2D3B-364B-494D-83F9-9BDF60E7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72D5-30CC-46B4-ABBC-FCB1D4DFC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09C85-36AF-4EDF-88C9-E04B12704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B97F-FD97-4A48-9EB5-505F0845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3B25-4F9D-4AEB-BBC1-259A8455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1EC3-E96A-42F0-B57E-35CAF22D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969F-B522-4D6E-BE0F-4586337E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2033-4322-4593-A0B8-BCAA5927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3325-026F-4A3E-84C0-FCE85D2D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FF78-7F39-4B61-9673-9790B63E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FBA5-E4F1-4B72-91D6-24E2BBC53C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D374-2852-433A-BF81-D652B465B5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25800" y="224460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Зачем современному </a:t>
            </a:r>
            <a:br>
              <a:rPr sz="4400"/>
            </a:br>
            <a:r>
              <a:rPr b="0" lang="ru-RU" sz="4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человеку нужна книга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2743200" y="304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Индивидуальный проек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по русскому языку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Прямоугольник 1"/>
          <p:cNvSpPr/>
          <p:nvPr/>
        </p:nvSpPr>
        <p:spPr>
          <a:xfrm>
            <a:off x="3429000" y="3886200"/>
            <a:ext cx="388620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втор: Саукова Яна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ченица 8 класс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Прямоугольник 2"/>
          <p:cNvSpPr/>
          <p:nvPr/>
        </p:nvSpPr>
        <p:spPr>
          <a:xfrm>
            <a:off x="4267080" y="6032520"/>
            <a:ext cx="487692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Руководитель: Карманова Анн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                                  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Александровн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4" descr="0_a5a32_e57e3068_XL"/>
          <p:cNvPicPr/>
          <p:nvPr/>
        </p:nvPicPr>
        <p:blipFill>
          <a:blip r:embed="rId1"/>
          <a:stretch/>
        </p:blipFill>
        <p:spPr>
          <a:xfrm>
            <a:off x="0" y="1752480"/>
            <a:ext cx="31240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666880" y="1020600"/>
            <a:ext cx="6870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нига - наш верный 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руг и самый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ерпеливый учител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613480" y="2057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Рисунок 3" descr="C:\Users\Анна Александровна\Desktop\DSC08619.JPG"/>
          <p:cNvPicPr/>
          <p:nvPr/>
        </p:nvPicPr>
        <p:blipFill>
          <a:blip r:embed="rId1"/>
          <a:stretch/>
        </p:blipFill>
        <p:spPr>
          <a:xfrm>
            <a:off x="3240" y="-14400"/>
            <a:ext cx="3809880" cy="304812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4" descr="C:\Users\Анна Александровна\Desktop\DSC08622.JPG"/>
          <p:cNvPicPr/>
          <p:nvPr/>
        </p:nvPicPr>
        <p:blipFill>
          <a:blip r:embed="rId2"/>
          <a:stretch/>
        </p:blipFill>
        <p:spPr>
          <a:xfrm>
            <a:off x="3813120" y="2514600"/>
            <a:ext cx="5340240" cy="4343400"/>
          </a:xfrm>
          <a:prstGeom prst="rect">
            <a:avLst/>
          </a:prstGeom>
          <a:ln w="0">
            <a:noFill/>
          </a:ln>
        </p:spPr>
      </p:pic>
      <p:pic>
        <p:nvPicPr>
          <p:cNvPr id="202" name="Объект 3" descr=""/>
          <p:cNvPicPr/>
          <p:nvPr/>
        </p:nvPicPr>
        <p:blipFill>
          <a:blip r:embed="rId3"/>
          <a:stretch/>
        </p:blipFill>
        <p:spPr>
          <a:xfrm>
            <a:off x="565200" y="3124080"/>
            <a:ext cx="2685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057040" y="1447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Испокон века книга растит человек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(русская пословица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Picture 6" descr="741131-660x330"/>
          <p:cNvPicPr/>
          <p:nvPr/>
        </p:nvPicPr>
        <p:blipFill>
          <a:blip r:embed="rId1"/>
          <a:stretch/>
        </p:blipFill>
        <p:spPr>
          <a:xfrm>
            <a:off x="2514600" y="3048120"/>
            <a:ext cx="6286680" cy="3809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D:\Мои документы\Загрузки\Картинки к презентации\82365172_large_d25.jpg"/>
          <p:cNvPicPr/>
          <p:nvPr/>
        </p:nvPicPr>
        <p:blipFill>
          <a:blip r:embed="rId2"/>
          <a:stretch/>
        </p:blipFill>
        <p:spPr>
          <a:xfrm>
            <a:off x="0" y="23760"/>
            <a:ext cx="2514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туальность проблемы: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га должна быть спутником всей нашей жизни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560" y="167652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убить и систематизировать знания о книг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ть, что книга для современного человека просто необходима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ить как относятся школьники к книгам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у обучающихся любовь и уважение к русскому языку и литературе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22160" y="-2257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истории создания      книг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380880" y="1311120"/>
            <a:ext cx="8077320" cy="42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лово «книга» происходит от церковно – славянского выражения «кънигы», что означает буквы или вообще письмо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У перуанских индейцев было узелковое письмо — кипу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У каждого цветного узелка был свой смысл: красный узел обозначал войну, белый — мир, зеленый — хлеб, черный — смерть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9" descr="slov2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133720" y="4572000"/>
            <a:ext cx="2666880" cy="2286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685800" y="158760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10" descr="slov3"/>
          <p:cNvPicPr/>
          <p:nvPr/>
        </p:nvPicPr>
        <p:blipFill>
          <a:blip r:embed="rId2"/>
          <a:stretch/>
        </p:blipFill>
        <p:spPr>
          <a:xfrm>
            <a:off x="5943600" y="4191120"/>
            <a:ext cx="28195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3" descr="slov4"/>
          <p:cNvPicPr/>
          <p:nvPr/>
        </p:nvPicPr>
        <p:blipFill>
          <a:blip r:embed="rId1"/>
          <a:stretch/>
        </p:blipFill>
        <p:spPr>
          <a:xfrm>
            <a:off x="2335320" y="581040"/>
            <a:ext cx="2503440" cy="1981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"/>
          <p:cNvPicPr/>
          <p:nvPr/>
        </p:nvPicPr>
        <p:blipFill>
          <a:blip r:embed="rId2"/>
          <a:stretch/>
        </p:blipFill>
        <p:spPr>
          <a:xfrm>
            <a:off x="0" y="762120"/>
            <a:ext cx="2171880" cy="4119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4"/>
          <p:cNvPicPr/>
          <p:nvPr/>
        </p:nvPicPr>
        <p:blipFill>
          <a:blip r:embed="rId3"/>
          <a:srcRect l="15010" t="20236" r="13742" b="7528"/>
          <a:stretch/>
        </p:blipFill>
        <p:spPr>
          <a:xfrm>
            <a:off x="2368440" y="3370320"/>
            <a:ext cx="2084400" cy="27432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"/>
          <p:cNvPicPr/>
          <p:nvPr/>
        </p:nvPicPr>
        <p:blipFill>
          <a:blip r:embed="rId4"/>
          <a:stretch/>
        </p:blipFill>
        <p:spPr>
          <a:xfrm>
            <a:off x="4648320" y="2286000"/>
            <a:ext cx="1577880" cy="4114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1" descr=""/>
          <p:cNvPicPr/>
          <p:nvPr/>
        </p:nvPicPr>
        <p:blipFill>
          <a:blip r:embed="rId5"/>
          <a:stretch/>
        </p:blipFill>
        <p:spPr>
          <a:xfrm>
            <a:off x="6248520" y="3370320"/>
            <a:ext cx="2895480" cy="19638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slov6"/>
          <p:cNvPicPr/>
          <p:nvPr/>
        </p:nvPicPr>
        <p:blipFill>
          <a:blip r:embed="rId6"/>
          <a:stretch/>
        </p:blipFill>
        <p:spPr>
          <a:xfrm>
            <a:off x="5181480" y="0"/>
            <a:ext cx="3505320" cy="23036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152280" y="525600"/>
            <a:ext cx="1828800" cy="297180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5" descr="3213d4824c86a56ae80055d2ae4.jpg"/>
          <p:cNvPicPr/>
          <p:nvPr/>
        </p:nvPicPr>
        <p:blipFill>
          <a:blip r:embed="rId2"/>
          <a:stretch/>
        </p:blipFill>
        <p:spPr>
          <a:xfrm>
            <a:off x="2189160" y="0"/>
            <a:ext cx="3068640" cy="377208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6" descr="manuscriptIntro.gif"/>
          <p:cNvPicPr/>
          <p:nvPr/>
        </p:nvPicPr>
        <p:blipFill>
          <a:blip r:embed="rId3"/>
          <a:stretch/>
        </p:blipFill>
        <p:spPr>
          <a:xfrm>
            <a:off x="5257800" y="727200"/>
            <a:ext cx="3886200" cy="277308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1" descr=""/>
          <p:cNvPicPr/>
          <p:nvPr/>
        </p:nvPicPr>
        <p:blipFill>
          <a:blip r:embed="rId4"/>
          <a:srcRect l="0" t="20058" r="0" b="0"/>
          <a:stretch/>
        </p:blipFill>
        <p:spPr>
          <a:xfrm>
            <a:off x="2639880" y="3897360"/>
            <a:ext cx="5235840" cy="29606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11120" y="3106440"/>
            <a:ext cx="830592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марта 1564 года</a:t>
            </a:r>
            <a:r>
              <a:rPr b="1" lang="ru-RU" sz="2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 появилась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первая русская печатная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книга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Апостол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3" name="Group 4"/>
          <p:cNvGrpSpPr/>
          <p:nvPr/>
        </p:nvGrpSpPr>
        <p:grpSpPr>
          <a:xfrm>
            <a:off x="411120" y="38160"/>
            <a:ext cx="2179800" cy="3066840"/>
            <a:chOff x="411120" y="38160"/>
            <a:chExt cx="2179800" cy="3066840"/>
          </a:xfrm>
        </p:grpSpPr>
        <p:pic>
          <p:nvPicPr>
            <p:cNvPr id="184" name="Picture 5" descr=""/>
            <p:cNvPicPr/>
            <p:nvPr/>
          </p:nvPicPr>
          <p:blipFill>
            <a:blip r:embed="rId1"/>
            <a:stretch/>
          </p:blipFill>
          <p:spPr>
            <a:xfrm>
              <a:off x="411120" y="38160"/>
              <a:ext cx="2179800" cy="30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6"/>
            <p:cNvSpPr/>
            <p:nvPr/>
          </p:nvSpPr>
          <p:spPr>
            <a:xfrm>
              <a:off x="411120" y="38160"/>
              <a:ext cx="2179800" cy="30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86" name="Picture 7" descr=""/>
          <p:cNvPicPr/>
          <p:nvPr/>
        </p:nvPicPr>
        <p:blipFill>
          <a:blip r:embed="rId2"/>
          <a:stretch/>
        </p:blipFill>
        <p:spPr>
          <a:xfrm>
            <a:off x="3314880" y="38160"/>
            <a:ext cx="1981080" cy="28954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"/>
          <p:cNvPicPr/>
          <p:nvPr/>
        </p:nvPicPr>
        <p:blipFill>
          <a:blip r:embed="rId3"/>
          <a:stretch/>
        </p:blipFill>
        <p:spPr>
          <a:xfrm>
            <a:off x="5638680" y="2057400"/>
            <a:ext cx="2971800" cy="46483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"/>
          <p:cNvPicPr/>
          <p:nvPr/>
        </p:nvPicPr>
        <p:blipFill>
          <a:blip r:embed="rId4"/>
          <a:stretch/>
        </p:blipFill>
        <p:spPr>
          <a:xfrm>
            <a:off x="1752480" y="4289400"/>
            <a:ext cx="35434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3276720" y="0"/>
            <a:ext cx="5486400" cy="3686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2805400"/>
          <p:cNvPicPr/>
          <p:nvPr/>
        </p:nvPicPr>
        <p:blipFill>
          <a:blip r:embed="rId2"/>
          <a:stretch/>
        </p:blipFill>
        <p:spPr>
          <a:xfrm>
            <a:off x="344520" y="1295280"/>
            <a:ext cx="2895480" cy="342900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1"/>
          <p:cNvSpPr/>
          <p:nvPr/>
        </p:nvSpPr>
        <p:spPr>
          <a:xfrm>
            <a:off x="3629160" y="3686040"/>
            <a:ext cx="513396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Хорошая книга, мой спутник,  мой друг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С тобой интересным бывает досуг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Мы время отлично проводим вдвое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И наш разговор потихоньку веде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5" descr="3177483-l"/>
          <p:cNvPicPr/>
          <p:nvPr/>
        </p:nvPicPr>
        <p:blipFill>
          <a:blip r:embed="rId1"/>
          <a:stretch/>
        </p:blipFill>
        <p:spPr>
          <a:xfrm>
            <a:off x="76320" y="1600200"/>
            <a:ext cx="1904760" cy="281952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5"/>
          <p:cNvSpPr/>
          <p:nvPr/>
        </p:nvSpPr>
        <p:spPr>
          <a:xfrm>
            <a:off x="1981080" y="152280"/>
            <a:ext cx="63248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1. Хлеб питает тело, а книга – разу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2. Золото добывают из земли, а знания  - из книг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3. Неграмотный, как слепой, а книга глаза открывае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4. Книга в счастье украшает, а в несчастье – утешае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5. Книга не пряник, а к себе мани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6. Книга не самолет, а за тридевять земель унесе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7. Хорошая книга ярче звездочки свети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8. С книгой знаться – ума набратьс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9. Книгу читаешь, как на крыльях летаеш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80" y="-36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зультаты  анкетирования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Изучение читательского интереса»  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-360" y="838080"/>
            <a:ext cx="8381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досуговой деятельности чтение относят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1 человек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ят читать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 35 человек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 читают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 9 человек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ют эпизодическ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 30 человек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ют для душ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 12 человек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ще всего читают для подготовки к урокам, по настоянию родителей и учителей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27 человек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уются услугами библиотечной системы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39 человек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огласны с тем, что доступ в Интернет сделает ненужными даже библиотек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32 человек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а может существовать без библиотеки 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 человек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ли книгу, которую читают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13 человек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на Александровна</cp:lastModifiedBy>
  <dcterms:modified xsi:type="dcterms:W3CDTF">2021-05-31T10:43:23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