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5672-F829-4713-B450-81E321E028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: Карманова Ан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ександ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FF21-E99C-4A73-B7DF-1FD85CCBAF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3B99-8E39-4AF9-8244-64FBC55592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eaeaea"/>
                </a:solidFill>
                <a:uFillTx/>
                <a:latin typeface="Arial"/>
              </a:rPr>
              <a:t>Иоганн Гутенберг, </a:t>
            </a: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мецкий мастер, изобрёл первый печатный ста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97B-53F8-4F59-A03F-74C12F7C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872A-7165-48E7-8004-5EFAF6B0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1074-FBFF-4CDB-B5A5-9D3047DB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05E-9FA7-49E5-A895-EB488EF7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E509-8BBA-43D9-86E0-64D5218E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6F3E-87D1-4808-B22C-B32854A4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EB3E-B0DC-4FE2-9CC9-1593C3A4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026D-53B8-4FD5-805F-F650880E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0BC6-F70A-4474-A8C2-B6E271BA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B331-3D57-45E5-9AB5-AEBE34CE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BC7B-A867-4818-9209-009F6FB4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D9A6-DE9B-4886-908E-AE6D699B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A64C-DB00-49CE-8FD6-069E5F03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AA10-BA09-46C5-9425-E054227A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4171-991E-48AC-A2A0-DCFFCE4C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B872-6424-4171-B9B0-32016376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5ADE-E49C-4C9C-8D14-952793A7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9A1B-2E75-49E5-BF23-47FA3BCC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7710-988F-4FC4-B129-1C39F246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56BD-2132-4808-AECB-0C33A735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0245-FA54-4352-87B0-9C5D894C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1668-8236-4B8D-ADDC-4F187D58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66F-8867-4C61-9F82-E2D7E3C1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6319-DD2F-4992-AF62-9A111E71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965F-88A9-4EC7-8EDC-DC60497566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386F-5B6A-440F-B721-1D7432E8E2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25800" y="224460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Зачем современному </a:t>
            </a:r>
            <a:br>
              <a:rPr sz="4400"/>
            </a:br>
            <a:r>
              <a:rPr b="0" lang="ru-RU" sz="4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человеку нужна книга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74320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Индивидуальный проек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 русскому язык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Прямоугольник 1"/>
          <p:cNvSpPr/>
          <p:nvPr/>
        </p:nvSpPr>
        <p:spPr>
          <a:xfrm>
            <a:off x="3429000" y="3886200"/>
            <a:ext cx="38862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втор: Саукова Яна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ченица 8 клас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4267080" y="6032520"/>
            <a:ext cx="48769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уководитель: Карманова Ан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  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лександро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0_a5a32_e57e3068_XL"/>
          <p:cNvPicPr/>
          <p:nvPr/>
        </p:nvPicPr>
        <p:blipFill>
          <a:blip r:embed="rId1"/>
          <a:stretch/>
        </p:blipFill>
        <p:spPr>
          <a:xfrm>
            <a:off x="0" y="1752480"/>
            <a:ext cx="31240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666880" y="1020600"/>
            <a:ext cx="6870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нига - наш верный 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уг и самый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рпеливый учител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61348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Рисунок 3" descr="C:\Users\Анна Александровна\Desktop\DSC08619.JPG"/>
          <p:cNvPicPr/>
          <p:nvPr/>
        </p:nvPicPr>
        <p:blipFill>
          <a:blip r:embed="rId1"/>
          <a:stretch/>
        </p:blipFill>
        <p:spPr>
          <a:xfrm>
            <a:off x="3240" y="-1440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4" descr="C:\Users\Анна Александровна\Desktop\DSC08622.JPG"/>
          <p:cNvPicPr/>
          <p:nvPr/>
        </p:nvPicPr>
        <p:blipFill>
          <a:blip r:embed="rId2"/>
          <a:stretch/>
        </p:blipFill>
        <p:spPr>
          <a:xfrm>
            <a:off x="3813120" y="2514600"/>
            <a:ext cx="5340240" cy="4343400"/>
          </a:xfrm>
          <a:prstGeom prst="rect">
            <a:avLst/>
          </a:prstGeom>
          <a:ln w="0">
            <a:noFill/>
          </a:ln>
        </p:spPr>
      </p:pic>
      <p:pic>
        <p:nvPicPr>
          <p:cNvPr id="202" name="Объект 3" descr=""/>
          <p:cNvPicPr/>
          <p:nvPr/>
        </p:nvPicPr>
        <p:blipFill>
          <a:blip r:embed="rId3"/>
          <a:stretch/>
        </p:blipFill>
        <p:spPr>
          <a:xfrm>
            <a:off x="565200" y="3124080"/>
            <a:ext cx="2685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057040" y="144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Испокон века книга растит человек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(русская пословица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6" descr="741131-660x330"/>
          <p:cNvPicPr/>
          <p:nvPr/>
        </p:nvPicPr>
        <p:blipFill>
          <a:blip r:embed="rId1"/>
          <a:stretch/>
        </p:blipFill>
        <p:spPr>
          <a:xfrm>
            <a:off x="2514600" y="3048120"/>
            <a:ext cx="6286680" cy="3809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D:\Мои документы\Загрузки\Картинки к презентации\82365172_large_d25.jpg"/>
          <p:cNvPicPr/>
          <p:nvPr/>
        </p:nvPicPr>
        <p:blipFill>
          <a:blip r:embed="rId2"/>
          <a:stretch/>
        </p:blipFill>
        <p:spPr>
          <a:xfrm>
            <a:off x="0" y="23760"/>
            <a:ext cx="2514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ьность проблемы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а должна быть спутником всей нашей жизни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560" y="16765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бить и систематизировать знания о книг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ь, что книга для современного человека просто необходим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 как относятся школьники к книгам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у обучающихся любовь и уважение к русскому языку и литератур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2160" y="-2257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истории создания      книг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80880" y="1311120"/>
            <a:ext cx="8077320" cy="42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лово «книга» происходит от церковно – славянского выражения «кънигы», что означает буквы или вообще письм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У перуанских индейцев было узелковое письмо — кипу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У каждого цветного узелка был свой смысл: красный узел обозначал войну, белый — мир, зеленый — хлеб, черный — смерть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9" descr="slov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133720" y="4572000"/>
            <a:ext cx="2666880" cy="2286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685800" y="15876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10" descr="slov3"/>
          <p:cNvPicPr/>
          <p:nvPr/>
        </p:nvPicPr>
        <p:blipFill>
          <a:blip r:embed="rId2"/>
          <a:stretch/>
        </p:blipFill>
        <p:spPr>
          <a:xfrm>
            <a:off x="5943600" y="4191120"/>
            <a:ext cx="2819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3" descr="slov4"/>
          <p:cNvPicPr/>
          <p:nvPr/>
        </p:nvPicPr>
        <p:blipFill>
          <a:blip r:embed="rId1"/>
          <a:stretch/>
        </p:blipFill>
        <p:spPr>
          <a:xfrm>
            <a:off x="2335320" y="581040"/>
            <a:ext cx="2503440" cy="1981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0" y="762120"/>
            <a:ext cx="2171880" cy="4119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4"/>
          <p:cNvPicPr/>
          <p:nvPr/>
        </p:nvPicPr>
        <p:blipFill>
          <a:blip r:embed="rId3"/>
          <a:srcRect l="15010" t="20236" r="13742" b="7528"/>
          <a:stretch/>
        </p:blipFill>
        <p:spPr>
          <a:xfrm>
            <a:off x="2368440" y="3370320"/>
            <a:ext cx="2084400" cy="2743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4"/>
          <a:stretch/>
        </p:blipFill>
        <p:spPr>
          <a:xfrm>
            <a:off x="4648320" y="2286000"/>
            <a:ext cx="1577880" cy="4114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"/>
          <p:cNvPicPr/>
          <p:nvPr/>
        </p:nvPicPr>
        <p:blipFill>
          <a:blip r:embed="rId5"/>
          <a:stretch/>
        </p:blipFill>
        <p:spPr>
          <a:xfrm>
            <a:off x="6248520" y="3370320"/>
            <a:ext cx="2895480" cy="1963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slov6"/>
          <p:cNvPicPr/>
          <p:nvPr/>
        </p:nvPicPr>
        <p:blipFill>
          <a:blip r:embed="rId6"/>
          <a:stretch/>
        </p:blipFill>
        <p:spPr>
          <a:xfrm>
            <a:off x="5181480" y="0"/>
            <a:ext cx="3505320" cy="2303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152280" y="525600"/>
            <a:ext cx="1828800" cy="29718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5" descr="3213d4824c86a56ae80055d2ae4.jpg"/>
          <p:cNvPicPr/>
          <p:nvPr/>
        </p:nvPicPr>
        <p:blipFill>
          <a:blip r:embed="rId2"/>
          <a:stretch/>
        </p:blipFill>
        <p:spPr>
          <a:xfrm>
            <a:off x="2189160" y="0"/>
            <a:ext cx="3068640" cy="37720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6" descr="manuscriptIntro.gif"/>
          <p:cNvPicPr/>
          <p:nvPr/>
        </p:nvPicPr>
        <p:blipFill>
          <a:blip r:embed="rId3"/>
          <a:stretch/>
        </p:blipFill>
        <p:spPr>
          <a:xfrm>
            <a:off x="5257800" y="727200"/>
            <a:ext cx="3886200" cy="27730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" descr=""/>
          <p:cNvPicPr/>
          <p:nvPr/>
        </p:nvPicPr>
        <p:blipFill>
          <a:blip r:embed="rId4"/>
          <a:srcRect l="0" t="20058" r="0" b="0"/>
          <a:stretch/>
        </p:blipFill>
        <p:spPr>
          <a:xfrm>
            <a:off x="2639880" y="3897360"/>
            <a:ext cx="5235840" cy="2960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11120" y="3106440"/>
            <a:ext cx="83059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марта 1564 года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появилас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первая русская печатна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книга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постол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3" name="Group 4"/>
          <p:cNvGrpSpPr/>
          <p:nvPr/>
        </p:nvGrpSpPr>
        <p:grpSpPr>
          <a:xfrm>
            <a:off x="411120" y="38160"/>
            <a:ext cx="2179800" cy="3066840"/>
            <a:chOff x="411120" y="38160"/>
            <a:chExt cx="2179800" cy="3066840"/>
          </a:xfrm>
        </p:grpSpPr>
        <p:pic>
          <p:nvPicPr>
            <p:cNvPr id="184" name="Picture 5" descr=""/>
            <p:cNvPicPr/>
            <p:nvPr/>
          </p:nvPicPr>
          <p:blipFill>
            <a:blip r:embed="rId1"/>
            <a:stretch/>
          </p:blipFill>
          <p:spPr>
            <a:xfrm>
              <a:off x="411120" y="38160"/>
              <a:ext cx="2179800" cy="30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6"/>
            <p:cNvSpPr/>
            <p:nvPr/>
          </p:nvSpPr>
          <p:spPr>
            <a:xfrm>
              <a:off x="411120" y="38160"/>
              <a:ext cx="2179800" cy="30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86" name="Picture 7" descr=""/>
          <p:cNvPicPr/>
          <p:nvPr/>
        </p:nvPicPr>
        <p:blipFill>
          <a:blip r:embed="rId2"/>
          <a:stretch/>
        </p:blipFill>
        <p:spPr>
          <a:xfrm>
            <a:off x="3314880" y="38160"/>
            <a:ext cx="1981080" cy="2895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"/>
          <p:cNvPicPr/>
          <p:nvPr/>
        </p:nvPicPr>
        <p:blipFill>
          <a:blip r:embed="rId3"/>
          <a:stretch/>
        </p:blipFill>
        <p:spPr>
          <a:xfrm>
            <a:off x="5638680" y="2057400"/>
            <a:ext cx="2971800" cy="4648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4"/>
          <a:stretch/>
        </p:blipFill>
        <p:spPr>
          <a:xfrm>
            <a:off x="1752480" y="4289400"/>
            <a:ext cx="3543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3276720" y="0"/>
            <a:ext cx="5486400" cy="3686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2805400"/>
          <p:cNvPicPr/>
          <p:nvPr/>
        </p:nvPicPr>
        <p:blipFill>
          <a:blip r:embed="rId2"/>
          <a:stretch/>
        </p:blipFill>
        <p:spPr>
          <a:xfrm>
            <a:off x="344520" y="1295280"/>
            <a:ext cx="2895480" cy="342900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1"/>
          <p:cNvSpPr/>
          <p:nvPr/>
        </p:nvSpPr>
        <p:spPr>
          <a:xfrm>
            <a:off x="3629160" y="3686040"/>
            <a:ext cx="513396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Хорошая книга, мой спутник,  мой друг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С тобой интересным бывает досу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Мы время отлично проводим вдвое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И наш разговор потихоньку вед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5" descr="3177483-l"/>
          <p:cNvPicPr/>
          <p:nvPr/>
        </p:nvPicPr>
        <p:blipFill>
          <a:blip r:embed="rId1"/>
          <a:stretch/>
        </p:blipFill>
        <p:spPr>
          <a:xfrm>
            <a:off x="76320" y="1600200"/>
            <a:ext cx="1904760" cy="28195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1981080" y="152280"/>
            <a:ext cx="63248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1. Хлеб питает тело, а книга – разу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2. Золото добывают из земли, а знания  - из кни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3. Неграмотный, как слепой, а книга глаза открыва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4. Книга в счастье украшает, а в несчастье – утеша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5. Книга не пряник, а к себе мани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6. Книга не самолет, а за тридевять земель унес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7. Хорошая книга ярче звездочки свети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8. С книгой знаться – ума набрать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9. Книгу читаешь, как на крыльях летаеш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80" y="-3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зультаты  анкетирования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Изучение читательского интереса» 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83808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досуговой деятельности чтение относят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1 челове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ят 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35 челове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читают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9 челове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ют эпизодическ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30 человек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ют для душ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12 челове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читают для подготовки к урокам, по настоянию родителей и учителей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27 челове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ются услугами библиотечной системы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39 челове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гласны с тем, что доступ в Интернет сделает ненужными даже библиотек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32 человек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может существовать без библиотеки 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 человек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ли книгу, которую читают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13 челове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на Александровна</cp:lastModifiedBy>
  <dcterms:modified xsi:type="dcterms:W3CDTF">2021-05-31T10:43:23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