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68405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117-316D-46F8-9275-878EED73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97C-F5C6-4D42-894A-4183C2DB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85F42-2E19-4CA8-81CE-F4E613B3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E0FAE-6C88-4533-BCF0-F2427976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6ADB7-07B9-4949-8322-8F78315B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BA9BF-36D3-4358-A707-CD1E5765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C782B-AD4A-459D-A637-793B4538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C9811-238F-4955-B436-3E6BADE7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854CE-6012-452A-BC28-1008B8BE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56157-8843-49A1-8CBA-5DC7A307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4C32D-304A-4D22-A6DF-018752B0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DC157-8F3C-4A9F-A4D6-F9D8EB32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C18-D665-46F4-AB02-5C164709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A4CB0-C57D-4471-A06C-85A9A56D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A5FDD-E526-4667-8CA9-1F54AA9D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5E0D2-41BC-40A8-9D54-6A3AE266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7DA95-F110-462D-90A7-CDCA2AE6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7039A-222C-4D92-95F1-7D598C68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C94AF-D12B-4157-90FB-DACE9E9C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12096-7585-4AB4-9787-A243E906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B6D41-31FC-4DF4-AA04-2AC2254A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AD56A-25F4-4D63-8136-FB1531EC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0FE72-32E5-4258-9711-D0D22D12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481-09C4-4A31-BB8C-A1E2E6BE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06E6E-90CC-4CDC-9CDC-17B43B8F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59A74-D5D9-44B1-92A9-3461AAB8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38C9A-95FD-4A48-A6AB-49589C33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9B491-1E41-455C-9AF9-AA360977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8C751-840F-473F-88C4-B11EDB87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F1FC1-5458-4E3D-98B4-FD23D6A7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7B727-0FDF-4510-BB0E-0A25C55A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3E044-CC7A-48C4-BA1D-05E0E9D6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4D8AA-26F6-42F2-9A95-16116708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9E34E-3B55-434E-84DE-C48032F2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815C-026E-4109-9B1D-9C417EB5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3B287-AC7E-485F-B2F5-5B84FFA1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056E7-9886-45CA-8BEC-D5939574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ADFCD-FDE2-4A80-BB9A-7F454B60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4BE1B-7B51-4C63-B8E2-2D6BDE03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5568D-2A1F-4BE6-959A-84C4B4E7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66080-D424-4CD0-BD6C-FCBB24D2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4A6D4-B286-429A-99D1-0CF0B3CD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07F6D-3851-403E-BD52-8A58FFCC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A94F2-79E0-4A80-A824-FFCA0CF6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A2192-0025-46AB-9765-8A34568F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8C01-8594-4EA1-9C56-1CA0944A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0E872-799E-46C7-8751-C1D6F6F2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DA42B-1368-4789-855B-31598402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56650-4ED5-4071-895E-7E51AA56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A2591-F410-4CFA-88D5-FBF8215E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70B11-BA1E-4222-B244-9067ACEE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6F380-B4BC-4FA6-8624-8D4CCBE2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63B22-054F-4240-BF7B-05CFC51F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1DC77-BD58-4D1F-BF75-65806693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951BB-4DB1-4B10-B0AA-A5E8DFF7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E3567-6758-4725-A8A0-CBAB0B84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DF4B-C498-4257-B053-47355252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25D07-A1C6-4E7E-8187-780C1C6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4558E-7F83-4055-AA9A-C15356F2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1195D-DC48-478D-A707-9E92DAAE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28CDB-9BF8-41B2-9904-8DD23FC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22A08-ECE1-4535-82CA-D4466CB5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85445-D042-4616-936E-B99B0043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033C8-774C-47C2-9B0B-4B12D3E5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3AF3B-9815-4270-B407-1BB2BAF9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674EC-4C4C-4D67-B789-12E651E4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DA643-B902-4851-9811-28898D01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6B9C-3515-4728-8713-D8C28294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BFC31-56DA-462D-BCD7-5D6746D6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C8957-143D-499E-97FD-728D253E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ADB9F-FC1B-4928-855A-4DF1327D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C930C-DA99-48E6-B71C-8AB6D0C9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82C12-51FD-4697-9817-2B2CB902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DDFA7-FFF2-4CCD-BD2D-A19BAF38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4C3FA-7443-48D7-9BE2-9F106B6E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32A55-8B7D-4936-ADFC-586AB908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EA53A-8E16-45BA-9317-A12D733A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EF344-5CBD-49A3-8FB5-F28C309A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2687-A430-4D98-8022-6CECBA20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AC620-FC29-444C-BDA3-6F9F15ED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06B89-BA7C-48EF-ABDF-9F4850AC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1F1BF-F870-4D55-BB69-D6184839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F96AE-15CD-498A-B05A-6C760254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B1579-7737-4BEC-B6B8-66E134D2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308BD-569F-46B0-B86F-2D0ABF8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1734D-539A-4AB4-A273-0B573BD2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E286D-D528-4014-8754-41DF2059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92551-3152-40ED-A37F-97A46FA3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91045-38B1-4079-B8C3-4F1580B9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BA8A-7D5C-4234-B3CD-635B4AB5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5754C-D865-47E4-9A71-4FE7C13E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CE420-2DAD-4402-A9CC-767CB663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252543-37E1-4B6F-BC09-72F85384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0099F-7D5E-4426-AA25-4D160EEC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28631-796D-4877-987F-ED6F7FFE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C418F-2248-45E3-834E-714E547A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D5C29-795A-4C6D-9EC9-7B64B77C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60287-C26F-40B6-90C8-1D1E674E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A05E8-2DD3-4367-A371-12165C7B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2550EE-7843-4633-A9B0-4189005C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42AC-A3A9-433A-90AE-FFE45D09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0146C-89B6-48C1-9798-B0140EBA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41161D-25D8-4358-B593-69CD750D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56F4E-B2B9-4126-9958-2F82C1B7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AB1C7-D706-42A0-8AC5-052011DB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4C985-F3BA-4B37-8D9A-A65BCC13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CF3C7-2959-4894-8990-A696D118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AD685-7F23-4CCF-9F35-4EFE2BC0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0ED2C-0198-40BC-909A-D6821D7C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E23E8B-AC86-4AE1-A559-BB232F86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75847-F536-46C1-84F1-6F91F4A2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025-6FBD-4EB3-BBF7-2FC1ADCD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BA65-FD17-4837-A555-D6346DE8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061F2-2561-4E12-83AF-1F79407E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83E7F-B081-4630-841F-C63B190D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391B4-16B6-4E92-AFB7-949154BD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28785-9531-4C30-A527-22EF6391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5B92A-1A81-46C5-AF00-28E7500B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15EEC5-2AFD-4253-864A-1F366377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A7AC0-9771-45E3-AEFF-CFEC5AAB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61EE65-FBE3-46E3-A42D-1B0B4221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83E0D-C9B6-47A6-A63F-7F6101E9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5C2C9-29C5-4F26-9C2B-13B55B6E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505D-8311-4FBF-9F20-5A85CAB4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EFE35-A4E7-424D-A712-1A93B6ED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8DAB1-A85E-4642-BEDE-D65335CC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61F078-CEB0-44B5-8CE7-798F924B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7AE330-CF6E-4B67-837B-D6D3769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CF285-F0A7-4CF3-B7D5-72D83FBE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1AD48-0080-4E4E-9545-85AC6130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EDE95-57A3-4EF1-AB40-84D84277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6F05-E3ED-437B-8FB7-BE65CC2D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7457-9365-4953-B29D-8C071823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523D-8E75-4A00-A3AF-6C5BB84B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29B1-D866-49B1-9B82-68A0FDD8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4DF5E-F2E5-425D-95D1-A1989D54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DA10-A0FE-4F8A-951F-810B088D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9B967-D65F-4933-BF33-E69DEE46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460A-880F-4CB7-97AF-E5F72E9E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277-496A-458E-891A-4C964398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C365-4C55-4D6A-9046-B29D7F68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8426C-AFB2-485F-BDF2-4A751381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E9AD8-9F87-4530-8449-ACCEECBC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781A-4AE2-4860-A4B3-FDE3AA7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5E95-EF55-4CD3-AF4F-8DC11B0D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3704-7507-44FD-8220-3EE3A70C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557D-1508-4262-BCDE-366901FA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39918-4059-4F7A-9AA3-E95476A1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4784-15A9-4941-8E13-4EE996EA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DB74D-FDFC-4C06-94BF-B3E15668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9C2-906E-4F4A-BEA3-3457BD84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4179-B985-45A1-80D7-952D06F4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98F58-4770-4177-A194-A5534C8C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DA2DC-6037-4772-A121-4C00DFC0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D7B4-F0AD-4AE8-9E1D-4317A030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9ECAE-D5E3-440B-87EE-A94AA323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7A604-A4AA-42FA-90B8-EC64CD1B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FAB6A-493A-4D5F-962F-7DD24268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B22AA-19A8-402F-BED1-6E706622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27AB-0CC9-44A8-B911-B5746EC6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3B30A-C45D-48F7-BE5F-70F3264F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952-E489-428B-9096-6786D84E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21E53-4B5C-4F3D-A5DD-2DA611CA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09184-46CF-4A56-97B1-26CA860A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D5108-4A7E-4B26-A24F-CBFD41B2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F381-6ABB-4120-ACCC-D84D6EDD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63A74-DFC8-4E21-B153-A2D8327C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79EF2-1074-4C38-B5F4-3766BDC2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CD348-7C34-450A-9331-557DC128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0CAE8-9640-4FE0-ADE4-4873FAB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41478-DCF2-44B6-9B2C-5D298FBC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92A9D-BAC8-42DF-91A4-75EE5C9E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3A1-BB05-4AA8-B9CD-CD569CE2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6F32C-A2FB-4EDF-9C31-A79D5110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FFA84-56C8-4A0D-B684-4AC39334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ADAD8-6534-46C6-B063-AA13C8F0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E3A39-3AC3-4070-92A1-003FDA3C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735D3-E564-4E9F-B205-6CD3E611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39CDB-CDBC-4FD0-B904-B612312D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0E869-7A7F-48C4-881B-2F5E8BE4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84C62-4AE0-4B03-8227-FC2EF8ED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1BF49-B8D2-42B3-8035-AE4844E5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48832-9A1A-4FEF-87B9-8FEC3FE3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AC6-940E-4507-BC23-714278D1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91FBC-CBFC-41A6-93DD-2146B21A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9B6B7-FCF2-4F7A-AED8-101A8BE8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E296C-04DE-4420-8307-3C3B02A4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A2BCE-85C1-47AB-A05A-C1E87D74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9E1AA-08D3-4C88-8A81-A596A9EA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A3577-E859-4D27-A2EE-1C41B8D0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F4CB-DD81-4550-920B-949125EE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EFDF1-752F-429A-9112-E4515A5B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2D1F8-7BC2-4A68-858F-9220791D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F90FC-BEB6-4FE7-AE04-510E8FD7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14F-19C6-4BA6-B806-730AACFE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A33F3-1F3D-45C0-A8B0-7B3CF4BA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1AA14-03B8-4D0B-A266-2150DB4E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DB6CA-EAC7-4C3F-A896-B39351E1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7035E-80A4-460A-BA5E-242D3E8B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DDF9B-FC15-48B3-891D-36852775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02EB2-CBF6-4370-B6C0-EDEA4093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25DD0-879F-49BE-820C-902E90FD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C1848-2FC8-467A-A836-8EFC74D2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1C75F-2CF9-4C6D-B155-0D81CF12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9C5C6-2E0C-4DF8-B533-E6C49213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026-FAB7-4B88-87FE-414D1D2B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12280" y="619200"/>
            <a:ext cx="581508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FDAFF-71BD-4F02-AAF2-E9CABC82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753B0-A0BA-49DC-8E46-58DB5FEC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C897D-A9CF-4D5F-9FAC-0E6D8A9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5DC95-3846-4839-AE63-6FDA83E7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2280" y="4155840"/>
            <a:ext cx="58150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5B1E5-1A4B-448F-9A71-F1D5B57B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492000" y="236700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1228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492000" y="4155840"/>
            <a:ext cx="28375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1D800-C00E-4087-800B-DCD64CBC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47860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444920" y="236700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1228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47860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4444920" y="4155840"/>
            <a:ext cx="187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74FC5-7458-4D77-A2B3-E57388F9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94B14-BA89-42E2-91CA-0AFD5E77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889AA-D9FB-4224-A042-1779E744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708C4-9C69-4400-B482-E42916F9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83A90-7523-4A57-B9F1-AF9561E03E3F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FF76F-5282-42FF-83BB-99E5373990F4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D9D0B-0F1C-44B9-87F5-F610C31E30E9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31408-9D4B-4869-B535-4B65B9F218E2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552600" y="887400"/>
            <a:ext cx="407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5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5872320" y="3119400"/>
            <a:ext cx="414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5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47508-8A34-4F58-9614-ADA6A875CE18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3BF62-D12B-4F45-B175-6D1FC700499C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29F43-FD32-41FC-9866-9353C9F244BA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1ED20-1631-4F59-AAF4-1E2E850D9F4D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EA16F-1849-41BF-9840-98F4BF4FD437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AFAC1-F95E-4A7A-8339-B38EB19F94DF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B2B1A-0FBC-42D8-936C-63BE7E172E92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95627-A805-4A0D-8171-00BECDC77719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AA416-AC0A-4BB3-958A-B7A39C415794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8ED0C-3145-404B-A38F-AA563DD6B924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884F0-E99E-4E06-B2C5-6B18221C5271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88FB6-7837-4684-9D17-D9E06761E7FC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AA59B-7BF0-462C-8307-5B17630896AA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12280" y="619200"/>
            <a:ext cx="58150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12280" y="2367000"/>
            <a:ext cx="58150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1264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853920" indent="-1695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3" marL="119700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4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5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6" marL="1538280" indent="-1699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308120" y="5882760"/>
            <a:ext cx="1538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512640" y="5882760"/>
            <a:ext cx="3743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5899320" y="5882760"/>
            <a:ext cx="428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CDFF5-5B00-4F17-9CE2-C50CDE381591}" type="slidenum"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Рисунок 4" descr="Чертеж_шапка.jpg"/>
          <p:cNvPicPr/>
          <p:nvPr/>
        </p:nvPicPr>
        <p:blipFill>
          <a:blip r:embed="rId1"/>
          <a:stretch/>
        </p:blipFill>
        <p:spPr>
          <a:xfrm>
            <a:off x="900000" y="1812960"/>
            <a:ext cx="5079960" cy="452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6" name="TextBox 3"/>
          <p:cNvSpPr/>
          <p:nvPr/>
        </p:nvSpPr>
        <p:spPr>
          <a:xfrm>
            <a:off x="1229400" y="428760"/>
            <a:ext cx="45590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55071"/>
                </a:solidFill>
                <a:latin typeface="Arial Black"/>
              </a:rPr>
              <a:t>ЧЕРТЁЖ</a:t>
            </a:r>
            <a:br>
              <a:rPr sz="2400"/>
            </a:br>
            <a:r>
              <a:rPr b="0" lang="ru-RU" sz="2400" spc="-1" strike="noStrike">
                <a:solidFill>
                  <a:srgbClr val="355071"/>
                </a:solidFill>
                <a:latin typeface="Arial Black"/>
              </a:rPr>
              <a:t>ОСНОВНЫЕ ПОНЯТИЯ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екции и линии на чертеж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195720" y="4652640"/>
            <a:ext cx="3644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КП ОБРАЗОВАТЕЛЬНОЕ УЧРЕЖДЕНИЕ № 57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.С. ЮРЧЕНКО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Box 2"/>
          <p:cNvSpPr/>
          <p:nvPr/>
        </p:nvSpPr>
        <p:spPr>
          <a:xfrm>
            <a:off x="510840" y="500040"/>
            <a:ext cx="576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ертёж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— это графический документ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держащий изображение детали и необходимые данны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ля ее изготовления и контроля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9" name="Рисунок 3" descr="Чертеж_пример.jpg"/>
          <p:cNvPicPr/>
          <p:nvPr/>
        </p:nvPicPr>
        <p:blipFill>
          <a:blip r:embed="rId1"/>
          <a:stretch/>
        </p:blipFill>
        <p:spPr>
          <a:xfrm>
            <a:off x="276120" y="1500120"/>
            <a:ext cx="6264360" cy="440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рямоугольник 11"/>
          <p:cNvSpPr/>
          <p:nvPr/>
        </p:nvSpPr>
        <p:spPr>
          <a:xfrm>
            <a:off x="419040" y="3929040"/>
            <a:ext cx="6421320" cy="642960"/>
          </a:xfrm>
          <a:prstGeom prst="rect">
            <a:avLst/>
          </a:prstGeom>
          <a:solidFill>
            <a:srgbClr val="d0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Прямоугольник 9"/>
          <p:cNvSpPr/>
          <p:nvPr/>
        </p:nvSpPr>
        <p:spPr>
          <a:xfrm>
            <a:off x="419040" y="428760"/>
            <a:ext cx="6421320" cy="642960"/>
          </a:xfrm>
          <a:prstGeom prst="rect">
            <a:avLst/>
          </a:prstGeom>
          <a:solidFill>
            <a:srgbClr val="d0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TextBox 2"/>
          <p:cNvSpPr/>
          <p:nvPr/>
        </p:nvSpPr>
        <p:spPr>
          <a:xfrm>
            <a:off x="2429280" y="1139760"/>
            <a:ext cx="359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линия видимого контура)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новной линией изображают видимые линии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ересечения поверхностей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3" name="Picture 2" descr="I:\Shool_2\Эскиз детали\Презентация -эскиз-\Виды линий_Кроп.jpg"/>
          <p:cNvPicPr/>
          <p:nvPr/>
        </p:nvPicPr>
        <p:blipFill>
          <a:blip r:embed="rId1"/>
          <a:stretch/>
        </p:blipFill>
        <p:spPr>
          <a:xfrm>
            <a:off x="490680" y="1211400"/>
            <a:ext cx="1866600" cy="2349360"/>
          </a:xfrm>
          <a:prstGeom prst="rect">
            <a:avLst/>
          </a:prstGeom>
          <a:ln w="0">
            <a:noFill/>
          </a:ln>
        </p:spPr>
      </p:pic>
      <p:sp>
        <p:nvSpPr>
          <p:cNvPr id="784" name="TextBox 4"/>
          <p:cNvSpPr/>
          <p:nvPr/>
        </p:nvSpPr>
        <p:spPr>
          <a:xfrm>
            <a:off x="2424600" y="1782720"/>
            <a:ext cx="387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ов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линия невидимого контура)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овой линией изображают невидимые лини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ересечения поверхностей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TextBox 5"/>
          <p:cNvSpPr/>
          <p:nvPr/>
        </p:nvSpPr>
        <p:spPr>
          <a:xfrm>
            <a:off x="2430360" y="2354400"/>
            <a:ext cx="417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пунктирн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осевая линия)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пунктирной линией изображают оси вращения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талей и координаты центров отверстий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TextBox 6"/>
          <p:cNvSpPr/>
          <p:nvPr/>
        </p:nvSpPr>
        <p:spPr>
          <a:xfrm>
            <a:off x="2431080" y="2997360"/>
            <a:ext cx="390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плошная тонк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вспомогательная линия)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онкие сплошные линии применяют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простановки размеров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TextBox 7"/>
          <p:cNvSpPr/>
          <p:nvPr/>
        </p:nvSpPr>
        <p:spPr>
          <a:xfrm>
            <a:off x="490680" y="425520"/>
            <a:ext cx="34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нии, используем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оформлении чертежей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TextBox 10"/>
          <p:cNvSpPr/>
          <p:nvPr/>
        </p:nvSpPr>
        <p:spPr>
          <a:xfrm>
            <a:off x="685440" y="392904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СШТА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— степень уменьшения или увеличе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ажения детали на чертеж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TextBox 12"/>
          <p:cNvSpPr/>
          <p:nvPr/>
        </p:nvSpPr>
        <p:spPr>
          <a:xfrm>
            <a:off x="633600" y="4786200"/>
            <a:ext cx="465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1:1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в натуральную величину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1:2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с уменьшением в 2 раза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2:1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с увеличением в 2 раза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2638440" y="564372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МАСШТАБА на чертеж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азывается ОБЯЗАТЕЛЬНО!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Рисунок 1" descr="проекции_1.jpg"/>
          <p:cNvPicPr/>
          <p:nvPr/>
        </p:nvPicPr>
        <p:blipFill>
          <a:blip r:embed="rId1"/>
          <a:stretch/>
        </p:blipFill>
        <p:spPr>
          <a:xfrm>
            <a:off x="973080" y="1628640"/>
            <a:ext cx="4894200" cy="4173840"/>
          </a:xfrm>
          <a:prstGeom prst="rect">
            <a:avLst/>
          </a:prstGeom>
          <a:ln w="0">
            <a:noFill/>
          </a:ln>
        </p:spPr>
      </p:pic>
      <p:sp>
        <p:nvSpPr>
          <p:cNvPr id="792" name="TextBox 2"/>
          <p:cNvSpPr/>
          <p:nvPr/>
        </p:nvSpPr>
        <p:spPr>
          <a:xfrm>
            <a:off x="490680" y="357120"/>
            <a:ext cx="585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ображения детали на чертеже —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проекции контуров детали на основные плоскости пространств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Рисунок 4" descr="Вид прямо.jpg"/>
          <p:cNvPicPr/>
          <p:nvPr/>
        </p:nvPicPr>
        <p:blipFill>
          <a:blip r:embed="rId1"/>
          <a:stretch/>
        </p:blipFill>
        <p:spPr>
          <a:xfrm>
            <a:off x="276120" y="928800"/>
            <a:ext cx="6324840" cy="2997000"/>
          </a:xfrm>
          <a:prstGeom prst="rect">
            <a:avLst/>
          </a:prstGeom>
          <a:ln w="0">
            <a:noFill/>
          </a:ln>
        </p:spPr>
      </p:pic>
      <p:pic>
        <p:nvPicPr>
          <p:cNvPr id="794" name="Рисунок 3" descr="Изометрия.png"/>
          <p:cNvPicPr/>
          <p:nvPr/>
        </p:nvPicPr>
        <p:blipFill>
          <a:blip r:embed="rId2"/>
          <a:stretch/>
        </p:blipFill>
        <p:spPr>
          <a:xfrm>
            <a:off x="133200" y="2928960"/>
            <a:ext cx="4859640" cy="3643200"/>
          </a:xfrm>
          <a:prstGeom prst="rect">
            <a:avLst/>
          </a:prstGeom>
          <a:ln w="0">
            <a:noFill/>
          </a:ln>
        </p:spPr>
      </p:pic>
      <p:sp>
        <p:nvSpPr>
          <p:cNvPr id="795" name="TextBox 5"/>
          <p:cNvSpPr/>
          <p:nvPr/>
        </p:nvSpPr>
        <p:spPr>
          <a:xfrm>
            <a:off x="447120" y="428760"/>
            <a:ext cx="6023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переди (прямо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показывать форму детали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наибольшей наглядностью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Стрелка влево 6"/>
          <p:cNvSpPr/>
          <p:nvPr/>
        </p:nvSpPr>
        <p:spPr>
          <a:xfrm rot="1586400">
            <a:off x="4404960" y="503064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7e32b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3866760" y="57150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e32b0"/>
                </a:solidFill>
                <a:latin typeface="Tw Cen MT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2" descr="I:\Shool_2\Эскиз детали\Презентация -эскиз-\Вид слева.jpg"/>
          <p:cNvPicPr/>
          <p:nvPr/>
        </p:nvPicPr>
        <p:blipFill>
          <a:blip r:embed="rId1"/>
          <a:stretch/>
        </p:blipFill>
        <p:spPr>
          <a:xfrm>
            <a:off x="133200" y="860400"/>
            <a:ext cx="6324840" cy="2997360"/>
          </a:xfrm>
          <a:prstGeom prst="rect">
            <a:avLst/>
          </a:prstGeom>
          <a:ln w="0">
            <a:noFill/>
          </a:ln>
        </p:spPr>
      </p:pic>
      <p:pic>
        <p:nvPicPr>
          <p:cNvPr id="799" name="Рисунок 2" descr="Изометрия.png"/>
          <p:cNvPicPr/>
          <p:nvPr/>
        </p:nvPicPr>
        <p:blipFill>
          <a:blip r:embed="rId2"/>
          <a:stretch/>
        </p:blipFill>
        <p:spPr>
          <a:xfrm>
            <a:off x="990720" y="2428920"/>
            <a:ext cx="4859280" cy="3643200"/>
          </a:xfrm>
          <a:prstGeom prst="rect">
            <a:avLst/>
          </a:prstGeom>
          <a:ln w="0">
            <a:noFill/>
          </a:ln>
        </p:spPr>
      </p:pic>
      <p:sp>
        <p:nvSpPr>
          <p:cNvPr id="800" name="TextBox 3"/>
          <p:cNvSpPr/>
          <p:nvPr/>
        </p:nvSpPr>
        <p:spPr>
          <a:xfrm>
            <a:off x="1008000" y="428760"/>
            <a:ext cx="4975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лев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располагаться на чертеж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рава от вида прямо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Стрелка влево 4"/>
          <p:cNvSpPr/>
          <p:nvPr/>
        </p:nvSpPr>
        <p:spPr>
          <a:xfrm rot="8073000">
            <a:off x="1048320" y="583632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7e32b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TextBox 5"/>
          <p:cNvSpPr/>
          <p:nvPr/>
        </p:nvSpPr>
        <p:spPr>
          <a:xfrm>
            <a:off x="1722600" y="61437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e32b0"/>
                </a:solidFill>
                <a:latin typeface="Tw Cen MT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2" descr="I:\Shool_2\Эскиз детали\Презентация -эскиз-\Вид сверху.jpg"/>
          <p:cNvPicPr/>
          <p:nvPr/>
        </p:nvPicPr>
        <p:blipFill>
          <a:blip r:embed="rId1"/>
          <a:stretch/>
        </p:blipFill>
        <p:spPr>
          <a:xfrm>
            <a:off x="0" y="785880"/>
            <a:ext cx="6324480" cy="2997000"/>
          </a:xfrm>
          <a:prstGeom prst="rect">
            <a:avLst/>
          </a:prstGeom>
          <a:ln w="0">
            <a:noFill/>
          </a:ln>
        </p:spPr>
      </p:pic>
      <p:sp>
        <p:nvSpPr>
          <p:cNvPr id="804" name="TextBox 3"/>
          <p:cNvSpPr/>
          <p:nvPr/>
        </p:nvSpPr>
        <p:spPr>
          <a:xfrm>
            <a:off x="863280" y="428760"/>
            <a:ext cx="5085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верху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располагаться на чертеж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 видом прямо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5" name="Рисунок 2" descr="Изометрия.png"/>
          <p:cNvPicPr/>
          <p:nvPr/>
        </p:nvPicPr>
        <p:blipFill>
          <a:blip r:embed="rId2"/>
          <a:stretch/>
        </p:blipFill>
        <p:spPr>
          <a:xfrm>
            <a:off x="1562040" y="3857760"/>
            <a:ext cx="4002120" cy="3000240"/>
          </a:xfrm>
          <a:prstGeom prst="rect">
            <a:avLst/>
          </a:prstGeom>
          <a:ln w="0">
            <a:noFill/>
          </a:ln>
        </p:spPr>
      </p:pic>
      <p:sp>
        <p:nvSpPr>
          <p:cNvPr id="806" name="Стрелка влево 4"/>
          <p:cNvSpPr/>
          <p:nvPr/>
        </p:nvSpPr>
        <p:spPr>
          <a:xfrm rot="16200000">
            <a:off x="2744640" y="3889080"/>
            <a:ext cx="978120" cy="485640"/>
          </a:xfrm>
          <a:prstGeom prst="leftArrow">
            <a:avLst>
              <a:gd name="adj1" fmla="val 50000"/>
              <a:gd name="adj2" fmla="val 50026"/>
            </a:avLst>
          </a:prstGeom>
          <a:solidFill>
            <a:srgbClr val="7e32b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TextBox 5"/>
          <p:cNvSpPr/>
          <p:nvPr/>
        </p:nvSpPr>
        <p:spPr>
          <a:xfrm>
            <a:off x="3366720" y="371484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e32b0"/>
                </a:solidFill>
                <a:latin typeface="Tw Cen MT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Box 1"/>
          <p:cNvSpPr/>
          <p:nvPr/>
        </p:nvSpPr>
        <p:spPr>
          <a:xfrm>
            <a:off x="633240" y="1071720"/>
            <a:ext cx="550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ованная литература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Программы для 5-9 классов специальных (коррекционных) учреждений VIII вида. Сборник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М.: Гуманит. изд. центр ВЛАДОС, 2000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толярное дело. Авт. Журавлев Б.А. Учебное пособие для 5-6 классов вспомогательной школы. М., "Просвещение", 1993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Столярное дело. Авт. Журавлев Б.А. Учебное пособие для 7-8 классов вспомогательной школы. М., "Просвещение", 1993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правочное руководство по черчени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Н. Богданов, И. Ф. Малежик, А. П. Верхола и др. —М. Машиностроение, 1989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8:36:24Z</dcterms:created>
  <dc:creator>User</dc:creator>
  <dc:description/>
  <dc:language>en-US</dc:language>
  <cp:lastModifiedBy>Dom</cp:lastModifiedBy>
  <dcterms:modified xsi:type="dcterms:W3CDTF">2021-06-01T19:09:08Z</dcterms:modified>
  <cp:revision>17</cp:revision>
  <dc:subject/>
  <dc:title>Слайд 1</dc:title>
</cp:coreProperties>
</file>