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68405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276-D246-4D03-91C8-75BD63EC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63A-C14D-4433-AD2D-395529D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6E3EB-EE04-4902-94E1-1BA69A75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79D72-A1E0-4A13-A44B-1008780B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7E86C-95AC-4BBD-B5C3-62247F38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BE58A-FA85-4A7C-9CAE-100EC09E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1CC1D-4AB4-4FE9-BD65-9331A91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6158E-9E4E-47C8-8DE6-4E235C70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15636-1F83-47FB-B253-5A7462C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73AE7-42E1-4793-BC41-691539A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3280A-9AA5-4A6E-8B76-BF21AB59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C1FBC-449E-4653-A2AA-0C64DF79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EE8-5C98-4459-92ED-AE9F1B7E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9637A-F743-4E6D-A6FD-A92144CD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45B4-7F09-4BC0-8D30-2663D12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BAABF-0B48-4E52-BCA2-ADBC779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C9C4F-59C8-43E5-ADDD-08248DE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E0030-3245-4A0D-8632-98742C37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EAD7E-E698-4B34-AF75-9FF7197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64F1A-46D3-4651-9800-E9E32C9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F6765-1B38-442E-9EE4-033FC44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62E41-1F51-4284-8ED3-62E88010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BE0C1-6123-4BD5-AB46-8884A36E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23E-3C1F-4416-B586-41F8F0BB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7FD0A-8BE3-47D5-9027-CFADA76A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0CAA-ACDF-4959-8DF6-75AAF744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8270F-E08A-4F41-9837-1CF6F8B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EF33-C608-48A6-8F40-E8ECC4F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F9BA2-FCE0-4FED-8C8B-FD2414B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084F2-29F8-4BCA-8D98-90AEEA86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DA74E-8ECC-4B6D-B22E-72BE2251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9DB2B-7EA1-4647-AE93-C60DE5E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95083-7389-4F62-A9B3-78F4F30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E5E3-1059-4085-85A7-0176BBD9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4396-3F73-49F8-9423-121B5D81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6A393-DE83-4448-9427-CA4C7B9E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92CE8-662C-4721-91A6-B4D5ECFA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203B2-F83F-4B75-900E-D5FE4419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38FDF-5DE3-41AE-943D-617758D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B54A9-C838-4C09-B677-552C416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9229B-17F3-4272-AA07-5FFE7C7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83093-23E7-45FE-B407-E438DC1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DED2C-C59D-4EAB-99BE-402BA45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96DCC-9DC2-4C72-8A58-2FF43B95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060E4-BDAB-47EF-B6A9-36622D3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CA41-6F69-4619-9559-66B0E5C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AF30A-746A-4375-8F75-6E32872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FC788-01DC-450C-8A97-DF6EEDC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43D0C-0CB3-41F0-9545-9F6F579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D72C2-4DCB-4C3B-97C9-64C549F6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A3365-B09F-4A42-B5B7-57320BC7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66D66-D5FA-4AC3-A81C-7932FB84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708CB-ABB8-45AB-A71D-8086B321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F3324-279C-4CF0-BBFF-9E727A7D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06F8D-30FB-4868-A664-B541570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41C01-5F31-4B1A-B250-5795F41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EF57-9012-40DC-9B25-9CA71BB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BFEA6-4762-4F47-A2B3-5673449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CB1D6-6869-4E9E-8705-E19ABC31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CF71B-E838-4E26-AC53-B510E2F6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453A6-2CBD-4041-99CD-7E840A72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3FF94-A9F4-4CF5-A8EB-5229671D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96C19-FF7B-4D25-BE7D-65161605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AF44A-3C2B-4946-A592-6F6AE8E9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DB916-B887-467D-9408-7D710F8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81BB2-E6A0-4396-B9C8-0B3EDA5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9BCB7-504F-4DB7-ABE1-F5F9184B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B9D4-FB3D-4118-8A33-7D0D53A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A790B-1D88-4FED-9270-C853147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C8C85-2E0D-479F-9949-81DC064E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80358-31E9-4044-B0B2-42D9E619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6253C-F487-4609-BC6C-0C000D35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61B03-486B-451A-A504-807FB2D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570D9-8B12-4E1D-86C1-6018ACE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E2B6D-2465-42C7-A662-A438181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62332-1CC9-43C3-99C1-47E90B1D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1CAB9-EE71-4502-B908-0AEC1465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E537F-032A-4CAB-87D4-83220505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FCF2-EFA4-4DF4-97C8-9C357D07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EC56F-A8E7-4250-BA8D-6E0209D6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88C57-A51B-4C06-9DD2-C873DDD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319A9-BB9D-4259-B18C-4AFA654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89DA2-24BA-4A73-BBE3-F9FEA10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C4B95-75D7-47C8-B06F-1759DA5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120FB-3B70-4ECB-AEB1-E645C44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28D49-BA91-460C-9E5B-443D77D4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48273-FB7D-4E44-9014-DF0653F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8C82A-57E4-4E84-B734-32B729D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95D27-923D-48EA-A742-1ED4E27B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230-0BD0-4C57-A5A3-9E8215C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FF7D5-B2B0-462D-82FF-9E14E97D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A0913-B735-48D2-8E50-DDD68CC6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DF02D-A422-4B6B-83AB-EF36DD6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DDAD6-5597-4734-A1B9-25AF16A6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BE47A-0433-4EF1-B03B-DB64B14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DC0BB-43D8-4945-9C57-A5D229A1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947C6-E6F8-438B-A038-2C4BB08C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75A2C-2BC0-4215-859A-CC519A3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AEC73-F41D-4115-AB53-602FD9F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E88E5-5649-40AC-A257-AB316274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4020-10DC-496D-A8ED-002F0A6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F4281-55FA-453A-995A-54818939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40A9B-47D3-499C-954F-B9E0679E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01109-C918-438B-B05C-74883CB1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1B4AD-20E7-4F93-A066-6B4B851D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A52C4-B2ED-4A51-B153-8030431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21A6E-B055-440B-83F8-07D8CF4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4F4F7-F1BE-4EB1-B660-53BAEA9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5472B-A823-43E5-B0DE-39F4F78F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C701A-8225-4720-8136-74154876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20EE3-F3E5-4246-9FFA-6D2EB98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DBB-0B61-4E12-973E-FE3FC12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4218-9198-46A7-A03C-564EDD2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5F101-F829-49ED-A99A-9D5D938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B9B38-FE44-41AD-B638-83DC255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6B47E-4287-4DE5-A0F0-A5C72979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B41B8-ADE7-4DB4-8A54-D2158D00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FD18F-1A32-415D-B77D-60917A1B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EBEC2-002C-45AA-B7F2-2B12C2C3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C80E7-3AED-48FA-95EF-B35C8E38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ED886-B561-4D7D-9F91-92EECFC1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C417E-1A02-49AF-9BD3-DE8C7EB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8BC5A-F304-4BEB-844F-A603363F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DA08-B012-4708-B18B-B6321DE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7A4E5-1ED0-43F4-BF26-635FCEF2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792E3-B6A0-4FFD-BE66-C19EEC7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61759-4E54-4D0C-B814-225079AE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195F7-46DE-4E95-B0E7-B554BAA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2EEAB-A8BD-4153-B5C4-359383D1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76AF3-04F2-4AE5-9E1E-96D8B8B4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EE772-BD00-424D-98D0-4005B14B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159D-A9D3-4953-A007-734AEF5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F2E-23CA-435B-B465-20FE3647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7AF4-03A3-4615-A2D9-47548A20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9984-0F1F-4A70-AEB2-608C3B49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4443-A876-4475-B6C0-07A0517D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8AFA-A7D9-4F97-B044-5650096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B588-574F-4553-A2F5-3018AC8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15B5-72C6-4BB2-A20C-0F045662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1D0-8294-478A-9446-B0624714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88D4-78F4-46CD-8BE7-2FF5A27B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B82F-17AB-4FB1-AFE6-1C65E81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CC71-0660-458E-8AA6-7384F71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2DEE-0A11-4058-8C16-AFC9703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F74D-C1FE-4ADA-B4BF-C3686783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210C-4441-46AA-AEEA-83845DDC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EFF5-D31F-414F-B18D-E4EBAF36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3635-2E2F-462C-ADC5-813BB40F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B381-D6BC-4561-9F05-F54ED8D6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C357-6A85-4331-A7A0-B2AE2F3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44D-27BA-42E2-872E-5B51FE3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A05ED-CD44-4FCC-B4C3-5BD9E05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2D70A-2AC2-4E90-9A50-2DFEB60D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39FD-FC4F-4BC0-9322-FBAD0196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61D1-826B-4600-8849-6C26BA8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86C8-E69D-4458-8DBE-59C6A2DF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3FDF-95FF-4B76-A840-40E8ADB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FDB6-A2DC-40F8-B703-1638659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64E1-4116-4473-B4A7-B35FAC1F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E020-48A6-4674-95FD-1A2B4A70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96E7-101D-4EE1-A8E6-BF534E2B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1FD-9636-427C-A0E7-7DAFD955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39B6-8C49-4711-A2E8-8D7787E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7148-3EF4-4C80-B672-D995F833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A5E7-E2CE-4B52-8A65-A1EFBD3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2B79-B845-4193-A80F-D42B4CE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05F9-3E83-45F1-B74D-536D531A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1EE0-E58E-43EA-838C-7F0E064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7422-16EE-41C7-97C5-EC314AC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B13A-8755-4CB2-ABBC-CFCDA4D7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1346-1ABC-4D50-98DE-BCF61AA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1BDF-51F1-4788-BAA0-F078971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E19-A182-4542-A907-A933C6E4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C245-6873-4971-973E-CF64949F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D9A2C-DB4E-415D-997F-C2E38399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2A42-7447-49C1-9BC9-622858A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AEEA-E809-436E-951F-88E4375F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F844-B8A8-4135-B222-E3FBA882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7766-CBC2-46CB-8494-FB849213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9634-FE1E-4BB9-8F6D-BDF82366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84B66-686F-47A8-B831-38A3224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481A2-563B-4E3F-805B-6C03DD9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A6C5-6840-4EBD-83FF-FA9822F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A19-A4C4-4585-851F-D2500EC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30C2-A70D-4760-92C9-97D91AB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1CCA-0ABD-4C47-ACBF-43A354C3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C80B2-8A37-41D3-A277-A31741CF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3D789-311C-4E57-981A-92AFB2E9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AB07-0156-4750-9B2B-AB7DF182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06ED9-3698-4A05-915A-7E078AAF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2A1EC-6D90-4DBC-9C2B-FEC908A6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C586-9045-428B-A2FF-65050E24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9396-5859-44A2-87FD-56AB9BDF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6505-254B-4894-9722-41A174DF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133-B5AC-4755-A796-40DC5C8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7555-89DD-4C99-9471-B17E55C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E21DF-80E1-4B93-A702-94912A2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2CAE-4D03-49CD-A821-51D87D9F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2F95-CDBE-43DF-859B-33679AA9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6EE0-6E1B-4DF8-B7C4-9D439E57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1935-642D-4F88-A0C2-217C39F1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C7D0-C9EF-48C9-8E7F-67914A3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9E8D-8E8F-49B7-BFEB-D131D59B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EC71-08A4-4DD8-AAD9-B216F1AF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DAA78-D514-41C5-8D29-7C78E26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876-2F90-41E2-84FA-16E857B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5FC6D-9EC1-4685-BA81-D9658BF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65BF5-A153-4B0A-BE72-C26FF02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9BF7-A100-4314-B5C5-69158F8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750D-3556-44BE-A861-B2EA56F6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9AE52-0678-4F54-A80B-0EE20D18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41B58-A499-4034-9765-966EFAB3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2F94F-BFB3-46C8-AB62-27BD468B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F7A0-2E7F-4287-BD0D-F6B907E4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0FB33-9152-41E1-B2B3-77CFCF1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4AD52-EF5E-4150-B4B4-8AE62518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67B21-B231-4D68-B056-F8512A85FEEF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7F373-FD1A-4E25-A1F5-657F390B1DC3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1F367-8071-4279-9B39-15DE1D1F7C09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2818F-E273-41AA-9117-A95203EE7231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552600" y="887400"/>
            <a:ext cx="407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5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5872320" y="3119400"/>
            <a:ext cx="414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5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14299-CFB9-475D-8C71-EFF3A7E87A2E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DCFCF-0C9F-4BB6-B160-0581791DF6FF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E6266-C222-453D-9C0E-28C864345718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351E2-BFF5-49EE-A997-68CE74F21510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2ECFA-C5FC-4EB1-A905-81CD11B24691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1F5A9-5ED2-499E-9871-7E899B668019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617C4-9E89-4F2B-9917-E5730E5D5FB4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7AEBC-D507-456B-942C-9C98178FE689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850BD-F652-45E4-AAE0-0908BB61A4DE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71109-D9BD-48B8-9C19-4460717BCDD4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E2B0C-C879-481F-B70C-38E7D47F7D3D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ED223-B646-4012-A64C-C7F2E4B402D9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74BA4-FF19-4297-9B0F-333EB2F5ADE6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8AA30-F966-42AC-89E1-6E2B3055551B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Рисунок 4" descr="Чертеж_шапка.jpg"/>
          <p:cNvPicPr/>
          <p:nvPr/>
        </p:nvPicPr>
        <p:blipFill>
          <a:blip r:embed="rId1"/>
          <a:stretch/>
        </p:blipFill>
        <p:spPr>
          <a:xfrm>
            <a:off x="900000" y="1812960"/>
            <a:ext cx="5079960" cy="452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6" name="TextBox 3"/>
          <p:cNvSpPr/>
          <p:nvPr/>
        </p:nvSpPr>
        <p:spPr>
          <a:xfrm>
            <a:off x="1229400" y="428760"/>
            <a:ext cx="455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55071"/>
                </a:solidFill>
                <a:latin typeface="Arial Black"/>
              </a:rPr>
              <a:t>ЧЕРТЁЖ</a:t>
            </a:r>
            <a:br>
              <a:rPr sz="2400"/>
            </a:br>
            <a:r>
              <a:rPr b="0" lang="ru-RU" sz="2400" spc="-1" strike="noStrike">
                <a:solidFill>
                  <a:srgbClr val="355071"/>
                </a:solidFill>
                <a:latin typeface="Arial Black"/>
              </a:rPr>
              <a:t>ОСНОВНЫЕ ПОНЯТИЯ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ции и линии на чертеж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195720" y="4652640"/>
            <a:ext cx="3644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КП ОБРАЗОВАТЕЛЬНОЕ УЧРЕЖДЕНИЕ № 57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.С. ЮРЧЕНКО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2"/>
          <p:cNvSpPr/>
          <p:nvPr/>
        </p:nvSpPr>
        <p:spPr>
          <a:xfrm>
            <a:off x="510840" y="500040"/>
            <a:ext cx="576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ртёж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— это графический докумен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ржащий изображение детали и необходимые данн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ее изготовления и контрол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Рисунок 3" descr="Чертеж_пример.jpg"/>
          <p:cNvPicPr/>
          <p:nvPr/>
        </p:nvPicPr>
        <p:blipFill>
          <a:blip r:embed="rId1"/>
          <a:stretch/>
        </p:blipFill>
        <p:spPr>
          <a:xfrm>
            <a:off x="276120" y="1500120"/>
            <a:ext cx="6264360" cy="440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рямоугольник 11"/>
          <p:cNvSpPr/>
          <p:nvPr/>
        </p:nvSpPr>
        <p:spPr>
          <a:xfrm>
            <a:off x="419040" y="3929040"/>
            <a:ext cx="6421320" cy="642960"/>
          </a:xfrm>
          <a:prstGeom prst="rect">
            <a:avLst/>
          </a:prstGeom>
          <a:solidFill>
            <a:srgbClr val="d0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Прямоугольник 9"/>
          <p:cNvSpPr/>
          <p:nvPr/>
        </p:nvSpPr>
        <p:spPr>
          <a:xfrm>
            <a:off x="419040" y="428760"/>
            <a:ext cx="6421320" cy="642960"/>
          </a:xfrm>
          <a:prstGeom prst="rect">
            <a:avLst/>
          </a:prstGeom>
          <a:solidFill>
            <a:srgbClr val="d0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TextBox 2"/>
          <p:cNvSpPr/>
          <p:nvPr/>
        </p:nvSpPr>
        <p:spPr>
          <a:xfrm>
            <a:off x="2429280" y="1139760"/>
            <a:ext cx="359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видимого контура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линией изображают видимые линии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3" name="Picture 2" descr="I:\Shool_2\Эскиз детали\Презентация -эскиз-\Виды линий_Кроп.jpg"/>
          <p:cNvPicPr/>
          <p:nvPr/>
        </p:nvPicPr>
        <p:blipFill>
          <a:blip r:embed="rId1"/>
          <a:stretch/>
        </p:blipFill>
        <p:spPr>
          <a:xfrm>
            <a:off x="490680" y="1211400"/>
            <a:ext cx="1866600" cy="23493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4"/>
          <p:cNvSpPr/>
          <p:nvPr/>
        </p:nvSpPr>
        <p:spPr>
          <a:xfrm>
            <a:off x="2424600" y="1782720"/>
            <a:ext cx="387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невидимого контура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ой линией изображают невидимые лини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TextBox 5"/>
          <p:cNvSpPr/>
          <p:nvPr/>
        </p:nvSpPr>
        <p:spPr>
          <a:xfrm>
            <a:off x="2430360" y="2354400"/>
            <a:ext cx="41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осевая линия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ой линией изображают оси вращения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талей и координаты центров отверстий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TextBox 6"/>
          <p:cNvSpPr/>
          <p:nvPr/>
        </p:nvSpPr>
        <p:spPr>
          <a:xfrm>
            <a:off x="2431080" y="2997360"/>
            <a:ext cx="390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лошная тонк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спомогательная линия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онкие сплошные линии применя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остановки размеров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TextBox 7"/>
          <p:cNvSpPr/>
          <p:nvPr/>
        </p:nvSpPr>
        <p:spPr>
          <a:xfrm>
            <a:off x="490680" y="42552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нии, используем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оформлении чертеже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TextBox 10"/>
          <p:cNvSpPr/>
          <p:nvPr/>
        </p:nvSpPr>
        <p:spPr>
          <a:xfrm>
            <a:off x="685440" y="392904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СШТА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— степень уменьшения или увелич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 детали на чертеж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633600" y="4786200"/>
            <a:ext cx="465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в натуральную величину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2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меньшением в 2 раза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2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величением в 2 раза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638440" y="56437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МАСШТАБА на чертеж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ывается ОБЯЗАТЕЛЬНО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Рисунок 1" descr="проекции_1.jpg"/>
          <p:cNvPicPr/>
          <p:nvPr/>
        </p:nvPicPr>
        <p:blipFill>
          <a:blip r:embed="rId1"/>
          <a:stretch/>
        </p:blipFill>
        <p:spPr>
          <a:xfrm>
            <a:off x="973080" y="1628640"/>
            <a:ext cx="4894200" cy="4173840"/>
          </a:xfrm>
          <a:prstGeom prst="rect">
            <a:avLst/>
          </a:prstGeom>
          <a:ln w="0">
            <a:noFill/>
          </a:ln>
        </p:spPr>
      </p:pic>
      <p:sp>
        <p:nvSpPr>
          <p:cNvPr id="792" name="TextBox 2"/>
          <p:cNvSpPr/>
          <p:nvPr/>
        </p:nvSpPr>
        <p:spPr>
          <a:xfrm>
            <a:off x="490680" y="357120"/>
            <a:ext cx="585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я детали на чертеже —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проекции контуров детали на основные плоскости пространств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Рисунок 4" descr="Вид прямо.jpg"/>
          <p:cNvPicPr/>
          <p:nvPr/>
        </p:nvPicPr>
        <p:blipFill>
          <a:blip r:embed="rId1"/>
          <a:stretch/>
        </p:blipFill>
        <p:spPr>
          <a:xfrm>
            <a:off x="276120" y="928800"/>
            <a:ext cx="6324840" cy="2997000"/>
          </a:xfrm>
          <a:prstGeom prst="rect">
            <a:avLst/>
          </a:prstGeom>
          <a:ln w="0">
            <a:noFill/>
          </a:ln>
        </p:spPr>
      </p:pic>
      <p:pic>
        <p:nvPicPr>
          <p:cNvPr id="794" name="Рисунок 3" descr="Изометрия.png"/>
          <p:cNvPicPr/>
          <p:nvPr/>
        </p:nvPicPr>
        <p:blipFill>
          <a:blip r:embed="rId2"/>
          <a:stretch/>
        </p:blipFill>
        <p:spPr>
          <a:xfrm>
            <a:off x="133200" y="2928960"/>
            <a:ext cx="4859640" cy="3643200"/>
          </a:xfrm>
          <a:prstGeom prst="rect">
            <a:avLst/>
          </a:prstGeom>
          <a:ln w="0">
            <a:noFill/>
          </a:ln>
        </p:spPr>
      </p:pic>
      <p:sp>
        <p:nvSpPr>
          <p:cNvPr id="795" name="TextBox 5"/>
          <p:cNvSpPr/>
          <p:nvPr/>
        </p:nvSpPr>
        <p:spPr>
          <a:xfrm>
            <a:off x="447120" y="428760"/>
            <a:ext cx="6023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переди (прямо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показывать форму детали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наибольшей наглядностью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Стрелка влево 6"/>
          <p:cNvSpPr/>
          <p:nvPr/>
        </p:nvSpPr>
        <p:spPr>
          <a:xfrm rot="1586400">
            <a:off x="4404960" y="50306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7e32b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3866760" y="57150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e32b0"/>
                </a:solidFill>
                <a:latin typeface="Tw Cen MT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I:\Shool_2\Эскиз детали\Презентация -эскиз-\Вид слева.jpg"/>
          <p:cNvPicPr/>
          <p:nvPr/>
        </p:nvPicPr>
        <p:blipFill>
          <a:blip r:embed="rId1"/>
          <a:stretch/>
        </p:blipFill>
        <p:spPr>
          <a:xfrm>
            <a:off x="133200" y="860400"/>
            <a:ext cx="6324840" cy="299736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990720" y="2428920"/>
            <a:ext cx="4859280" cy="3643200"/>
          </a:xfrm>
          <a:prstGeom prst="rect">
            <a:avLst/>
          </a:prstGeom>
          <a:ln w="0">
            <a:noFill/>
          </a:ln>
        </p:spPr>
      </p:pic>
      <p:sp>
        <p:nvSpPr>
          <p:cNvPr id="800" name="TextBox 3"/>
          <p:cNvSpPr/>
          <p:nvPr/>
        </p:nvSpPr>
        <p:spPr>
          <a:xfrm>
            <a:off x="1008000" y="428760"/>
            <a:ext cx="4975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лев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рава от вида прямо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Стрелка влево 4"/>
          <p:cNvSpPr/>
          <p:nvPr/>
        </p:nvSpPr>
        <p:spPr>
          <a:xfrm rot="8073000">
            <a:off x="1048320" y="58363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7e32b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TextBox 5"/>
          <p:cNvSpPr/>
          <p:nvPr/>
        </p:nvSpPr>
        <p:spPr>
          <a:xfrm>
            <a:off x="1722600" y="61437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e32b0"/>
                </a:solidFill>
                <a:latin typeface="Tw Cen MT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I:\Shool_2\Эскиз детали\Презентация -эскиз-\Вид сверху.jpg"/>
          <p:cNvPicPr/>
          <p:nvPr/>
        </p:nvPicPr>
        <p:blipFill>
          <a:blip r:embed="rId1"/>
          <a:stretch/>
        </p:blipFill>
        <p:spPr>
          <a:xfrm>
            <a:off x="0" y="785880"/>
            <a:ext cx="6324480" cy="2997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3"/>
          <p:cNvSpPr/>
          <p:nvPr/>
        </p:nvSpPr>
        <p:spPr>
          <a:xfrm>
            <a:off x="863280" y="428760"/>
            <a:ext cx="5085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верх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 видом прямо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5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1562040" y="3857760"/>
            <a:ext cx="4002120" cy="3000240"/>
          </a:xfrm>
          <a:prstGeom prst="rect">
            <a:avLst/>
          </a:prstGeom>
          <a:ln w="0">
            <a:noFill/>
          </a:ln>
        </p:spPr>
      </p:pic>
      <p:sp>
        <p:nvSpPr>
          <p:cNvPr id="806" name="Стрелка влево 4"/>
          <p:cNvSpPr/>
          <p:nvPr/>
        </p:nvSpPr>
        <p:spPr>
          <a:xfrm rot="16200000">
            <a:off x="2744640" y="3889080"/>
            <a:ext cx="978120" cy="48564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7e32b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3366720" y="371484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e32b0"/>
                </a:solidFill>
                <a:latin typeface="Tw Cen MT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1"/>
          <p:cNvSpPr/>
          <p:nvPr/>
        </p:nvSpPr>
        <p:spPr>
          <a:xfrm>
            <a:off x="633240" y="1071720"/>
            <a:ext cx="550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Программы для 5-9 классов специальных (коррекционных) учреждений VIII вида. Сборник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М.: Гуманит. изд. центр ВЛАДОС, 2000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толярное дело. Авт. Журавлев Б.А. Учебное пособие для 5-6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толярное дело. Авт. Журавлев Б.А. Учебное пособие для 7-8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правочное руководство по черчени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Н. Богданов, И. Ф. Малежик, А. П. Верхола и др. —М. Машиностроение, 1989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8:36:24Z</dcterms:created>
  <dc:creator>User</dc:creator>
  <dc:description/>
  <dc:language>en-US</dc:language>
  <cp:lastModifiedBy>Dom</cp:lastModifiedBy>
  <dcterms:modified xsi:type="dcterms:W3CDTF">2021-06-01T19:09:08Z</dcterms:modified>
  <cp:revision>17</cp:revision>
  <dc:subject/>
  <dc:title>Слайд 1</dc:title>
</cp:coreProperties>
</file>