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C8AC-5E19-4B63-891B-F44CFB3A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5833-031A-4342-B7B4-F6622ED8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102D5-063D-4775-AF94-2318EF05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8E4F5-E6B5-43F1-BBDB-6CD5FA1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D7A77-DFFE-4FF5-B980-FA4FA093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6F042-737B-444C-93C0-84256E4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C3AC1-C682-4EE6-9454-E538728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7C02E-7701-4934-B3E3-2EF8B0B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7322F-164B-496D-9DB8-929B58C2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903FA-AE34-46D9-B1F4-1AB5E2F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95B61-7E21-4CA4-B82F-05475FFD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E025B-ED19-4964-8563-19312A6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1D9F-2152-46B6-B8BB-4DB47124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F8E20-2026-40D3-91F6-A8BAB30D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EC148-E4F4-429E-8FC3-7D38E1B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A0040-D294-4B68-B4EB-DA4A780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6AD60-1A6C-4343-B744-58A582CF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C05C2-4871-4FAB-A3C2-D68F1FA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75812-146F-4866-86A1-8681AD6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B897E-BBB7-42CD-9F5E-C1D6AF5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E4379-6A81-48A6-8FD5-5487BA4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D32D-D51F-4632-96CD-4996328D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92FE9-A34C-427B-957D-C9A89654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6A9C-371D-468C-86E1-9CFC6B9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5CDC4-DA3F-4C0A-9008-D08B77F1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253559-C2EE-411F-B2EF-2365CB29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C923F4-DF06-42CA-92E9-E9C4629C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06056-F40E-49EF-8229-0F1899E3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E7C56F-14CD-41AB-B349-739F2E9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7E035A-E9A2-43BB-B569-BE5549B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51F018-34CE-4AEC-80A1-6647BDC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7918F-AD33-420C-A61F-F89930D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6F1971-C112-4E32-8294-FA08CAC2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FACB00-C933-423E-89D1-820E344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EF15-3567-4A32-9A2E-03054993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B404F8-4D1A-469D-8D98-82BD304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46348C-B2F6-4E62-8725-2D2482FB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CE8D7F-E11F-43F5-AD21-6F34EEBB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55236-C088-45F6-9E9F-ABE2A3E6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7CBAB-840B-4326-94DE-1CAD66E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5F306-CAAF-4D09-8001-002696F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9FB65-8A13-4B84-BB89-869DD6A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2F8BF-A8DC-481D-89CA-90C277C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D60F4-932C-4E02-A150-2F4B9358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01737-3DF4-43E6-AAB4-CD97CA1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02CB-8B29-4BD6-9A76-F59C9AB8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EFC51-5943-4D49-9F75-DDA598F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E932D-9F69-42D0-A544-53014584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568CB-055E-4FF2-B199-21A789E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3EF07-7C53-43EE-847A-FD47E53C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6AAD9-BF6B-4A6E-9D39-2388C32F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E2902C-5887-4E26-B738-41480A61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1994AD-EB76-40B6-B167-9C703EB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C1C33F-BDE2-4D43-9F89-5B41D29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818319-478A-48E7-873A-56315FA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F7661F-F947-4AB7-9C77-8411C9B8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23F-9DED-4DD8-9E1A-C8A3F7C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4B6FFC-B90B-4C9B-B9CF-6D07CDB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261C57-D058-4FD3-BC2B-B0FEC43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99F00E-F207-409B-A5A5-DA262DE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8B1085-B445-41BA-8C39-2F5A4A2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EDB43D-6156-4031-ABF8-6D07A5C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6168AC-B075-467E-86D8-5921ACA5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9ED049-0990-444B-9DEF-311195FF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74A0-E45E-4ADF-A200-4A973D5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22CA-B4DB-4DC4-AECB-47E4A170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3F4-C327-4739-8F7B-53247ED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9A2-07A6-4623-B4F1-974B647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8DA5-FB3F-4708-B3D7-485253B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7545-3CC5-480A-8EC8-AC346CA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ABE-706E-44D4-93F1-0E43DD3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30D4-41B8-4B9A-8610-326F930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D7B-6B32-4CEA-8DB1-77116312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BAB-764E-4FD1-A25D-72FBB16B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7FB83-8CC1-46F5-AADC-2C64888A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C9806-0453-4F54-8AFC-D1F6DD00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D59AF-03A7-4D9C-A9EE-3F1CC1A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5321E-A948-4E65-B2E0-8DE18C5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967EE-20EA-41AD-BA1D-DAF62C0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DD91-0597-4B65-AB2E-41A89C9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1F2A2-169D-4FC3-BDC7-6B768B9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E2A7A-ED6F-4553-B30C-CAE6FC8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8506D-3C41-440E-90DE-D24CC46D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0F052-B9E4-43C7-B76C-5275134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9D68E-4A78-4F7D-A3D2-91D91E3F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2C421-CED7-43B0-A85A-56A16C75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43BDA-0C08-48B8-96E4-8F0D79FB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76FA75-FB0D-4F52-801B-E93E70BE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45CED-7B0D-4A1C-AB53-512BF96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70F92-8A4A-4C2A-9312-90CAFC8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43CE-F150-4D89-88EA-BC7B8EE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108F7-A1C7-44B1-AA68-657605CB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B7733-5363-4FB4-A9C6-2F24556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72327-88C1-4CCC-B59E-38F2FE6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5CB36-FF1D-4631-A9C5-F8ABB7F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124EA-9DD9-45FF-A82F-158C58C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10492-666D-4859-AA60-EE2E7918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981AE4-FA96-4AE3-9D63-6E83EC5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B66B5-4C9F-4AFD-AB4D-BB0425E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86E14-1F38-416F-8AB5-70A674DF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0918AE-E529-4AB1-9C94-8E6982AE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F7B0-1B27-4079-8FDE-9B9DA370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A1808A-AD6E-486E-8A5C-35CB2C3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19926-F78D-477A-BEBF-24615CDF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CE642-FCEA-44A4-AA34-CD233F94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E5240-5F82-49E4-A5D8-7B91C54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2D555-E845-4DB4-9041-4C8A3AF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185BE-E787-4880-8E3B-9CE3D65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6DFE5-7193-40F6-ADFA-D4C27D8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BC208-52FF-45C5-9140-E78A717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4D2F3-6F9E-4E85-8588-EF7B39F0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87EA9-2129-47D6-8ADC-80585539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6DB2-0D5E-459D-845A-563B1B6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38079-D838-4986-B6BD-347D40B3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6434A-A217-4589-A788-07DD245C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7C7EA3-D652-4FA0-8730-45F424E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91B83-36E4-46C2-9DF3-6561F547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A3D0E-7D6E-482B-B2A3-B964B87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4ED784-5B55-4C05-B860-A704CAD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1B59E6-3F5F-4427-BC26-0B5811D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7F096-331B-40D6-9D34-BC21391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C16A4-60FE-47F4-BBF6-018E8D9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10E8B-0EC3-428A-AB75-E7C64DE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C2EF-B1F2-407D-9EAB-02E0ACD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894C5-C289-4D5B-8B8A-588BEA1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82A41-B6A0-4837-872B-664EF875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1DF40-3C96-4CFB-84A3-7A738FCC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388D5-98A9-4B26-9E1B-439DB8B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E805D-CD8A-4E7D-BB5D-D8DCF87A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B2168-701F-4D3B-93E7-CCE8FB8F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7C87C4-6EFE-48B1-B116-1380B8EB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DFDA0-0C20-41FE-9503-B94C543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DFC32-B1E4-4F6D-87F0-98ED8A5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3BDE7-72AE-4139-A69E-A6E18F0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DC4B-338D-426E-845C-E7CA181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817137-EBE7-4C38-8E13-94D2512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E9311-6852-421D-A722-AC524AE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EA86AE-9CE7-4FCF-B7B2-6D505572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D4B4E-A904-4955-9D34-C4CD9AAF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3C487-FC35-42DA-9B5B-715E6C7D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FCF5A-AD8B-4623-849A-0D754133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D0DDEE-738B-429F-97CA-6F55459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AC047-3580-44C7-BF4D-8B7508D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385D7-DDBB-4934-B9C6-0F93F4E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F5DA4-AB60-45A2-9130-32B89F44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C4DE-3920-4476-AAB8-5AF60FE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E5A146-1136-48D1-A5EA-D19A490D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65525-F8C6-4460-A619-EF49FB3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04073-5B67-428A-AA58-835F3CA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F0708-4A6F-4555-B99D-14883C3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D8FBC-E3AD-4907-86A2-E49DC61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F0248-DC91-4CE6-9471-396F64CA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300A11-80A1-4C99-8666-A804888C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3B651-B5F4-45EE-84BD-6401A5D8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25ACF-9995-4593-ADA6-C46B6EE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AAE82-F8A3-4A17-B815-2B28E6C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A7B-58ED-4746-BA4B-D794F1787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A1D-91D4-4879-AB4C-BF1A1717D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D1D-71FA-43D0-805D-4BAE72ED5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DC5-3E89-4A01-8283-28B9C52542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E4BC-06EB-4E1D-9933-FE037E3F9D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FBFB-B412-4D99-BDF2-148288A0B9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AD4-D629-4943-B0DD-B158A15CEE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3D42-B4B5-4209-8C76-2B4CF32BE3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03DF-6FF7-4C4D-9A3A-9D9887E88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B758-5B59-4F5A-9759-414B64B74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3497-178C-406C-830B-FF031AEA6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C22-58B4-413B-9E88-E7F009047A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F6BB-E879-4ECC-81AE-4D259A3D6B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e2e45"/>
                </a:solidFill>
                <a:latin typeface="Arial"/>
              </a:rPr>
              <a:t>Географическое положение Евразии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371600" y="2470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Автор: Толстова М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45"/>
                </a:solidFill>
                <a:latin typeface="Arial"/>
              </a:rPr>
              <a:t>ЭОР: </a:t>
            </a:r>
            <a:r>
              <a:rPr b="0" lang="en-US" sz="3200" spc="-1" strike="noStrike">
                <a:solidFill>
                  <a:srgbClr val="2e2e45"/>
                </a:solidFill>
                <a:latin typeface="Arial"/>
              </a:rPr>
              <a:t>https://docs.google.com/forms/d/1Nd0lJijwWYoZurBdDaW4eKyTALBGjX1qqydvaXAUqK8/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Bookman Old Style"/>
              </a:rPr>
              <a:t>Определите течения, проходящие у берегов Евраз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Picture 4" descr="800px-Two-point-equidistant-asia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01" name="AutoShape 5"/>
          <p:cNvSpPr/>
          <p:nvPr/>
        </p:nvSpPr>
        <p:spPr>
          <a:xfrm>
            <a:off x="0" y="189000"/>
            <a:ext cx="468360" cy="71280"/>
          </a:xfrm>
          <a:prstGeom prst="rightArrow">
            <a:avLst>
              <a:gd name="adj1" fmla="val 50000"/>
              <a:gd name="adj2" fmla="val 164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0" y="333360"/>
            <a:ext cx="539640" cy="71280"/>
          </a:xfrm>
          <a:prstGeom prst="rightArrow">
            <a:avLst>
              <a:gd name="adj1" fmla="val 50000"/>
              <a:gd name="adj2" fmla="val 189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179280" y="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Северо-Атлантическ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AutoShape 9"/>
          <p:cNvSpPr/>
          <p:nvPr/>
        </p:nvSpPr>
        <p:spPr>
          <a:xfrm>
            <a:off x="2195640" y="47628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10"/>
          <p:cNvSpPr/>
          <p:nvPr/>
        </p:nvSpPr>
        <p:spPr>
          <a:xfrm rot="2233800">
            <a:off x="2916000" y="47628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Shape 11"/>
          <p:cNvSpPr/>
          <p:nvPr/>
        </p:nvSpPr>
        <p:spPr>
          <a:xfrm rot="2592600">
            <a:off x="3203280" y="76500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Shape 12"/>
          <p:cNvSpPr/>
          <p:nvPr/>
        </p:nvSpPr>
        <p:spPr>
          <a:xfrm>
            <a:off x="3635280" y="907920"/>
            <a:ext cx="360360" cy="144720"/>
          </a:xfrm>
          <a:custGeom>
            <a:avLst/>
            <a:gdLst>
              <a:gd name="textAreaLeft" fmla="*/ 71280 w 360360"/>
              <a:gd name="textAreaRight" fmla="*/ 218880 w 360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2411280" y="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fdef6"/>
                </a:solidFill>
                <a:latin typeface="Arial"/>
              </a:rPr>
              <a:t>Норвежское 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Shape 14"/>
          <p:cNvSpPr/>
          <p:nvPr/>
        </p:nvSpPr>
        <p:spPr>
          <a:xfrm rot="20090400">
            <a:off x="8675640" y="4149720"/>
            <a:ext cx="468360" cy="71280"/>
          </a:xfrm>
          <a:prstGeom prst="leftArrow">
            <a:avLst>
              <a:gd name="adj1" fmla="val 50000"/>
              <a:gd name="adj2" fmla="val 1642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15"/>
          <p:cNvSpPr/>
          <p:nvPr/>
        </p:nvSpPr>
        <p:spPr>
          <a:xfrm rot="20090400">
            <a:off x="8675640" y="4437000"/>
            <a:ext cx="468360" cy="71640"/>
          </a:xfrm>
          <a:prstGeom prst="leftArrow">
            <a:avLst>
              <a:gd name="adj1" fmla="val 50000"/>
              <a:gd name="adj2" fmla="val 1634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16"/>
          <p:cNvSpPr/>
          <p:nvPr/>
        </p:nvSpPr>
        <p:spPr>
          <a:xfrm>
            <a:off x="8028000" y="4581360"/>
            <a:ext cx="431640" cy="71640"/>
          </a:xfrm>
          <a:prstGeom prst="leftArrow">
            <a:avLst>
              <a:gd name="adj1" fmla="val 50000"/>
              <a:gd name="adj2" fmla="val 1506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17"/>
          <p:cNvSpPr/>
          <p:nvPr/>
        </p:nvSpPr>
        <p:spPr>
          <a:xfrm>
            <a:off x="8028000" y="4292640"/>
            <a:ext cx="360360" cy="73080"/>
          </a:xfrm>
          <a:prstGeom prst="leftArrow">
            <a:avLst>
              <a:gd name="adj1" fmla="val 50000"/>
              <a:gd name="adj2" fmla="val 1232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18"/>
          <p:cNvSpPr/>
          <p:nvPr/>
        </p:nvSpPr>
        <p:spPr>
          <a:xfrm rot="1602000">
            <a:off x="7179840" y="4439880"/>
            <a:ext cx="503280" cy="71280"/>
          </a:xfrm>
          <a:prstGeom prst="leftArrow">
            <a:avLst>
              <a:gd name="adj1" fmla="val 50000"/>
              <a:gd name="adj2" fmla="val 176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19"/>
          <p:cNvSpPr/>
          <p:nvPr/>
        </p:nvSpPr>
        <p:spPr>
          <a:xfrm rot="1677000">
            <a:off x="7451640" y="4220640"/>
            <a:ext cx="433440" cy="71640"/>
          </a:xfrm>
          <a:prstGeom prst="leftArrow">
            <a:avLst>
              <a:gd name="adj1" fmla="val 50000"/>
              <a:gd name="adj2" fmla="val 15125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0"/>
          <p:cNvSpPr/>
          <p:nvPr/>
        </p:nvSpPr>
        <p:spPr>
          <a:xfrm>
            <a:off x="7093080" y="47242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веро-Пассат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22"/>
          <p:cNvSpPr/>
          <p:nvPr/>
        </p:nvSpPr>
        <p:spPr>
          <a:xfrm rot="19003800">
            <a:off x="7524720" y="350028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AutoShape 23"/>
          <p:cNvSpPr/>
          <p:nvPr/>
        </p:nvSpPr>
        <p:spPr>
          <a:xfrm rot="19101600">
            <a:off x="7308720" y="350028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24"/>
          <p:cNvSpPr/>
          <p:nvPr/>
        </p:nvSpPr>
        <p:spPr>
          <a:xfrm>
            <a:off x="7667640" y="2708280"/>
            <a:ext cx="73080" cy="504720"/>
          </a:xfrm>
          <a:prstGeom prst="upArrow">
            <a:avLst>
              <a:gd name="adj1" fmla="val 50000"/>
              <a:gd name="adj2" fmla="val 17266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25"/>
          <p:cNvSpPr/>
          <p:nvPr/>
        </p:nvSpPr>
        <p:spPr>
          <a:xfrm>
            <a:off x="7885080" y="2637000"/>
            <a:ext cx="71640" cy="576000"/>
          </a:xfrm>
          <a:prstGeom prst="upArrow">
            <a:avLst>
              <a:gd name="adj1" fmla="val 50000"/>
              <a:gd name="adj2" fmla="val 201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AutoShape 26"/>
          <p:cNvSpPr/>
          <p:nvPr/>
        </p:nvSpPr>
        <p:spPr>
          <a:xfrm rot="19312200">
            <a:off x="7488360" y="2241360"/>
            <a:ext cx="576000" cy="71280"/>
          </a:xfrm>
          <a:prstGeom prst="rightArrow">
            <a:avLst>
              <a:gd name="adj1" fmla="val 50000"/>
              <a:gd name="adj2" fmla="val 20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AutoShape 27"/>
          <p:cNvSpPr/>
          <p:nvPr/>
        </p:nvSpPr>
        <p:spPr>
          <a:xfrm rot="19069800">
            <a:off x="7703640" y="2241360"/>
            <a:ext cx="576360" cy="72720"/>
          </a:xfrm>
          <a:prstGeom prst="rightArrow">
            <a:avLst>
              <a:gd name="adj1" fmla="val 50000"/>
              <a:gd name="adj2" fmla="val 19814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WordArt 29"/>
          <p:cNvSpPr txBox="1"/>
          <p:nvPr/>
        </p:nvSpPr>
        <p:spPr>
          <a:xfrm rot="5400000">
            <a:off x="7371360" y="2789640"/>
            <a:ext cx="174636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dfdef6"/>
                  </a:solidFill>
                  <a:miter/>
                </a:ln>
                <a:solidFill>
                  <a:srgbClr val="dfdef6"/>
                </a:solidFill>
                <a:latin typeface="Arial"/>
              </a:rPr>
              <a:t>течение Курсио</a:t>
            </a:r>
            <a:endParaRPr b="0" lang="en-US" sz="1400" spc="1" strike="noStrike">
              <a:ln w="9360">
                <a:solidFill>
                  <a:srgbClr val="dfdef6"/>
                </a:solidFill>
                <a:miter/>
              </a:ln>
              <a:solidFill>
                <a:srgbClr val="dfdef6"/>
              </a:solidFill>
              <a:latin typeface="Arial"/>
              <a:ea typeface="Arial"/>
            </a:endParaRPr>
          </a:p>
        </p:txBody>
      </p:sp>
      <p:sp>
        <p:nvSpPr>
          <p:cNvPr id="1023" name="AutoShape 30"/>
          <p:cNvSpPr/>
          <p:nvPr/>
        </p:nvSpPr>
        <p:spPr>
          <a:xfrm rot="21249600">
            <a:off x="971280" y="0"/>
            <a:ext cx="433440" cy="71280"/>
          </a:xfrm>
          <a:prstGeom prst="rightArrow">
            <a:avLst>
              <a:gd name="adj1" fmla="val 50000"/>
              <a:gd name="adj2" fmla="val 15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31"/>
          <p:cNvSpPr/>
          <p:nvPr/>
        </p:nvSpPr>
        <p:spPr>
          <a:xfrm rot="21145200">
            <a:off x="971640" y="188640"/>
            <a:ext cx="576000" cy="71280"/>
          </a:xfrm>
          <a:prstGeom prst="rightArrow">
            <a:avLst>
              <a:gd name="adj1" fmla="val 50000"/>
              <a:gd name="adj2" fmla="val 20202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32"/>
          <p:cNvSpPr/>
          <p:nvPr/>
        </p:nvSpPr>
        <p:spPr>
          <a:xfrm rot="2062800">
            <a:off x="2268000" y="5516280"/>
            <a:ext cx="648000" cy="73080"/>
          </a:xfrm>
          <a:prstGeom prst="rightArrow">
            <a:avLst>
              <a:gd name="adj1" fmla="val 50000"/>
              <a:gd name="adj2" fmla="val 2216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33"/>
          <p:cNvSpPr/>
          <p:nvPr/>
        </p:nvSpPr>
        <p:spPr>
          <a:xfrm rot="1878000">
            <a:off x="2123640" y="566100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34"/>
          <p:cNvSpPr/>
          <p:nvPr/>
        </p:nvSpPr>
        <p:spPr>
          <a:xfrm rot="2211600">
            <a:off x="2987640" y="5876640"/>
            <a:ext cx="576360" cy="73080"/>
          </a:xfrm>
          <a:prstGeom prst="rightArrow">
            <a:avLst>
              <a:gd name="adj1" fmla="val 50000"/>
              <a:gd name="adj2" fmla="val 197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AutoShape 35"/>
          <p:cNvSpPr/>
          <p:nvPr/>
        </p:nvSpPr>
        <p:spPr>
          <a:xfrm rot="2211600">
            <a:off x="2842920" y="595008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AutoShape 36"/>
          <p:cNvSpPr/>
          <p:nvPr/>
        </p:nvSpPr>
        <p:spPr>
          <a:xfrm>
            <a:off x="3635280" y="6093000"/>
            <a:ext cx="432000" cy="72720"/>
          </a:xfrm>
          <a:prstGeom prst="rightArrow">
            <a:avLst>
              <a:gd name="adj1" fmla="val 50000"/>
              <a:gd name="adj2" fmla="val 148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AutoShape 37"/>
          <p:cNvSpPr/>
          <p:nvPr/>
        </p:nvSpPr>
        <p:spPr>
          <a:xfrm>
            <a:off x="3635280" y="6237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AutoShape 38"/>
          <p:cNvSpPr/>
          <p:nvPr/>
        </p:nvSpPr>
        <p:spPr>
          <a:xfrm rot="17536200">
            <a:off x="4071600" y="5861880"/>
            <a:ext cx="215640" cy="73080"/>
          </a:xfrm>
          <a:prstGeom prst="rightArrow">
            <a:avLst>
              <a:gd name="adj1" fmla="val 50000"/>
              <a:gd name="adj2" fmla="val 7376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AutoShape 39"/>
          <p:cNvSpPr/>
          <p:nvPr/>
        </p:nvSpPr>
        <p:spPr>
          <a:xfrm rot="1198800">
            <a:off x="4427280" y="6381360"/>
            <a:ext cx="504720" cy="71640"/>
          </a:xfrm>
          <a:prstGeom prst="rightArrow">
            <a:avLst>
              <a:gd name="adj1" fmla="val 50000"/>
              <a:gd name="adj2" fmla="val 176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AutoShape 40"/>
          <p:cNvSpPr/>
          <p:nvPr/>
        </p:nvSpPr>
        <p:spPr>
          <a:xfrm rot="2007000">
            <a:off x="5148000" y="659736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41"/>
          <p:cNvSpPr/>
          <p:nvPr/>
        </p:nvSpPr>
        <p:spPr>
          <a:xfrm rot="18588000">
            <a:off x="4104360" y="548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AutoShape 42"/>
          <p:cNvSpPr/>
          <p:nvPr/>
        </p:nvSpPr>
        <p:spPr>
          <a:xfrm rot="3261600">
            <a:off x="4590000" y="5452200"/>
            <a:ext cx="647640" cy="71640"/>
          </a:xfrm>
          <a:prstGeom prst="rightArrow">
            <a:avLst>
              <a:gd name="adj1" fmla="val 50000"/>
              <a:gd name="adj2" fmla="val 226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AutoShape 43"/>
          <p:cNvSpPr/>
          <p:nvPr/>
        </p:nvSpPr>
        <p:spPr>
          <a:xfrm rot="19360800">
            <a:off x="2124000" y="4941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AutoShape 44"/>
          <p:cNvSpPr/>
          <p:nvPr/>
        </p:nvSpPr>
        <p:spPr>
          <a:xfrm rot="2689200">
            <a:off x="270000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45"/>
          <p:cNvSpPr/>
          <p:nvPr/>
        </p:nvSpPr>
        <p:spPr>
          <a:xfrm>
            <a:off x="2411280" y="602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ссонное те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AutoShape 46"/>
          <p:cNvSpPr/>
          <p:nvPr/>
        </p:nvSpPr>
        <p:spPr>
          <a:xfrm rot="15000600">
            <a:off x="6623640" y="871920"/>
            <a:ext cx="1295640" cy="71280"/>
          </a:xfrm>
          <a:prstGeom prst="leftArrow">
            <a:avLst>
              <a:gd name="adj1" fmla="val 50000"/>
              <a:gd name="adj2" fmla="val 45441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AutoShape 47"/>
          <p:cNvSpPr/>
          <p:nvPr/>
        </p:nvSpPr>
        <p:spPr>
          <a:xfrm rot="1026600">
            <a:off x="7093080" y="1700280"/>
            <a:ext cx="503280" cy="73080"/>
          </a:xfrm>
          <a:prstGeom prst="leftArrow">
            <a:avLst>
              <a:gd name="adj1" fmla="val 50000"/>
              <a:gd name="adj2" fmla="val 1721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AutoShape 48"/>
          <p:cNvSpPr/>
          <p:nvPr/>
        </p:nvSpPr>
        <p:spPr>
          <a:xfrm rot="18795600">
            <a:off x="6516000" y="1701000"/>
            <a:ext cx="504720" cy="71280"/>
          </a:xfrm>
          <a:prstGeom prst="leftArrow">
            <a:avLst>
              <a:gd name="adj1" fmla="val 50000"/>
              <a:gd name="adj2" fmla="val 1770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AutoShape 49"/>
          <p:cNvSpPr/>
          <p:nvPr/>
        </p:nvSpPr>
        <p:spPr>
          <a:xfrm rot="3063600">
            <a:off x="6732720" y="198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3 задание.</a:t>
            </a:r>
            <a:br>
              <a:rPr sz="4000"/>
            </a:br>
            <a:r>
              <a:rPr b="0" lang="ru-RU" sz="4000" spc="-1" strike="noStrike">
                <a:solidFill>
                  <a:srgbClr val="494970"/>
                </a:solidFill>
                <a:latin typeface="Arial"/>
              </a:rPr>
              <a:t>(Работа с картой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1. Какие моря омыв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берега Северного Ледовитого океана </a:t>
            </a:r>
            <a:br>
              <a:rPr sz="2400"/>
            </a:b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– берега Тихого океана  берега Индийского океана </a:t>
            </a:r>
            <a:br>
              <a:rPr sz="2400"/>
            </a:b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– берега Атлантического оке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2. Назовите и покажите внутренние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4970"/>
                </a:solidFill>
                <a:latin typeface="Arial"/>
              </a:rPr>
              <a:t>3. Воды, каких морей омывают территорию Росс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5" name="Picture 4" descr="int1"/>
          <p:cNvPicPr/>
          <p:nvPr/>
        </p:nvPicPr>
        <p:blipFill>
          <a:blip r:embed="rId1"/>
          <a:stretch/>
        </p:blipFill>
        <p:spPr>
          <a:xfrm>
            <a:off x="4440240" y="170028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fdef6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4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1. К какому материку Евразия расположена ближе всех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2. На территории каких государств расположена граница между Африкой и Еврази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94970"/>
                </a:solidFill>
                <a:uFillTx/>
                <a:latin typeface="Arial"/>
              </a:rPr>
              <a:t>4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Какими проливами Евразия отделе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от Афр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от Северной Америки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– от Оке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Найдите и покажите на карте Суэцкий кан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Объясните разницу между понятиями пролив и кан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45"/>
                </a:solidFill>
                <a:latin typeface="Arial"/>
              </a:rPr>
              <a:t>ЭОР (тест по теме «Евразия»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45"/>
                </a:solidFill>
                <a:latin typeface="Arial"/>
              </a:rPr>
              <a:t>https://docs.google.com/forms/d/1Nd0lJijwWYoZurBdDaW4eKyTALBGjX1qqydvaXAUqK8/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Объект 5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122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§59, к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Выбрать любой город Евразии и заполнять календарь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258920" y="1197000"/>
            <a:ext cx="6076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9497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§59, к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Times New Roman"/>
                <a:ea typeface="바탕"/>
              </a:rPr>
              <a:t>Выбрать любой город Евразии и заполнять календарь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5" descr="m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2" name="Text Box 6"/>
          <p:cNvSpPr/>
          <p:nvPr/>
        </p:nvSpPr>
        <p:spPr>
          <a:xfrm>
            <a:off x="5859360" y="10540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Евр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3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4211640" y="256536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фр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0,3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755640" y="981000"/>
            <a:ext cx="23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вер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4,2млн.кв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2195640" y="3429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Юж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7,8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4211640" y="60786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27c"/>
                </a:solidFill>
                <a:latin typeface="Bookman Old Style"/>
              </a:rPr>
              <a:t>Антаркти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27c"/>
                </a:solidFill>
                <a:latin typeface="Bookman Old Style"/>
              </a:rPr>
              <a:t>14 млн.кв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7020000" y="407664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встр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млн.кв.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Евразия – 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материк, на котором мы живем. Это величайший материк земного шара. Он занимает одну треть всей суши планеты. По площади Евразия равна Африке и Северной Америке, вместе взятыми – 54 млн. кв. км.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– С запада на восток материк протянулся на </a:t>
            </a:r>
            <a:r>
              <a:rPr b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16 тыс.км,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 а с севера на юг – на </a:t>
            </a:r>
            <a:r>
              <a:rPr b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8 тыс.км.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94970"/>
                </a:solidFill>
                <a:uFillTx/>
                <a:latin typeface="Arial"/>
              </a:rPr>
              <a:t>Вопрос. </a:t>
            </a:r>
            <a:r>
              <a:rPr b="1" i="1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Из каких двух частей света состоит Евразия? </a:t>
            </a:r>
            <a:br>
              <a:rPr sz="2800"/>
            </a:b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527c"/>
                </a:solidFill>
                <a:latin typeface="Arial"/>
              </a:rPr>
              <a:t>Интересные факт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остров у берегов Евразии -Великобр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полуостров – Аравий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ое большое по площади море – Средизем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ое мелкое море – Азовск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Самый большой залив – Бенгаль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4970"/>
                </a:solidFill>
                <a:latin typeface="Arial"/>
              </a:rPr>
              <a:t>«Цветные моря» – Черное, Красное, Желтое, Бел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1 зад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Определите название и географические координаты </a:t>
            </a: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крайних точек Евраз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94970"/>
                </a:solidFill>
                <a:latin typeface="Arial"/>
              </a:rPr>
              <a:t>Найдите, в каких странах находятся крайние точки материка (используйте атла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AutoShape 4">
            <a:hlinkClick r:id="rId4" action="ppaction://hlinksldjump"/>
          </p:cNvPr>
          <p:cNvSpPr/>
          <p:nvPr/>
        </p:nvSpPr>
        <p:spPr>
          <a:xfrm>
            <a:off x="8317080" y="6237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94970"/>
                </a:solidFill>
                <a:latin typeface="Arial"/>
              </a:rPr>
              <a:t>ФИЗКУЛЬТМИНУТКА “МОЗГОВАЯ ГИМНАСТИКА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Качания головой </a:t>
            </a:r>
            <a:r>
              <a:rPr b="0" i="1" lang="ru-RU" sz="2800" spc="-1" strike="noStrike">
                <a:solidFill>
                  <a:srgbClr val="494970"/>
                </a:solidFill>
                <a:latin typeface="Arial"/>
              </a:rPr>
              <a:t>(упражнение стимулирует мыслительные процессы)</a:t>
            </a:r>
            <a:r>
              <a:rPr b="0" lang="ru-RU" sz="2800" spc="-1" strike="noStrike">
                <a:solidFill>
                  <a:srgbClr val="494970"/>
                </a:solidFill>
                <a:latin typeface="Arial"/>
              </a:rPr>
              <a:t>: дышите глубоко, расслабьте плечи и уроните голову вперёд. Позвольте голове медленно качаться из стороны в сторону, пока при помощи дыхания уходит напряжение. Подбородок вычерчивает слегка изогнутую линию на груди по мере расслабления шеи. Выполнять 30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94970"/>
                </a:solidFill>
                <a:uFillTx/>
                <a:latin typeface="Arial"/>
              </a:rPr>
              <a:t>2 задание.</a:t>
            </a:r>
            <a:br>
              <a:rPr sz="4000"/>
            </a:br>
            <a:r>
              <a:rPr b="0" lang="ru-RU" sz="4000" spc="-1" strike="noStrike">
                <a:solidFill>
                  <a:srgbClr val="494970"/>
                </a:solidFill>
                <a:latin typeface="Arial"/>
              </a:rPr>
              <a:t>(работа с атласами и к/к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ие океаны омывают Евразию?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–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С се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   –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С востока 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– С юга 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– С за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 какому океану не имеет выход Россия?</a:t>
            </a:r>
            <a:br>
              <a:rPr sz="2400"/>
            </a:b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Береговая линия какого океана длин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открыл Ф.Магелла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был первоначально изучен араба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4970"/>
                </a:solidFill>
                <a:latin typeface="Arial"/>
              </a:rPr>
              <a:t>Какой океан нужно пересечь, чтобы попасть из Европы в Северную Америк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4"/>
          <p:cNvSpPr/>
          <p:nvPr/>
        </p:nvSpPr>
        <p:spPr>
          <a:xfrm>
            <a:off x="8388360" y="6308640"/>
            <a:ext cx="360360" cy="549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1" name="Picture 5" descr="map2"/>
          <p:cNvPicPr/>
          <p:nvPr/>
        </p:nvPicPr>
        <p:blipFill>
          <a:blip r:embed="rId1"/>
          <a:srcRect l="36089" t="0" r="0" b="0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92" name="AutoShape 7"/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2843280" y="1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верный  Ледовиты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9"/>
          <p:cNvSpPr/>
          <p:nvPr/>
        </p:nvSpPr>
        <p:spPr>
          <a:xfrm>
            <a:off x="7380360" y="2133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ихи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10"/>
          <p:cNvSpPr/>
          <p:nvPr/>
        </p:nvSpPr>
        <p:spPr>
          <a:xfrm>
            <a:off x="3995640" y="3357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Индийски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WordArt 11"/>
          <p:cNvSpPr txBox="1"/>
          <p:nvPr/>
        </p:nvSpPr>
        <p:spPr>
          <a:xfrm rot="5400000">
            <a:off x="-1044360" y="285264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Атлантический океа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06:04Z</dcterms:created>
  <dc:creator>Сидоров Андрей Андреевич</dc:creator>
  <dc:description/>
  <dc:language>en-US</dc:language>
  <cp:lastModifiedBy>Марина Петрова</cp:lastModifiedBy>
  <dcterms:modified xsi:type="dcterms:W3CDTF">2021-05-31T21:30:27Z</dcterms:modified>
  <cp:revision>14</cp:revision>
  <dc:subject/>
  <dc:title>Физико-географическое положение Евразии.</dc:title>
</cp:coreProperties>
</file>