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DD1D-2565-4C75-A49F-E44BEB76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386B-D2BF-4705-AC9A-D30E7946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F3AE55-49B2-4D77-A01C-EA8D9079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0E90F-9CBA-4DDD-B77E-6C640E51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C2C2A-4E14-4F35-98F9-F474F0CB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9730A-AE11-455A-B2E6-D12B1CC4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A0C50-1019-4E1D-BD8F-C29D62F3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EE802-723C-4A39-A004-47602588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C264D3-F522-47E7-B486-4396FE08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BC4036-ED7B-43FB-A0F4-C3A986F9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754844-7103-492C-BB4E-282ADFF4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E64EF-1547-44A3-A844-F9C0743B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DDCD-E642-4A84-BAF3-6E33E3A3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6CD5B-54BB-42BE-8E0D-D140545E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93425-70CC-408D-8934-E0DE13B7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0B240-B0D0-4D20-B883-7004C26A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5CA9E-0D74-4BFB-8659-776C54CF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33D55-BE5A-4CFC-A78A-724A22A7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3CD11-FEC6-435F-ACE6-197C3B75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6617C-FB29-4A4A-B37F-A825AF23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CF77B-1B5C-4B95-BE4F-51B42B0B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87119-42AA-4F0B-9022-51B455B8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1384F-8840-4730-B6F5-C3D7A7A2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A424-82F8-4A0D-9F4D-FF145E02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32A79-7ADC-4E31-9F55-033CF84C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5C1022-8B14-483C-B76B-4FCE6C05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99BDE1-83F4-4656-A04B-61A0D38B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0D3F97-BDF5-412B-89B6-50F5E445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E25D60-1CD0-466F-A9F9-EEAEA302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9A309A-3E27-46F2-8001-9C8BC7D2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42E718-60D9-4EEE-A5AA-4D752B86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77A34D-FB14-4C51-A77A-D82376E8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2D1EC5-0DA8-409C-8F02-865CB197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94039B-D019-4532-B019-22658924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FE03-BFBA-4069-85BD-D19FA49C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6414C2-907B-4CCF-8495-B7ED0800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B0D754-C0ED-4DFC-B93B-6B0C81C3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69BB73-A214-4261-834E-E6262B7C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35D70-3C6E-46AA-A4F3-086DF499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56E36-E0F0-44B4-A21B-6B87378D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94DBE-B900-4CF4-8FB7-5A1537E2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39D6A-046F-490B-9DE8-A842D8F3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804AD-F780-4411-AC93-02723C9A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28BBA-EE6A-4795-B019-F370C675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B8E5D2-D98F-4A93-8799-25EE38EB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877A-DE61-465F-BBBE-A91EEE7E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777DE-09F3-45DD-8347-D28CB409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B397A3-D2B4-46B9-8DEF-6A26759E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58301C-DB76-4C70-B49C-B71DE59D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3D241-27BA-41E9-9DD3-63BD5773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26A5A-C9D2-442B-8029-86C1D079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CAA064-4EC1-4D03-BD5A-1D73DDFA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DB3BB6-4543-40C6-BD0D-A513982D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ADD631-FE0C-45C9-AEF8-813D32AF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95D3CF-6FF3-471F-866E-C09850DA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BC9C2F-8577-4793-9E6D-53C567A7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15D6-CE65-49CF-B87F-A7175898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C60125-4621-4A19-B4D2-6112DAC3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593C601-CE8F-4A5C-A4E3-F227CF83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8F2144-712C-4DC3-BE38-4CEAE6A1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68B605-06BD-448E-98A8-C2DF8B91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CF6CB2-B47F-45E6-B796-46ABBD86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D6E68A-D0BC-4414-85C3-F2705C22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70400F-EB4A-4667-BAC2-97017DF0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4B73-B406-4A22-AFB8-DEA5DCA0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DD2C-D971-43D5-9781-E5D0B4A4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E8B4-39F0-444C-B544-2F479809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F1BE-2872-4D33-A395-1CD34A1F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9B05-5D0D-4FF1-8644-53A48A79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6DC0-0369-4387-8278-498FCE7E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9602-9E72-4BE5-BF2F-109E9E94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D315-ABDE-4185-A1CE-A844C9AD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7F57-F0ED-4771-9444-B4558A07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7E1C-77FD-4203-BC0F-6A3C8366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5B7226-5FE1-4A81-8155-224EAF12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56925D-771B-4D8F-913E-A843AC15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73F035-ECA1-4073-8CEC-AC19801B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A6BF8B-6A7A-4C5D-AF71-C6C4E9BD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3B6B2A-C975-4C9F-B577-4FD0A2E7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1497-76CD-460C-81DB-F75A7029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2F946C-1FF3-4E6D-B9D6-B178857C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8F7F28-FFBF-496A-B86B-DCF0F0B0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BF3990-F85E-456E-B065-3AB1A155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F54FE-6F28-4BE2-A5C1-6098D779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4EC168-8D97-4417-BBA8-266E6F44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DACA9B-82B5-4918-BD9F-C9BDC2B1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2C7A95-8675-47A6-AB10-F4B53A2C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5AFFBC-1B31-4816-A870-A1E883D5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935ACA-4282-43E2-9829-48B8C6A6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52D560-FB89-4E72-B739-624447CB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E318-4EA0-49B0-A3B1-0D44F15F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615CE6-B2F6-4508-9788-A4EC6C3C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60BF1E-9584-481D-A6A5-69D37BB4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331041-C858-46AC-A4DA-A7A4D0A9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2E9A64-C565-4413-9336-E6653E86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EDC799-2D77-43E2-9209-28160322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54300B-0E56-4D17-9AC4-B2F42599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59BD9D-FFAE-4479-AEBF-D606D53B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4AB444-4691-412D-87B9-D965A341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896F65-4A0F-4C1F-B47C-6314E622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C42D20-B1A1-4CE1-B1E2-B5D46E28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4DE1-7F85-438E-829F-EB97AEE5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FD56E3-78BC-490B-976C-D57D185B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6ED758-9230-43A5-A2B8-35CC891A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BA0C4C-7717-4370-85F9-0264E3CA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6C3C84-480C-42D7-B881-1EDE73CC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5A5379-32DB-41FC-AA7B-4A16B8FE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564CAB-7AA2-41EA-B1E9-9AEC77FC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DA99F2-A869-4985-B4E4-8336B819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AEAC65-D525-45B5-B5DD-00885C66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367115-C523-4318-B95F-C6EFDBA8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1435A2-0DB0-4454-BD1B-8F1A385E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3148-C330-4ED4-921E-DCEEA96C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328249-21A7-4754-925B-5B55B9EA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307E27-54EF-4048-B7F4-7A32A6BB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3B2AE6-7BA3-41DB-BBB7-919816D0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670DCD-D501-4EB9-8077-E31BE6E5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514ED1-2395-44BF-927A-B6ECAFA7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D9C0C8-9ACD-4746-BF27-FC219FFB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0D906F-CCBB-4FDF-A17B-767296B7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3BBD94-6581-428C-8673-78DCE7F4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47CE50-E139-43F5-92C6-770883B5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BCC354-1946-4BF8-BCD2-B1278572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D275-034F-48EE-807B-DB5BC3D9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DAB020-789E-43A3-85F5-A4544676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216EF4-3360-4B58-9B44-FB5432C9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915E34-8AEF-49BC-B7A4-F2CC1A29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562D23-A376-4734-AE6F-500E0749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0DE355-B468-429A-8895-7A778E32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FD1C4D-2B4C-4C5A-97D9-C7531880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3DD914-060C-4020-8666-8A719B3B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326712-EA40-42AA-ADC1-0072FAE6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E188A2-4120-42C6-AC93-C95356C9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60BCFF-BB84-463B-9425-4EB40E19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269D-FF27-4B0F-8DEE-AC49CA8E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20848E-AF44-4E66-BF01-96E7E8B1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9F4EB1-AE10-427B-AC47-A64A9045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D3D9C4-6D9D-49FE-A1FA-9EFE0E41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C84273-B30F-4189-890E-04EB5E33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5ADA10-ED1D-4ED6-A83D-E2593B7D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1DEBA9-659C-4E11-9B12-2281573D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8741A6-F7C8-407E-85B6-5A0BE316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5E0641-3E3B-4DA3-B9D2-A1B60DB1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BC357E-70EB-4789-8CC7-05B2A51E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F3E8D2-E521-4D7A-ACD3-326ECDE2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0E64-67A2-4DC8-A75C-F2D4B2A8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46C464-C0F0-4F8A-ACF4-D93D34E7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649032-F807-41F9-9E25-42156098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37B88C-B3D7-49A9-91CF-2DC51200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FAD130-DB1B-4935-9E2C-19CF29C5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D6222A-9014-41C7-B0D2-BA0098DE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D07F2D-6FA0-4126-B5EA-EFA0BC22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A175D9-880A-4A52-9CFF-4C200EF8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95BB2-5452-4490-B437-C097FDEA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C17E0-389F-4C23-9623-B8FE0193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2245C-7B16-43C2-990C-A7F53C70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5C64-1E51-4621-82A6-18C4304CC8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64E4-4A4A-4A3D-95F0-D3EAFA5557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53EC-F125-451D-844B-8391550730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dt" idx="3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ftr" idx="3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FA78-AD70-44DC-87C7-310A940F3D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dt" idx="3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ftr" idx="3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sldNum" idx="3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6CC1-2CF6-4605-A056-A83EE0B121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dt" idx="3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ftr" idx="3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5097-BD0B-45E3-B379-6BB7F3B6B5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F5C6-4BFF-466F-A8D0-B1E8F0B156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FB11-39A2-4879-A096-3BB8D0D513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07A6-E1B3-4EAC-85AD-4D34E612A9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607D-64E7-48F3-B964-278F76BDCB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1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282A-80E0-4012-87C7-3A21F26DDA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3041-EAF4-41A0-8CAD-A77A3A4C25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dt" idx="2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ftr" idx="2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00B8-33B8-4532-B1E1-2D81D7A550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8.xml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e2e45"/>
                </a:solidFill>
                <a:latin typeface="Arial"/>
              </a:rPr>
              <a:t>Географическое положение Евразии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1371600" y="2470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45"/>
                </a:solidFill>
                <a:latin typeface="Arial"/>
              </a:rPr>
              <a:t>7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45"/>
                </a:solidFill>
                <a:latin typeface="Arial"/>
              </a:rPr>
              <a:t>Автор: Толстова М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45"/>
                </a:solidFill>
                <a:latin typeface="Arial"/>
              </a:rPr>
              <a:t>ЭОР: </a:t>
            </a:r>
            <a:r>
              <a:rPr b="0" lang="en-US" sz="3200" spc="-1" strike="noStrike">
                <a:solidFill>
                  <a:srgbClr val="2e2e45"/>
                </a:solidFill>
                <a:latin typeface="Arial"/>
              </a:rPr>
              <a:t>https://docs.google.com/forms/d/1Nd0lJijwWYoZurBdDaW4eKyTALBGjX1qqydvaXAUqK8/ed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94970"/>
                </a:solidFill>
                <a:latin typeface="Bookman Old Style"/>
              </a:rPr>
              <a:t>Определите течения, проходящие у берегов Евраз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Picture 4" descr="800px-Two-point-equidistant-asia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001" name="AutoShape 5"/>
          <p:cNvSpPr/>
          <p:nvPr/>
        </p:nvSpPr>
        <p:spPr>
          <a:xfrm>
            <a:off x="0" y="189000"/>
            <a:ext cx="468360" cy="71280"/>
          </a:xfrm>
          <a:prstGeom prst="rightArrow">
            <a:avLst>
              <a:gd name="adj1" fmla="val 50000"/>
              <a:gd name="adj2" fmla="val 16426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AutoShape 6"/>
          <p:cNvSpPr/>
          <p:nvPr/>
        </p:nvSpPr>
        <p:spPr>
          <a:xfrm>
            <a:off x="0" y="333360"/>
            <a:ext cx="539640" cy="71280"/>
          </a:xfrm>
          <a:prstGeom prst="rightArrow">
            <a:avLst>
              <a:gd name="adj1" fmla="val 50000"/>
              <a:gd name="adj2" fmla="val 18926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7"/>
          <p:cNvSpPr/>
          <p:nvPr/>
        </p:nvSpPr>
        <p:spPr>
          <a:xfrm>
            <a:off x="179280" y="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fdef6"/>
                </a:solidFill>
                <a:latin typeface="Arial"/>
              </a:rPr>
              <a:t>Северо-Атлантическо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dfdef6"/>
                </a:solidFill>
                <a:latin typeface="Arial"/>
              </a:rPr>
              <a:t>теч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AutoShape 9"/>
          <p:cNvSpPr/>
          <p:nvPr/>
        </p:nvSpPr>
        <p:spPr>
          <a:xfrm>
            <a:off x="2195640" y="476280"/>
            <a:ext cx="504720" cy="73080"/>
          </a:xfrm>
          <a:prstGeom prst="rightArrow">
            <a:avLst>
              <a:gd name="adj1" fmla="val 50000"/>
              <a:gd name="adj2" fmla="val 17266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AutoShape 10"/>
          <p:cNvSpPr/>
          <p:nvPr/>
        </p:nvSpPr>
        <p:spPr>
          <a:xfrm rot="2233800">
            <a:off x="2916000" y="47628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AutoShape 11"/>
          <p:cNvSpPr/>
          <p:nvPr/>
        </p:nvSpPr>
        <p:spPr>
          <a:xfrm rot="2592600">
            <a:off x="3203280" y="765000"/>
            <a:ext cx="431640" cy="71640"/>
          </a:xfrm>
          <a:prstGeom prst="rightArrow">
            <a:avLst>
              <a:gd name="adj1" fmla="val 50000"/>
              <a:gd name="adj2" fmla="val 15062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AutoShape 12"/>
          <p:cNvSpPr/>
          <p:nvPr/>
        </p:nvSpPr>
        <p:spPr>
          <a:xfrm>
            <a:off x="3635280" y="907920"/>
            <a:ext cx="360360" cy="144720"/>
          </a:xfrm>
          <a:custGeom>
            <a:avLst/>
            <a:gdLst>
              <a:gd name="textAreaLeft" fmla="*/ 71280 w 360360"/>
              <a:gd name="textAreaRight" fmla="*/ 218880 w 3603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-2898935"/>
                <a:lnTo>
                  <a:pt x="21110" y="7200"/>
                </a:lnTo>
                <a:lnTo>
                  <a:pt x="17280" y="0"/>
                </a:lnTo>
                <a:lnTo>
                  <a:pt x="12470" y="7200"/>
                </a:lnTo>
                <a:lnTo>
                  <a:pt x="16662" y="7200"/>
                </a:lnTo>
                <a:arcTo wR="8576" hR="21600" stAng="2501065" swAng="2878561"/>
                <a:lnTo>
                  <a:pt x="8704" y="21598"/>
                </a:lnTo>
                <a:arcTo wR="8576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20374"/>
                <a:lnTo>
                  <a:pt x="8704" y="21598"/>
                </a:lnTo>
                <a:arcTo wR="8576" hR="21600" stAng="5420374" swAng="5379626"/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13"/>
          <p:cNvSpPr/>
          <p:nvPr/>
        </p:nvSpPr>
        <p:spPr>
          <a:xfrm>
            <a:off x="2411280" y="0"/>
            <a:ext cx="13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fdef6"/>
                </a:solidFill>
                <a:latin typeface="Arial"/>
              </a:rPr>
              <a:t>Норвежское теч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AutoShape 14"/>
          <p:cNvSpPr/>
          <p:nvPr/>
        </p:nvSpPr>
        <p:spPr>
          <a:xfrm rot="20090400">
            <a:off x="8675640" y="4149720"/>
            <a:ext cx="468360" cy="71280"/>
          </a:xfrm>
          <a:prstGeom prst="leftArrow">
            <a:avLst>
              <a:gd name="adj1" fmla="val 50000"/>
              <a:gd name="adj2" fmla="val 16426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AutoShape 15"/>
          <p:cNvSpPr/>
          <p:nvPr/>
        </p:nvSpPr>
        <p:spPr>
          <a:xfrm rot="20090400">
            <a:off x="8675640" y="4437000"/>
            <a:ext cx="468360" cy="71640"/>
          </a:xfrm>
          <a:prstGeom prst="leftArrow">
            <a:avLst>
              <a:gd name="adj1" fmla="val 50000"/>
              <a:gd name="adj2" fmla="val 1634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AutoShape 16"/>
          <p:cNvSpPr/>
          <p:nvPr/>
        </p:nvSpPr>
        <p:spPr>
          <a:xfrm>
            <a:off x="8028000" y="4581360"/>
            <a:ext cx="431640" cy="71640"/>
          </a:xfrm>
          <a:prstGeom prst="leftArrow">
            <a:avLst>
              <a:gd name="adj1" fmla="val 50000"/>
              <a:gd name="adj2" fmla="val 15062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Shape 17"/>
          <p:cNvSpPr/>
          <p:nvPr/>
        </p:nvSpPr>
        <p:spPr>
          <a:xfrm>
            <a:off x="8028000" y="4292640"/>
            <a:ext cx="360360" cy="73080"/>
          </a:xfrm>
          <a:prstGeom prst="leftArrow">
            <a:avLst>
              <a:gd name="adj1" fmla="val 50000"/>
              <a:gd name="adj2" fmla="val 1232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AutoShape 18"/>
          <p:cNvSpPr/>
          <p:nvPr/>
        </p:nvSpPr>
        <p:spPr>
          <a:xfrm rot="1602000">
            <a:off x="7179840" y="4439880"/>
            <a:ext cx="503280" cy="71280"/>
          </a:xfrm>
          <a:prstGeom prst="leftArrow">
            <a:avLst>
              <a:gd name="adj1" fmla="val 50000"/>
              <a:gd name="adj2" fmla="val 1765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AutoShape 19"/>
          <p:cNvSpPr/>
          <p:nvPr/>
        </p:nvSpPr>
        <p:spPr>
          <a:xfrm rot="1677000">
            <a:off x="7451640" y="4220640"/>
            <a:ext cx="433440" cy="71640"/>
          </a:xfrm>
          <a:prstGeom prst="leftArrow">
            <a:avLst>
              <a:gd name="adj1" fmla="val 50000"/>
              <a:gd name="adj2" fmla="val 15125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 Box 20"/>
          <p:cNvSpPr/>
          <p:nvPr/>
        </p:nvSpPr>
        <p:spPr>
          <a:xfrm>
            <a:off x="7093080" y="47242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веро-Пассат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AutoShape 22"/>
          <p:cNvSpPr/>
          <p:nvPr/>
        </p:nvSpPr>
        <p:spPr>
          <a:xfrm rot="19003800">
            <a:off x="7524720" y="350028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AutoShape 23"/>
          <p:cNvSpPr/>
          <p:nvPr/>
        </p:nvSpPr>
        <p:spPr>
          <a:xfrm rot="19101600">
            <a:off x="7308720" y="3500280"/>
            <a:ext cx="432000" cy="71640"/>
          </a:xfrm>
          <a:prstGeom prst="rightArrow">
            <a:avLst>
              <a:gd name="adj1" fmla="val 50000"/>
              <a:gd name="adj2" fmla="val 1507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AutoShape 24"/>
          <p:cNvSpPr/>
          <p:nvPr/>
        </p:nvSpPr>
        <p:spPr>
          <a:xfrm>
            <a:off x="7667640" y="2708280"/>
            <a:ext cx="73080" cy="504720"/>
          </a:xfrm>
          <a:prstGeom prst="upArrow">
            <a:avLst>
              <a:gd name="adj1" fmla="val 50000"/>
              <a:gd name="adj2" fmla="val 17266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AutoShape 25"/>
          <p:cNvSpPr/>
          <p:nvPr/>
        </p:nvSpPr>
        <p:spPr>
          <a:xfrm>
            <a:off x="7885080" y="2637000"/>
            <a:ext cx="71640" cy="576000"/>
          </a:xfrm>
          <a:prstGeom prst="upArrow">
            <a:avLst>
              <a:gd name="adj1" fmla="val 50000"/>
              <a:gd name="adj2" fmla="val 20100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AutoShape 26"/>
          <p:cNvSpPr/>
          <p:nvPr/>
        </p:nvSpPr>
        <p:spPr>
          <a:xfrm rot="19312200">
            <a:off x="7488360" y="2241360"/>
            <a:ext cx="576000" cy="71280"/>
          </a:xfrm>
          <a:prstGeom prst="rightArrow">
            <a:avLst>
              <a:gd name="adj1" fmla="val 50000"/>
              <a:gd name="adj2" fmla="val 20202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AutoShape 27"/>
          <p:cNvSpPr/>
          <p:nvPr/>
        </p:nvSpPr>
        <p:spPr>
          <a:xfrm rot="19069800">
            <a:off x="7703640" y="2241360"/>
            <a:ext cx="576360" cy="72720"/>
          </a:xfrm>
          <a:prstGeom prst="rightArrow">
            <a:avLst>
              <a:gd name="adj1" fmla="val 50000"/>
              <a:gd name="adj2" fmla="val 19814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WordArt 29"/>
          <p:cNvSpPr txBox="1"/>
          <p:nvPr/>
        </p:nvSpPr>
        <p:spPr>
          <a:xfrm rot="5400000">
            <a:off x="7371360" y="2789640"/>
            <a:ext cx="1746360" cy="1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dfdef6"/>
                  </a:solidFill>
                  <a:miter/>
                </a:ln>
                <a:solidFill>
                  <a:srgbClr val="dfdef6"/>
                </a:solidFill>
                <a:latin typeface="Arial"/>
              </a:rPr>
              <a:t>течение Курсио</a:t>
            </a:r>
            <a:endParaRPr b="0" lang="en-US" sz="1400" spc="1" strike="noStrike">
              <a:ln w="9360">
                <a:solidFill>
                  <a:srgbClr val="dfdef6"/>
                </a:solidFill>
                <a:miter/>
              </a:ln>
              <a:solidFill>
                <a:srgbClr val="dfdef6"/>
              </a:solidFill>
              <a:latin typeface="Arial"/>
              <a:ea typeface="Arial"/>
            </a:endParaRPr>
          </a:p>
        </p:txBody>
      </p:sp>
      <p:sp>
        <p:nvSpPr>
          <p:cNvPr id="1023" name="AutoShape 30"/>
          <p:cNvSpPr/>
          <p:nvPr/>
        </p:nvSpPr>
        <p:spPr>
          <a:xfrm rot="21249600">
            <a:off x="971280" y="0"/>
            <a:ext cx="433440" cy="71280"/>
          </a:xfrm>
          <a:prstGeom prst="rightArrow">
            <a:avLst>
              <a:gd name="adj1" fmla="val 50000"/>
              <a:gd name="adj2" fmla="val 15202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AutoShape 31"/>
          <p:cNvSpPr/>
          <p:nvPr/>
        </p:nvSpPr>
        <p:spPr>
          <a:xfrm rot="21145200">
            <a:off x="971640" y="188640"/>
            <a:ext cx="576000" cy="71280"/>
          </a:xfrm>
          <a:prstGeom prst="rightArrow">
            <a:avLst>
              <a:gd name="adj1" fmla="val 50000"/>
              <a:gd name="adj2" fmla="val 20202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AutoShape 32"/>
          <p:cNvSpPr/>
          <p:nvPr/>
        </p:nvSpPr>
        <p:spPr>
          <a:xfrm rot="2062800">
            <a:off x="2268000" y="5516280"/>
            <a:ext cx="648000" cy="73080"/>
          </a:xfrm>
          <a:prstGeom prst="rightArrow">
            <a:avLst>
              <a:gd name="adj1" fmla="val 50000"/>
              <a:gd name="adj2" fmla="val 2216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AutoShape 33"/>
          <p:cNvSpPr/>
          <p:nvPr/>
        </p:nvSpPr>
        <p:spPr>
          <a:xfrm rot="1878000">
            <a:off x="2123640" y="566100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AutoShape 34"/>
          <p:cNvSpPr/>
          <p:nvPr/>
        </p:nvSpPr>
        <p:spPr>
          <a:xfrm rot="2211600">
            <a:off x="2987640" y="5876640"/>
            <a:ext cx="576360" cy="73080"/>
          </a:xfrm>
          <a:prstGeom prst="rightArrow">
            <a:avLst>
              <a:gd name="adj1" fmla="val 50000"/>
              <a:gd name="adj2" fmla="val 1971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AutoShape 35"/>
          <p:cNvSpPr/>
          <p:nvPr/>
        </p:nvSpPr>
        <p:spPr>
          <a:xfrm rot="2211600">
            <a:off x="2842920" y="595008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AutoShape 36"/>
          <p:cNvSpPr/>
          <p:nvPr/>
        </p:nvSpPr>
        <p:spPr>
          <a:xfrm>
            <a:off x="3635280" y="6093000"/>
            <a:ext cx="432000" cy="72720"/>
          </a:xfrm>
          <a:prstGeom prst="rightArrow">
            <a:avLst>
              <a:gd name="adj1" fmla="val 50000"/>
              <a:gd name="adj2" fmla="val 1485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AutoShape 37"/>
          <p:cNvSpPr/>
          <p:nvPr/>
        </p:nvSpPr>
        <p:spPr>
          <a:xfrm>
            <a:off x="3635280" y="6237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AutoShape 38"/>
          <p:cNvSpPr/>
          <p:nvPr/>
        </p:nvSpPr>
        <p:spPr>
          <a:xfrm rot="17536200">
            <a:off x="4071600" y="5861880"/>
            <a:ext cx="215640" cy="73080"/>
          </a:xfrm>
          <a:prstGeom prst="rightArrow">
            <a:avLst>
              <a:gd name="adj1" fmla="val 50000"/>
              <a:gd name="adj2" fmla="val 7376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AutoShape 39"/>
          <p:cNvSpPr/>
          <p:nvPr/>
        </p:nvSpPr>
        <p:spPr>
          <a:xfrm rot="1198800">
            <a:off x="4427280" y="6381360"/>
            <a:ext cx="504720" cy="71640"/>
          </a:xfrm>
          <a:prstGeom prst="rightArrow">
            <a:avLst>
              <a:gd name="adj1" fmla="val 50000"/>
              <a:gd name="adj2" fmla="val 1761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AutoShape 40"/>
          <p:cNvSpPr/>
          <p:nvPr/>
        </p:nvSpPr>
        <p:spPr>
          <a:xfrm rot="2007000">
            <a:off x="5148000" y="6597360"/>
            <a:ext cx="503280" cy="73080"/>
          </a:xfrm>
          <a:prstGeom prst="rightArrow">
            <a:avLst>
              <a:gd name="adj1" fmla="val 50000"/>
              <a:gd name="adj2" fmla="val 1721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AutoShape 41"/>
          <p:cNvSpPr/>
          <p:nvPr/>
        </p:nvSpPr>
        <p:spPr>
          <a:xfrm rot="18588000">
            <a:off x="4104360" y="5481000"/>
            <a:ext cx="432000" cy="71280"/>
          </a:xfrm>
          <a:prstGeom prst="rightArrow">
            <a:avLst>
              <a:gd name="adj1" fmla="val 50000"/>
              <a:gd name="adj2" fmla="val 1515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AutoShape 42"/>
          <p:cNvSpPr/>
          <p:nvPr/>
        </p:nvSpPr>
        <p:spPr>
          <a:xfrm rot="3261600">
            <a:off x="4590000" y="5452200"/>
            <a:ext cx="647640" cy="71640"/>
          </a:xfrm>
          <a:prstGeom prst="rightArrow">
            <a:avLst>
              <a:gd name="adj1" fmla="val 50000"/>
              <a:gd name="adj2" fmla="val 22600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AutoShape 43"/>
          <p:cNvSpPr/>
          <p:nvPr/>
        </p:nvSpPr>
        <p:spPr>
          <a:xfrm rot="19360800">
            <a:off x="2124000" y="4941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AutoShape 44"/>
          <p:cNvSpPr/>
          <p:nvPr/>
        </p:nvSpPr>
        <p:spPr>
          <a:xfrm rot="2689200">
            <a:off x="270000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45"/>
          <p:cNvSpPr/>
          <p:nvPr/>
        </p:nvSpPr>
        <p:spPr>
          <a:xfrm>
            <a:off x="2411280" y="6021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уссонное теч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AutoShape 46"/>
          <p:cNvSpPr/>
          <p:nvPr/>
        </p:nvSpPr>
        <p:spPr>
          <a:xfrm rot="15000600">
            <a:off x="6623640" y="871920"/>
            <a:ext cx="1295640" cy="71280"/>
          </a:xfrm>
          <a:prstGeom prst="leftArrow">
            <a:avLst>
              <a:gd name="adj1" fmla="val 50000"/>
              <a:gd name="adj2" fmla="val 45441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AutoShape 47"/>
          <p:cNvSpPr/>
          <p:nvPr/>
        </p:nvSpPr>
        <p:spPr>
          <a:xfrm rot="1026600">
            <a:off x="7093080" y="1700280"/>
            <a:ext cx="503280" cy="73080"/>
          </a:xfrm>
          <a:prstGeom prst="leftArrow">
            <a:avLst>
              <a:gd name="adj1" fmla="val 50000"/>
              <a:gd name="adj2" fmla="val 17216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AutoShape 48"/>
          <p:cNvSpPr/>
          <p:nvPr/>
        </p:nvSpPr>
        <p:spPr>
          <a:xfrm rot="18795600">
            <a:off x="6516000" y="1701000"/>
            <a:ext cx="504720" cy="71280"/>
          </a:xfrm>
          <a:prstGeom prst="leftArrow">
            <a:avLst>
              <a:gd name="adj1" fmla="val 50000"/>
              <a:gd name="adj2" fmla="val 17702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AutoShape 49"/>
          <p:cNvSpPr/>
          <p:nvPr/>
        </p:nvSpPr>
        <p:spPr>
          <a:xfrm rot="3063600">
            <a:off x="6732720" y="1988280"/>
            <a:ext cx="503280" cy="73080"/>
          </a:xfrm>
          <a:prstGeom prst="rightArrow">
            <a:avLst>
              <a:gd name="adj1" fmla="val 50000"/>
              <a:gd name="adj2" fmla="val 17216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94970"/>
                </a:solidFill>
                <a:uFillTx/>
                <a:latin typeface="Arial"/>
              </a:rPr>
              <a:t>3 задание.</a:t>
            </a:r>
            <a:br>
              <a:rPr sz="4000"/>
            </a:br>
            <a:r>
              <a:rPr b="0" lang="ru-RU" sz="4000" spc="-1" strike="noStrike">
                <a:solidFill>
                  <a:srgbClr val="494970"/>
                </a:solidFill>
                <a:latin typeface="Arial"/>
              </a:rPr>
              <a:t>(Работа с картой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94970"/>
                </a:solidFill>
                <a:latin typeface="Arial"/>
              </a:rPr>
              <a:t>1. Какие моря омываю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94970"/>
                </a:solidFill>
                <a:latin typeface="Arial"/>
              </a:rPr>
              <a:t>   – </a:t>
            </a:r>
            <a:r>
              <a:rPr b="0" lang="ru-RU" sz="2400" spc="-1" strike="noStrike">
                <a:solidFill>
                  <a:srgbClr val="494970"/>
                </a:solidFill>
                <a:latin typeface="Arial"/>
              </a:rPr>
              <a:t>берега Северного Ледовитого океана </a:t>
            </a:r>
            <a:br>
              <a:rPr sz="2400"/>
            </a:br>
            <a:r>
              <a:rPr b="0" lang="ru-RU" sz="2400" spc="-1" strike="noStrike">
                <a:solidFill>
                  <a:srgbClr val="494970"/>
                </a:solidFill>
                <a:latin typeface="Arial"/>
              </a:rPr>
              <a:t>– берега Тихого океана  берега Индийского океана </a:t>
            </a:r>
            <a:br>
              <a:rPr sz="2400"/>
            </a:br>
            <a:r>
              <a:rPr b="0" lang="ru-RU" sz="2400" spc="-1" strike="noStrike">
                <a:solidFill>
                  <a:srgbClr val="494970"/>
                </a:solidFill>
                <a:latin typeface="Arial"/>
              </a:rPr>
              <a:t>– берега Атлантического океа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94970"/>
                </a:solidFill>
                <a:latin typeface="Arial"/>
              </a:rPr>
              <a:t>2. Назовите и покажите внутренние мо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94970"/>
                </a:solidFill>
                <a:latin typeface="Arial"/>
              </a:rPr>
              <a:t>3. Воды, каких морей омывают территорию Росс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5" name="Picture 4" descr="int1"/>
          <p:cNvPicPr/>
          <p:nvPr/>
        </p:nvPicPr>
        <p:blipFill>
          <a:blip r:embed="rId1"/>
          <a:stretch/>
        </p:blipFill>
        <p:spPr>
          <a:xfrm>
            <a:off x="4440240" y="170028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fdef6"/>
                </a:solidFill>
                <a:uFillTx/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494970"/>
                </a:solidFill>
                <a:uFillTx/>
                <a:latin typeface="Arial"/>
              </a:rPr>
              <a:t>4 задание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497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494970"/>
                </a:solidFill>
                <a:latin typeface="Arial"/>
              </a:rPr>
              <a:t>1. К какому материку Евразия расположена ближе всех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497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494970"/>
                </a:solidFill>
                <a:latin typeface="Arial"/>
              </a:rPr>
              <a:t>2. На территории каких государств расположена граница между Африкой и Еврази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494970"/>
                </a:solidFill>
                <a:uFillTx/>
                <a:latin typeface="Arial"/>
              </a:rPr>
              <a:t>4 зад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Какими проливами Евразия отделе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от Афр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от Северной Америки </a:t>
            </a:r>
            <a:br>
              <a:rPr sz="2800"/>
            </a:b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– от Океан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Найдите и покажите на карте Суэцкий кан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5. </a:t>
            </a: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Объясните разницу между понятиями пролив и кан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0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0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e2e45"/>
                </a:solidFill>
                <a:latin typeface="Arial"/>
              </a:rPr>
              <a:t>ЭОР (тест по теме «Евразия»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45"/>
                </a:solidFill>
                <a:latin typeface="Arial"/>
              </a:rPr>
              <a:t>https://docs.google.com/forms/d/1Nd0lJijwWYoZurBdDaW4eKyTALBGjX1qqydvaXAUqK8/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Объект 5" descr=""/>
          <p:cNvPicPr/>
          <p:nvPr/>
        </p:nvPicPr>
        <p:blipFill>
          <a:blip r:embed="rId2"/>
          <a:stretch/>
        </p:blipFill>
        <p:spPr>
          <a:xfrm>
            <a:off x="3780000" y="3573360"/>
            <a:ext cx="5122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94970"/>
                </a:solidFill>
                <a:latin typeface="Arial"/>
              </a:rPr>
              <a:t>Домашнее задание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4970"/>
                </a:solidFill>
                <a:latin typeface="Times New Roman"/>
                <a:ea typeface="바탕"/>
              </a:rPr>
              <a:t>§59, к.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4970"/>
                </a:solidFill>
                <a:latin typeface="Times New Roman"/>
                <a:ea typeface="바탕"/>
              </a:rPr>
              <a:t>Выбрать любой город Евразии и заполнять календарь по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1258920" y="1197000"/>
            <a:ext cx="60768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94970"/>
                </a:solidFill>
                <a:latin typeface="Arial"/>
              </a:rPr>
              <a:t>Домашнее задание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4970"/>
                </a:solidFill>
                <a:latin typeface="Times New Roman"/>
                <a:ea typeface="바탕"/>
              </a:rPr>
              <a:t>§59, к.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4970"/>
                </a:solidFill>
                <a:latin typeface="Times New Roman"/>
                <a:ea typeface="바탕"/>
              </a:rPr>
              <a:t>Выбрать любой город Евразии и заполнять календарь по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1" name="Picture 5" descr="map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2" name="Text Box 6"/>
          <p:cNvSpPr/>
          <p:nvPr/>
        </p:nvSpPr>
        <p:spPr>
          <a:xfrm>
            <a:off x="5859360" y="105408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Евра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3 млн.кв.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 Box 7"/>
          <p:cNvSpPr/>
          <p:nvPr/>
        </p:nvSpPr>
        <p:spPr>
          <a:xfrm>
            <a:off x="4211640" y="256536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фр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0,3 млн.кв.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 Box 8"/>
          <p:cNvSpPr/>
          <p:nvPr/>
        </p:nvSpPr>
        <p:spPr>
          <a:xfrm>
            <a:off x="755640" y="981000"/>
            <a:ext cx="2303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Северная Аме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4,2млн.кв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 Box 9"/>
          <p:cNvSpPr/>
          <p:nvPr/>
        </p:nvSpPr>
        <p:spPr>
          <a:xfrm>
            <a:off x="2195640" y="3429000"/>
            <a:ext cx="201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Южная Аме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7,8млн.кв.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 Box 10"/>
          <p:cNvSpPr/>
          <p:nvPr/>
        </p:nvSpPr>
        <p:spPr>
          <a:xfrm>
            <a:off x="4211640" y="6078600"/>
            <a:ext cx="32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527c"/>
                </a:solidFill>
                <a:latin typeface="Bookman Old Style"/>
              </a:rPr>
              <a:t>Антаркти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527c"/>
                </a:solidFill>
                <a:latin typeface="Bookman Old Style"/>
              </a:rPr>
              <a:t>14 млн.кв.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11"/>
          <p:cNvSpPr/>
          <p:nvPr/>
        </p:nvSpPr>
        <p:spPr>
          <a:xfrm>
            <a:off x="7020000" y="407664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встра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млн.кв.к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Евразия – 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материк, на котором мы живем. Это величайший материк земного шара. Он занимает одну треть всей суши планеты. По площади Евразия равна Африке и Северной Америке, вместе взятыми – 54 млн. кв. км. </a:t>
            </a:r>
            <a:br>
              <a:rPr sz="2800"/>
            </a:b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– С запада на восток материк протянулся на </a:t>
            </a:r>
            <a:r>
              <a:rPr b="1" lang="ru-RU" sz="2800" spc="-1" strike="noStrike" u="sng">
                <a:solidFill>
                  <a:srgbClr val="494970"/>
                </a:solidFill>
                <a:uFillTx/>
                <a:latin typeface="Arial"/>
              </a:rPr>
              <a:t>16 тыс.км,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  а с севера на юг – на </a:t>
            </a:r>
            <a:r>
              <a:rPr b="1" lang="ru-RU" sz="2800" spc="-1" strike="noStrike" u="sng">
                <a:solidFill>
                  <a:srgbClr val="494970"/>
                </a:solidFill>
                <a:uFillTx/>
                <a:latin typeface="Arial"/>
              </a:rPr>
              <a:t>8 тыс.км.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94970"/>
                </a:solidFill>
                <a:uFillTx/>
                <a:latin typeface="Arial"/>
              </a:rPr>
              <a:t>Вопрос. </a:t>
            </a:r>
            <a:r>
              <a:rPr b="1" i="1" lang="ru-RU" sz="2800" spc="-1" strike="noStrike">
                <a:solidFill>
                  <a:srgbClr val="49497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494970"/>
                </a:solidFill>
                <a:latin typeface="Arial"/>
              </a:rPr>
              <a:t>Из каких двух частей света состоит Евразия? </a:t>
            </a:r>
            <a:br>
              <a:rPr sz="2800"/>
            </a:br>
            <a:r>
              <a:rPr b="0" i="1" lang="ru-RU" sz="2800" spc="-1" strike="noStrike">
                <a:solidFill>
                  <a:srgbClr val="49497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2527c"/>
                </a:solidFill>
                <a:latin typeface="Arial"/>
              </a:rPr>
              <a:t>Интересные факт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Самый большой остров у берегов Евразии -Великобрит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Самый большой полуостров – Аравийск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Самое большое по площади море – Средиземно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Самое мелкое море – Азовско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Самый большой залив – Бенгальск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«Цветные моря» – Черное, Красное, Желтое, Бело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94970"/>
                </a:solidFill>
                <a:uFillTx/>
                <a:latin typeface="Arial"/>
              </a:rPr>
              <a:t>1 задание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4970"/>
                </a:solidFill>
                <a:latin typeface="Arial"/>
              </a:rPr>
              <a:t>Определите название и географические координаты </a:t>
            </a:r>
            <a:r>
              <a:rPr b="0" lang="ru-RU" sz="32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крайних точек Евраз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497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494970"/>
                </a:solidFill>
                <a:latin typeface="Arial"/>
              </a:rPr>
              <a:t>Найдите, в каких странах находятся крайние точки материка (используйте атлас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AutoShape 4">
            <a:hlinkClick r:id="rId4" action="ppaction://hlinksldjump"/>
          </p:cNvPr>
          <p:cNvSpPr/>
          <p:nvPr/>
        </p:nvSpPr>
        <p:spPr>
          <a:xfrm>
            <a:off x="8317080" y="6237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94970"/>
                </a:solidFill>
                <a:latin typeface="Arial"/>
              </a:rPr>
              <a:t>ФИЗКУЛЬТМИНУТКА “МОЗГОВАЯ ГИМНАСТИКА”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Качания головой </a:t>
            </a:r>
            <a:r>
              <a:rPr b="0" i="1" lang="ru-RU" sz="2800" spc="-1" strike="noStrike">
                <a:solidFill>
                  <a:srgbClr val="494970"/>
                </a:solidFill>
                <a:latin typeface="Arial"/>
              </a:rPr>
              <a:t>(упражнение стимулирует мыслительные процессы)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: дышите глубоко, расслабьте плечи и уроните голову вперёд. Позвольте голове медленно качаться из стороны в сторону, пока при помощи дыхания уходит напряжение. Подбородок вычерчивает слегка изогнутую линию на груди по мере расслабления шеи. Выполнять 30 секу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94970"/>
                </a:solidFill>
                <a:uFillTx/>
                <a:latin typeface="Arial"/>
              </a:rPr>
              <a:t>2 задание.</a:t>
            </a:r>
            <a:br>
              <a:rPr sz="4000"/>
            </a:br>
            <a:r>
              <a:rPr b="0" lang="ru-RU" sz="4000" spc="-1" strike="noStrike">
                <a:solidFill>
                  <a:srgbClr val="494970"/>
                </a:solidFill>
                <a:latin typeface="Arial"/>
              </a:rPr>
              <a:t>(работа с атласами и к/к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Какие океаны омывают Евразию?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–</a:t>
            </a: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С сев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    – </a:t>
            </a: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С востока </a:t>
            </a:r>
            <a:br>
              <a:rPr sz="2400"/>
            </a:b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– С юга </a:t>
            </a:r>
            <a:br>
              <a:rPr sz="2400"/>
            </a:b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– С зап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К какому океану не имеет выход Россия?</a:t>
            </a:r>
            <a:br>
              <a:rPr sz="2400"/>
            </a:b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Береговая линия какого океана длинн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Какой океан открыл Ф.Магеллан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Какой океан был первоначально изучен арабам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Какой океан нужно пересечь, чтобы попасть из Европы в Северную Америку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AutoShape 4"/>
          <p:cNvSpPr/>
          <p:nvPr/>
        </p:nvSpPr>
        <p:spPr>
          <a:xfrm>
            <a:off x="8388360" y="6308640"/>
            <a:ext cx="360360" cy="549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226440 h 549360"/>
              <a:gd name="textAreaBottom" fmla="*/ 322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1" name="Picture 5" descr="map2"/>
          <p:cNvPicPr/>
          <p:nvPr/>
        </p:nvPicPr>
        <p:blipFill>
          <a:blip r:embed="rId1"/>
          <a:srcRect l="36089" t="0" r="0" b="0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92" name="AutoShape 7"/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8"/>
          <p:cNvSpPr/>
          <p:nvPr/>
        </p:nvSpPr>
        <p:spPr>
          <a:xfrm>
            <a:off x="2843280" y="1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Северный  Ледовитый оке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9"/>
          <p:cNvSpPr/>
          <p:nvPr/>
        </p:nvSpPr>
        <p:spPr>
          <a:xfrm>
            <a:off x="7380360" y="213372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ихий оке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10"/>
          <p:cNvSpPr/>
          <p:nvPr/>
        </p:nvSpPr>
        <p:spPr>
          <a:xfrm>
            <a:off x="3995640" y="3357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Индийский оке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WordArt 11"/>
          <p:cNvSpPr txBox="1"/>
          <p:nvPr/>
        </p:nvSpPr>
        <p:spPr>
          <a:xfrm rot="5400000">
            <a:off x="-1044360" y="2852640"/>
            <a:ext cx="381636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Атлантический океан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5:06:04Z</dcterms:created>
  <dc:creator>Сидоров Андрей Андреевич</dc:creator>
  <dc:description/>
  <dc:language>en-US</dc:language>
  <cp:lastModifiedBy>Марина Петрова</cp:lastModifiedBy>
  <dcterms:modified xsi:type="dcterms:W3CDTF">2021-05-31T21:30:27Z</dcterms:modified>
  <cp:revision>14</cp:revision>
  <dc:subject/>
  <dc:title>Физико-географическое положение Евразии.</dc:title>
</cp:coreProperties>
</file>