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447920"/>
            <a:ext cx="780732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040" y="3868920"/>
            <a:ext cx="780732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040" y="1447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447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040" y="3868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868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040" y="1447920"/>
            <a:ext cx="2513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920" y="1447920"/>
            <a:ext cx="2513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0800" y="1447920"/>
            <a:ext cx="2513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1040" y="3868920"/>
            <a:ext cx="2513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920" y="3868920"/>
            <a:ext cx="2513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0800" y="3868920"/>
            <a:ext cx="2513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1040" y="1447920"/>
            <a:ext cx="78073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447920"/>
            <a:ext cx="78073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447920"/>
            <a:ext cx="380988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447920"/>
            <a:ext cx="380988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231480"/>
            <a:ext cx="7807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447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447920"/>
            <a:ext cx="380988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1040" y="3868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447920"/>
            <a:ext cx="380988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447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868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447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447920"/>
            <a:ext cx="38098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3868920"/>
            <a:ext cx="780732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1168560"/>
            <a:ext cx="9144000" cy="104616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rot="10800000">
            <a:off x="0" y="2520"/>
            <a:ext cx="9144000" cy="118908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0" y="6027840"/>
            <a:ext cx="9144000" cy="830160"/>
          </a:xfrm>
          <a:prstGeom prst="roundRect">
            <a:avLst>
              <a:gd name="adj" fmla="val 190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3965400" y="6126120"/>
            <a:ext cx="5177160" cy="480960"/>
          </a:xfrm>
          <a:custGeom>
            <a:avLst/>
            <a:gdLst>
              <a:gd name="textAreaLeft" fmla="*/ 0 w 5177160"/>
              <a:gd name="textAreaRight" fmla="*/ 5177520 w 51771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4382" h="1335">
                <a:moveTo>
                  <a:pt x="1223" y="713"/>
                </a:moveTo>
                <a:cubicBezTo>
                  <a:pt x="0" y="648"/>
                  <a:pt x="2612" y="673"/>
                  <a:pt x="2025" y="535"/>
                </a:cubicBezTo>
                <a:cubicBezTo>
                  <a:pt x="1438" y="397"/>
                  <a:pt x="3677" y="431"/>
                  <a:pt x="3947" y="341"/>
                </a:cubicBezTo>
                <a:cubicBezTo>
                  <a:pt x="4066" y="302"/>
                  <a:pt x="3996" y="213"/>
                  <a:pt x="3839" y="174"/>
                </a:cubicBezTo>
                <a:cubicBezTo>
                  <a:pt x="3830" y="172"/>
                  <a:pt x="2498" y="98"/>
                  <a:pt x="2759" y="49"/>
                </a:cubicBezTo>
                <a:cubicBezTo>
                  <a:pt x="3020" y="0"/>
                  <a:pt x="6565" y="367"/>
                  <a:pt x="6554" y="434"/>
                </a:cubicBezTo>
                <a:cubicBezTo>
                  <a:pt x="6543" y="501"/>
                  <a:pt x="4796" y="573"/>
                  <a:pt x="4796" y="573"/>
                </a:cubicBezTo>
                <a:lnTo>
                  <a:pt x="5655" y="663"/>
                </a:lnTo>
                <a:lnTo>
                  <a:pt x="7025" y="680"/>
                </a:lnTo>
                <a:lnTo>
                  <a:pt x="9264" y="792"/>
                </a:lnTo>
                <a:cubicBezTo>
                  <a:pt x="9264" y="792"/>
                  <a:pt x="10256" y="626"/>
                  <a:pt x="10044" y="648"/>
                </a:cubicBezTo>
                <a:cubicBezTo>
                  <a:pt x="9833" y="670"/>
                  <a:pt x="11017" y="659"/>
                  <a:pt x="11119" y="627"/>
                </a:cubicBezTo>
                <a:cubicBezTo>
                  <a:pt x="11222" y="595"/>
                  <a:pt x="11424" y="637"/>
                  <a:pt x="11434" y="638"/>
                </a:cubicBezTo>
                <a:cubicBezTo>
                  <a:pt x="11806" y="670"/>
                  <a:pt x="12046" y="705"/>
                  <a:pt x="12314" y="715"/>
                </a:cubicBezTo>
                <a:cubicBezTo>
                  <a:pt x="12583" y="725"/>
                  <a:pt x="13177" y="680"/>
                  <a:pt x="13520" y="698"/>
                </a:cubicBezTo>
                <a:cubicBezTo>
                  <a:pt x="13863" y="716"/>
                  <a:pt x="14381" y="638"/>
                  <a:pt x="14381" y="638"/>
                </a:cubicBezTo>
                <a:lnTo>
                  <a:pt x="14381" y="765"/>
                </a:lnTo>
                <a:cubicBezTo>
                  <a:pt x="14381" y="765"/>
                  <a:pt x="11207" y="964"/>
                  <a:pt x="11221" y="964"/>
                </a:cubicBezTo>
                <a:cubicBezTo>
                  <a:pt x="11235" y="964"/>
                  <a:pt x="7757" y="969"/>
                  <a:pt x="7770" y="969"/>
                </a:cubicBezTo>
                <a:cubicBezTo>
                  <a:pt x="7783" y="969"/>
                  <a:pt x="5431" y="910"/>
                  <a:pt x="5431" y="910"/>
                </a:cubicBezTo>
                <a:cubicBezTo>
                  <a:pt x="5431" y="910"/>
                  <a:pt x="4149" y="883"/>
                  <a:pt x="4228" y="873"/>
                </a:cubicBezTo>
                <a:cubicBezTo>
                  <a:pt x="4307" y="863"/>
                  <a:pt x="2989" y="1334"/>
                  <a:pt x="2810" y="1301"/>
                </a:cubicBezTo>
                <a:cubicBezTo>
                  <a:pt x="2631" y="1269"/>
                  <a:pt x="1893" y="1076"/>
                  <a:pt x="1867" y="1087"/>
                </a:cubicBezTo>
                <a:cubicBezTo>
                  <a:pt x="1840" y="1098"/>
                  <a:pt x="3058" y="810"/>
                  <a:pt x="2629" y="787"/>
                </a:cubicBezTo>
                <a:lnTo>
                  <a:pt x="1223" y="7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5"/>
          <p:cNvSpPr/>
          <p:nvPr/>
        </p:nvSpPr>
        <p:spPr>
          <a:xfrm>
            <a:off x="120600" y="6018120"/>
            <a:ext cx="5227560" cy="346320"/>
          </a:xfrm>
          <a:custGeom>
            <a:avLst/>
            <a:gdLst>
              <a:gd name="textAreaLeft" fmla="*/ 0 w 5227560"/>
              <a:gd name="textAreaRight" fmla="*/ 5227920 w 522756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14520" h="962">
                <a:moveTo>
                  <a:pt x="0" y="961"/>
                </a:moveTo>
                <a:lnTo>
                  <a:pt x="5341" y="762"/>
                </a:lnTo>
                <a:lnTo>
                  <a:pt x="11582" y="649"/>
                </a:lnTo>
                <a:lnTo>
                  <a:pt x="14519" y="480"/>
                </a:lnTo>
                <a:lnTo>
                  <a:pt x="13192" y="282"/>
                </a:lnTo>
                <a:lnTo>
                  <a:pt x="9662" y="338"/>
                </a:lnTo>
                <a:lnTo>
                  <a:pt x="7741" y="0"/>
                </a:lnTo>
                <a:lnTo>
                  <a:pt x="5483" y="282"/>
                </a:lnTo>
                <a:lnTo>
                  <a:pt x="3224" y="395"/>
                </a:lnTo>
                <a:lnTo>
                  <a:pt x="1680" y="14"/>
                </a:lnTo>
                <a:lnTo>
                  <a:pt x="878" y="582"/>
                </a:lnTo>
                <a:lnTo>
                  <a:pt x="0" y="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1911240" y="6157800"/>
            <a:ext cx="2051280" cy="212760"/>
          </a:xfrm>
          <a:custGeom>
            <a:avLst/>
            <a:gdLst>
              <a:gd name="textAreaLeft" fmla="*/ 0 w 2051280"/>
              <a:gd name="textAreaRight" fmla="*/ 2051640 w 2051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5696" h="589">
                <a:moveTo>
                  <a:pt x="0" y="588"/>
                </a:moveTo>
                <a:lnTo>
                  <a:pt x="981" y="551"/>
                </a:lnTo>
                <a:lnTo>
                  <a:pt x="4186" y="494"/>
                </a:lnTo>
                <a:lnTo>
                  <a:pt x="5695" y="407"/>
                </a:lnTo>
                <a:lnTo>
                  <a:pt x="5014" y="320"/>
                </a:lnTo>
                <a:lnTo>
                  <a:pt x="3147" y="39"/>
                </a:lnTo>
                <a:lnTo>
                  <a:pt x="2298" y="516"/>
                </a:lnTo>
                <a:lnTo>
                  <a:pt x="1143" y="0"/>
                </a:lnTo>
                <a:lnTo>
                  <a:pt x="210" y="307"/>
                </a:lnTo>
                <a:lnTo>
                  <a:pt x="0" y="5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6059520"/>
            <a:ext cx="5346720" cy="650880"/>
          </a:xfrm>
          <a:custGeom>
            <a:avLst/>
            <a:gdLst>
              <a:gd name="textAreaLeft" fmla="*/ 0 w 5346720"/>
              <a:gd name="textAreaRight" fmla="*/ 5347080 w 534672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4854" h="1806">
                <a:moveTo>
                  <a:pt x="0" y="1313"/>
                </a:moveTo>
                <a:lnTo>
                  <a:pt x="9742" y="1438"/>
                </a:lnTo>
                <a:lnTo>
                  <a:pt x="13412" y="1664"/>
                </a:lnTo>
                <a:lnTo>
                  <a:pt x="14853" y="1805"/>
                </a:lnTo>
                <a:lnTo>
                  <a:pt x="13695" y="1381"/>
                </a:lnTo>
                <a:lnTo>
                  <a:pt x="11209" y="902"/>
                </a:lnTo>
                <a:lnTo>
                  <a:pt x="6692" y="676"/>
                </a:lnTo>
                <a:lnTo>
                  <a:pt x="4320" y="0"/>
                </a:lnTo>
                <a:lnTo>
                  <a:pt x="2259" y="704"/>
                </a:lnTo>
                <a:lnTo>
                  <a:pt x="0" y="1178"/>
                </a:lnTo>
                <a:lnTo>
                  <a:pt x="0" y="13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71040" y="1447920"/>
            <a:ext cx="78073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партамент образования, науки и молодежной политики Воронежской области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скинский промышленно-транспортный техникум  имени А.К.Лысенко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ГБПОУ ВО «ЛПТТ имени А.К. Лысенко»)                                                                                                 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ник отбора лучших практик системы среднего профессионального образования Воронежской обла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Методическая копилк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инация: «Социальная и профессиональная адаптация лиц с ограниченными возможностями здоровья»</a:t>
            </a: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реализации адаптированных образовательных программ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58560" y="4292280"/>
            <a:ext cx="7489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БПОУ ВО «ЛПТТ им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.К. Лысенк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онова Валентина Викто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582520" y="537372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20890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073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уальност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уальность данной адаптированной рабочей программы формирование единого образовательно – воспитательного пространства и реализации законных прав инвалидов и людей с ограниченными возможностями здоровья, акцентирование внимание на перспективах их дальнейшего развития, автономизации и социал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D:\Users\Пользователь\Pictures\cover-1200x800 (2).jpg"/>
          <p:cNvPicPr/>
          <p:nvPr/>
        </p:nvPicPr>
        <p:blipFill>
          <a:blip r:embed="rId1"/>
          <a:stretch/>
        </p:blipFill>
        <p:spPr>
          <a:xfrm>
            <a:off x="3059280" y="2708280"/>
            <a:ext cx="3997080" cy="266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:\Users\Пользователь\Pictures\slide-1.jpg"/>
          <p:cNvPicPr/>
          <p:nvPr/>
        </p:nvPicPr>
        <p:blipFill>
          <a:blip r:embed="rId2"/>
          <a:stretch/>
        </p:blipFill>
        <p:spPr>
          <a:xfrm>
            <a:off x="324000" y="3068640"/>
            <a:ext cx="3555720" cy="266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:\Users\Пользователь\Pictures\54d52b3a99d8f5485b58753462acd8d0.jpg"/>
          <p:cNvPicPr/>
          <p:nvPr/>
        </p:nvPicPr>
        <p:blipFill>
          <a:blip r:embed="rId3"/>
          <a:stretch/>
        </p:blipFill>
        <p:spPr>
          <a:xfrm>
            <a:off x="6084720" y="3716280"/>
            <a:ext cx="2905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лизация адаптированной образовательной программы среднего профессионального образования ориентирована на решение следующих целей и зада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1040" y="1447920"/>
            <a:ext cx="78073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в ГБПОУ ВО «ЛПТТ имени А.К. Лысенко» условий, необходимых для получения СПО инвалидами и лиц с ОВЗ, их социализации и адапт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уровня доступности СПО для инвалидов и лиц с ОВЗ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качества СПО инвалидов и лиц с ОВЗ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формирования индивидуальной образовательной траектории для обучающегося инвалида или обучающихся с ОВЗ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в образовате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и толерантной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окультурной сре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D:\Users\Пользователь\Pictures\img78.jpg"/>
          <p:cNvPicPr/>
          <p:nvPr/>
        </p:nvPicPr>
        <p:blipFill>
          <a:blip r:embed="rId1"/>
          <a:stretch/>
        </p:blipFill>
        <p:spPr>
          <a:xfrm>
            <a:off x="5003640" y="400536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ства и способы реализации практик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4920" y="691920"/>
            <a:ext cx="849780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84000"/>
          </a:bodyPr>
          <a:p>
            <a:pPr marL="288000" indent="-28800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зация адаптированной образовательной программы осуществляется с использованием различных форм обучения, в том числе  с использованием дистанционных технологий и электронного обуче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ок освоение адаптированной образовательной программы в соответствии с ФГОС при необходимости увеличивается – не более чем на 10 месяце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ка является обязательным разделом адаптированной образовательной программы. Она представляет собой вид учебных занятий, непосредственно ориентированных на профессионально-практическую  подготовку обучающихся, в том числе обеспечивающую подготовку и защиту выпускной квалификационной                                                   раб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адаптированной образовательной                                                                                             программы  реализуются все виды практи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усмотренные в соответствии с ФГО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специальности 09.02.03                                                                                                           Программирование в компьютерных                                                                       систем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D:\Users\Пользователь\Pictures\image-1.jpg"/>
          <p:cNvPicPr/>
          <p:nvPr/>
        </p:nvPicPr>
        <p:blipFill>
          <a:blip r:embed="rId1"/>
          <a:stretch/>
        </p:blipFill>
        <p:spPr>
          <a:xfrm>
            <a:off x="5508720" y="4149720"/>
            <a:ext cx="33843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231480"/>
            <a:ext cx="78073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ели результативности и данные о результатив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19664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ритерии эффективности обучения по адаптированной образовательной программе, которые необходимо четко отслеживать и учитывать. Среди них хотелось бы отметить                                                                                      - Успешность овладения образовательными программами студентами инвалидами и студентами с ОВЗ;                                                                             - Отсутствие пропусков занятий без уважительной причины;                                 - Положительная динамика психосоматического здоровья и снижение заболеваемости у студентов – инвалидов и студентов с ОВЗ;                            - Наличие друзей у студентов – инвалидов и студентов с ОВЗ среди обучающихся;                                                                                                         - Активность участия в системе дополнительного образования;                              - Участие родителей в сопровождении студентов –инвалидов и студентов с ОВЗ;                                                                                                                                       - Участие студентов – инвалидов и студентов с ОВЗ в коллективных видах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6320" y="259920"/>
            <a:ext cx="719604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ы подтверждающие эффективность реализации п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968720" cy="3600360"/>
          </a:xfrm>
          <a:prstGeom prst="rect">
            <a:avLst/>
          </a:prstGeom>
          <a:ln w="0">
            <a:noFill/>
          </a:ln>
        </p:spPr>
      </p:pic>
      <p:pic>
        <p:nvPicPr>
          <p:cNvPr id="63" name="Object 5" descr=""/>
          <p:cNvPicPr/>
          <p:nvPr/>
        </p:nvPicPr>
        <p:blipFill>
          <a:blip r:embed="rId2"/>
          <a:stretch/>
        </p:blipFill>
        <p:spPr>
          <a:xfrm>
            <a:off x="3492360" y="4076640"/>
            <a:ext cx="532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0"/>
            <a:ext cx="780732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внедрения прак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3640" y="620280"/>
            <a:ext cx="8569080" cy="597708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txBody>
          <a:bodyPr lIns="0" rIns="0" tIns="18360" bIns="0" anchor="t">
            <a:normAutofit fontScale="81000"/>
          </a:bodyPr>
          <a:p>
            <a:pPr marL="277560" indent="-27756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адаптированной образовательной программы подготовки специалистов среднего звена использовались такие виды реализуемых образовательных программ как:                                                                                                                                                     - рабочие программы учебных дисциплин общего гуманитарного и социально-экономического цикла;                                                                           -Рабочие программы учебных дисциплин математического и естественнонаучного цикла;                                                                                                 - Рабочие программы дисциплин адаптированного учебного цикла;                                   - Рабочие программы дисциплин и профессиональных модулей профессионального цикла;                                                                                                  - Программа учебной и производственных практик;                                                                - Программа государственной итоговой аттестации.                                                                         При их реализации в рамках адаптированной образовательной программы необходимо предусмотреть специальные требования к условиям их реализации:                                                                                                                     - оборудование учебного кабинета для студентов с различными видами ограничения здоровья:                                                                                                  - Информационное обеспечения, включающее представление учебных материалов в различных формах;                                                                                   -Формы и методы контроля и оценки результатов обучения должны быть адаптированы для обучающихся инвалидов и обучающихся с ОВ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</cp:lastModifiedBy>
  <dcterms:modified xsi:type="dcterms:W3CDTF">2020-11-06T06:49:27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