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32440" cy="9979200"/>
          </a:xfrm>
          <a:custGeom>
            <a:avLst/>
            <a:gdLst>
              <a:gd name="textAreaLeft" fmla="*/ 360 w 6832440"/>
              <a:gd name="textAreaRight" fmla="*/ 6832080 w 6832440"/>
              <a:gd name="textAreaTop" fmla="*/ 360 h 9979200"/>
              <a:gd name="textAreaBottom" fmla="*/ 9978840 h 9979200"/>
            </a:gdLst>
            <a:ahLst/>
            <a:rect l="textAreaLeft" t="textAreaTop" r="textAreaRight" b="textAreaBottom"/>
            <a:pathLst>
              <a:path w="21600" h="31548">
                <a:moveTo>
                  <a:pt x="5" y="0"/>
                </a:moveTo>
                <a:arcTo wR="5" hR="5" stAng="16200000" swAng="-5400000"/>
                <a:lnTo>
                  <a:pt x="0" y="31543"/>
                </a:lnTo>
                <a:arcTo wR="5" hR="5" stAng="10800000" swAng="-5400000"/>
                <a:lnTo>
                  <a:pt x="21595" y="3154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71800" y="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3871800" y="9478440"/>
            <a:ext cx="29592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28089-A647-4518-8E0C-2E3908AE0B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4A1F-2FE9-4E79-8D8D-A51058A9524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26792-2C7D-4C76-A599-9663B76326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EF2EE-7863-47A3-AD4B-460C2A9326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617A-36E8-4B6F-BDF8-CC94C7F7C30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0A215-D74B-4702-B017-A01A4E371F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951E-85E4-4F11-B20F-9D355811EC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A6313-065E-422A-AE66-AF00B254492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7060-F3B5-4513-8FBA-3A3F341FBE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ED08-D300-4A96-AD70-EC967B8800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F1B8-E09B-4EAB-A771-AB3F17B528A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5C8B6-C967-4EF7-8166-A0D76E7D41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DC35-0490-4876-9997-CDEB7852AF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24B0D-87AE-4943-BB24-3A3890D0AFE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99FB2-F690-43F5-851D-1F60DF45AC3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C0151-606B-4C95-BEA9-197BFC750B0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97DF2-9730-4BBE-88DD-E24EDC98FA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A44E5-141E-4DCB-A901-F296A35104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4EC71-DCC6-4E64-BBCA-984B98EA377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C3847-9A64-4D97-AB5C-F78F948DBF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FF311-573D-4D22-A2D6-9783C880586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5E113-A82B-457C-9923-6B989B1E96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79E4B-4869-48A1-8742-762FFF9847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71800" y="9478800"/>
            <a:ext cx="295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DD27-AACD-43AD-863B-4C071A95E8E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8C9B-3DB2-41BD-BCB1-27AA03D89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C594-1A24-4B05-B72D-28E8649D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D4C5-42A1-46F7-845C-2CFFBF399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C467-866F-48DB-AD4D-8F77A908F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BFD7-3EF0-4882-B3F4-455C28B81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32D7-046F-49F7-A670-348A8D537B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1D09-EE0F-43CF-B7D4-0E5E2E3873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0691-23AD-4FF8-A525-136FEA183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E440-5FF8-4FF1-8F07-6CE8E50FA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F75D-894E-48F4-B044-C8EAA46293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4DE0-5AB3-439D-A4DA-187BD749F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3D1E-95D9-4F2F-9846-277EC6750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4012-DA27-4A6D-90AA-9DFCE55F3F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8029-319C-4F38-829A-68C2091F59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E700-572E-4E4B-9930-5BD64C756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2195-CA73-480D-AEF8-5F4AD98A4C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088F-C1F1-4E2C-80E9-DDB0681CC9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EE4-75E1-4F07-B783-0B1771AFB1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8BD-0514-4334-9538-6C1482CBD2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849-912E-4035-9B91-427A780BC7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461-6C4B-4685-B546-B5C9121D24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385-6E43-4F1B-AFE6-B83CE19FA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3ACD-5E57-466E-8842-2255BE8006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5A1-18C3-4A4D-BBEE-BC51ABCCD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077-8B4E-4539-876F-CD7896E84F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665-4C65-4CC7-BCF0-4E424F290B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4E0-F8D3-4854-A0A8-BE7A389EF2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B06-14FD-42DF-AB77-4E316DEC15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24C-1B06-4A3A-98CA-53CC6DAD8C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B2E-5628-45EA-939A-A4B22E5734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E180-52C4-474A-A0A3-190388D94B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41F6-74D6-4FC9-AAC9-1CD723E18D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C5F8C-AEA1-41CA-A6C2-311829474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742A-B447-49B8-B19F-C09F33B8B6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D878-1D4E-4C72-84B3-95CBC6AA4F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103D2-1330-46EF-A355-2BE22B8A3F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929DD-EBE3-4BA7-9162-A4A58813C6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D60DF-FD1C-4558-8E77-320EE37F99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AEE3-70AE-48D2-946D-92DBFD9EB2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291F-8299-46AB-B953-B12731E580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4028-F543-4919-8F37-41AA7337A0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4DEB-7972-4D24-9E3C-0321746F0C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1EAE-FB76-4A9B-BD78-F5B79F57B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8D97-10BF-4221-AA7B-A0284886D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15E9-ACD7-4A0E-A196-8A22383C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C306-D2C8-45B3-AC80-AE73F4D35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8369-1921-41B2-AAE6-5EEE6EBD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3A0C-8F40-46BB-92FC-716D5DC21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E6BDE3-1F50-4DB2-80FD-84819EBA458F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E9276C-2E0C-46BF-95C2-3D0BB3D8BF7F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D808B9-CC2D-4800-87B6-1D9051D95E71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6274"/>
                </a:srgbClr>
              </a:gs>
              <a:gs pos="100000">
                <a:srgbClr val="00ebf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6274"/>
                </a:srgbClr>
              </a:gs>
              <a:gs pos="100000">
                <a:srgbClr val="009be5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0DEBBF-D54A-43E1-855D-C1085F8CE5A5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71280" y="0"/>
            <a:ext cx="8999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Государственное дошкольное образовательное учрежд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детский сад № 84 Красносельского района Санкт-Петербур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eeeee"/>
                </a:solidFill>
                <a:latin typeface="Times New Roman"/>
              </a:rPr>
              <a:t>Рекоменд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eeeee"/>
                </a:solidFill>
                <a:latin typeface="Times New Roman"/>
              </a:rPr>
              <a:t>родителям первокласс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eeeee"/>
                </a:solidFill>
                <a:latin typeface="Times New Roman"/>
              </a:rPr>
              <a:t>Автор-составитель: педагог-психолог Мархель О.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36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ы Шульт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85840" y="1871640"/>
            <a:ext cx="4587840" cy="384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003640" y="1924200"/>
            <a:ext cx="370872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82760" y="21600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-100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714680" y="1152360"/>
            <a:ext cx="55720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31640" y="2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абиринт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71880" y="1655640"/>
            <a:ext cx="3344760" cy="473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28760" y="1655640"/>
            <a:ext cx="2830320" cy="4130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6000840" y="1655640"/>
            <a:ext cx="3057480" cy="43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йди отлич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44360" y="2000160"/>
            <a:ext cx="5184720" cy="404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446800" y="1260360"/>
            <a:ext cx="3240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360" y="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Мыслительная готовнос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0" y="863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важный показатель — это развитие мыш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ность находить сходства и различия разных предметов при сравнении, умение правильно объединять предметы в групп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щим существенным признак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мышл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 -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енное мышление – является ведущим до 4-5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разное мышление – с 3,5- 4 лет, ведущее  до 6-6,5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огическое мышление – формируется в 5,5 – 6 л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ведущим с 7-8 лет и остается основной формой 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льшинства взрослых люд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олезно учить ребенка строи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ложные рассуждения, выв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ло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тому что … »;      «если то … 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этому … »;          «я думаю что …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266760" y="14436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слительные опер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457200" y="142884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 – очень сложный процесс, включающий несколько видов психической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г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82760" y="3603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шле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114300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звития логического мышления у ребенка формируются умения рассуждать, делать умозаключения в соответствии с законами логики, постро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ых связ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же развиваются такие качества как: любознательность, сообразительность, смекалка, наблюдательность, самостоятельность, память, вним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речь ребенка, так как ребенок высказывается посредством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6836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азвитие логического мышления</a:t>
            </a: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0" y="79200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упражнения на установление причинно-следственных связей в природных и социальных явлен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хождение геометрические фигуры, из которых составлен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о, танграм, волшебный к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головолом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счетными палоч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шки, шахм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423720" y="3636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431640" y="787320"/>
            <a:ext cx="82296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з у светофо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четырех кот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ог у вороб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ап у двух медв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комнате угл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й у двух мыш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ап в двух 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двух кор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а стая голубей: 2 впереди, 1 сзади, 2 сзади, 1 впереди. Сколько было гус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3 дня подряд, не пользуясь названиями дней недели, числами. (Сегодня, завтра, послезавтра или вчера, сегодня, завтр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04840" y="281160"/>
            <a:ext cx="75819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457200" y="82224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8 названий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ёнок называет по 8 предметов: «Овощи», «Фрукты», «Грибы» , «Птицы»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Закончи предлож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у пишет... (компози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пишет... (поэ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е стирает... (прач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е вершины покоряют... (альпинис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 варит... (пова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Угадай по описанию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писать при помощи слов предмет, находящий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комнате, обращая внимание на его отличитель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знаки, который нужно угад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0" y="692280"/>
            <a:ext cx="889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то должен знать ребенок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179280" y="857160"/>
            <a:ext cx="8964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свое имя и фамилию, адрес, имена членов семь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времена года, названия месяцев, дней неде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различать цвет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сравнивать группы предметов - б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или ра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ъединять предметы в группы: мебель, транспорт, одежда, обувь, растения, животные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.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правильно перенести в тетрадь простейший графический образ - узор, фигуру - зрительно воспринимаемый на расстоянии (например, из кни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008000" y="276120"/>
            <a:ext cx="755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74840" y="8161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ем похожи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равнения взрослый предлагает пары 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ищет сходство между предме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- мыш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– велосип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- кук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к - ол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ем отличаются?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равнения смысла слов взрослый предлагает пары с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о –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– но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- соба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357200" y="190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600120"/>
            <a:ext cx="822960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» , «Ребусы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ется – с кошку, развернется – с дорож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РЕВ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шнее слов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, дряхлый, маленький, ветх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ый, злой, смелый, отваж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, слива, огурец, гр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, творог, сметана, хле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 «Как  можно использоват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торая жизнь старым веща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ребенку игру: найти наиболее большее число вариантов использования какого-либо предм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вы называете слово «коробочка», а ребенок придумывает как можно использовать этот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79200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ваем логик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74840" y="801720"/>
            <a:ext cx="822960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отивоположности» 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 – грус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– медл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– безобра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й – пол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й – толс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 – глуп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й – лег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й – мяг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Шифров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дается листочек с алфавитом и под каждой буквой стоит циф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помощью цифр зашифровывает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698400" y="57636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ажно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468360" y="1339920"/>
            <a:ext cx="8229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школе Вы должны оставаться для Вашего ребёнк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любящим и понимающим родител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 брать на себя роль учителя!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ебёнок охотно делает только то, что у него получается, поэтому он не может быть ленив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достижения ребёнк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е сравни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 со своими, ни с достижениями братьев и систер, ни других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озвучивайте это при ребёнке, даже если о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пользу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любовь и терпение будут служить гарантом уверенного продвижения в учёбе для Вашего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339840" y="71280"/>
            <a:ext cx="864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Что должен знать 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79280" y="792000"/>
            <a:ext cx="896472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находить в группе предметов лишни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из группы «Одежда» убрать цветок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высказывать свое мнение, построив законченное предлож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ть элементарные представления об окружающем мире: о профессиях, о предметах живой и неживой природы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 правилах поведения в общественных мест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ть пространственные представления: право-лево, вверх-вниз, под, над, из-за, из-под чего-либ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ть культурно общаться с другими деть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шать старших и выполнять их распоряж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6036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Критерии готовности ребёнка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к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04720" y="1379520"/>
            <a:ext cx="82296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изическая гото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щее физическое развитие, общее состояние здоровья, моторная  координ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нтеллектуальная гото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аличие у ребенка специальных умений и навыков, высокий уровень развития восприятия речи, умение выделять учебную задачу, превращать ее в самостоятельную цель деятельн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остная и социально - психологическая гото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сформированность новой социальной позиции «внутренняя позиция школьника», произвольного поведения, форм взаимодействия, сотрудничества с другими людьми, умения работать в коллектив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Эмоционально - волевая гото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ставить цель, принимать решение, намечать план действия, прилагать усилия к его реализации, преодолевать препятств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</a:rPr>
              <a:t>Развитие ре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чь является основой, на которой строится учебный процес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важно владение монологической речью. Для ребенка это переска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чтения задайте ребенку несколько вопросов по содержанию, попросите пересказ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правильно  употреблять в речи предлоги и понятия: выше, ниже, на, над, под, снизу, сверху, между, перед., за, спереди от…, сзади от…, ближе, дальше, влево, вправо, левее, правее, ближе всего к…, дальше всего    от…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ловарный запас, умение восстанавливать предложения, называть антонимы, составлять предложения из предложенных слов, описывать увиденное на карти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57200" y="639720"/>
            <a:ext cx="82296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опробуй угадать конец фразы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ели ка… . На столе лежат бумага и кра… . В лесу растут гри…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втра будет сильный мороз, то…. В комнате погас свет, потому, ч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сок мокрый, 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моет руки, потому ч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еходить улицу на красный свет, то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, потому ч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бавь сло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пространение предложений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ейчас я скажу предложение. Например: 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 шьет плать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Как ты думаешь, что можно сказать о платье, какое оно (шелковое, летнее, легкое, оранжевое)? Если мы добавим эти слова, как изменится фраза?  </a:t>
            </a:r>
            <a:r>
              <a:rPr b="0" i="1" lang="ru-RU" sz="1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ставь фраз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ние предложений из с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думай предложения, используя следующие сло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ый щенок ; полная корз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Слова в предложении перепутались. Попробуй расставить их на свои места. Что получится?»:  Дымок, идет, трубы, из.    Орехи, в, белка, дупло, пряч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павшие сло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прочитаю рассказ. Но некоторые слова в нем потерялись. Догадайся каки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 царит в дремучем ___. Черные ___ затянули солнце. Вот-вот пойдет ___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йди ошибк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Послушай предложения и скажи, все ли в них верно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в саду расцвели яблони.                                  В ответ я киваю ему ру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сюда, чтобы помочь людям.                         После грибов будут дожд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31640" y="360360"/>
            <a:ext cx="822960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азвитие произвольной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ем слова (сад – земля - расте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слов (используя символы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тирлиц», «Что изменилось?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становка объектов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предметов на картинк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де изображена ваза, какого цвета кошка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482760" y="8100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тие вниман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31640" y="13683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черкнуть вертикальной чертой буквы А, М, К, 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ЕАФЮСТЖМПСВЮКЧФФЛОЖБЮ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ДЛИТГЕДИШАФЯЛЗИХОЮНЗК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ЮФГРВКДУЕКБЖЯАПРСОЮТБ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СНБШРМФИТЯВУЛКИБЮШЛЧБДН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ОНБИЖЮАЗБОВЕХЧЮИЕЛФВАМ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ШДЕКТБШЛМХПЗИАРВШУДОЛБ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МГРЛЯЗТКЕЖПСАКТДНВТПР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ь на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попросила сына купить в магазине мясо, мыло, спички. Сын купил по просьбе мамы масло, сало, спички, мясо. Что же он забыл куп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82760" y="35712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има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1233360"/>
            <a:ext cx="9144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ти среди букв «спрятавшиеся» сл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РОГАЗЕТААТМНИВСЛШКТДОМРВМЧЕВНГМШ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ОНСРВИКЕЫМОЧКИВЛГМЛГСТИМСНПАКЕТ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делить «склеенные» между собой сл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КОРЗИНАБОТИНКИБИНОКЛЬЕДАОБЕЗЬЯНАКНИГАРУКАЕЛЬЧАСЫТРАМВА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ЛУЧИГРАОКНОМАШИНАУЧЕНИКЛИНЕЙКАОДЕЯЛОСАМОЛЁТПАР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2:31:12Z</dcterms:created>
  <dc:creator>12341</dc:creator>
  <dc:description/>
  <dc:language>en-US</dc:language>
  <cp:lastModifiedBy>Olga</cp:lastModifiedBy>
  <cp:lastPrinted>2011-08-26T11:18:38Z</cp:lastPrinted>
  <dcterms:modified xsi:type="dcterms:W3CDTF">2021-05-11T12:49:57Z</dcterms:modified>
  <cp:revision>76</cp:revision>
  <dc:subject/>
  <dc:title>Ваш ребёнок идет в школу</dc:title>
</cp:coreProperties>
</file>