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32440" cy="9979200"/>
          </a:xfrm>
          <a:custGeom>
            <a:avLst/>
            <a:gdLst>
              <a:gd name="textAreaLeft" fmla="*/ 360 w 6832440"/>
              <a:gd name="textAreaRight" fmla="*/ 6832080 w 6832440"/>
              <a:gd name="textAreaTop" fmla="*/ 360 h 9979200"/>
              <a:gd name="textAreaBottom" fmla="*/ 9978840 h 9979200"/>
            </a:gdLst>
            <a:ahLst/>
            <a:rect l="textAreaLeft" t="textAreaTop" r="textAreaRight" b="textAreaBottom"/>
            <a:pathLst>
              <a:path w="21600" h="31548">
                <a:moveTo>
                  <a:pt x="5" y="0"/>
                </a:moveTo>
                <a:arcTo wR="5" hR="5" stAng="16200000" swAng="-5400000"/>
                <a:lnTo>
                  <a:pt x="0" y="31543"/>
                </a:lnTo>
                <a:arcTo wR="5" hR="5" stAng="10800000" swAng="-5400000"/>
                <a:lnTo>
                  <a:pt x="21595" y="3154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0" y="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3871800" y="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5"/>
          </p:nvPr>
        </p:nvSpPr>
        <p:spPr>
          <a:xfrm>
            <a:off x="3871800" y="9478440"/>
            <a:ext cx="29592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37622-50C3-46C9-B727-365525CC103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3E5AC-BB11-489A-BD8B-0C9B034A5E2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7727C-4D69-4313-A21E-D6FB6CDA10C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5F6D3-E422-4F67-B5BC-FAE21D9F740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730C8-A438-4440-8360-CE13781986D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BF292-74B0-4E7F-8B08-5B8A6707E98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66227-78F5-448C-ADF6-6A74C17EF3F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AD952-FB7D-4EFA-866D-3C15C0CD090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8827A-418B-4DF1-9FEF-3BA0AA4D370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898F6-821E-464E-AF9D-BFE8FCFA562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B835A-7073-440B-93B4-B03AB229BB8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90566-23CB-4A35-9F1D-93A8C377C41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5DBCA-2D3D-49A8-B4F7-C87C84214D1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06085-6B44-42FF-BBAC-97FF90389E3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3FADB-E051-47F1-B26A-E8ABD594870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DEEBB-A7DE-4EE1-A27C-556455E04EA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2E93B-A6B6-4A5D-A9D7-66635E39E41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FF85B-B7DC-465B-9D4A-05E42C2DBEE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58E21-6A53-4C87-B3FD-2B15A9F8316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D6DA7-5926-4FFF-82EC-22B0F4CF643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503B9-B57A-41B4-B078-EA0D116CF96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F18BC-0E20-4562-8B3F-10CE0EB8E2D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71269-EEA3-4A58-B6E9-45970F4A0C2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880C1-F416-4509-96B2-405AA3D342A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88C8-741F-405D-A4A5-02699DC18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451C-30FB-4EFF-837B-57CD53D9D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DED17-5621-4C52-B499-ABA8B5C14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C77D-3C28-4368-8ED0-D29127471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25A8-4488-4703-B3D8-1F1DDD8AF7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3EB5B-0A9D-40EE-B9EA-28ECBE52B5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85F39-378A-4916-BABF-8DA731AC1B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BC889-44EB-43F8-A8A7-3EBB4C8AD9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412BB-5855-4D81-9758-0245C3175A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3192-841C-4310-8D22-E1BE5299E1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61E5-72C7-4A85-BCC5-D72BA489F9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38CB-4B12-4172-B1A4-69B21E7D4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2637-8720-4B7C-9C7A-8E871254B0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EDE15-C591-4566-A66B-54A3609114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D182A-9B47-420E-B33B-7DDE82C8F6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BEF33-9DFF-4D1D-AE50-9D500D9F5A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E9966-8C38-408A-979A-52B66E2C2B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950-5C25-4624-9C47-3C4F913543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65F-13AF-40F2-9521-E9E7FAC1CC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E86-926B-4882-ADA4-DB7DBCB664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BE1-98A2-4C73-8F2C-CF705796C0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01D-B966-423C-882C-A55AF2F339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9DEB-0042-40A6-9251-E4E54B69C3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D3FA-F671-4062-B2AB-E6E770BDCD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7FB-17DF-4017-8710-FB5D9DE2F3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1FD-E5B5-4C3E-B4D4-D104FA2328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0FF-7100-44DA-B574-2DB30C38BE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150-A7F0-4524-9ACE-AD2BCD2601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799-2F6D-4A1E-AE77-544427F356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E59-A771-4FB8-AA2F-5CD3C0272F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214CF-E09D-4E0B-9619-2D6B34A011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71C12-9EE7-485F-98E5-3CEE52F146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0894E-0F7C-4F74-8297-8F31D3E5E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029F-26CB-42B2-8D7B-F11E3A5D23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094BB-EE0A-4BD4-9EF4-9B601FF504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194AC-C62D-4840-94E1-E9ADE7F0E9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540A0-3B55-48EE-B68F-83A1EE80D4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3092E-2D9B-4EDD-ACAE-91F4EB35CD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85436-BF4D-4168-969E-042CE6CF343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50100-F985-4747-A539-14162AB718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D9293-78BF-45B2-A16D-37D50ADAEC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CE416-F09B-4654-BBEC-DD4AD713D6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AA59A-C800-4223-9D99-80921EC08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34AE-5D0E-4C8D-9FF2-33BE575E7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BE27-9439-404C-B3E0-73843A4AF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802D-2DEE-4DD1-ABD9-A4B32F2DA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1E94-7D9B-4062-B3F2-134C1769D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F417-8E23-45DF-95C4-AB2E20918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6274"/>
                </a:srgbClr>
              </a:gs>
              <a:gs pos="100000">
                <a:srgbClr val="00ebf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6274"/>
                </a:srgbClr>
              </a:gs>
              <a:gs pos="100000">
                <a:srgbClr val="009be5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B5565D-5817-494C-8313-C18971343D68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6274"/>
                </a:srgbClr>
              </a:gs>
              <a:gs pos="100000">
                <a:srgbClr val="00ebf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6274"/>
                </a:srgbClr>
              </a:gs>
              <a:gs pos="100000">
                <a:srgbClr val="009be5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3779CC-09DF-412D-AE39-F6D6441F3127}" type="slidenum">
              <a:rPr b="0" lang="ru-RU" sz="1200" spc="-1" strike="noStrike">
                <a:solidFill>
                  <a:srgbClr val="d1eaee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6274"/>
                </a:srgbClr>
              </a:gs>
              <a:gs pos="100000">
                <a:srgbClr val="00ebf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6274"/>
                </a:srgbClr>
              </a:gs>
              <a:gs pos="100000">
                <a:srgbClr val="009be5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8F3F3D-A01D-40F2-A9A0-86C08F7E040A}" type="slidenum">
              <a:rPr b="0" lang="ru-RU" sz="1200" spc="-1" strike="noStrike">
                <a:solidFill>
                  <a:srgbClr val="d1eaee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6274"/>
                </a:srgbClr>
              </a:gs>
              <a:gs pos="100000">
                <a:srgbClr val="00ebf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6274"/>
                </a:srgbClr>
              </a:gs>
              <a:gs pos="100000">
                <a:srgbClr val="009be5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D11956-D89D-405C-8139-4A0A596067CB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71280" y="0"/>
            <a:ext cx="8999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eeeeee"/>
                </a:solidFill>
                <a:latin typeface="Times New Roman"/>
              </a:rPr>
              <a:t>Государственное дошкольное образовательное учреждени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eeeeee"/>
                </a:solidFill>
                <a:latin typeface="Times New Roman"/>
              </a:rPr>
              <a:t>детский сад № 84 Красносельского района Санкт-Петербург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eeeee"/>
                </a:solidFill>
                <a:latin typeface="Times New Roman"/>
              </a:rPr>
              <a:t>Рекоменд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eeeee"/>
                </a:solidFill>
                <a:latin typeface="Times New Roman"/>
              </a:rPr>
              <a:t>родителям первокласс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eeeeee"/>
                </a:solidFill>
                <a:latin typeface="Times New Roman"/>
              </a:rPr>
              <a:t>Автор-составитель: педагог-психолог Мархель О.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457200" y="36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ы Шульт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85840" y="1871640"/>
            <a:ext cx="4587840" cy="3843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5003640" y="1924200"/>
            <a:ext cx="370872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82760" y="21600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                 </a:t>
            </a:r>
            <a:r>
              <a:rPr b="1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1 -100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714680" y="1152360"/>
            <a:ext cx="55720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31640" y="22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</a:t>
            </a: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абиринт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071880" y="1655640"/>
            <a:ext cx="3344760" cy="4734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428760" y="1655640"/>
            <a:ext cx="2830320" cy="4130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3"/>
          <a:stretch/>
        </p:blipFill>
        <p:spPr>
          <a:xfrm>
            <a:off x="6000840" y="1655640"/>
            <a:ext cx="3057480" cy="43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айди отличи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44360" y="2000160"/>
            <a:ext cx="5184720" cy="4048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5446800" y="1260360"/>
            <a:ext cx="324000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468360" y="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Мыслительная готовност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0" y="863640"/>
            <a:ext cx="9144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важный показатель — это развитие мыш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особность находить сходства и различия разных предметов при сравнении, умение правильно объединять предметы в групп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щим существенным признака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мышл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 -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енное мышление – является ведущим до 4-5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разное мышление – с 3,5- 4 лет, ведущее  до 6-6,5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о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огическое мышление – формируется в 5,5 – 6 л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ится ведущим с 7-8 лет и остается основной формой мыш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ольшинства взрослых люд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полезно учить ребенка строи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ложные рассуждения, вывод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слов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тому что … »;      «если то … 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этому … »;          «я думаю что …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266760" y="144360"/>
            <a:ext cx="822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слительные опер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457200" y="142884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ление – очень сложный процесс, включающий несколько видов психической деятельно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траг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из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482760" y="36036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</a:t>
            </a: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шлен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57200" y="114300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развития логического мышления у ребенка формируются умения рассуждать, делать умозаключения в соответствии с законами логики, постро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но-следственных связ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же развиваются такие качества как: любознательность, сообразительность, смекалка, наблюдательность, самостоятельность, память, вним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ся речь ребенка, так как ребенок высказывается посредством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46836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Развитие логического мышления</a:t>
            </a: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0" y="792000"/>
            <a:ext cx="91440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и упражнения на установление причинно-следственных связей в природных и социальных явления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хождение геометрические фигуры, из которых составлен предм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то, танграм, волшебный кру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-головолом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счетными палоч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шки, шахм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423720" y="36360"/>
            <a:ext cx="8229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ем логик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431640" y="787320"/>
            <a:ext cx="822960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глаз у светофор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хвостов у четырех кот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ног у вороб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лап у двух медвежа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комнате угл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ушей у двух мыш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лап в двух ежа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хвостов у двух кор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ела стая голубей: 2 впереди, 1 сзади, 2 сзади, 1 впереди. Сколько было гус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3 дня подряд, не пользуясь названиями дней недели, числами. (Сегодня, завтра, послезавтра или вчера, сегодня, завтр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1104840" y="281160"/>
            <a:ext cx="75819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ем логик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457200" y="822240"/>
            <a:ext cx="8229600" cy="58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8 названий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ёнок называет по 8 предметов: «Овощи», «Фрукты», «Грибы» , «Птицы»и т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Закончи предложен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у пишет... (композито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и пишет... (поэ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ье стирает... (прач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ные вершины покоряют... (альпинист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д варит... (пова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Угадай по описанию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описать при помощи слов предмет, находящий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комнате, обращая внимание на его отличительные сво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изнаки, который нужно угад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0" y="692280"/>
            <a:ext cx="8893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Что должен знать ребенок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179280" y="857160"/>
            <a:ext cx="8964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ть свое имя и фамилию, адрес, имена членов семь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ть времена года, названия месяцев, дней недел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различать цвет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увеличивать или уменьшать группу предметов на заданное количество (решение задач с группами предметов),уравнивать множество предм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сравнивать группы предметов - больш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или рав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объединять предметы в группы: мебель, транспорт, одежда, обувь, растения, животные 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. 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правильно перенести в тетрадь простейший графический образ - узор, фигуру - зрительно воспринимаемый на расстоянии (например, из кни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1008000" y="276120"/>
            <a:ext cx="755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ем логик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74840" y="8161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Чем похожи?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равнения взрослый предлагает пары с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ищет сходство между предмет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 - мыш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 – велосипе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очка - куку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к - ол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Чем отличаются?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равнения смысла слов взрослый предлагает пары с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еро – м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– ноч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 - соба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1357200" y="1908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ем логик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457200" y="600120"/>
            <a:ext cx="8229600" cy="61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» , «Ребусы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нется – с кошку, развернется – с дорож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РЕВ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ишнее слов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ый, дряхлый, маленький, ветх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брый, злой, смелый, отваж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о, слива, огурец, груш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ко, творог, сметана, хле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 «Как  можно использовать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торая жизнь старым веща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ребенку игру: найти наиболее большее число вариантов использования какого-либо предм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вы называете слово «коробочка», а ребенок придумывает как можно использовать этот предм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79200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звиваем логик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474840" y="801720"/>
            <a:ext cx="822960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ротивоположности» 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ый – груст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ый – медле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ый – безобраз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ой – пол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й – толс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ый – глуп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ый – лег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ый – мяг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Шифровк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дается листочек с алфавитом и под каждой буквой стоит циф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с помощью цифр зашифровывает с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698400" y="576360"/>
            <a:ext cx="8229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ажно!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468360" y="1339920"/>
            <a:ext cx="82296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готовке к школе Вы должны оставаться для Вашего ребёнка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любящим и понимающим родителе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е брать на себя роль учителя!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Ребёнок охотно делает только то, что у него получается, поэтому он не может быть ленив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достижения ребёнка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не сравнива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 со своими, ни с достижениями братьев и систер, ни других 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 озвучивайте это при ребёнке, даже если о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го пользу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а любовь и терпение будут служить гарантом уверенного продвижения в учёбе для Вашего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339840" y="71280"/>
            <a:ext cx="8643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Что должен знать ребено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79280" y="792000"/>
            <a:ext cx="8964720" cy="56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ть находить в группе предметов лишни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из группы «Одежда» убрать цветок)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ть высказывать свое мнение, построив законченное предложени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меть элементарные представления об окружающем мире: о профессиях, о предметах живой и неживой природы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 правилах поведения в общественных места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меть пространственные представления: право-лево, вверх-вниз, под, над, из-за, из-под чего-либо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ть культурно общаться с другими детьм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ушать старших и выполнять их распоряж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360360" y="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Критерии готовности ребёнка</a:t>
            </a:r>
            <a:br>
              <a:rPr sz="3200"/>
            </a:b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 к шко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504720" y="1379520"/>
            <a:ext cx="82296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Физическая гото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общее физическое развитие, общее состояние здоровья, моторная  координ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Интеллектуальная готов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наличие у ребенка специальных умений и навыков, высокий уровень развития восприятия речи, умение выделять учебную задачу, превращать ее в самостоятельную цель деятельност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Личностная и социально - психологическая готов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 сформированность новой социальной позиции «внутренняя позиция школьника», произвольного поведения, форм взаимодействия, сотрудничества с другими людьми, умения работать в коллективе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Эмоционально - волевая готов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умение ставить цель, принимать решение, намечать план действия, прилагать усилия к его реализации, преодолевать препятстви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</a:rPr>
              <a:t>Развитие ре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чь является основой, на которой строится учебный процес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 важно владение монологической речью. Для ребенка это пересказ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чтения задайте ребенку несколько вопросов по содержанию, попросите пересказ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о правильно  употреблять в речи предлоги и понятия: выше, ниже, на, над, под, снизу, сверху, между, перед., за, спереди от…, сзади от…, ближе, дальше, влево, вправо, левее, правее, ближе всего к…, дальше всего    от…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ловарный запас, умение восстанавливать предложения, называть антонимы, составлять предложения из предложенных слов, описывать увиденное на картин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1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звитие речи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457200" y="639720"/>
            <a:ext cx="822960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опробуй угадать конец фразы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ели ка… . На столе лежат бумага и кра… . В лесу растут гри…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втра будет сильный мороз, то…. В комнате погас свет, потому, что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сок мокрый, то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 моет руки, потому что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реходить улицу на красный свет, то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ус остановился, потому что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обавь слов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пространение предложений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ейчас я скажу предложение. Например: «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 шьет плать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Как ты думаешь, что можно сказать о платье, какое оно (шелковое, летнее, легкое, оранжевое)? Если мы добавим эти слова, как изменится фраза?  </a:t>
            </a:r>
            <a:r>
              <a:rPr b="0" i="1" lang="ru-RU" sz="16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ставь фразу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разование предложений из сло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думай предложения, используя следующие слов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авный щенок ; полная корз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Слова в предложении перепутались. Попробуй расставить их на свои места. Что получится?»:  Дымок, идет, трубы, из.    Орехи, в, белка, дупло, пряч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опавшие слов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прочитаю рассказ. Но некоторые слова в нем потерялись. Догадайся какие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шина царит в дремучем ___. Черные ___ затянули солнце. Вот-вот пойдет ___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айди ошибку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Послушай предложения и скажи, все ли в них верно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в саду расцвели яблони.                                  В ответ я киваю ему рук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лет сюда, чтобы помочь людям.                         После грибов будут дожд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31640" y="360360"/>
            <a:ext cx="8229600" cy="55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Развитие произвольной памя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особность к опосредованному запоминанию: связывать запоминаемый материал с конкретным символом /слово - картинка либо слово - ситуация/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2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инаем слова (сад – земля - растения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2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и слов (используя символы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2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тирлиц», «Что изменилось?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ерестановка объектов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2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ие предметов на картинк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де изображена ваза, какого цвета кошка?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482760" y="8100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звитие внимани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431640" y="136836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черкнуть вертикальной чертой буквы А, М, К, 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ЕАФЮСТЖМПСВЮКЧФФЛОЖБЮ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ФДЛИТГЕДИШАФЯЛЗИХОЮНЗК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ЮФГРВКДУЕКБЖЯАПРСОЮТБ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СНБШРМФИТЯВУЛКИБЮШЛЧБДН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ГОНБИЖЮАЗБОВЕХЧЮИЕЛФВАМ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ШДЕКТБШЛМХПЗИАРВШУДОЛБ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МГРЛЯЗТКЕЖПСАКТДНВТПР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ь на вопро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попросила сына купить в магазине мясо, мыло, спички. Сын купил по просьбе мамы масло, сало, спички, мясо. Что же он забыл куп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482760" y="357120"/>
            <a:ext cx="82296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ниман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0" y="1233360"/>
            <a:ext cx="91440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ти среди букв «спрятавшиеся» сло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РОГАЗЕТААТМНИВСЛШКТДОМРВМЧЕВНГМШ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ОНСРВИКЕЫМОЧКИВЛГМЛГСТИМСНПАКЕТ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делить «склеенные» между собой сло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КОРЗИНАБОТИНКИБИНОКЛЬЕДАОБЕЗЬЯНАКНИГАРУКАЕЛЬЧАСЫТРАМВА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АРЛУЧИГРАОКНОМАШИНАУЧЕНИКЛИНЕЙКАОДЕЯЛОСАМОЛЁТПАР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2:31:12Z</dcterms:created>
  <dc:creator>12341</dc:creator>
  <dc:description/>
  <dc:language>en-US</dc:language>
  <cp:lastModifiedBy>Olga</cp:lastModifiedBy>
  <cp:lastPrinted>2011-08-26T11:18:38Z</cp:lastPrinted>
  <dcterms:modified xsi:type="dcterms:W3CDTF">2021-05-11T12:49:57Z</dcterms:modified>
  <cp:revision>76</cp:revision>
  <dc:subject/>
  <dc:title>Ваш ребёнок идет в школу</dc:title>
</cp:coreProperties>
</file>