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9AA-A652-4804-B942-34D99A78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A1A-BB0B-46A0-8422-9337F2D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602-0125-4E1D-A818-3FF50A3C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1EE-347E-477B-8DED-7F38156B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038-8A6B-4961-BEBF-AF4F7846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1FA-85A8-43EB-9B71-2571CE2B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A5A-B9F9-4501-BD92-E922837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491-B5F1-45C4-A045-7D39DFA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1F6-3C11-4CAF-A323-DD834D05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489-A819-43F8-95A5-41B53C0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1D8-7F20-434E-9E06-837D1CA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395-D56E-4675-810A-C912576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C9C-881F-4F5A-8B74-A205C271B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photo.mipt.ru/authors/AndrewGT/birds_remake.html?start=0&amp;img=539264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hyperlink" Target="259,4,&#1055;&#1056;&#1054;&#1042;&#1045;&#1056;&#1068;&#1058;&#1045; &#1057;&#1045;&#1041;&#1071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100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русского языка в 4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997000"/>
            <a:ext cx="77151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одительный паде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M:\птицы\поползень обыкновенный.jpg"/>
          <p:cNvPicPr/>
          <p:nvPr/>
        </p:nvPicPr>
        <p:blipFill>
          <a:blip r:embed="rId2"/>
          <a:srcRect l="6066" t="0" r="0" b="0"/>
          <a:stretch/>
        </p:blipFill>
        <p:spPr>
          <a:xfrm>
            <a:off x="6807240" y="142920"/>
            <a:ext cx="2122560" cy="18572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Picture 4" descr="M:\птицы\437[1].jpg"/>
          <p:cNvPicPr/>
          <p:nvPr/>
        </p:nvPicPr>
        <p:blipFill>
          <a:blip r:embed="rId3"/>
          <a:stretch/>
        </p:blipFill>
        <p:spPr>
          <a:xfrm>
            <a:off x="214200" y="142920"/>
            <a:ext cx="2928960" cy="19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2" descr="Дятел пёстрый малый (Dendrocopos minor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72200" y="2286000"/>
            <a:ext cx="1859040" cy="25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ГОША\Рабочий стол\is[7].jpg"/>
          <p:cNvPicPr/>
          <p:nvPr/>
        </p:nvPicPr>
        <p:blipFill>
          <a:blip r:embed="rId6"/>
          <a:stretch/>
        </p:blipFill>
        <p:spPr>
          <a:xfrm>
            <a:off x="142920" y="4786200"/>
            <a:ext cx="1857240" cy="18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Содержимое 3" descr=""/>
          <p:cNvPicPr/>
          <p:nvPr/>
        </p:nvPicPr>
        <p:blipFill>
          <a:blip r:embed="rId7"/>
          <a:stretch/>
        </p:blipFill>
        <p:spPr>
          <a:xfrm>
            <a:off x="1779480" y="1828800"/>
            <a:ext cx="4938840" cy="360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M:\птицы\099-1-1[1].jpg"/>
          <p:cNvPicPr/>
          <p:nvPr/>
        </p:nvPicPr>
        <p:blipFill>
          <a:blip r:embed="rId8"/>
          <a:stretch/>
        </p:blipFill>
        <p:spPr>
          <a:xfrm>
            <a:off x="5057640" y="4929120"/>
            <a:ext cx="2443320" cy="17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9" name="Облако 8"/>
          <p:cNvSpPr/>
          <p:nvPr/>
        </p:nvSpPr>
        <p:spPr>
          <a:xfrm>
            <a:off x="3357720" y="214200"/>
            <a:ext cx="3214440" cy="15004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99920" y="356760"/>
            <a:ext cx="26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  <a:hlinkClick r:id="rId9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 6"/>
          <p:cNvSpPr/>
          <p:nvPr/>
        </p:nvSpPr>
        <p:spPr>
          <a:xfrm>
            <a:off x="5214960" y="1428840"/>
            <a:ext cx="714240" cy="7858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7120" y="1428840"/>
          <a:ext cx="8572680" cy="5214960"/>
        </p:xfrm>
        <a:graphic>
          <a:graphicData uri="http://schemas.openxmlformats.org/drawingml/2006/table">
            <a:tbl>
              <a:tblPr/>
              <a:tblGrid>
                <a:gridCol w="606600"/>
                <a:gridCol w="608040"/>
                <a:gridCol w="606240"/>
                <a:gridCol w="684360"/>
                <a:gridCol w="606240"/>
                <a:gridCol w="606600"/>
                <a:gridCol w="606240"/>
                <a:gridCol w="608040"/>
                <a:gridCol w="606600"/>
                <a:gridCol w="606240"/>
                <a:gridCol w="606600"/>
                <a:gridCol w="608040"/>
                <a:gridCol w="606240"/>
                <a:gridCol w="606600"/>
              </a:tblGrid>
              <a:tr h="143460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28080">
                      <a:solidFill>
                        <a:srgbClr val="00206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 gridSpan="8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28080">
                      <a:solidFill>
                        <a:srgbClr val="002060"/>
                      </a:solidFill>
                    </a:lnR>
                    <a:lnT w="28080">
                      <a:solidFill>
                        <a:srgbClr val="002060"/>
                      </a:solidFill>
                    </a:lnT>
                    <a:lnB w="28080">
                      <a:solidFill>
                        <a:srgbClr val="00206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206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Выноска-облако 5"/>
          <p:cNvSpPr/>
          <p:nvPr/>
        </p:nvSpPr>
        <p:spPr>
          <a:xfrm>
            <a:off x="0" y="0"/>
            <a:ext cx="6072120" cy="1285920"/>
          </a:xfrm>
          <a:prstGeom prst="cloudCallout">
            <a:avLst>
              <a:gd name="adj1" fmla="val -32250"/>
              <a:gd name="adj2" fmla="val 9461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46432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7072200" y="1428840"/>
            <a:ext cx="71460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928800" y="228600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0"/>
          <p:cNvSpPr/>
          <p:nvPr/>
        </p:nvSpPr>
        <p:spPr>
          <a:xfrm>
            <a:off x="2786040" y="492912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1"/>
          <p:cNvSpPr/>
          <p:nvPr/>
        </p:nvSpPr>
        <p:spPr>
          <a:xfrm>
            <a:off x="2214720" y="578628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2"/>
          <p:cNvSpPr/>
          <p:nvPr/>
        </p:nvSpPr>
        <p:spPr>
          <a:xfrm>
            <a:off x="5214960" y="1428840"/>
            <a:ext cx="7142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7215120" y="3571920"/>
            <a:ext cx="1500120" cy="292896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7572240" y="421488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Выноска-облако 8"/>
          <p:cNvSpPr/>
          <p:nvPr/>
        </p:nvSpPr>
        <p:spPr>
          <a:xfrm>
            <a:off x="214200" y="785880"/>
            <a:ext cx="5929560" cy="2428920"/>
          </a:xfrm>
          <a:prstGeom prst="cloudCallout">
            <a:avLst>
              <a:gd name="adj1" fmla="val -25884"/>
              <a:gd name="adj2" fmla="val 78078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520" y="3785760"/>
            <a:ext cx="7715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жи, дят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л, в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ей, с</a:t>
            </a: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ц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6" descr="солнце"/>
          <p:cNvPicPr/>
          <p:nvPr/>
        </p:nvPicPr>
        <p:blipFill>
          <a:blip r:embed="rId1"/>
          <a:stretch/>
        </p:blipFill>
        <p:spPr>
          <a:xfrm>
            <a:off x="6572160" y="142920"/>
            <a:ext cx="2357640" cy="1928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57160" y="14288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иши и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4130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пля дождя, берег моря, кувшинчик из глины, остаться у друга, спуститься с горы, бежать от старта до финиша, выглянуть из-под крыш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4:28:50Z</dcterms:created>
  <dc:creator>TONY YAYO</dc:creator>
  <dc:description/>
  <dc:language>en-US</dc:language>
  <cp:lastModifiedBy>Баранова</cp:lastModifiedBy>
  <dcterms:modified xsi:type="dcterms:W3CDTF">2016-12-07T19:10:48Z</dcterms:modified>
  <cp:revision>73</cp:revision>
  <dc:subject/>
  <dc:title>Урок русского языка в 4 классе</dc:title>
</cp:coreProperties>
</file>