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6A0-D903-4176-8C7C-FC2342B1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52C-DCF0-42A9-8C6D-BBA3964C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1DF-38D5-47DD-9021-125F07D9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A12-3F28-48CB-88E2-D914A623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5FC-16C9-457C-B65C-4E4523AA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69D-C883-43BA-B2D0-EC8EFC1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910-9148-4DC8-9270-02430089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CBE-4438-490B-B70B-1BCFAD4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FFC-8F8A-4111-B6AB-7DE765B5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20D-75B3-4D23-A1EE-3201E8D2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DB7-010B-4818-B47F-FCBB056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823-B4E8-4AAE-8DD9-78F20AB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1F7-D64A-4CE8-8F7B-409EDC228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photo.mipt.ru/authors/AndrewGT/birds_remake.html?start=0&amp;img=539264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hyperlink" Target="259,4,&#1055;&#1056;&#1054;&#1042;&#1045;&#1056;&#1068;&#1058;&#1045; &#1057;&#1045;&#1041;&#1071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1000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русского языка в 4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2997000"/>
            <a:ext cx="77151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одительный паде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M:\птицы\поползень обыкновенный.jpg"/>
          <p:cNvPicPr/>
          <p:nvPr/>
        </p:nvPicPr>
        <p:blipFill>
          <a:blip r:embed="rId2"/>
          <a:srcRect l="6066" t="0" r="0" b="0"/>
          <a:stretch/>
        </p:blipFill>
        <p:spPr>
          <a:xfrm>
            <a:off x="6807240" y="142920"/>
            <a:ext cx="2122560" cy="18572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Picture 4" descr="M:\птицы\437[1].jpg"/>
          <p:cNvPicPr/>
          <p:nvPr/>
        </p:nvPicPr>
        <p:blipFill>
          <a:blip r:embed="rId3"/>
          <a:stretch/>
        </p:blipFill>
        <p:spPr>
          <a:xfrm>
            <a:off x="214200" y="142920"/>
            <a:ext cx="2928960" cy="192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Picture 2" descr="Дятел пёстрый малый (Dendrocopos minor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72200" y="2286000"/>
            <a:ext cx="1859040" cy="25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H:\Documents and Settings\ГОША\Рабочий стол\is[7].jpg"/>
          <p:cNvPicPr/>
          <p:nvPr/>
        </p:nvPicPr>
        <p:blipFill>
          <a:blip r:embed="rId6"/>
          <a:stretch/>
        </p:blipFill>
        <p:spPr>
          <a:xfrm>
            <a:off x="142920" y="4786200"/>
            <a:ext cx="1857240" cy="18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Содержимое 3" descr=""/>
          <p:cNvPicPr/>
          <p:nvPr/>
        </p:nvPicPr>
        <p:blipFill>
          <a:blip r:embed="rId7"/>
          <a:stretch/>
        </p:blipFill>
        <p:spPr>
          <a:xfrm>
            <a:off x="1779480" y="1828800"/>
            <a:ext cx="4938840" cy="360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M:\птицы\099-1-1[1].jpg"/>
          <p:cNvPicPr/>
          <p:nvPr/>
        </p:nvPicPr>
        <p:blipFill>
          <a:blip r:embed="rId8"/>
          <a:stretch/>
        </p:blipFill>
        <p:spPr>
          <a:xfrm>
            <a:off x="5057640" y="4929120"/>
            <a:ext cx="2443320" cy="17859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9" name="Облако 8"/>
          <p:cNvSpPr/>
          <p:nvPr/>
        </p:nvSpPr>
        <p:spPr>
          <a:xfrm>
            <a:off x="3357720" y="214200"/>
            <a:ext cx="3214440" cy="15004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99920" y="356760"/>
            <a:ext cx="26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Georgia"/>
                <a:hlinkClick r:id="rId9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вал 6"/>
          <p:cNvSpPr/>
          <p:nvPr/>
        </p:nvSpPr>
        <p:spPr>
          <a:xfrm>
            <a:off x="5214960" y="1428840"/>
            <a:ext cx="714240" cy="7858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7120" y="1428840"/>
          <a:ext cx="8572680" cy="5214960"/>
        </p:xfrm>
        <a:graphic>
          <a:graphicData uri="http://schemas.openxmlformats.org/drawingml/2006/table">
            <a:tbl>
              <a:tblPr/>
              <a:tblGrid>
                <a:gridCol w="606600"/>
                <a:gridCol w="608040"/>
                <a:gridCol w="606240"/>
                <a:gridCol w="684360"/>
                <a:gridCol w="606240"/>
                <a:gridCol w="606600"/>
                <a:gridCol w="606240"/>
                <a:gridCol w="608040"/>
                <a:gridCol w="606600"/>
                <a:gridCol w="606240"/>
                <a:gridCol w="606600"/>
                <a:gridCol w="608040"/>
                <a:gridCol w="606240"/>
                <a:gridCol w="606600"/>
              </a:tblGrid>
              <a:tr h="143460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28080">
                      <a:solidFill>
                        <a:srgbClr val="00206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 gridSpan="8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Выноска-облако 5"/>
          <p:cNvSpPr/>
          <p:nvPr/>
        </p:nvSpPr>
        <p:spPr>
          <a:xfrm>
            <a:off x="0" y="0"/>
            <a:ext cx="6072120" cy="1285920"/>
          </a:xfrm>
          <a:prstGeom prst="cloudCallout">
            <a:avLst>
              <a:gd name="adj1" fmla="val -32250"/>
              <a:gd name="adj2" fmla="val 94615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46432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8"/>
          <p:cNvSpPr/>
          <p:nvPr/>
        </p:nvSpPr>
        <p:spPr>
          <a:xfrm>
            <a:off x="7072200" y="1428840"/>
            <a:ext cx="71460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928800" y="228600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0"/>
          <p:cNvSpPr/>
          <p:nvPr/>
        </p:nvSpPr>
        <p:spPr>
          <a:xfrm>
            <a:off x="2786040" y="492912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1"/>
          <p:cNvSpPr/>
          <p:nvPr/>
        </p:nvSpPr>
        <p:spPr>
          <a:xfrm>
            <a:off x="2214720" y="578628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2"/>
          <p:cNvSpPr/>
          <p:nvPr/>
        </p:nvSpPr>
        <p:spPr>
          <a:xfrm>
            <a:off x="5214960" y="142884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3"/>
          <p:cNvSpPr/>
          <p:nvPr/>
        </p:nvSpPr>
        <p:spPr>
          <a:xfrm>
            <a:off x="7215120" y="3571920"/>
            <a:ext cx="1500120" cy="292896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7572240" y="421488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Выноска-облако 8"/>
          <p:cNvSpPr/>
          <p:nvPr/>
        </p:nvSpPr>
        <p:spPr>
          <a:xfrm>
            <a:off x="214200" y="785880"/>
            <a:ext cx="5929560" cy="2428920"/>
          </a:xfrm>
          <a:prstGeom prst="cloudCallout">
            <a:avLst>
              <a:gd name="adj1" fmla="val -25884"/>
              <a:gd name="adj2" fmla="val 78078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520" y="3785760"/>
            <a:ext cx="7715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жи, дят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л, в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бей, с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и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иц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6" descr="солнце"/>
          <p:cNvPicPr/>
          <p:nvPr/>
        </p:nvPicPr>
        <p:blipFill>
          <a:blip r:embed="rId1"/>
          <a:stretch/>
        </p:blipFill>
        <p:spPr>
          <a:xfrm>
            <a:off x="6572160" y="142920"/>
            <a:ext cx="2357640" cy="1928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857160" y="14288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иши и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41300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пля дождя, берег моря, кувшинчик из глины, остаться у друга, спуститься с горы, бежать от старта до финиша, выглянуть из-под крыш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4:28:50Z</dcterms:created>
  <dc:creator>TONY YAYO</dc:creator>
  <dc:description/>
  <dc:language>en-US</dc:language>
  <cp:lastModifiedBy>Баранова</cp:lastModifiedBy>
  <dcterms:modified xsi:type="dcterms:W3CDTF">2016-12-07T19:10:48Z</dcterms:modified>
  <cp:revision>73</cp:revision>
  <dc:subject/>
  <dc:title>Урок русского языка в 4 классе</dc:title>
</cp:coreProperties>
</file>