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9B4-4DFD-4686-9783-C889FC5F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EEA-5811-4241-A06E-C93F441D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60B-98A3-4D1B-A9FE-45294336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C87-44E7-4161-8B1E-C713D5FE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320-DE02-416A-8AA3-A9120B54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06B-6AD1-4602-9CA0-6481A2CC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3FC-4B7A-45AC-85DF-5504341E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837-D7C2-494E-AD2C-8C1BC01D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6E7-B539-4894-B62E-EF1594B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4FF-1879-4F92-A908-53C0C229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01C-4E10-4ECF-84E0-6C8DF0A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E1E-D329-49F2-8270-323D4AC0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5CF9-0FB5-4766-BC9B-8078FE6C5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hablony-powerpoint.ru/?page=shablony&amp;id=155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7800" y="1436760"/>
            <a:ext cx="6858000" cy="2473200"/>
          </a:xfrm>
          <a:prstGeom prst="rect">
            <a:avLst/>
          </a:prstGeom>
          <a:solidFill>
            <a:srgbClr val="ffd966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600" spc="-1" strike="noStrike">
                <a:solidFill>
                  <a:srgbClr val="c00000"/>
                </a:solidFill>
                <a:latin typeface="Calibri Light"/>
              </a:rPr>
              <a:t>ЗДОРОВЬЕ !!! </a:t>
            </a:r>
            <a:br>
              <a:rPr sz="4600"/>
            </a:br>
            <a:r>
              <a:rPr b="1" lang="ru-RU" sz="4600" spc="-1" strike="noStrike">
                <a:solidFill>
                  <a:srgbClr val="c00000"/>
                </a:solidFill>
                <a:latin typeface="Calibri Light"/>
              </a:rPr>
              <a:t>ПОЛЕЗНЫЕ СОВЕТЫ НА КАЖДЫЙ ДЕНЬ</a:t>
            </a:r>
            <a:r>
              <a:rPr b="1" lang="ru-RU" sz="46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95560" y="5141880"/>
            <a:ext cx="5299200" cy="11844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физической культу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Мангатаев Э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http://zdorovye.khakassia.ru/assets/images/buklets/800/piramida1.jpg"/>
          <p:cNvPicPr/>
          <p:nvPr/>
        </p:nvPicPr>
        <p:blipFill>
          <a:blip r:embed="rId1"/>
          <a:stretch/>
        </p:blipFill>
        <p:spPr>
          <a:xfrm>
            <a:off x="0" y="0"/>
            <a:ext cx="751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0160" y="365040"/>
            <a:ext cx="7454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Режим дня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34680" y="2090880"/>
            <a:ext cx="7715160" cy="4086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дъём               Уроки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Минута гигиены     Прогу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рядка               Занятияпо интерес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втрак                Уж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орога в школу      Отд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роки                  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бед                   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365040"/>
            <a:ext cx="724860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«Береги себя»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42480" y="1782720"/>
            <a:ext cx="7240680" cy="48052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мни, ч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гареты и алкоголь – это яд, а не пищевой продукт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и могут немного облегчить твои проблемы сейчас, но за это с тебя возьмут слишком высокую цену по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же выкуривая 1 сигарету в день и выпивая одну бутылку пива в неделю, ты ослабляешь свой разум и как следств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ы делаешь свою жизнь скучной и однообраз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ы ставишь себя в зависимость и попадаешь в рабство от бутылки и сигар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8640" y="365040"/>
            <a:ext cx="7184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«Береги себя»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23400" y="1825200"/>
            <a:ext cx="72406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ы уменьшаешь свою способность добиваться сво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ы портишь жизнь себе и своим будущим дет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ы теряешь самого себ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аботая над собой и укрепляя свой разум, ты сможеш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добиваться любых жизненных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стойко переносить любые тру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жить так, чтобы твои родные и близкие гордились тоб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www.frasibelle.net/wp-content/uploads/2012/08/beautiful-black-butterfly-cute-delicate-Favim.com-4200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316160" y="1296720"/>
            <a:ext cx="6446880" cy="4329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Мы открыли здесь секре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Как здоровье сохрани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Выполняйте все советы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И легко вам будет жи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486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  <a:ea typeface="Arial"/>
              </a:rPr>
              <a:t>Ссылки на использованные изображен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560"/>
            <a:ext cx="7189920" cy="47246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блон презентации « дети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shablony-powerpoint.ru/?page=shablony&amp;id=15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здорового пит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kak-poxudet.ru/wp-content/uploads/2012/04/759683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хоккеис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ru.lideone.com/cache/images/g/b/b2f7d5b85f49876b86d85c4298e79c47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здоровый образ жиз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festival.1september.ru/articles/606751/presentation/08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562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  <a:ea typeface="Arial"/>
              </a:rPr>
              <a:t>Ссылки на использованные изображен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987560"/>
            <a:ext cx="7562880" cy="42544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пирамиды рационального пит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zdorovye.khakassia.ru/assets/images/buklets/800/piramida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  детей делающих физкультминут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boombob.ru/img/picture/Oct/11/c91d446548bd3f1d069cee381b7b60c2/7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бабочки в рук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micro-sis.com/images/stock_images/5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у учащихся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у детей позиции признания ценности здоровья, чувства ответственности за сохранение и укрепление своего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ие общей культуры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5040" y="365040"/>
            <a:ext cx="70624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Тест «Твое здоровь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42840" y="1825200"/>
            <a:ext cx="707256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часто плохой аппет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нескольких часов работы у меня  начинает болеть го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о выгляжу усталым и подавленным, иногда раздраженным и угрюм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иодически у меня бывают серьезные заболевания, когда я вынужден несколько дней оставаться в пос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не занимаюсь спор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Тест «Твое здоровье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5040" y="1866960"/>
            <a:ext cx="7269120" cy="45338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следнее время я несколько прибавил в ве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часто кружится го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8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я кур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детстве я перенес несколько серьезных заболев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плохой сон и неприятные ощущения утром после пробу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каждый ответ «да» поставьте себе по 1 баллу и подсчитайте сум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60480" y="1825200"/>
            <a:ext cx="72136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-2 балла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-6 баллов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7-10 баллов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умудрились довести себя до такой степени? Удивительно, что вы еще в состоянии ходить и работать. Вам немедленно нужно менять свои привы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5040" y="365040"/>
            <a:ext cx="728640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авильное питание - основа здорового образ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1360" y="1825200"/>
            <a:ext cx="368604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вайте поговорим о еде современных подростков. Предпочтение отдается чипсам,  сухарикам, газированным напиткам и в довольно больших количествах, поэтому нельзя не заострить внимание на том, что мы еди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https://im3-tub-ru.yandex.net/i?id=51c8ec7a9057a998a1b8f5a8cb99f4af&amp;n=33&amp;h=215&amp;w=323"/>
          <p:cNvPicPr/>
          <p:nvPr/>
        </p:nvPicPr>
        <p:blipFill>
          <a:blip r:embed="rId1"/>
          <a:stretch/>
        </p:blipFill>
        <p:spPr>
          <a:xfrm>
            <a:off x="4656240" y="2305080"/>
            <a:ext cx="3395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342800" y="615600"/>
            <a:ext cx="6484680" cy="55609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дно из самых трудных дел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 делать сразу двадцать д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 что ни час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меть всё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меть на всё свой час и врем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на весель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на тру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 шум и шу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ять мин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на потеху – сладкий ми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долгий час на чтенье книг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5160" y="365040"/>
            <a:ext cx="652140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порт - залог красоты и здоровь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5421240"/>
            <a:ext cx="7886880" cy="9604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вижение - жизнь,  активное движение - здоровый образ жиз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G:\работа 2016 г\картинки про спорт\big0_1baa5_53687c51_L.jpg"/>
          <p:cNvPicPr/>
          <p:nvPr/>
        </p:nvPicPr>
        <p:blipFill>
          <a:blip r:embed="rId1"/>
          <a:stretch/>
        </p:blipFill>
        <p:spPr>
          <a:xfrm>
            <a:off x="2463840" y="2052720"/>
            <a:ext cx="43387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4" descr=""/>
          <p:cNvPicPr/>
          <p:nvPr/>
        </p:nvPicPr>
        <p:blipFill>
          <a:blip r:embed="rId1">
            <a:lum contrast="40000"/>
            <a:alphaModFix amt="81000"/>
          </a:blip>
          <a:stretch/>
        </p:blipFill>
        <p:spPr>
          <a:xfrm>
            <a:off x="0" y="0"/>
            <a:ext cx="766296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Амгалан</cp:lastModifiedBy>
  <dcterms:modified xsi:type="dcterms:W3CDTF">2021-06-01T06:35:49Z</dcterms:modified>
  <cp:revision>12</cp:revision>
  <dc:subject/>
  <dc:title>Название презентации</dc:title>
</cp:coreProperties>
</file>