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3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19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FCFA-1188-40B4-B30D-1577A89FA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821F-7D86-44EB-9831-833958F43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98FB-60F4-44AC-B62F-3B37704C4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8196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972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5420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8196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972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3294-B50C-41A6-80EC-ADE2EE4B2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C63A5D-B697-40E3-886B-56A7CF309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E60144-920D-4469-9FB1-8BFC9D7E7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2B02DE-AA5A-48E2-B91D-BC40A2B4C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94ADAB-AE03-4E0B-86BC-7BCACBA45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630874-5E3E-4815-8E99-1426CFF01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9560" y="1553760"/>
            <a:ext cx="2073240" cy="9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116718-BC84-485B-B10D-E90F72A20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BEE5E7-4DF1-4543-8B79-D1A168D42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0E0D-DB63-4CE8-9321-E72F4FF50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987BA9-4D8E-4FEC-89A3-3496B27B5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BBB2F6-8A0F-4114-A4AF-BEFF14A82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7E1211-F272-4778-9781-FE9B17CE7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FA8B36-C42E-464A-91B3-8DAB5CF53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8196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0972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45420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88196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0972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8AD3D2-824E-4909-B0FD-B149A9077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FF9CEE-3712-4B05-8581-BEA823F3B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005A50-F6AB-4FA8-908B-192A174C1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5C4C8F-EF85-489B-8116-7AE323033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26D065-0BC0-4DF8-8031-59B09D59A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4F4A59-9EDA-4111-A58A-D49CCF22D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A22D-8C3A-4998-87D6-97439ABDD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069560" y="1553760"/>
            <a:ext cx="2073240" cy="9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8039AB-5B07-4902-AB19-8F8281AA8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C7B678-AF1F-4194-9DC8-145E244CE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40BCCB-EB16-4E3C-95BD-E96ECA618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EA526A-0021-46D6-8571-2AA17C3D3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A4D3EC-1EAC-4EB0-BC63-3B07FAD39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C59B9C-9F80-44B8-8A06-84A042D9D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88196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30972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45420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88196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30972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7BDF2F-C47C-487C-AE47-4CE9D2AB3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4CE9D60-9FDB-4909-A727-7835A0084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40D3031-BCA0-4F7B-9389-FB092CB33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761DCDE-E038-4C77-88E3-F635E0CA4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D830-D557-4CDA-B81D-850FA52E4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FE5E887-6712-4A4C-A9E9-C960BC80A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4709703-7FB5-4C26-A5AA-81E39E496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1069560" y="1553760"/>
            <a:ext cx="2073240" cy="9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F042A2F-1086-4B58-81F6-D6DA9D0D6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93FB90E-EE9C-42FB-B6A0-F03FB2E65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815B7B2-024B-43A7-970D-4FE519A91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822AC96-87A4-4C75-ABD3-4D312CD89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BA2F7BB-A69B-423B-8354-679176E79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EA43688-9EB3-4E26-9707-02A226E20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88196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30972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345420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88196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30972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BDEC9E4-D42D-407B-A004-8E916C78C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06C951-4788-4B0A-B2DF-60DDC11C2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F177-7715-45C4-B141-FD6081235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F0994D-21D7-4CBF-9FF5-0905FF7C3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B7962B-2DF5-494D-94CA-399D76930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24BEDD-8E04-4426-B040-5FB32BBF2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7F117E-FF12-405D-A0B7-1E69F6BF1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1069560" y="1553760"/>
            <a:ext cx="2073240" cy="9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42234B-90EE-4D58-9147-B75CCA7F5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0A8336-A38C-44EB-960D-E01AB4ED7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B6E192-B6EB-45DD-8D81-D8F9A3A59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981335-CC49-4868-822A-7D20D0479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DC69E2-3851-47A9-AF44-595533AB8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5D7FE6-F927-4DC9-81F0-6D6248CA8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9560" y="1553760"/>
            <a:ext cx="2073240" cy="9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ABEF-2072-43B0-85BB-BF291245F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88196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30972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345420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88196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30972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34A945-99CB-4C90-8EF9-691F5A6B0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50858EB-EC0D-4063-B1D5-457C57EA3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0D65DF1-7B81-42A0-9A5A-235391639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177CE75-6BCB-4720-8FCC-CB5A101DB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28DBDD2-7B9F-44CB-AF04-39B601FC9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14F194F-2110-4714-BB11-FC329A298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1069560" y="1553760"/>
            <a:ext cx="2073240" cy="9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41228EE-ECD3-4921-A9E5-FAB2A0158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8F8467D-FB9A-4CE8-BC40-127058083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E4C848C-EC63-4B5E-8CEA-81896993B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00B98A2-AA1B-4449-8C55-AAE8F916A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F63C-D1B3-4BF9-8428-1801265CB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FCE476-50A6-436E-B305-8E16D3562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3A0497-28C4-4D93-9971-C12CB441B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88196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30972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345420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88196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30972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41FFA59-C1DB-4B95-843A-4FEAA6AFD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15C9-0A02-4BF1-8090-6F6EEB510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CD6B-AE58-4767-9444-532A1EA6F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Click to edit the outline text format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Thir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our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162920" y="1890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ndar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69560" y="6356520"/>
            <a:ext cx="510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59680" y="6356520"/>
            <a:ext cx="1138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9F657-60F8-498F-BAB9-E8B0A609C898}" type="slidenum">
              <a:rPr b="0" lang="ru-RU" sz="1200" spc="-1" strike="noStrike">
                <a:solidFill>
                  <a:srgbClr val="ffffff"/>
                </a:solidFill>
                <a:latin typeface="Candar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Click to edit the outline text format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Thir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our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7162920" y="1890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ndar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7159680" y="6356520"/>
            <a:ext cx="1138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6322B-A44F-4D9F-92B3-2D029BC3EE6B}" type="slidenum">
              <a:rPr b="0" lang="ru-RU" sz="1200" spc="-1" strike="noStrike">
                <a:solidFill>
                  <a:srgbClr val="ffffff"/>
                </a:solidFill>
                <a:latin typeface="Candar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6"/>
          </p:nvPr>
        </p:nvSpPr>
        <p:spPr>
          <a:xfrm>
            <a:off x="493200" y="6356520"/>
            <a:ext cx="510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Click to edit the outline text format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Thir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our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7162920" y="1890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ndar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8"/>
          </p:nvPr>
        </p:nvSpPr>
        <p:spPr>
          <a:xfrm>
            <a:off x="7159680" y="6356520"/>
            <a:ext cx="1138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B27A2-D2F7-468E-870A-8AEBA5EC6BD0}" type="slidenum">
              <a:rPr b="0" lang="ru-RU" sz="1200" spc="-1" strike="noStrike">
                <a:solidFill>
                  <a:srgbClr val="ffffff"/>
                </a:solidFill>
                <a:latin typeface="Candar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9"/>
          </p:nvPr>
        </p:nvSpPr>
        <p:spPr>
          <a:xfrm>
            <a:off x="493200" y="6356520"/>
            <a:ext cx="510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Click to edit the outline text format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Thir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our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7162920" y="1550520"/>
            <a:ext cx="1828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ndar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11"/>
          </p:nvPr>
        </p:nvSpPr>
        <p:spPr>
          <a:xfrm>
            <a:off x="7159680" y="6356520"/>
            <a:ext cx="1138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10137-0675-4CCA-AE1E-BAD149A8E744}" type="slidenum">
              <a:rPr b="0" lang="ru-RU" sz="1200" spc="-1" strike="noStrike">
                <a:solidFill>
                  <a:srgbClr val="ffffff"/>
                </a:solidFill>
                <a:latin typeface="Candar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12"/>
          </p:nvPr>
        </p:nvSpPr>
        <p:spPr>
          <a:xfrm>
            <a:off x="1069560" y="6356520"/>
            <a:ext cx="510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Click to edit the outline text format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Thir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our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7162920" y="1890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ndar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sldNum" idx="14"/>
          </p:nvPr>
        </p:nvSpPr>
        <p:spPr>
          <a:xfrm>
            <a:off x="7159680" y="6356520"/>
            <a:ext cx="1138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88002-E032-46F8-A1D8-4FD08E7B1FA2}" type="slidenum">
              <a:rPr b="0" lang="ru-RU" sz="1200" spc="-1" strike="noStrike">
                <a:solidFill>
                  <a:srgbClr val="ffffff"/>
                </a:solidFill>
                <a:latin typeface="Candar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15"/>
          </p:nvPr>
        </p:nvSpPr>
        <p:spPr>
          <a:xfrm>
            <a:off x="493200" y="6356520"/>
            <a:ext cx="510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Click to edit the outline text format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Thir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our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7162920" y="1890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ndar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sldNum" idx="17"/>
          </p:nvPr>
        </p:nvSpPr>
        <p:spPr>
          <a:xfrm>
            <a:off x="7159680" y="6356520"/>
            <a:ext cx="1138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D7473-4E31-4626-9A4F-D5F299A0985B}" type="slidenum">
              <a:rPr b="0" lang="ru-RU" sz="1200" spc="-1" strike="noStrike">
                <a:solidFill>
                  <a:srgbClr val="ffffff"/>
                </a:solidFill>
                <a:latin typeface="Candar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ftr" idx="18"/>
          </p:nvPr>
        </p:nvSpPr>
        <p:spPr>
          <a:xfrm>
            <a:off x="493200" y="6356520"/>
            <a:ext cx="510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gif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files.school-collection.edu.ru/dlrstore/669b5254-e921-11dc-95ff-0800200c9a66/4_12.swf" TargetMode="External"/><Relationship Id="rId2" Type="http://schemas.openxmlformats.org/officeDocument/2006/relationships/hyperlink" Target="http://files.school-collection.edu.ru/dlrstore/669b5254-e921-11dc-95ff-0800200c9a66/4_12.swf" TargetMode="External"/><Relationship Id="rId3" Type="http://schemas.openxmlformats.org/officeDocument/2006/relationships/hyperlink" Target="http://files.school-collection.edu.ru/dlrstore/669b5254-e921-11dc-95ff-0800200c9a66/4_12.swf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066320" y="1406160"/>
            <a:ext cx="7177320" cy="22510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АНОМЕТРЫ</a:t>
            </a:r>
            <a:br>
              <a:rPr sz="6600"/>
            </a:br>
            <a:r>
              <a:rPr b="0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7 КЛАСС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1066320" y="3905280"/>
            <a:ext cx="61722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2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539280" y="333360"/>
            <a:ext cx="2519640" cy="2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72" name="Рисунок 3" descr=""/>
          <p:cNvPicPr/>
          <p:nvPr/>
        </p:nvPicPr>
        <p:blipFill>
          <a:blip r:embed="rId1"/>
          <a:stretch/>
        </p:blipFill>
        <p:spPr>
          <a:xfrm>
            <a:off x="468360" y="1197000"/>
            <a:ext cx="4390920" cy="4535640"/>
          </a:xfrm>
          <a:prstGeom prst="rect">
            <a:avLst/>
          </a:prstGeom>
          <a:ln w="0">
            <a:noFill/>
          </a:ln>
        </p:spPr>
      </p:pic>
      <p:sp>
        <p:nvSpPr>
          <p:cNvPr id="273" name="TextBox 5"/>
          <p:cNvSpPr/>
          <p:nvPr/>
        </p:nvSpPr>
        <p:spPr>
          <a:xfrm>
            <a:off x="5003640" y="404640"/>
            <a:ext cx="3961080" cy="63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ветьте на вопросы: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. В каких единицах</a:t>
            </a: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радуируется шкала </a:t>
            </a: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еталлического манометра?</a:t>
            </a: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. Чему равна цена деления?</a:t>
            </a: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. Назовите предел измерения.</a:t>
            </a: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4. Какое давление показывает манометр?</a:t>
            </a: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. Выразите это давление в Паскалях.</a:t>
            </a: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178920" y="188640"/>
            <a:ext cx="8713800" cy="524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анометры применяются во всех случаях, когда необходимо знать, контролировать и регулировать давление. Наиболее часто манометры применяют в теплоэнергетике, на химических, нефтехимических предприятиях, предприятиях пищевой отрасли.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76" name="Рисунок 7" descr=""/>
          <p:cNvPicPr/>
          <p:nvPr/>
        </p:nvPicPr>
        <p:blipFill>
          <a:blip r:embed="rId1"/>
          <a:stretch/>
        </p:blipFill>
        <p:spPr>
          <a:xfrm>
            <a:off x="3132000" y="2421000"/>
            <a:ext cx="1944720" cy="1512720"/>
          </a:xfrm>
          <a:prstGeom prst="rect">
            <a:avLst/>
          </a:prstGeom>
          <a:ln w="0">
            <a:noFill/>
          </a:ln>
        </p:spPr>
      </p:pic>
      <p:pic>
        <p:nvPicPr>
          <p:cNvPr id="277" name="Рисунок 8" descr=""/>
          <p:cNvPicPr/>
          <p:nvPr/>
        </p:nvPicPr>
        <p:blipFill>
          <a:blip r:embed="rId2"/>
          <a:stretch/>
        </p:blipFill>
        <p:spPr>
          <a:xfrm>
            <a:off x="7020000" y="5084640"/>
            <a:ext cx="1728720" cy="1657440"/>
          </a:xfrm>
          <a:prstGeom prst="rect">
            <a:avLst/>
          </a:prstGeom>
          <a:ln w="0">
            <a:noFill/>
          </a:ln>
        </p:spPr>
      </p:pic>
      <p:pic>
        <p:nvPicPr>
          <p:cNvPr id="278" name="Рисунок 9" descr=""/>
          <p:cNvPicPr/>
          <p:nvPr/>
        </p:nvPicPr>
        <p:blipFill>
          <a:blip r:embed="rId3"/>
          <a:stretch/>
        </p:blipFill>
        <p:spPr>
          <a:xfrm>
            <a:off x="5292720" y="2421000"/>
            <a:ext cx="3456000" cy="2520720"/>
          </a:xfrm>
          <a:prstGeom prst="rect">
            <a:avLst/>
          </a:prstGeom>
          <a:ln w="0">
            <a:noFill/>
          </a:ln>
        </p:spPr>
      </p:pic>
      <p:pic>
        <p:nvPicPr>
          <p:cNvPr id="279" name="Рисунок 10" descr=""/>
          <p:cNvPicPr/>
          <p:nvPr/>
        </p:nvPicPr>
        <p:blipFill>
          <a:blip r:embed="rId4"/>
          <a:stretch/>
        </p:blipFill>
        <p:spPr>
          <a:xfrm>
            <a:off x="179280" y="2781360"/>
            <a:ext cx="2737080" cy="3600360"/>
          </a:xfrm>
          <a:prstGeom prst="rect">
            <a:avLst/>
          </a:prstGeom>
          <a:ln w="0">
            <a:noFill/>
          </a:ln>
        </p:spPr>
      </p:pic>
      <p:pic>
        <p:nvPicPr>
          <p:cNvPr id="280" name="Рисунок 11" descr=""/>
          <p:cNvPicPr/>
          <p:nvPr/>
        </p:nvPicPr>
        <p:blipFill>
          <a:blip r:embed="rId5"/>
          <a:stretch/>
        </p:blipFill>
        <p:spPr>
          <a:xfrm>
            <a:off x="5292720" y="5084640"/>
            <a:ext cx="1511280" cy="1657440"/>
          </a:xfrm>
          <a:prstGeom prst="rect">
            <a:avLst/>
          </a:prstGeom>
          <a:ln w="0">
            <a:noFill/>
          </a:ln>
        </p:spPr>
      </p:pic>
      <p:pic>
        <p:nvPicPr>
          <p:cNvPr id="281" name="Рисунок 12" descr=""/>
          <p:cNvPicPr/>
          <p:nvPr/>
        </p:nvPicPr>
        <p:blipFill>
          <a:blip r:embed="rId6"/>
          <a:stretch/>
        </p:blipFill>
        <p:spPr>
          <a:xfrm>
            <a:off x="3132000" y="4367160"/>
            <a:ext cx="194472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Объект 4" descr=""/>
          <p:cNvPicPr/>
          <p:nvPr/>
        </p:nvPicPr>
        <p:blipFill>
          <a:blip r:embed="rId1"/>
          <a:stretch/>
        </p:blipFill>
        <p:spPr>
          <a:xfrm>
            <a:off x="1187280" y="2938320"/>
            <a:ext cx="2737080" cy="1714680"/>
          </a:xfrm>
          <a:prstGeom prst="rect">
            <a:avLst/>
          </a:prstGeom>
          <a:ln w="0">
            <a:noFill/>
          </a:ln>
        </p:spPr>
      </p:pic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4" name="Прямоугольник 3"/>
          <p:cNvSpPr/>
          <p:nvPr/>
        </p:nvSpPr>
        <p:spPr>
          <a:xfrm>
            <a:off x="250920" y="260280"/>
            <a:ext cx="8569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фигмоманометр (тонометр) — прибор для измерения артериального давления. Состоит из манжеты, надеваемой на руку пациенту, устройства для нагнетания воздуха в манжету и манометра, измеряющего давление воздуха в манжете. Также, сфигмоманометр оснащается либо стетоскопом, либо электронным устройством, регистрирующим пульсации воздуха в манжете.</a:t>
            </a: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285" name="Рисунок 5" descr=""/>
          <p:cNvPicPr/>
          <p:nvPr/>
        </p:nvPicPr>
        <p:blipFill>
          <a:blip r:embed="rId2"/>
          <a:stretch/>
        </p:blipFill>
        <p:spPr>
          <a:xfrm>
            <a:off x="4643280" y="2938320"/>
            <a:ext cx="2592720" cy="1714680"/>
          </a:xfrm>
          <a:prstGeom prst="rect">
            <a:avLst/>
          </a:prstGeom>
          <a:ln w="0">
            <a:noFill/>
          </a:ln>
        </p:spPr>
      </p:pic>
      <p:pic>
        <p:nvPicPr>
          <p:cNvPr id="286" name="Рисунок 9" descr=""/>
          <p:cNvPicPr/>
          <p:nvPr/>
        </p:nvPicPr>
        <p:blipFill>
          <a:blip r:embed="rId3"/>
          <a:stretch/>
        </p:blipFill>
        <p:spPr>
          <a:xfrm>
            <a:off x="5940360" y="4727520"/>
            <a:ext cx="2448000" cy="1941480"/>
          </a:xfrm>
          <a:prstGeom prst="rect">
            <a:avLst/>
          </a:prstGeom>
          <a:ln w="0">
            <a:noFill/>
          </a:ln>
        </p:spPr>
      </p:pic>
      <p:pic>
        <p:nvPicPr>
          <p:cNvPr id="287" name="Рисунок 10" descr=""/>
          <p:cNvPicPr/>
          <p:nvPr/>
        </p:nvPicPr>
        <p:blipFill>
          <a:blip r:embed="rId4"/>
          <a:stretch/>
        </p:blipFill>
        <p:spPr>
          <a:xfrm>
            <a:off x="2340000" y="4727520"/>
            <a:ext cx="2952720" cy="19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395280" y="259920"/>
            <a:ext cx="842472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крепление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 какими приборами мы сегодня познакомились?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чему в открытом манометре уровни жидкости в обоих коленах одинаковые?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чему при погружении коробочки в воду изменяются уровни жидкости в коленах манометра?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к с помощью жидкостного манометра показать, что на одной и той же глубине давление одинаково по всем направлениям?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к устроен металлический манометр?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каких единицах градуируется шкала металлического манометра?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684000" y="476280"/>
            <a:ext cx="784836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машнее задание:</a:t>
            </a:r>
            <a:endParaRPr b="0" i="1" lang="en-US" sz="3600" spc="-1" strike="noStrike">
              <a:solidFill>
                <a:srgbClr val="ffffff"/>
              </a:solidFill>
              <a:latin typeface="Candar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26560" y="1341000"/>
            <a:ext cx="57636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684000" y="476280"/>
            <a:ext cx="784836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26560" y="1341000"/>
            <a:ext cx="57636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94" name="Прямоугольник 3" descr=""/>
          <p:cNvPicPr/>
          <p:nvPr/>
        </p:nvPicPr>
        <p:blipFill>
          <a:blip r:embed="rId1"/>
          <a:stretch/>
        </p:blipFill>
        <p:spPr>
          <a:xfrm>
            <a:off x="2004840" y="1504800"/>
            <a:ext cx="520092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 txBox="1"/>
          <p:nvPr/>
        </p:nvSpPr>
        <p:spPr>
          <a:xfrm>
            <a:off x="417240" y="379440"/>
            <a:ext cx="8258040" cy="614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сточники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.   А.В. Перышкин. Физика. 7 класс. - М.: Дрофа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.М. Гутник, Е,В. Рыбакова. Методические материалы для учителя. Физика. 7 класс. - М.; Дрофа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79a4"/>
                </a:solidFill>
                <a:uFillTx/>
                <a:latin typeface="Times New Roman"/>
                <a:ea typeface="Times New Roman"/>
                <a:hlinkClick r:id="rId1"/>
              </a:rPr>
              <a:t>http</a:t>
            </a:r>
            <a:r>
              <a:rPr b="0" lang="en-US" sz="2400" spc="-1" strike="noStrike" u="sng">
                <a:solidFill>
                  <a:srgbClr val="0079a4"/>
                </a:solidFill>
                <a:uFillTx/>
                <a:latin typeface="Times New Roman"/>
                <a:ea typeface="Times New Roman"/>
                <a:hlinkClick r:id="rId2"/>
              </a:rPr>
              <a:t>://</a:t>
            </a:r>
            <a:r>
              <a:rPr b="0" lang="en-US" sz="2400" spc="-1" strike="noStrike" u="sng">
                <a:solidFill>
                  <a:srgbClr val="0079a4"/>
                </a:solidFill>
                <a:uFillTx/>
                <a:latin typeface="Times New Roman"/>
                <a:ea typeface="Times New Roman"/>
                <a:hlinkClick r:id="rId3"/>
              </a:rPr>
              <a:t>files.school-collection.edu.ru/dlrstore/669b5254-e921-11dc-95ff-0800200c9a66/4_12.swf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http://ru.wikipedia.org/wiki/%CC%E0%ED%EE%EC%E5%F2%F0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http://images.yandex.ru/yandsearch?text=%D0%BC%D0%B0%D0%BD%D0%BE%D0%BC%D0%B5%D1%82%D1%80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50920" y="333360"/>
            <a:ext cx="864216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Цель урока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: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ать представление об устройстве и принципах работы жидкостного и металлического манометров, рассмотреть их применение в различных областях.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дачи: 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обучающие: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зучить устройство и принцип действия открытого        жидкостного и металлического манометров; научить пользоваться ими;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развивающие: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звивать познавательный интерес, коммуникативные и   экспериментаторские компетенции учащихся;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воспитывающие: 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оспитывать доброжелательное отношение к  участникам учебного процесса,  понимание необходимости заботиться о своем здоровье и приобретении житейских навыков.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69920" y="1554120"/>
            <a:ext cx="46080" cy="44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6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395280" y="404640"/>
            <a:ext cx="835344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ест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то из ученых предложил способ измерения атмосферного давления?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) Ньютон            В) Ломоносов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) Паскаль            Г) Торричелли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кой буквой обозначают атмосферное давление?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) </a:t>
            </a: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F                       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) р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) </a:t>
            </a: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m                       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</a:t>
            </a: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) S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. Какова единица атмосферного давления?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) кг или г                            В) Н или кН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) Па или мм рт. ст.             Г) м/с или км/ч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468360" y="259920"/>
            <a:ext cx="813600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ест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4. Как называется прибор для измерения атмосферного давления?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) альтимер                     В) мензурка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) барометр                      Г) высотомер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. Чему равно значение нормального атмосферного давления?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) 1 Н                              В) 760 Н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) 1 Па                             Г) 760 мм рт. ст.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6. Как называется прибор для измерения высоты, используемый в авиации?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) высотомер                  В) анероид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) альтимер                     Г) ареометр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539640" y="691920"/>
            <a:ext cx="7920000" cy="47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веты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684360" y="2205000"/>
          <a:ext cx="7775280" cy="2247840"/>
        </p:xfrm>
        <a:graphic>
          <a:graphicData uri="http://schemas.openxmlformats.org/drawingml/2006/table">
            <a:tbl>
              <a:tblPr/>
              <a:tblGrid>
                <a:gridCol w="1295280"/>
                <a:gridCol w="1368360"/>
                <a:gridCol w="1368360"/>
                <a:gridCol w="1224000"/>
                <a:gridCol w="1295640"/>
                <a:gridCol w="1223640"/>
              </a:tblGrid>
              <a:tr h="1123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3f3f3f"/>
                      </a:solidFill>
                    </a:lnL>
                    <a:lnR w="5760">
                      <a:solidFill>
                        <a:srgbClr val="3f3f3f"/>
                      </a:solidFill>
                    </a:lnR>
                    <a:lnT w="5760">
                      <a:solidFill>
                        <a:srgbClr val="3f3f3f"/>
                      </a:solidFill>
                    </a:lnT>
                    <a:lnB w="5760">
                      <a:solidFill>
                        <a:srgbClr val="3f3f3f"/>
                      </a:solidFill>
                    </a:lnB>
                    <a:solidFill>
                      <a:srgbClr val="e8e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3f3f3f"/>
                      </a:solidFill>
                    </a:lnL>
                    <a:lnR w="5760">
                      <a:solidFill>
                        <a:srgbClr val="3f3f3f"/>
                      </a:solidFill>
                    </a:lnR>
                    <a:lnT w="5760">
                      <a:solidFill>
                        <a:srgbClr val="3f3f3f"/>
                      </a:solidFill>
                    </a:lnT>
                    <a:lnB w="5760">
                      <a:solidFill>
                        <a:srgbClr val="3f3f3f"/>
                      </a:solidFill>
                    </a:lnB>
                    <a:solidFill>
                      <a:srgbClr val="e8e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3f3f3f"/>
                      </a:solidFill>
                    </a:lnL>
                    <a:lnR w="5760">
                      <a:solidFill>
                        <a:srgbClr val="3f3f3f"/>
                      </a:solidFill>
                    </a:lnR>
                    <a:lnT w="5760">
                      <a:solidFill>
                        <a:srgbClr val="3f3f3f"/>
                      </a:solidFill>
                    </a:lnT>
                    <a:lnB w="5760">
                      <a:solidFill>
                        <a:srgbClr val="3f3f3f"/>
                      </a:solidFill>
                    </a:lnB>
                    <a:solidFill>
                      <a:srgbClr val="e8e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3f3f3f"/>
                      </a:solidFill>
                    </a:lnL>
                    <a:lnR w="5760">
                      <a:solidFill>
                        <a:srgbClr val="3f3f3f"/>
                      </a:solidFill>
                    </a:lnR>
                    <a:lnT w="5760">
                      <a:solidFill>
                        <a:srgbClr val="3f3f3f"/>
                      </a:solidFill>
                    </a:lnT>
                    <a:lnB w="5760">
                      <a:solidFill>
                        <a:srgbClr val="3f3f3f"/>
                      </a:solidFill>
                    </a:lnB>
                    <a:solidFill>
                      <a:srgbClr val="e8e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3f3f3f"/>
                      </a:solidFill>
                    </a:lnL>
                    <a:lnR w="5760">
                      <a:solidFill>
                        <a:srgbClr val="3f3f3f"/>
                      </a:solidFill>
                    </a:lnR>
                    <a:lnT w="5760">
                      <a:solidFill>
                        <a:srgbClr val="3f3f3f"/>
                      </a:solidFill>
                    </a:lnT>
                    <a:lnB w="5760">
                      <a:solidFill>
                        <a:srgbClr val="3f3f3f"/>
                      </a:solidFill>
                    </a:lnB>
                    <a:solidFill>
                      <a:srgbClr val="e8e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3f3f3f"/>
                      </a:solidFill>
                    </a:lnL>
                    <a:lnR w="5760">
                      <a:solidFill>
                        <a:srgbClr val="3f3f3f"/>
                      </a:solidFill>
                    </a:lnR>
                    <a:lnT w="5760">
                      <a:solidFill>
                        <a:srgbClr val="3f3f3f"/>
                      </a:solidFill>
                    </a:lnT>
                    <a:lnB w="5760">
                      <a:solidFill>
                        <a:srgbClr val="3f3f3f"/>
                      </a:solidFill>
                    </a:lnB>
                    <a:solidFill>
                      <a:srgbClr val="e8e8e8"/>
                    </a:solidFill>
                  </a:tcPr>
                </a:tc>
              </a:tr>
              <a:tr h="1123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3f3f3f"/>
                      </a:solidFill>
                    </a:lnL>
                    <a:lnR w="5760">
                      <a:solidFill>
                        <a:srgbClr val="3f3f3f"/>
                      </a:solidFill>
                    </a:lnR>
                    <a:lnT w="5760">
                      <a:solidFill>
                        <a:srgbClr val="3f3f3f"/>
                      </a:solidFill>
                    </a:lnT>
                    <a:lnB w="5760">
                      <a:solidFill>
                        <a:srgbClr val="3f3f3f"/>
                      </a:solidFill>
                    </a:lnB>
                    <a:solidFill>
                      <a:srgbClr val="cece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3f3f3f"/>
                      </a:solidFill>
                    </a:lnL>
                    <a:lnR w="5760">
                      <a:solidFill>
                        <a:srgbClr val="3f3f3f"/>
                      </a:solidFill>
                    </a:lnR>
                    <a:lnT w="5760">
                      <a:solidFill>
                        <a:srgbClr val="3f3f3f"/>
                      </a:solidFill>
                    </a:lnT>
                    <a:lnB w="5760">
                      <a:solidFill>
                        <a:srgbClr val="3f3f3f"/>
                      </a:solidFill>
                    </a:lnB>
                    <a:solidFill>
                      <a:srgbClr val="cece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3f3f3f"/>
                      </a:solidFill>
                    </a:lnL>
                    <a:lnR w="5760">
                      <a:solidFill>
                        <a:srgbClr val="3f3f3f"/>
                      </a:solidFill>
                    </a:lnR>
                    <a:lnT w="5760">
                      <a:solidFill>
                        <a:srgbClr val="3f3f3f"/>
                      </a:solidFill>
                    </a:lnT>
                    <a:lnB w="5760">
                      <a:solidFill>
                        <a:srgbClr val="3f3f3f"/>
                      </a:solidFill>
                    </a:lnB>
                    <a:solidFill>
                      <a:srgbClr val="cece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3f3f3f"/>
                      </a:solidFill>
                    </a:lnL>
                    <a:lnR w="5760">
                      <a:solidFill>
                        <a:srgbClr val="3f3f3f"/>
                      </a:solidFill>
                    </a:lnR>
                    <a:lnT w="5760">
                      <a:solidFill>
                        <a:srgbClr val="3f3f3f"/>
                      </a:solidFill>
                    </a:lnT>
                    <a:lnB w="5760">
                      <a:solidFill>
                        <a:srgbClr val="3f3f3f"/>
                      </a:solidFill>
                    </a:lnB>
                    <a:solidFill>
                      <a:srgbClr val="cece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3f3f3f"/>
                      </a:solidFill>
                    </a:lnL>
                    <a:lnR w="5760">
                      <a:solidFill>
                        <a:srgbClr val="3f3f3f"/>
                      </a:solidFill>
                    </a:lnR>
                    <a:lnT w="5760">
                      <a:solidFill>
                        <a:srgbClr val="3f3f3f"/>
                      </a:solidFill>
                    </a:lnT>
                    <a:lnB w="5760">
                      <a:solidFill>
                        <a:srgbClr val="3f3f3f"/>
                      </a:solidFill>
                    </a:lnB>
                    <a:solidFill>
                      <a:srgbClr val="cece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3f3f3f"/>
                      </a:solidFill>
                    </a:lnL>
                    <a:lnR w="5760">
                      <a:solidFill>
                        <a:srgbClr val="3f3f3f"/>
                      </a:solidFill>
                    </a:lnR>
                    <a:lnT w="5760">
                      <a:solidFill>
                        <a:srgbClr val="3f3f3f"/>
                      </a:solidFill>
                    </a:lnT>
                    <a:lnB w="5760">
                      <a:solidFill>
                        <a:srgbClr val="3f3f3f"/>
                      </a:solidFill>
                    </a:lnB>
                    <a:solidFill>
                      <a:srgbClr val="cecec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755280" y="691920"/>
            <a:ext cx="6924600" cy="47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</a:t>
            </a:r>
            <a:r>
              <a:rPr b="1" i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ема урока:</a:t>
            </a:r>
            <a:endParaRPr b="0" i="1" lang="en-US" sz="4000" spc="-1" strike="noStrike">
              <a:solidFill>
                <a:srgbClr val="ffffff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</a:t>
            </a:r>
            <a:r>
              <a:rPr b="1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анометры</a:t>
            </a:r>
            <a:endParaRPr b="0" i="1" lang="en-US" sz="6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622440" cy="14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Объект 3" descr=""/>
          <p:cNvPicPr/>
          <p:nvPr/>
        </p:nvPicPr>
        <p:blipFill>
          <a:blip r:embed="rId1"/>
          <a:stretch/>
        </p:blipFill>
        <p:spPr>
          <a:xfrm>
            <a:off x="755640" y="2708280"/>
            <a:ext cx="3384720" cy="396072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424720" cy="44640"/>
          </a:xfrm>
          <a:prstGeom prst="rect">
            <a:avLst/>
          </a:prstGeom>
          <a:noFill/>
          <a:ln w="0">
            <a:noFill/>
          </a:ln>
        </p:spPr>
        <p:txBody>
          <a:bodyPr tIns="-1080" bIns="-10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</a:t>
            </a:r>
            <a:endParaRPr b="0" lang="en-US" sz="25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59" name="Рисунок 4" descr=""/>
          <p:cNvPicPr/>
          <p:nvPr/>
        </p:nvPicPr>
        <p:blipFill>
          <a:blip r:embed="rId2"/>
          <a:stretch/>
        </p:blipFill>
        <p:spPr>
          <a:xfrm>
            <a:off x="5003640" y="2708280"/>
            <a:ext cx="3456000" cy="3960720"/>
          </a:xfrm>
          <a:prstGeom prst="rect">
            <a:avLst/>
          </a:prstGeom>
          <a:ln w="0">
            <a:noFill/>
          </a:ln>
        </p:spPr>
      </p:pic>
      <p:sp>
        <p:nvSpPr>
          <p:cNvPr id="260" name="TextBox 5"/>
          <p:cNvSpPr/>
          <p:nvPr/>
        </p:nvSpPr>
        <p:spPr>
          <a:xfrm>
            <a:off x="539640" y="260280"/>
            <a:ext cx="8209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анометры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– приборы для измерения давлений, больших или меньших атмосферного (от греческого «манос» – редкий, неплотной и «метрео» - измеряю.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      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анометры бывают: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) жидкостные                     б) металлические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136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62" name="TextBox 4"/>
          <p:cNvSpPr/>
          <p:nvPr/>
        </p:nvSpPr>
        <p:spPr>
          <a:xfrm>
            <a:off x="250920" y="260280"/>
            <a:ext cx="8497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Жидкостный манометр состоит из двухколенной стеклянной трубки, в которую налита какая – нибудь жидкость.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стройство и принцип работы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крытого жидкостного манометра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263" name="Объект 7" descr=""/>
          <p:cNvPicPr/>
          <p:nvPr/>
        </p:nvPicPr>
        <p:blipFill>
          <a:blip r:embed="rId1"/>
          <a:stretch/>
        </p:blipFill>
        <p:spPr>
          <a:xfrm>
            <a:off x="250920" y="2565360"/>
            <a:ext cx="2736720" cy="3888000"/>
          </a:xfrm>
          <a:prstGeom prst="rect">
            <a:avLst/>
          </a:prstGeom>
          <a:ln w="0">
            <a:noFill/>
          </a:ln>
        </p:spPr>
      </p:pic>
      <p:pic>
        <p:nvPicPr>
          <p:cNvPr id="264" name="Рисунок 8" descr=""/>
          <p:cNvPicPr/>
          <p:nvPr/>
        </p:nvPicPr>
        <p:blipFill>
          <a:blip r:embed="rId2"/>
          <a:stretch/>
        </p:blipFill>
        <p:spPr>
          <a:xfrm>
            <a:off x="3203640" y="2565360"/>
            <a:ext cx="2736720" cy="3888000"/>
          </a:xfrm>
          <a:prstGeom prst="rect">
            <a:avLst/>
          </a:prstGeom>
          <a:ln w="0">
            <a:noFill/>
          </a:ln>
        </p:spPr>
      </p:pic>
      <p:pic>
        <p:nvPicPr>
          <p:cNvPr id="265" name="Рисунок 9" descr=""/>
          <p:cNvPicPr/>
          <p:nvPr/>
        </p:nvPicPr>
        <p:blipFill>
          <a:blip r:embed="rId3"/>
          <a:stretch/>
        </p:blipFill>
        <p:spPr>
          <a:xfrm>
            <a:off x="6156360" y="2541600"/>
            <a:ext cx="266364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9280" y="333360"/>
            <a:ext cx="799308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стройство  металлического манометра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гнутая в дугу металлическая трубка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ычаг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убчатка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трелка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.   Кран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68" name="Рисунок 3" descr=""/>
          <p:cNvPicPr/>
          <p:nvPr/>
        </p:nvPicPr>
        <p:blipFill>
          <a:blip r:embed="rId1"/>
          <a:stretch/>
        </p:blipFill>
        <p:spPr>
          <a:xfrm>
            <a:off x="1042920" y="3213000"/>
            <a:ext cx="3168720" cy="3384720"/>
          </a:xfrm>
          <a:prstGeom prst="rect">
            <a:avLst/>
          </a:prstGeom>
          <a:ln w="0">
            <a:noFill/>
          </a:ln>
        </p:spPr>
      </p:pic>
      <p:pic>
        <p:nvPicPr>
          <p:cNvPr id="269" name="Рисунок 4" descr=""/>
          <p:cNvPicPr/>
          <p:nvPr/>
        </p:nvPicPr>
        <p:blipFill>
          <a:blip r:embed="rId2"/>
          <a:stretch/>
        </p:blipFill>
        <p:spPr>
          <a:xfrm>
            <a:off x="5364000" y="3213000"/>
            <a:ext cx="273708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3T20:50:36Z</dcterms:created>
  <dc:creator>Marianna</dc:creator>
  <dc:description/>
  <dc:language>en-US</dc:language>
  <cp:lastModifiedBy>Сария Мажитовна</cp:lastModifiedBy>
  <dcterms:modified xsi:type="dcterms:W3CDTF">2018-03-12T17:04:53Z</dcterms:modified>
  <cp:revision>44</cp:revision>
  <dc:subject/>
  <dc:title>Манометры</dc:title>
</cp:coreProperties>
</file>