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4F9-847E-4D84-B3B4-F40F055A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451-71A5-4446-B7D2-572C08A9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8B8-EDA2-43E3-AEC9-D04E1C97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5EC-8DE2-4C49-A093-E7AA5CB0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FD3F5-D8A0-4C60-A783-BAF6CBCE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51043-A91E-4210-9F6F-83C95EBE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2A658-85BE-41B6-8350-6F863DC9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39AB3-130C-485B-B69C-2D1A264E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C3D80-957D-4176-9908-AD6C0437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9FAFA-A875-4B75-A060-8C59FBFF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6419D-C50F-4DAE-A814-28193C0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CDD-1BE9-42DF-9622-A9FF99A7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42FCF-7E64-4A11-BDD3-02400F9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89393-8D2C-463C-B346-0628BCB1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D5F8-8586-469C-9DF6-558FD1ED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941E4-C55A-4C72-8125-8D5B705C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9DCF0-5FEC-4658-90C1-DE440549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D7FAB-4754-4129-9390-64AD0238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6B41A-2D34-4577-B03C-0C56F6AC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0951C-2674-4831-A448-1D33216B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451AF-53C8-4F0E-B287-FCD379B3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8958B-8876-416A-9470-49B9896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612-05E2-4E88-8756-39D23560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0BAE6-21BB-42FF-A63A-73629F41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554C5-320E-4E79-8FC4-86320EB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ABD83-4A51-4E89-813D-89402BC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65212-4468-4D02-AD69-D7AF859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14B78-20C4-4E53-82B7-6D009400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C8429-070F-4677-A6E1-54107489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CD19B-CBF5-4813-806F-70E6968F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4CCAB-C3FC-4013-BC00-0DE5AAA1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D7BA5-BA2E-436C-9AE3-9FE93304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B8772-B101-40BD-9D94-4F6958DC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9FD-0FA6-4B7A-9B12-5F0DE42D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EC049-0CC9-40CF-9036-36F5142A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368BD-A9CA-4D50-899F-E7858B0D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5A159-A379-4D11-8F42-F35BB38D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393E2-9C17-4A2C-A402-776BCED5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06491-153B-47F3-8DAD-3A26DA4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90F9B-F19E-45C5-9849-0716EC0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BD125-439F-47F3-8E7F-801A64A3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7D2E7-CA6C-4B01-BC91-1B54338F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66CE3-77B6-4967-8D9F-FD17C9B8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48A97-6FEB-4906-BE20-4E7C47BD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809-B049-446A-AF31-1BA22E9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B8435-C584-4693-B58B-6F0CB554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77623-CAD1-42C1-B96A-D0645E41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FF0B5-4CAE-4B9C-A27D-799C592E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23F00-BA2D-42D2-A026-EED9F744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85546-5985-465A-BA5C-C10B398D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C0D04-DA7A-460E-A621-239A8CE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DF036-25D2-41BD-99B9-72670D5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F793D-4081-410C-A681-F3F2F94D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67409-6DA1-45F7-A080-D2C78C63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B5DEA-669A-456B-9F7F-7DC6D3EA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252-033A-41FD-BD9D-16FF16C3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9225C-FF67-4ADF-A072-8EC420EF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C6F6B-CAA1-4D0C-BEE6-A498C646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4E714-C326-4415-ACFF-EEE538E7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0AE98-FF02-4DF0-97E4-85E4A3B2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BC297-D187-4907-B21F-D7E1DF36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28B88-823C-4DF6-ACCA-921FB9B1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A1846-DE4F-45B5-B4EC-4F65E5E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E3276-DB77-408D-9919-E8A703C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CF259-1B59-4E18-83D1-58F70F15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37E4B-6ECF-47AE-A702-ABD0B2F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035-9F2C-4923-8E31-C81868B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96049-EFC6-4866-944D-A078C61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E847D-C917-426F-8449-D19206E6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156BA-27D8-4716-AA92-494A5D69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D1B-7A35-4D3C-B092-7FFC4D8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DBE-39BC-4060-9029-0CB3CA33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533C-7DF3-41C4-A970-519EC414B48A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72AA-DA38-4DB6-8A41-05E5E649B231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EABF-564E-4935-A525-44307AE8E0E8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1635-0BE1-439E-BED4-0B4BB8FD7A1F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A092-16E8-4620-8F6D-0390BEFAF823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5947-FF8C-4B69-98CE-95CFDAA4843D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5254-e921-11dc-95ff-0800200c9a66/4_12.swf" TargetMode="External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2" name="Рисунок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6" name="Рисунок 7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8" descr=""/>
          <p:cNvPicPr/>
          <p:nvPr/>
        </p:nvPicPr>
        <p:blipFill>
          <a:blip r:embed="rId2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9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"/>
          <p:cNvPicPr/>
          <p:nvPr/>
        </p:nvPicPr>
        <p:blipFill>
          <a:blip r:embed="rId4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1" descr=""/>
          <p:cNvPicPr/>
          <p:nvPr/>
        </p:nvPicPr>
        <p:blipFill>
          <a:blip r:embed="rId5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2" descr=""/>
          <p:cNvPicPr/>
          <p:nvPr/>
        </p:nvPicPr>
        <p:blipFill>
          <a:blip r:embed="rId6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Объект 4" descr=""/>
          <p:cNvPicPr/>
          <p:nvPr/>
        </p:nvPicPr>
        <p:blipFill>
          <a:blip r:embed="rId1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5" name="Рисунок 5" descr=""/>
          <p:cNvPicPr/>
          <p:nvPr/>
        </p:nvPicPr>
        <p:blipFill>
          <a:blip r:embed="rId2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"/>
          <p:cNvPicPr/>
          <p:nvPr/>
        </p:nvPicPr>
        <p:blipFill>
          <a:blip r:embed="rId3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"/>
          <p:cNvPicPr/>
          <p:nvPr/>
        </p:nvPicPr>
        <p:blipFill>
          <a:blip r:embed="rId4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4" name="Прямоугольник 3" descr=""/>
          <p:cNvPicPr/>
          <p:nvPr/>
        </p:nvPicPr>
        <p:blipFill>
          <a:blip r:embed="rId1"/>
          <a:stretch/>
        </p:blipFill>
        <p:spPr>
          <a:xfrm>
            <a:off x="2004840" y="1504800"/>
            <a:ext cx="5200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Объект 3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2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3" name="Объект 7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8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9" descr=""/>
          <p:cNvPicPr/>
          <p:nvPr/>
        </p:nvPicPr>
        <p:blipFill>
          <a:blip r:embed="rId3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8" name="Рисунок 3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4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Сария Мажитовна</cp:lastModifiedBy>
  <dcterms:modified xsi:type="dcterms:W3CDTF">2018-03-12T17:04:53Z</dcterms:modified>
  <cp:revision>44</cp:revision>
  <dc:subject/>
  <dc:title>Манометры</dc:title>
</cp:coreProperties>
</file>