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3.jpeg" ContentType="image/jpeg"/>
  <Override PartName="/ppt/media/image27.jpeg" ContentType="image/jpeg"/>
  <Override PartName="/ppt/media/image5.wmf" ContentType="image/x-wmf"/>
  <Override PartName="/ppt/media/image33.jpeg" ContentType="image/jpeg"/>
  <Override PartName="/ppt/media/image25.jpeg" ContentType="image/jpeg"/>
  <Override PartName="/ppt/media/image10.wmf" ContentType="image/x-wmf"/>
  <Override PartName="/ppt/media/image4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3.gif" ContentType="image/gif"/>
  <Override PartName="/ppt/media/image14.wmf" ContentType="image/x-wmf"/>
  <Override PartName="/ppt/media/image32.jpeg" ContentType="image/jpeg"/>
  <Override PartName="/ppt/media/image18.wmf" ContentType="image/x-wmf"/>
  <Override PartName="/ppt/media/image26.jpeg" ContentType="image/jpeg"/>
  <Override PartName="/ppt/media/image11.wmf" ContentType="image/x-wmf"/>
  <Override PartName="/ppt/media/image1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23.jpeg" ContentType="image/jpeg"/>
  <Override PartName="/ppt/media/image15.jpeg" ContentType="image/jpeg"/>
  <Override PartName="/ppt/media/image16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A72-5093-41C3-B57E-06921330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F25-0277-4A94-8BFB-0A7107C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3F7-342F-439B-8E7A-0BBCBC9F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AD8-0092-4F11-85E4-BCBE1E1C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2A3-C942-4FC3-A799-97B727EE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234-56C0-4255-BDDF-D2F4706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4BD-ECA3-4436-A4A5-7AF88EA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9C3-30E0-4492-AC2E-F7A1EF0A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ED4-4E06-4002-A78E-93FCC17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AE4-4BD8-4CC0-9CE0-0FF2AF0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E0A-3D2E-4419-9715-83EE3C1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292-1C0D-42C4-AFA5-8FB203A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B65-B609-44BF-980F-40D28D298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005654"/>
                </a:solidFill>
                <a:latin typeface="Arial"/>
              </a:rPr>
              <a:t>класс 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052640"/>
            <a:ext cx="777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Точк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Кривая линия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Прямая линия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Отрезок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6" descr="RULER1"/>
          <p:cNvPicPr/>
          <p:nvPr/>
        </p:nvPicPr>
        <p:blipFill>
          <a:blip r:embed="rId1"/>
          <a:stretch/>
        </p:blipFill>
        <p:spPr>
          <a:xfrm>
            <a:off x="395280" y="3860640"/>
            <a:ext cx="40672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9"/>
          <p:cNvSpPr txBox="1"/>
          <p:nvPr/>
        </p:nvSpPr>
        <p:spPr>
          <a:xfrm>
            <a:off x="324000" y="26028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  +   2  = 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971640" y="260280"/>
            <a:ext cx="936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6"/>
          <p:cNvSpPr txBox="1"/>
          <p:nvPr/>
        </p:nvSpPr>
        <p:spPr>
          <a:xfrm>
            <a:off x="395280" y="162864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5  -  1   = 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5" name="WordArt 17"/>
          <p:cNvSpPr txBox="1"/>
          <p:nvPr/>
        </p:nvSpPr>
        <p:spPr>
          <a:xfrm>
            <a:off x="324000" y="306864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  +  1   = 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324000" y="458136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4   -    3   = 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5148360" y="393372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  +  2 =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5219640" y="537372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4   -   1  = 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1692360" y="1628640"/>
            <a:ext cx="93672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1692360" y="306864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00000" y="465300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96000" y="400536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5867280" y="537372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6" descr="j0294973"/>
          <p:cNvPicPr/>
          <p:nvPr/>
        </p:nvPicPr>
        <p:blipFill>
          <a:blip r:embed="rId1"/>
          <a:stretch/>
        </p:blipFill>
        <p:spPr>
          <a:xfrm>
            <a:off x="5364000" y="404640"/>
            <a:ext cx="2821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5"/>
          <p:cNvSpPr txBox="1"/>
          <p:nvPr/>
        </p:nvSpPr>
        <p:spPr>
          <a:xfrm>
            <a:off x="468360" y="47628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Найди недостающую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фигуру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844640"/>
          <a:ext cx="5986440" cy="4530600"/>
        </p:xfrm>
        <a:graphic>
          <a:graphicData uri="http://schemas.openxmlformats.org/drawingml/2006/table">
            <a:tbl>
              <a:tblPr/>
              <a:tblGrid>
                <a:gridCol w="1995480"/>
                <a:gridCol w="1995480"/>
                <a:gridCol w="199548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Oval 89"/>
          <p:cNvSpPr/>
          <p:nvPr/>
        </p:nvSpPr>
        <p:spPr>
          <a:xfrm>
            <a:off x="900000" y="2133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0"/>
          <p:cNvSpPr/>
          <p:nvPr/>
        </p:nvSpPr>
        <p:spPr>
          <a:xfrm>
            <a:off x="5003640" y="37162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7"/>
          <p:cNvSpPr/>
          <p:nvPr/>
        </p:nvSpPr>
        <p:spPr>
          <a:xfrm>
            <a:off x="900000" y="5229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4"/>
          <p:cNvSpPr/>
          <p:nvPr/>
        </p:nvSpPr>
        <p:spPr>
          <a:xfrm>
            <a:off x="3059280" y="364500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5"/>
          <p:cNvSpPr/>
          <p:nvPr/>
        </p:nvSpPr>
        <p:spPr>
          <a:xfrm>
            <a:off x="3059280" y="213372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6"/>
          <p:cNvSpPr/>
          <p:nvPr/>
        </p:nvSpPr>
        <p:spPr>
          <a:xfrm>
            <a:off x="4932360" y="515772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7"/>
          <p:cNvSpPr/>
          <p:nvPr/>
        </p:nvSpPr>
        <p:spPr>
          <a:xfrm>
            <a:off x="5003640" y="2133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9"/>
          <p:cNvSpPr/>
          <p:nvPr/>
        </p:nvSpPr>
        <p:spPr>
          <a:xfrm>
            <a:off x="900000" y="36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0"/>
          <p:cNvSpPr/>
          <p:nvPr/>
        </p:nvSpPr>
        <p:spPr>
          <a:xfrm>
            <a:off x="7164360" y="5157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94912E-006 L -0.4566 -0.01064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250920" y="18900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Рабо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со счётными палочк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5715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4"/>
          <p:cNvSpPr/>
          <p:nvPr/>
        </p:nvSpPr>
        <p:spPr>
          <a:xfrm>
            <a:off x="1619280" y="981000"/>
            <a:ext cx="5616720" cy="5112000"/>
          </a:xfrm>
          <a:prstGeom prst="rect">
            <a:avLst/>
          </a:prstGeom>
          <a:noFill/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427640" y="981000"/>
            <a:ext cx="0" cy="511200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8"/>
          <p:cNvSpPr/>
          <p:nvPr/>
        </p:nvSpPr>
        <p:spPr>
          <a:xfrm>
            <a:off x="1619280" y="3537000"/>
            <a:ext cx="5616720" cy="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фигуру так, как показано на рисунке. Сколько здесь квадра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3"/>
          <p:cNvSpPr/>
          <p:nvPr/>
        </p:nvSpPr>
        <p:spPr>
          <a:xfrm>
            <a:off x="1619280" y="981000"/>
            <a:ext cx="5616720" cy="5112000"/>
          </a:xfrm>
          <a:prstGeom prst="rect">
            <a:avLst/>
          </a:prstGeom>
          <a:noFill/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79280" y="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рите 2 палочки, чтобы осталось 2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>
            <a:off x="4427640" y="981000"/>
            <a:ext cx="0" cy="2592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8"/>
          <p:cNvSpPr/>
          <p:nvPr/>
        </p:nvSpPr>
        <p:spPr>
          <a:xfrm>
            <a:off x="1618560" y="3536280"/>
            <a:ext cx="2808360" cy="36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 flipV="1">
            <a:off x="4427640" y="3536640"/>
            <a:ext cx="2808360" cy="36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4427640" y="3284640"/>
            <a:ext cx="0" cy="2808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7"/>
          <p:cNvGrpSpPr/>
          <p:nvPr/>
        </p:nvGrpSpPr>
        <p:grpSpPr>
          <a:xfrm>
            <a:off x="4932360" y="3429000"/>
            <a:ext cx="3598920" cy="1490760"/>
            <a:chOff x="4932360" y="3429000"/>
            <a:chExt cx="3598920" cy="1490760"/>
          </a:xfrm>
        </p:grpSpPr>
        <p:sp>
          <p:nvSpPr>
            <p:cNvPr id="179" name="Rectangle 5"/>
            <p:cNvSpPr/>
            <p:nvPr/>
          </p:nvSpPr>
          <p:spPr>
            <a:xfrm>
              <a:off x="4932360" y="3429000"/>
              <a:ext cx="3598920" cy="14907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5581800" y="3862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7813800" y="3573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 flipV="1">
              <a:off x="5508720" y="3789000"/>
              <a:ext cx="865080" cy="64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5148360" y="4654440"/>
              <a:ext cx="865080" cy="14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300720" y="3502080"/>
              <a:ext cx="1079640" cy="1009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7524720" y="4005360"/>
              <a:ext cx="865440" cy="7920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6013440" y="4437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611280" y="3141720"/>
            <a:ext cx="3598920" cy="1490760"/>
            <a:chOff x="611280" y="3141720"/>
            <a:chExt cx="3598920" cy="1490760"/>
          </a:xfrm>
        </p:grpSpPr>
        <p:sp>
          <p:nvSpPr>
            <p:cNvPr id="188" name="Rectangle 4"/>
            <p:cNvSpPr/>
            <p:nvPr/>
          </p:nvSpPr>
          <p:spPr>
            <a:xfrm>
              <a:off x="611280" y="3141720"/>
              <a:ext cx="3598920" cy="14907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"/>
            <p:cNvSpPr/>
            <p:nvPr/>
          </p:nvSpPr>
          <p:spPr>
            <a:xfrm>
              <a:off x="1764000" y="4150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2267280" y="42930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2556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564360" y="34293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2267280" y="3934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2627640" y="4150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204000" y="3861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2843640" y="43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2988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1980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"/>
            <p:cNvSpPr/>
            <p:nvPr/>
          </p:nvSpPr>
          <p:spPr>
            <a:xfrm>
              <a:off x="1474920" y="3718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4"/>
            <p:cNvSpPr/>
            <p:nvPr/>
          </p:nvSpPr>
          <p:spPr>
            <a:xfrm>
              <a:off x="2195640" y="3718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2627640" y="3934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WordArt 28"/>
          <p:cNvSpPr txBox="1"/>
          <p:nvPr/>
        </p:nvSpPr>
        <p:spPr>
          <a:xfrm>
            <a:off x="755640" y="260280"/>
            <a:ext cx="7489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стран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ГЕОМЕТРИЯ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>
            <a:off x="3419640" y="213372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900000" y="213372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940360" y="213372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234068"/>
          <p:cNvPicPr/>
          <p:nvPr/>
        </p:nvPicPr>
        <p:blipFill>
          <a:blip r:embed="rId1"/>
          <a:stretch/>
        </p:blipFill>
        <p:spPr>
          <a:xfrm>
            <a:off x="5651640" y="1844640"/>
            <a:ext cx="2092320" cy="193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0234068"/>
          <p:cNvPicPr/>
          <p:nvPr/>
        </p:nvPicPr>
        <p:blipFill>
          <a:blip r:embed="rId2"/>
          <a:stretch/>
        </p:blipFill>
        <p:spPr>
          <a:xfrm flipH="1">
            <a:off x="1763640" y="1916280"/>
            <a:ext cx="2084400" cy="1930320"/>
          </a:xfrm>
          <a:prstGeom prst="rect">
            <a:avLst/>
          </a:prstGeom>
          <a:ln w="0">
            <a:noFill/>
          </a:ln>
        </p:spPr>
      </p:pic>
      <p:sp>
        <p:nvSpPr>
          <p:cNvPr id="208" name="Oval 10"/>
          <p:cNvSpPr/>
          <p:nvPr/>
        </p:nvSpPr>
        <p:spPr>
          <a:xfrm>
            <a:off x="5940360" y="1989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3276720" y="1989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203640" y="335772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310920" y="100008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637080" y="3573360"/>
            <a:ext cx="19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2340000" y="4581360"/>
            <a:ext cx="4536720" cy="1995120"/>
            <a:chOff x="2340000" y="4581360"/>
            <a:chExt cx="4536720" cy="1995120"/>
          </a:xfrm>
        </p:grpSpPr>
        <p:sp>
          <p:nvSpPr>
            <p:cNvPr id="214" name="Rectangle 16"/>
            <p:cNvSpPr/>
            <p:nvPr/>
          </p:nvSpPr>
          <p:spPr>
            <a:xfrm>
              <a:off x="2340000" y="4581360"/>
              <a:ext cx="4536720" cy="1995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3158640" y="516132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5972400" y="477432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9"/>
            <p:cNvSpPr/>
            <p:nvPr/>
          </p:nvSpPr>
          <p:spPr>
            <a:xfrm flipV="1">
              <a:off x="3066480" y="5063040"/>
              <a:ext cx="1090440" cy="866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0"/>
            <p:cNvSpPr/>
            <p:nvPr/>
          </p:nvSpPr>
          <p:spPr>
            <a:xfrm>
              <a:off x="2612160" y="6221520"/>
              <a:ext cx="1090440" cy="193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4064760" y="4678920"/>
              <a:ext cx="1360800" cy="135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5607720" y="5352480"/>
              <a:ext cx="1090800" cy="1059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3702600" y="593028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man Old Style"/>
              </a:rPr>
              <a:t>Физкультминутка</a:t>
            </a: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25880" y="1268280"/>
            <a:ext cx="843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уратино потянулс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з нагнулся, два нагнулс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уки вытянул, согну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 по улице шагну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5796000" y="306864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6"/>
          <p:cNvSpPr txBox="1"/>
          <p:nvPr/>
        </p:nvSpPr>
        <p:spPr>
          <a:xfrm>
            <a:off x="5292720" y="260280"/>
            <a:ext cx="356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бот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по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учебнику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3924360" y="3933720"/>
            <a:ext cx="4968720" cy="2641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стр.  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40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– 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41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6" descr="Математика. Учебник. часть 1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40384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29" name="Text Box 5"/>
          <p:cNvSpPr/>
          <p:nvPr/>
        </p:nvSpPr>
        <p:spPr>
          <a:xfrm>
            <a:off x="663480" y="4673520"/>
            <a:ext cx="80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и прямые линии, отрезки прямых (отрез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37640" y="1500120"/>
            <a:ext cx="61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Сколько шей у пяти гус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птица 5"/>
          <p:cNvPicPr/>
          <p:nvPr/>
        </p:nvPicPr>
        <p:blipFill>
          <a:blip r:embed="rId1"/>
          <a:stretch/>
        </p:blipFill>
        <p:spPr>
          <a:xfrm flipH="1">
            <a:off x="-7740720" y="3860640"/>
            <a:ext cx="316872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тица 5"/>
          <p:cNvPicPr/>
          <p:nvPr/>
        </p:nvPicPr>
        <p:blipFill>
          <a:blip r:embed="rId2"/>
          <a:stretch/>
        </p:blipFill>
        <p:spPr>
          <a:xfrm flipH="1">
            <a:off x="-6517080" y="5877000"/>
            <a:ext cx="3313080" cy="2511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птица 5"/>
          <p:cNvPicPr/>
          <p:nvPr/>
        </p:nvPicPr>
        <p:blipFill>
          <a:blip r:embed="rId3"/>
          <a:stretch/>
        </p:blipFill>
        <p:spPr>
          <a:xfrm flipH="1">
            <a:off x="-2060640" y="5295960"/>
            <a:ext cx="2060640" cy="15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птица 5"/>
          <p:cNvPicPr/>
          <p:nvPr/>
        </p:nvPicPr>
        <p:blipFill>
          <a:blip r:embed="rId4"/>
          <a:stretch/>
        </p:blipFill>
        <p:spPr>
          <a:xfrm flipH="1">
            <a:off x="-3565440" y="5857920"/>
            <a:ext cx="263664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птица 5"/>
          <p:cNvPicPr/>
          <p:nvPr/>
        </p:nvPicPr>
        <p:blipFill>
          <a:blip r:embed="rId5"/>
          <a:stretch/>
        </p:blipFill>
        <p:spPr>
          <a:xfrm flipH="1">
            <a:off x="-3277080" y="3933720"/>
            <a:ext cx="259236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93559 -0.40717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L 0.79548 -0.3044 E">
                                      <p:cBhvr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5185E-006 L 0.88993 -0.25208 E">
                                      <p:cBhvr>
                                        <p:cTn id="10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6898 L 0.87395 -0.225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48148E-006 L 1.02135 -0.24769 E">
                                      <p:cBhvr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36514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31" name="Line 5"/>
          <p:cNvSpPr/>
          <p:nvPr/>
        </p:nvSpPr>
        <p:spPr>
          <a:xfrm flipV="1">
            <a:off x="324000" y="404280"/>
            <a:ext cx="4895640" cy="1008360"/>
          </a:xfrm>
          <a:prstGeom prst="line">
            <a:avLst/>
          </a:prstGeom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780000" y="1484280"/>
            <a:ext cx="4032000" cy="7308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6300720" y="2421000"/>
            <a:ext cx="1871640" cy="72072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716360" y="3213000"/>
            <a:ext cx="1008000" cy="144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"/>
          <p:cNvSpPr/>
          <p:nvPr/>
        </p:nvSpPr>
        <p:spPr>
          <a:xfrm>
            <a:off x="1042920" y="1844640"/>
            <a:ext cx="3673440" cy="1235160"/>
          </a:xfrm>
          <a:prstGeom prst="pie">
            <a:avLst/>
          </a:pr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468360" y="2276640"/>
            <a:ext cx="2303280" cy="1019160"/>
          </a:xfrm>
          <a:prstGeom prst="pie">
            <a:avLst/>
          </a:prstGeom>
          <a:noFill/>
          <a:ln w="1015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5999040" y="2097000"/>
            <a:ext cx="2281320" cy="1355760"/>
          </a:xfrm>
          <a:prstGeom prst="pie">
            <a:avLst/>
          </a:prstGeom>
          <a:noFill/>
          <a:ln w="1015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771640" y="1413000"/>
            <a:ext cx="5904000" cy="144360"/>
          </a:xfrm>
          <a:prstGeom prst="line">
            <a:avLst/>
          </a:prstGeom>
          <a:ln w="104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95280" y="407664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и прямые линии, отрезки прямых (отрез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24000" y="333360"/>
            <a:ext cx="2592360" cy="259236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348000" y="1989000"/>
            <a:ext cx="2592360" cy="259236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227640" y="3860640"/>
            <a:ext cx="2592360" cy="259272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8"/>
          <p:cNvSpPr/>
          <p:nvPr/>
        </p:nvSpPr>
        <p:spPr>
          <a:xfrm>
            <a:off x="539640" y="692280"/>
            <a:ext cx="2173320" cy="201600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9"/>
          <p:cNvSpPr/>
          <p:nvPr/>
        </p:nvSpPr>
        <p:spPr>
          <a:xfrm>
            <a:off x="1332000" y="692280"/>
            <a:ext cx="1189080" cy="20160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0"/>
          <p:cNvSpPr/>
          <p:nvPr/>
        </p:nvSpPr>
        <p:spPr>
          <a:xfrm rot="21217800">
            <a:off x="610920" y="1052640"/>
            <a:ext cx="2147760" cy="151272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68360" y="1413000"/>
            <a:ext cx="2303280" cy="468360"/>
          </a:xfrm>
          <a:prstGeom prst="pie">
            <a:avLst/>
          </a:pr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4067280" y="2276280"/>
            <a:ext cx="936360" cy="2089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3492360" y="2781360"/>
            <a:ext cx="2232000" cy="93672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3348000" y="2060640"/>
            <a:ext cx="2519280" cy="24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6659640" y="4508280"/>
            <a:ext cx="194472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"/>
          <p:cNvSpPr/>
          <p:nvPr/>
        </p:nvSpPr>
        <p:spPr>
          <a:xfrm>
            <a:off x="6504120" y="4138560"/>
            <a:ext cx="1884240" cy="18828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8"/>
          <p:cNvSpPr/>
          <p:nvPr/>
        </p:nvSpPr>
        <p:spPr>
          <a:xfrm>
            <a:off x="6877080" y="4484520"/>
            <a:ext cx="1871640" cy="1897200"/>
          </a:xfrm>
          <a:prstGeom prst="pie">
            <a:avLst/>
          </a:pr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9"/>
          <p:cNvSpPr/>
          <p:nvPr/>
        </p:nvSpPr>
        <p:spPr>
          <a:xfrm>
            <a:off x="6205680" y="4413240"/>
            <a:ext cx="2614320" cy="186048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0"/>
          <p:cNvSpPr/>
          <p:nvPr/>
        </p:nvSpPr>
        <p:spPr>
          <a:xfrm>
            <a:off x="1332000" y="15573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1"/>
          <p:cNvSpPr/>
          <p:nvPr/>
        </p:nvSpPr>
        <p:spPr>
          <a:xfrm>
            <a:off x="442764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2"/>
          <p:cNvSpPr/>
          <p:nvPr/>
        </p:nvSpPr>
        <p:spPr>
          <a:xfrm>
            <a:off x="6804000" y="57340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3"/>
          <p:cNvSpPr/>
          <p:nvPr/>
        </p:nvSpPr>
        <p:spPr>
          <a:xfrm>
            <a:off x="8172360" y="4653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79280" y="3213000"/>
            <a:ext cx="383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кривых и сколько прямых линий можно пров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через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 точк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3059280" y="189000"/>
            <a:ext cx="60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Сколько кривых и сколько прямых линий можно провести через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 точки</a:t>
            </a: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4932360" y="566100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654"/>
                </a:solidFill>
                <a:latin typeface="Times New Roman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7561440" cy="6492960"/>
          </a:xfrm>
          <a:prstGeom prst="rect">
            <a:avLst/>
          </a:prstGeom>
          <a:ln w="9360">
            <a:solidFill>
              <a:srgbClr val="005654"/>
            </a:solidFill>
            <a:miter/>
          </a:ln>
        </p:spPr>
      </p:pic>
      <p:sp>
        <p:nvSpPr>
          <p:cNvPr id="262" name="Text Box 5"/>
          <p:cNvSpPr/>
          <p:nvPr/>
        </p:nvSpPr>
        <p:spPr>
          <a:xfrm>
            <a:off x="250920" y="189000"/>
            <a:ext cx="30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линии, отре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759636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4"/>
          <p:cNvSpPr/>
          <p:nvPr/>
        </p:nvSpPr>
        <p:spPr>
          <a:xfrm>
            <a:off x="39528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12"/>
          <p:cNvPicPr/>
          <p:nvPr/>
        </p:nvPicPr>
        <p:blipFill>
          <a:blip r:embed="rId1"/>
          <a:stretch/>
        </p:blipFill>
        <p:spPr>
          <a:xfrm>
            <a:off x="179280" y="981000"/>
            <a:ext cx="3024360" cy="238932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66" name="Text Box 6"/>
          <p:cNvSpPr/>
          <p:nvPr/>
        </p:nvSpPr>
        <p:spPr>
          <a:xfrm>
            <a:off x="321840" y="189000"/>
            <a:ext cx="83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54"/>
                </a:solidFill>
                <a:latin typeface="Times New Roman"/>
              </a:rPr>
              <a:t>Какая запись подходит к каждой карти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12"/>
          <p:cNvPicPr/>
          <p:nvPr/>
        </p:nvPicPr>
        <p:blipFill>
          <a:blip r:embed="rId2"/>
          <a:stretch/>
        </p:blipFill>
        <p:spPr>
          <a:xfrm>
            <a:off x="5867280" y="4149720"/>
            <a:ext cx="3024360" cy="23446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68" name="Rectangle 8"/>
          <p:cNvSpPr/>
          <p:nvPr/>
        </p:nvSpPr>
        <p:spPr>
          <a:xfrm>
            <a:off x="3492360" y="191628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+ 1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492360" y="306864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– 1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3492360" y="4221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1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492360" y="537372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348000" y="1628640"/>
            <a:ext cx="2303640" cy="136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H="1">
            <a:off x="1908000" y="2349360"/>
            <a:ext cx="1440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3348000" y="5084640"/>
            <a:ext cx="2303640" cy="136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5651640" y="5805360"/>
            <a:ext cx="107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3057480"/>
          </a:xfrm>
          <a:prstGeom prst="rect">
            <a:avLst/>
          </a:prstGeom>
          <a:ln w="9360">
            <a:solidFill>
              <a:srgbClr val="005654"/>
            </a:solidFill>
            <a:miter/>
          </a:ln>
        </p:spPr>
      </p:pic>
      <p:sp>
        <p:nvSpPr>
          <p:cNvPr id="277" name="Oval 5"/>
          <p:cNvSpPr/>
          <p:nvPr/>
        </p:nvSpPr>
        <p:spPr>
          <a:xfrm>
            <a:off x="39528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11280" y="3860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187280" y="3860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658800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716436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543564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6012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1116000" y="4797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1692360" y="4797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2268360" y="4797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493236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7020000" y="494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7667640" y="494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378000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4356000" y="5516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550872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6443640" y="494172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781200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845964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9" descr="j0294973"/>
          <p:cNvPicPr/>
          <p:nvPr/>
        </p:nvPicPr>
        <p:blipFill>
          <a:blip r:embed="rId2"/>
          <a:stretch/>
        </p:blipFill>
        <p:spPr>
          <a:xfrm>
            <a:off x="3059280" y="3284640"/>
            <a:ext cx="1917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7567E-006 L -0.07882 -0.56637 E">
                                      <p:cBhvr>
                                        <p:cTn id="45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951E-007 L -0.44098 -0.44056 E">
                                      <p:cBhvr>
                                        <p:cTn id="46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9593E-006 L -0.44879 -0.58742 E">
                                      <p:cBhvr>
                                        <p:cTn id="46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2951E-007 L -0.29132 -0.45097 E">
                                      <p:cBhvr>
                                        <p:cTn id="47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2951E-007 L -0.2441 -0.45097 E">
                                      <p:cBhvr>
                                        <p:cTn id="47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61702E-006 L 0.16545 -0.67114 E">
                                      <p:cBhvr>
                                        <p:cTn id="47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7567E-006 L 0.49601 -0.56637 E">
                                      <p:cBhvr>
                                        <p:cTn id="48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4209E-006 L 0.72448 -0.42992 E">
                                      <p:cBhvr>
                                        <p:cTn id="48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0.40955 -0.67114 E">
                                      <p:cBhvr>
                                        <p:cTn id="490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9593E-006 L -0.71649 -0.31476 E">
                                      <p:cBhvr>
                                        <p:cTn id="494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951E-007 L -0.62205 -0.17831 E">
                                      <p:cBhvr>
                                        <p:cTn id="498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7567E-006 L 0.01563 -0.30435 E">
                                      <p:cBhvr>
                                        <p:cTn id="50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39593E-006 L -0.46458 -0.31476 E">
                                      <p:cBhvr>
                                        <p:cTn id="50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54209E-006 L 0.35434 -0.15726 E">
                                      <p:cBhvr>
                                        <p:cTn id="51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23 L 0.04722 -0.40912 E">
                                      <p:cBhvr>
                                        <p:cTn id="51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0.09445 -0.39848 E">
                                      <p:cBhvr>
                                        <p:cTn id="518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2951E-007 L -0.04722 -0.18895 E">
                                      <p:cBhvr>
                                        <p:cTn id="52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2951E-007 L -0.01562 -0.18895 E">
                                      <p:cBhvr>
                                        <p:cTn id="5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4716360" y="260280"/>
            <a:ext cx="4103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бот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тетради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3924360" y="3933720"/>
            <a:ext cx="4968720" cy="2641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стр.  1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5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Математика. Рабочая тетрадь. часть 1.JPG"/>
          <p:cNvPicPr/>
          <p:nvPr/>
        </p:nvPicPr>
        <p:blipFill>
          <a:blip r:embed="rId1"/>
          <a:stretch/>
        </p:blipFill>
        <p:spPr>
          <a:xfrm>
            <a:off x="179280" y="333360"/>
            <a:ext cx="35308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17.JPG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17.JPG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40701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4668840"/>
            <a:ext cx="3335400" cy="1152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5205240" y="4668840"/>
            <a:ext cx="346896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68688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133452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522324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587088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644724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17.JPG"/>
          <p:cNvPicPr/>
          <p:nvPr/>
        </p:nvPicPr>
        <p:blipFill>
          <a:blip r:embed="rId1"/>
          <a:stretch/>
        </p:blipFill>
        <p:spPr>
          <a:xfrm>
            <a:off x="179280" y="333360"/>
            <a:ext cx="8769600" cy="33829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310" name="Прямая соединительная линия 3"/>
          <p:cNvSpPr/>
          <p:nvPr/>
        </p:nvSpPr>
        <p:spPr>
          <a:xfrm>
            <a:off x="4284720" y="1844640"/>
            <a:ext cx="3024000" cy="71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олилиния 4"/>
          <p:cNvSpPr/>
          <p:nvPr/>
        </p:nvSpPr>
        <p:spPr>
          <a:xfrm>
            <a:off x="4003560" y="1565280"/>
            <a:ext cx="3702240" cy="735120"/>
          </a:xfrm>
          <a:prstGeom prst="pi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олилиния 5"/>
          <p:cNvSpPr/>
          <p:nvPr/>
        </p:nvSpPr>
        <p:spPr>
          <a:xfrm>
            <a:off x="4073400" y="1606680"/>
            <a:ext cx="3892680" cy="761760"/>
          </a:xfrm>
          <a:prstGeom prst="pi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1" descr="17.JPG"/>
          <p:cNvPicPr/>
          <p:nvPr/>
        </p:nvPicPr>
        <p:blipFill>
          <a:blip r:embed="rId1"/>
          <a:stretch/>
        </p:blipFill>
        <p:spPr>
          <a:xfrm>
            <a:off x="179280" y="404640"/>
            <a:ext cx="8701200" cy="3816360"/>
          </a:xfrm>
          <a:prstGeom prst="rect">
            <a:avLst/>
          </a:prstGeom>
          <a:ln w="9360">
            <a:solidFill>
              <a:srgbClr val="9c9cdf"/>
            </a:solidFill>
            <a:miter/>
          </a:ln>
        </p:spPr>
      </p:pic>
      <p:sp>
        <p:nvSpPr>
          <p:cNvPr id="314" name="Прямоугольник 2"/>
          <p:cNvSpPr/>
          <p:nvPr/>
        </p:nvSpPr>
        <p:spPr>
          <a:xfrm>
            <a:off x="1979640" y="2276640"/>
            <a:ext cx="50472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627280" y="2276640"/>
            <a:ext cx="50472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348000" y="2276640"/>
            <a:ext cx="50328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3995640" y="2276640"/>
            <a:ext cx="505080" cy="504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4716360" y="2276640"/>
            <a:ext cx="503280" cy="504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Равнобедренный треугольник 7"/>
          <p:cNvSpPr/>
          <p:nvPr/>
        </p:nvSpPr>
        <p:spPr>
          <a:xfrm>
            <a:off x="190800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8"/>
          <p:cNvSpPr/>
          <p:nvPr/>
        </p:nvSpPr>
        <p:spPr>
          <a:xfrm>
            <a:off x="262728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9"/>
          <p:cNvSpPr/>
          <p:nvPr/>
        </p:nvSpPr>
        <p:spPr>
          <a:xfrm>
            <a:off x="334800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10"/>
          <p:cNvSpPr/>
          <p:nvPr/>
        </p:nvSpPr>
        <p:spPr>
          <a:xfrm>
            <a:off x="399564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Равнобедренный треугольник 11"/>
          <p:cNvSpPr/>
          <p:nvPr/>
        </p:nvSpPr>
        <p:spPr>
          <a:xfrm>
            <a:off x="471636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Ромб 12"/>
          <p:cNvSpPr/>
          <p:nvPr/>
        </p:nvSpPr>
        <p:spPr>
          <a:xfrm>
            <a:off x="1835280" y="3429000"/>
            <a:ext cx="720720" cy="6476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омб 13"/>
          <p:cNvSpPr/>
          <p:nvPr/>
        </p:nvSpPr>
        <p:spPr>
          <a:xfrm>
            <a:off x="2556000" y="3429000"/>
            <a:ext cx="7207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Ромб 14"/>
          <p:cNvSpPr/>
          <p:nvPr/>
        </p:nvSpPr>
        <p:spPr>
          <a:xfrm>
            <a:off x="3276720" y="3429000"/>
            <a:ext cx="7189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омб 15"/>
          <p:cNvSpPr/>
          <p:nvPr/>
        </p:nvSpPr>
        <p:spPr>
          <a:xfrm>
            <a:off x="3995640" y="3429000"/>
            <a:ext cx="7207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омб 16"/>
          <p:cNvSpPr/>
          <p:nvPr/>
        </p:nvSpPr>
        <p:spPr>
          <a:xfrm>
            <a:off x="4716360" y="3429000"/>
            <a:ext cx="71928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47640" y="333360"/>
            <a:ext cx="597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8360" y="119700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Как называется утренняя еда до обе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276720" cy="4394160"/>
          </a:xfrm>
          <a:prstGeom prst="rect">
            <a:avLst/>
          </a:prstGeom>
          <a:ln w="76320">
            <a:solidFill>
              <a:srgbClr val="005654"/>
            </a:solidFill>
            <a:miter/>
          </a:ln>
        </p:spPr>
      </p:pic>
      <p:pic>
        <p:nvPicPr>
          <p:cNvPr id="54" name="Picture 5" descr="j0232101"/>
          <p:cNvPicPr/>
          <p:nvPr/>
        </p:nvPicPr>
        <p:blipFill>
          <a:blip r:embed="rId2"/>
          <a:stretch/>
        </p:blipFill>
        <p:spPr>
          <a:xfrm>
            <a:off x="971640" y="2421000"/>
            <a:ext cx="31068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17.JPG"/>
          <p:cNvPicPr/>
          <p:nvPr/>
        </p:nvPicPr>
        <p:blipFill>
          <a:blip r:embed="rId1"/>
          <a:stretch/>
        </p:blipFill>
        <p:spPr>
          <a:xfrm>
            <a:off x="179280" y="260280"/>
            <a:ext cx="858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468360" y="476280"/>
            <a:ext cx="8136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Спасибо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з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grpSp>
        <p:nvGrpSpPr>
          <p:cNvPr id="331" name="Group 74"/>
          <p:cNvGrpSpPr/>
          <p:nvPr/>
        </p:nvGrpSpPr>
        <p:grpSpPr>
          <a:xfrm>
            <a:off x="3925080" y="3860640"/>
            <a:ext cx="4968000" cy="2712600"/>
            <a:chOff x="3925080" y="3860640"/>
            <a:chExt cx="4968000" cy="2712600"/>
          </a:xfrm>
        </p:grpSpPr>
        <p:sp>
          <p:nvSpPr>
            <p:cNvPr id="332" name="Freeform 13"/>
            <p:cNvSpPr/>
            <p:nvPr/>
          </p:nvSpPr>
          <p:spPr>
            <a:xfrm flipH="1">
              <a:off x="6865200" y="3953880"/>
              <a:ext cx="1257120" cy="929160"/>
            </a:xfrm>
            <a:prstGeom prst="pie">
              <a:avLst/>
            </a:prstGeom>
            <a:solidFill>
              <a:srgbClr val="383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 flipH="1">
              <a:off x="6802560" y="4259160"/>
              <a:ext cx="1627200" cy="918360"/>
            </a:xfrm>
            <a:prstGeom prst="pie">
              <a:avLst/>
            </a:prstGeom>
            <a:solidFill>
              <a:srgbClr val="383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 flipH="1">
              <a:off x="6794640" y="3860640"/>
              <a:ext cx="1620000" cy="10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 flipH="1">
              <a:off x="6810480" y="4176000"/>
              <a:ext cx="1736640" cy="9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 flipH="1">
              <a:off x="7569720" y="4539240"/>
              <a:ext cx="500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 flipH="1">
              <a:off x="7254360" y="3957120"/>
              <a:ext cx="11628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 flipH="1">
              <a:off x="7063920" y="4089960"/>
              <a:ext cx="1242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 flipH="1">
              <a:off x="6931080" y="4269600"/>
              <a:ext cx="14724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 flipH="1">
              <a:off x="6942960" y="4527720"/>
              <a:ext cx="11628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 flipH="1">
              <a:off x="7464600" y="3903480"/>
              <a:ext cx="8892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 flipH="1">
              <a:off x="7624440" y="3914280"/>
              <a:ext cx="1119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4"/>
            <p:cNvSpPr/>
            <p:nvPr/>
          </p:nvSpPr>
          <p:spPr>
            <a:xfrm flipH="1">
              <a:off x="7764120" y="3982680"/>
              <a:ext cx="132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 flipH="1">
              <a:off x="7916040" y="4093920"/>
              <a:ext cx="12888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7"/>
            <p:cNvSpPr/>
            <p:nvPr/>
          </p:nvSpPr>
          <p:spPr>
            <a:xfrm flipH="1">
              <a:off x="7144920" y="4093920"/>
              <a:ext cx="821880" cy="58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"/>
            <p:cNvSpPr/>
            <p:nvPr/>
          </p:nvSpPr>
          <p:spPr>
            <a:xfrm flipH="1">
              <a:off x="7183800" y="4352040"/>
              <a:ext cx="802440" cy="35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9"/>
            <p:cNvSpPr/>
            <p:nvPr/>
          </p:nvSpPr>
          <p:spPr>
            <a:xfrm flipH="1">
              <a:off x="6498360" y="4542480"/>
              <a:ext cx="2394360" cy="177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flipH="1">
              <a:off x="6534000" y="4542480"/>
              <a:ext cx="2347560" cy="10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1"/>
            <p:cNvSpPr/>
            <p:nvPr/>
          </p:nvSpPr>
          <p:spPr>
            <a:xfrm flipH="1">
              <a:off x="7070760" y="5191560"/>
              <a:ext cx="104796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2"/>
            <p:cNvSpPr/>
            <p:nvPr/>
          </p:nvSpPr>
          <p:spPr>
            <a:xfrm flipH="1">
              <a:off x="7659000" y="6067080"/>
              <a:ext cx="13212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 flipH="1">
              <a:off x="7818840" y="5870160"/>
              <a:ext cx="13212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4"/>
            <p:cNvSpPr/>
            <p:nvPr/>
          </p:nvSpPr>
          <p:spPr>
            <a:xfrm flipH="1">
              <a:off x="7103160" y="5188320"/>
              <a:ext cx="1015920" cy="46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"/>
            <p:cNvSpPr/>
            <p:nvPr/>
          </p:nvSpPr>
          <p:spPr>
            <a:xfrm flipH="1">
              <a:off x="3925080" y="6085080"/>
              <a:ext cx="3118320" cy="488160"/>
            </a:xfrm>
            <a:prstGeom prst="pie">
              <a:avLst/>
            </a:prstGeom>
            <a:solidFill>
              <a:srgbClr val="a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7"/>
            <p:cNvSpPr/>
            <p:nvPr/>
          </p:nvSpPr>
          <p:spPr>
            <a:xfrm flipH="1">
              <a:off x="7947360" y="5675760"/>
              <a:ext cx="1314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8"/>
            <p:cNvSpPr/>
            <p:nvPr/>
          </p:nvSpPr>
          <p:spPr>
            <a:xfrm flipH="1">
              <a:off x="8071920" y="5493600"/>
              <a:ext cx="12420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9"/>
            <p:cNvSpPr/>
            <p:nvPr/>
          </p:nvSpPr>
          <p:spPr>
            <a:xfrm flipH="1">
              <a:off x="8188560" y="5338800"/>
              <a:ext cx="1242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0"/>
            <p:cNvSpPr/>
            <p:nvPr/>
          </p:nvSpPr>
          <p:spPr>
            <a:xfrm flipH="1">
              <a:off x="8324640" y="5163120"/>
              <a:ext cx="10152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 flipH="1">
              <a:off x="8414640" y="5015880"/>
              <a:ext cx="104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"/>
            <p:cNvSpPr/>
            <p:nvPr/>
          </p:nvSpPr>
          <p:spPr>
            <a:xfrm flipH="1">
              <a:off x="8534880" y="4840200"/>
              <a:ext cx="1094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7"/>
            <p:cNvSpPr/>
            <p:nvPr/>
          </p:nvSpPr>
          <p:spPr>
            <a:xfrm flipH="1">
              <a:off x="6424560" y="6041880"/>
              <a:ext cx="6588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8"/>
            <p:cNvSpPr/>
            <p:nvPr/>
          </p:nvSpPr>
          <p:spPr>
            <a:xfrm flipH="1">
              <a:off x="5965560" y="6067080"/>
              <a:ext cx="694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9"/>
            <p:cNvSpPr/>
            <p:nvPr/>
          </p:nvSpPr>
          <p:spPr>
            <a:xfrm flipH="1">
              <a:off x="5603400" y="6059880"/>
              <a:ext cx="6156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0"/>
            <p:cNvSpPr/>
            <p:nvPr/>
          </p:nvSpPr>
          <p:spPr>
            <a:xfrm flipH="1">
              <a:off x="5190480" y="6041880"/>
              <a:ext cx="5472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2"/>
            <p:cNvSpPr/>
            <p:nvPr/>
          </p:nvSpPr>
          <p:spPr>
            <a:xfrm flipH="1">
              <a:off x="4828320" y="6053400"/>
              <a:ext cx="658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3"/>
            <p:cNvSpPr/>
            <p:nvPr/>
          </p:nvSpPr>
          <p:spPr>
            <a:xfrm flipH="1">
              <a:off x="4482000" y="6059880"/>
              <a:ext cx="50040" cy="1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4"/>
            <p:cNvSpPr/>
            <p:nvPr/>
          </p:nvSpPr>
          <p:spPr>
            <a:xfrm flipH="1">
              <a:off x="6794640" y="6217920"/>
              <a:ext cx="1242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0"/>
            <p:cNvSpPr/>
            <p:nvPr/>
          </p:nvSpPr>
          <p:spPr>
            <a:xfrm flipH="1">
              <a:off x="3991680" y="6041880"/>
              <a:ext cx="3122640" cy="48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1"/>
            <p:cNvSpPr/>
            <p:nvPr/>
          </p:nvSpPr>
          <p:spPr>
            <a:xfrm flipH="1">
              <a:off x="3991320" y="6041880"/>
              <a:ext cx="312624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38360" y="1500120"/>
            <a:ext cx="63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первый день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87308"/>
          <p:cNvPicPr/>
          <p:nvPr/>
        </p:nvPicPr>
        <p:blipFill>
          <a:blip r:embed="rId1"/>
          <a:stretch/>
        </p:blipFill>
        <p:spPr>
          <a:xfrm>
            <a:off x="2484360" y="2651040"/>
            <a:ext cx="3888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38720" y="150012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осенние меся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25"/>
          <p:cNvPicPr/>
          <p:nvPr/>
        </p:nvPicPr>
        <p:blipFill>
          <a:blip r:embed="rId1"/>
          <a:stretch/>
        </p:blipFill>
        <p:spPr>
          <a:xfrm>
            <a:off x="2556000" y="2133720"/>
            <a:ext cx="38750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6920" y="1500120"/>
            <a:ext cx="79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три математических знак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116000" y="342900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924360" y="342900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443640" y="335772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0233966"/>
          <p:cNvPicPr/>
          <p:nvPr/>
        </p:nvPicPr>
        <p:blipFill>
          <a:blip r:embed="rId1"/>
          <a:stretch/>
        </p:blipFill>
        <p:spPr>
          <a:xfrm>
            <a:off x="1042920" y="4221000"/>
            <a:ext cx="2355840" cy="19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4089"/>
          <p:cNvPicPr/>
          <p:nvPr/>
        </p:nvPicPr>
        <p:blipFill>
          <a:blip r:embed="rId2"/>
          <a:stretch/>
        </p:blipFill>
        <p:spPr>
          <a:xfrm>
            <a:off x="5148360" y="765000"/>
            <a:ext cx="2322360" cy="14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YARDSTK"/>
          <p:cNvPicPr/>
          <p:nvPr/>
        </p:nvPicPr>
        <p:blipFill>
          <a:blip r:embed="rId3"/>
          <a:stretch/>
        </p:blipFill>
        <p:spPr>
          <a:xfrm>
            <a:off x="3635280" y="1197000"/>
            <a:ext cx="4672080" cy="18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ртрррр"/>
          <p:cNvPicPr/>
          <p:nvPr/>
        </p:nvPicPr>
        <p:blipFill>
          <a:blip r:embed="rId4"/>
          <a:stretch/>
        </p:blipFill>
        <p:spPr>
          <a:xfrm>
            <a:off x="539640" y="404640"/>
            <a:ext cx="30495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72"/>
          <p:cNvGrpSpPr/>
          <p:nvPr/>
        </p:nvGrpSpPr>
        <p:grpSpPr>
          <a:xfrm>
            <a:off x="4349880" y="4011480"/>
            <a:ext cx="3319200" cy="2000520"/>
            <a:chOff x="4349880" y="4011480"/>
            <a:chExt cx="3319200" cy="2000520"/>
          </a:xfrm>
        </p:grpSpPr>
        <p:sp>
          <p:nvSpPr>
            <p:cNvPr id="71" name="Freeform 38"/>
            <p:cNvSpPr/>
            <p:nvPr/>
          </p:nvSpPr>
          <p:spPr>
            <a:xfrm>
              <a:off x="6993000" y="5361120"/>
              <a:ext cx="555480" cy="41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9"/>
            <p:cNvSpPr/>
            <p:nvPr/>
          </p:nvSpPr>
          <p:spPr>
            <a:xfrm>
              <a:off x="7016760" y="5381640"/>
              <a:ext cx="504720" cy="36972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>
              <a:off x="4446720" y="4011480"/>
              <a:ext cx="3222360" cy="19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4859280" y="4033800"/>
              <a:ext cx="2797200" cy="1893960"/>
            </a:xfrm>
            <a:prstGeom prst="pie">
              <a:avLst/>
            </a:prstGeom>
            <a:solidFill>
              <a:srgbClr val="12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2"/>
            <p:cNvSpPr/>
            <p:nvPr/>
          </p:nvSpPr>
          <p:spPr>
            <a:xfrm>
              <a:off x="6093000" y="5295960"/>
              <a:ext cx="1565280" cy="63180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3"/>
            <p:cNvSpPr/>
            <p:nvPr/>
          </p:nvSpPr>
          <p:spPr>
            <a:xfrm>
              <a:off x="5065560" y="4262400"/>
              <a:ext cx="62100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4"/>
            <p:cNvSpPr/>
            <p:nvPr/>
          </p:nvSpPr>
          <p:spPr>
            <a:xfrm>
              <a:off x="5803920" y="4265640"/>
              <a:ext cx="1003320" cy="51588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5"/>
            <p:cNvSpPr/>
            <p:nvPr/>
          </p:nvSpPr>
          <p:spPr>
            <a:xfrm>
              <a:off x="5083200" y="4278240"/>
              <a:ext cx="584280" cy="49068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6"/>
            <p:cNvSpPr/>
            <p:nvPr/>
          </p:nvSpPr>
          <p:spPr>
            <a:xfrm>
              <a:off x="5035680" y="4595760"/>
              <a:ext cx="606240" cy="9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7"/>
            <p:cNvSpPr/>
            <p:nvPr/>
          </p:nvSpPr>
          <p:spPr>
            <a:xfrm>
              <a:off x="5051520" y="4622760"/>
              <a:ext cx="563400" cy="89856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8"/>
            <p:cNvSpPr/>
            <p:nvPr/>
          </p:nvSpPr>
          <p:spPr>
            <a:xfrm>
              <a:off x="4602240" y="4630680"/>
              <a:ext cx="380880" cy="84924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9"/>
            <p:cNvSpPr/>
            <p:nvPr/>
          </p:nvSpPr>
          <p:spPr>
            <a:xfrm>
              <a:off x="5877000" y="4637160"/>
              <a:ext cx="1490760" cy="85068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0"/>
            <p:cNvSpPr/>
            <p:nvPr/>
          </p:nvSpPr>
          <p:spPr>
            <a:xfrm>
              <a:off x="6993000" y="5361120"/>
              <a:ext cx="5094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7012080" y="5381640"/>
              <a:ext cx="471240" cy="317520"/>
            </a:xfrm>
            <a:prstGeom prst="pie">
              <a:avLst/>
            </a:prstGeom>
            <a:solidFill>
              <a:srgbClr val="f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7381800" y="5384880"/>
              <a:ext cx="9216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7400880" y="5384880"/>
              <a:ext cx="60480" cy="20628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7278840" y="5384880"/>
              <a:ext cx="91800" cy="2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7297560" y="5384880"/>
              <a:ext cx="60480" cy="25236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7172280" y="5413320"/>
              <a:ext cx="9684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7189920" y="5419800"/>
              <a:ext cx="61920" cy="26352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8"/>
            <p:cNvSpPr/>
            <p:nvPr/>
          </p:nvSpPr>
          <p:spPr>
            <a:xfrm>
              <a:off x="7059600" y="5456160"/>
              <a:ext cx="9360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9"/>
            <p:cNvSpPr/>
            <p:nvPr/>
          </p:nvSpPr>
          <p:spPr>
            <a:xfrm>
              <a:off x="7077240" y="5465880"/>
              <a:ext cx="61920" cy="23652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5100480" y="4778280"/>
              <a:ext cx="201600" cy="103320"/>
            </a:xfrm>
            <a:prstGeom prst="pi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5119560" y="4788000"/>
              <a:ext cx="168480" cy="83880"/>
            </a:xfrm>
            <a:prstGeom prst="pie">
              <a:avLst/>
            </a:prstGeom>
            <a:solidFill>
              <a:srgbClr val="fff091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2"/>
            <p:cNvSpPr/>
            <p:nvPr/>
          </p:nvSpPr>
          <p:spPr>
            <a:xfrm>
              <a:off x="5451480" y="5156280"/>
              <a:ext cx="696960" cy="85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3"/>
            <p:cNvSpPr/>
            <p:nvPr/>
          </p:nvSpPr>
          <p:spPr>
            <a:xfrm>
              <a:off x="4349880" y="4718160"/>
              <a:ext cx="582480" cy="85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4"/>
            <p:cNvSpPr/>
            <p:nvPr/>
          </p:nvSpPr>
          <p:spPr>
            <a:xfrm>
              <a:off x="5470560" y="5178600"/>
              <a:ext cx="658800" cy="80928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5"/>
            <p:cNvSpPr/>
            <p:nvPr/>
          </p:nvSpPr>
          <p:spPr>
            <a:xfrm>
              <a:off x="5619600" y="5367240"/>
              <a:ext cx="360360" cy="43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6"/>
            <p:cNvSpPr/>
            <p:nvPr/>
          </p:nvSpPr>
          <p:spPr>
            <a:xfrm>
              <a:off x="5641920" y="5394240"/>
              <a:ext cx="309600" cy="379440"/>
            </a:xfrm>
            <a:prstGeom prst="pie">
              <a:avLst/>
            </a:pr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7"/>
            <p:cNvSpPr/>
            <p:nvPr/>
          </p:nvSpPr>
          <p:spPr>
            <a:xfrm>
              <a:off x="4363920" y="4740120"/>
              <a:ext cx="555840" cy="80820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8"/>
            <p:cNvSpPr/>
            <p:nvPr/>
          </p:nvSpPr>
          <p:spPr>
            <a:xfrm>
              <a:off x="4462560" y="4946760"/>
              <a:ext cx="330120" cy="43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9"/>
            <p:cNvSpPr/>
            <p:nvPr/>
          </p:nvSpPr>
          <p:spPr>
            <a:xfrm>
              <a:off x="4484520" y="4975200"/>
              <a:ext cx="281160" cy="378000"/>
            </a:xfrm>
            <a:prstGeom prst="pie">
              <a:avLst/>
            </a:pr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0"/>
            <p:cNvSpPr/>
            <p:nvPr/>
          </p:nvSpPr>
          <p:spPr>
            <a:xfrm>
              <a:off x="7164360" y="5276880"/>
              <a:ext cx="1382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1"/>
            <p:cNvSpPr/>
            <p:nvPr/>
          </p:nvSpPr>
          <p:spPr>
            <a:xfrm>
              <a:off x="7183440" y="5289480"/>
              <a:ext cx="104760" cy="9072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124000" y="3573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59280" y="3573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059280" y="4508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124000" y="4508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059280" y="2637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124000" y="2637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227640" y="39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292720" y="39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227640" y="2997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5292720" y="2997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227640" y="2060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292720" y="2060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05928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212400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 rot="8150400">
            <a:off x="1891800" y="1480680"/>
            <a:ext cx="2376720" cy="23050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"/>
          <p:cNvSpPr/>
          <p:nvPr/>
        </p:nvSpPr>
        <p:spPr>
          <a:xfrm rot="8150400">
            <a:off x="5003280" y="981000"/>
            <a:ext cx="2303640" cy="2232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845080" y="14065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5869080" y="757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413440" y="2652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3278520" y="53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2486520" y="53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350160" y="2652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5510520" y="30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6518520" y="402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3350160" y="452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5582160" y="21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6518520" y="21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413440" y="366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3350160" y="366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2486520" y="452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6445800" y="30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5582160" y="39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7"/>
          <p:cNvSpPr txBox="1"/>
          <p:nvPr/>
        </p:nvSpPr>
        <p:spPr>
          <a:xfrm>
            <a:off x="468360" y="2637000"/>
            <a:ext cx="1079280" cy="20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38"/>
          <p:cNvSpPr txBox="1"/>
          <p:nvPr/>
        </p:nvSpPr>
        <p:spPr>
          <a:xfrm>
            <a:off x="4356000" y="4365720"/>
            <a:ext cx="1079640" cy="20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39"/>
          <p:cNvSpPr txBox="1"/>
          <p:nvPr/>
        </p:nvSpPr>
        <p:spPr>
          <a:xfrm>
            <a:off x="971640" y="4581360"/>
            <a:ext cx="107928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40"/>
          <p:cNvSpPr txBox="1"/>
          <p:nvPr/>
        </p:nvSpPr>
        <p:spPr>
          <a:xfrm>
            <a:off x="7812000" y="1484280"/>
            <a:ext cx="107964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static.my-shop.ru/product/2/185/1840067.jpg"/>
          <p:cNvPicPr/>
          <p:nvPr/>
        </p:nvPicPr>
        <p:blipFill>
          <a:blip r:embed="rId1"/>
          <a:stretch/>
        </p:blipFill>
        <p:spPr>
          <a:xfrm>
            <a:off x="2071800" y="142920"/>
            <a:ext cx="4643280" cy="657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6:02:44Z</dcterms:created>
  <dc:creator>Губенская</dc:creator>
  <dc:description/>
  <dc:language>en-US</dc:language>
  <cp:lastModifiedBy>User</cp:lastModifiedBy>
  <dcterms:modified xsi:type="dcterms:W3CDTF">2015-09-29T13:29:48Z</dcterms:modified>
  <cp:revision>8</cp:revision>
  <dc:subject/>
  <dc:title>1 класс Математика</dc:title>
</cp:coreProperties>
</file>