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971-E504-406A-BE78-A39674DA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11A-9115-4659-A3A8-E60BD83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987-5F30-4A1C-BCC2-5F7DD5D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A47-BAFB-4B81-9707-D75A9C8B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8A3-280B-4914-88B3-42EC70A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1A9-A84E-4552-A741-377FAE12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988-7779-444B-807B-E63A917A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F72-4CCB-4261-8034-8CEF82EC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5DF-BFF5-4EE9-9796-6EF763EC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ABA-E1F5-4CE1-8B56-F1F6B499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810-405B-4446-A146-D7CA40D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826-F851-4B1F-8BF7-0B59A5C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05DB-4C3F-436A-9FB6-20A55E1F0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hyperlink" Target="file:///tmp/home/.config/libreoffice/4/user/gallery/&#1087;&#1086;&#1076;&#1091;&#1084;&#1072;&#1081;%20&#1077;&#1097;&#1077;" TargetMode="External"/><Relationship Id="rId4" Type="http://schemas.openxmlformats.org/officeDocument/2006/relationships/hyperlink" Target="file:///tmp/home/.config/libreoffice/4/user/gallery/&#1085;&#1077;%20&#1087;&#1088;&#1072;&#1074;&#1080;&#1083;&#1100;&#1085;&#1086;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hyperlink" Target="file:///tmp/home/.config/libreoffice/4/user/gallery/&#1085;&#1077;%20&#1087;&#1088;&#1072;&#1074;&#1080;&#1083;&#1100;&#1085;&#1086;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469800"/>
            <a:ext cx="9869400" cy="3443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calendar.jpeg"/>
          <p:cNvPicPr/>
          <p:nvPr/>
        </p:nvPicPr>
        <p:blipFill>
          <a:blip r:embed="rId2"/>
          <a:stretch/>
        </p:blipFill>
        <p:spPr>
          <a:xfrm>
            <a:off x="2771640" y="4292640"/>
            <a:ext cx="2961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255600"/>
            <a:ext cx="90043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92700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103320" y="416412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4"/>
          <a:stretch/>
        </p:blipFill>
        <p:spPr>
          <a:xfrm>
            <a:off x="1109520" y="178596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5"/>
          <a:stretch/>
        </p:blipFill>
        <p:spPr>
          <a:xfrm>
            <a:off x="1901880" y="438300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6"/>
          <a:stretch/>
        </p:blipFill>
        <p:spPr>
          <a:xfrm>
            <a:off x="2914560" y="272412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7"/>
          <a:stretch/>
        </p:blipFill>
        <p:spPr>
          <a:xfrm>
            <a:off x="3413160" y="70632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9" descr=""/>
          <p:cNvPicPr/>
          <p:nvPr/>
        </p:nvPicPr>
        <p:blipFill>
          <a:blip r:embed="rId8"/>
          <a:stretch/>
        </p:blipFill>
        <p:spPr>
          <a:xfrm>
            <a:off x="5357880" y="452268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9"/>
          <a:stretch/>
        </p:blipFill>
        <p:spPr>
          <a:xfrm>
            <a:off x="6870600" y="265104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10"/>
          <a:stretch/>
        </p:blipFill>
        <p:spPr>
          <a:xfrm>
            <a:off x="5718240" y="92700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11"/>
          <a:stretch/>
        </p:blipFill>
        <p:spPr>
          <a:xfrm>
            <a:off x="4584600" y="2577960"/>
            <a:ext cx="2846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71640" y="1628640"/>
          <a:ext cx="5616360" cy="4624560"/>
        </p:xfrm>
        <a:graphic>
          <a:graphicData uri="http://schemas.openxmlformats.org/drawingml/2006/table">
            <a:tbl>
              <a:tblPr/>
              <a:tblGrid>
                <a:gridCol w="1871640"/>
                <a:gridCol w="1873080"/>
                <a:gridCol w="187164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0"/>
          <p:cNvSpPr/>
          <p:nvPr/>
        </p:nvSpPr>
        <p:spPr>
          <a:xfrm>
            <a:off x="395280" y="404640"/>
            <a:ext cx="820908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1547640" y="1844640"/>
            <a:ext cx="100044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3203640" y="1773360"/>
            <a:ext cx="1082520" cy="120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6"/>
          <p:cNvSpPr/>
          <p:nvPr/>
        </p:nvSpPr>
        <p:spPr>
          <a:xfrm>
            <a:off x="5003640" y="184464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1403280" y="3357720"/>
            <a:ext cx="1082880" cy="120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380360" y="3213000"/>
            <a:ext cx="108252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5003640" y="3429000"/>
            <a:ext cx="100044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0"/>
          <p:cNvSpPr/>
          <p:nvPr/>
        </p:nvSpPr>
        <p:spPr>
          <a:xfrm>
            <a:off x="3276720" y="494172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1"/>
          <p:cNvSpPr/>
          <p:nvPr/>
        </p:nvSpPr>
        <p:spPr>
          <a:xfrm>
            <a:off x="7451640" y="479736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2"/>
          <p:cNvSpPr/>
          <p:nvPr/>
        </p:nvSpPr>
        <p:spPr>
          <a:xfrm>
            <a:off x="3132000" y="3357720"/>
            <a:ext cx="110196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3"/>
          <p:cNvSpPr/>
          <p:nvPr/>
        </p:nvSpPr>
        <p:spPr>
          <a:xfrm>
            <a:off x="1332000" y="4869000"/>
            <a:ext cx="110160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7308720" y="148428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514836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8334E-006 L -0.24028 0.24798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125360"/>
          <a:ext cx="6337080" cy="51832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Oval 21"/>
          <p:cNvSpPr/>
          <p:nvPr/>
        </p:nvSpPr>
        <p:spPr>
          <a:xfrm>
            <a:off x="3203640" y="4941720"/>
            <a:ext cx="1177920" cy="1176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596360" y="765000"/>
            <a:ext cx="1223640" cy="1089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5219640" y="1413000"/>
            <a:ext cx="107964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"/>
          <p:cNvSpPr/>
          <p:nvPr/>
        </p:nvSpPr>
        <p:spPr>
          <a:xfrm>
            <a:off x="971640" y="1413000"/>
            <a:ext cx="1177920" cy="117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2843280" y="134136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059280" y="314172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826920" y="2924280"/>
            <a:ext cx="1400400" cy="12459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1042920" y="4941720"/>
            <a:ext cx="10796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9"/>
          <p:cNvSpPr/>
          <p:nvPr/>
        </p:nvSpPr>
        <p:spPr>
          <a:xfrm>
            <a:off x="5076720" y="306864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>
            <a:hlinkClick r:id="rId2"/>
          </p:cNvPr>
          <p:cNvSpPr/>
          <p:nvPr/>
        </p:nvSpPr>
        <p:spPr>
          <a:xfrm>
            <a:off x="7596360" y="508464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>
            <a:hlinkClick r:id="rId3"/>
          </p:cNvPr>
          <p:cNvSpPr/>
          <p:nvPr/>
        </p:nvSpPr>
        <p:spPr>
          <a:xfrm>
            <a:off x="7524720" y="3645000"/>
            <a:ext cx="1295280" cy="1152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2">
            <a:hlinkClick r:id="rId4"/>
          </p:cNvPr>
          <p:cNvSpPr/>
          <p:nvPr/>
        </p:nvSpPr>
        <p:spPr>
          <a:xfrm>
            <a:off x="7524720" y="220500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21964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4" descr=""/>
          <p:cNvPicPr/>
          <p:nvPr/>
        </p:nvPicPr>
        <p:blipFill>
          <a:blip r:embed="rId5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465 L -0.27951 0.56072 E">
                                      <p:cBhvr>
                                        <p:cTn id="3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981000"/>
          <a:ext cx="6337080" cy="49690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Oval 21"/>
          <p:cNvSpPr/>
          <p:nvPr/>
        </p:nvSpPr>
        <p:spPr>
          <a:xfrm>
            <a:off x="3035160" y="4486320"/>
            <a:ext cx="1177920" cy="1176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380360" y="692280"/>
            <a:ext cx="1224000" cy="1089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059440" y="1320840"/>
            <a:ext cx="107928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932040" y="124776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043080" y="2924280"/>
            <a:ext cx="107964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828720" y="275904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971640" y="4508640"/>
            <a:ext cx="107928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5035680" y="282888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>
            <a:hlinkClick r:id="rId2"/>
          </p:cNvPr>
          <p:cNvSpPr/>
          <p:nvPr/>
        </p:nvSpPr>
        <p:spPr>
          <a:xfrm>
            <a:off x="7596360" y="364500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2">
            <a:hlinkClick r:id="rId3"/>
          </p:cNvPr>
          <p:cNvSpPr/>
          <p:nvPr/>
        </p:nvSpPr>
        <p:spPr>
          <a:xfrm>
            <a:off x="7524720" y="220500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2987640" y="141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4" descr=""/>
          <p:cNvPicPr/>
          <p:nvPr/>
        </p:nvPicPr>
        <p:blipFill>
          <a:blip r:embed="rId4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5">
            <a:hlinkClick r:id="" action="ppaction://hlinkshowjump?jump=nextslide"/>
          </p:cNvPr>
          <p:cNvSpPr/>
          <p:nvPr/>
        </p:nvSpPr>
        <p:spPr>
          <a:xfrm>
            <a:off x="7308720" y="5013360"/>
            <a:ext cx="140040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5219640" y="4724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82443E-006 L -0.23628 0.55609 E">
                                      <p:cBhvr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458 L -0.49393 -0.5628 E">
                                      <p:cBhvr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Волшебный»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981000"/>
          <a:ext cx="6337080" cy="49690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Oval 21"/>
          <p:cNvSpPr/>
          <p:nvPr/>
        </p:nvSpPr>
        <p:spPr>
          <a:xfrm>
            <a:off x="3035160" y="4486320"/>
            <a:ext cx="1177920" cy="1176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>
            <a:hlinkClick r:id="" action="ppaction://hlinkshowjump?jump=nextslide"/>
            <a:hlinkClick r:id="rId1"/>
          </p:cNvPr>
          <p:cNvSpPr/>
          <p:nvPr/>
        </p:nvSpPr>
        <p:spPr>
          <a:xfrm>
            <a:off x="7596360" y="765000"/>
            <a:ext cx="1223640" cy="1089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059440" y="1320840"/>
            <a:ext cx="107928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932040" y="124776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3059280" y="292428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7380360" y="2060640"/>
            <a:ext cx="1400040" cy="12459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971640" y="4508640"/>
            <a:ext cx="107928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5035680" y="282888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>
            <a:hlinkClick r:id="rId2"/>
          </p:cNvPr>
          <p:cNvSpPr/>
          <p:nvPr/>
        </p:nvSpPr>
        <p:spPr>
          <a:xfrm>
            <a:off x="7596360" y="364500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2987640" y="141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>
            <a:hlinkClick r:id="" action="ppaction://hlinkshowjump?jump=nextslide"/>
          </p:cNvPr>
          <p:cNvSpPr/>
          <p:nvPr/>
        </p:nvSpPr>
        <p:spPr>
          <a:xfrm>
            <a:off x="7380360" y="494172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5219640" y="4653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971640" y="2997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465 L -0.27951 0.56049 E">
                                      <p:cBhvr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3493 L -0.50972 -0.56304 E"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0.0458 L -0.72222 0.10872 E">
                                      <p:cBhvr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171360"/>
            <a:ext cx="9150120" cy="101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24000" y="549360"/>
            <a:ext cx="847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+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3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             3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4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+ 4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7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             6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           2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2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– 2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6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1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6 –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             3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+ 2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2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5             8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3 =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4 +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6             5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7"/>
          <p:cNvGrpSpPr/>
          <p:nvPr/>
        </p:nvGrpSpPr>
        <p:grpSpPr>
          <a:xfrm>
            <a:off x="4932360" y="620640"/>
            <a:ext cx="576360" cy="4537080"/>
            <a:chOff x="4932360" y="620640"/>
            <a:chExt cx="576360" cy="4537080"/>
          </a:xfrm>
        </p:grpSpPr>
        <p:sp>
          <p:nvSpPr>
            <p:cNvPr id="119" name="Прямая соединительная линия 11"/>
            <p:cNvSpPr/>
            <p:nvPr/>
          </p:nvSpPr>
          <p:spPr>
            <a:xfrm>
              <a:off x="5221440" y="620640"/>
              <a:ext cx="0" cy="4537080"/>
            </a:xfrm>
            <a:prstGeom prst="line">
              <a:avLst/>
            </a:prstGeom>
            <a:ln w="19044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13"/>
            <p:cNvSpPr/>
            <p:nvPr/>
          </p:nvSpPr>
          <p:spPr>
            <a:xfrm>
              <a:off x="4932360" y="62064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14"/>
            <p:cNvSpPr/>
            <p:nvPr/>
          </p:nvSpPr>
          <p:spPr>
            <a:xfrm>
              <a:off x="4932360" y="285264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15"/>
            <p:cNvSpPr/>
            <p:nvPr/>
          </p:nvSpPr>
          <p:spPr>
            <a:xfrm>
              <a:off x="4932360" y="5157720"/>
              <a:ext cx="576360" cy="0"/>
            </a:xfrm>
            <a:prstGeom prst="line">
              <a:avLst/>
            </a:prstGeom>
            <a:ln w="76320">
              <a:solidFill>
                <a:srgbClr val="ff3a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-684360" y="138600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Математика. Учебник. часть 1.JPG"/>
          <p:cNvPicPr/>
          <p:nvPr/>
        </p:nvPicPr>
        <p:blipFill>
          <a:blip r:embed="rId1"/>
          <a:stretch/>
        </p:blipFill>
        <p:spPr>
          <a:xfrm>
            <a:off x="468360" y="620640"/>
            <a:ext cx="2814480" cy="3745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5" name="Рисунок 4" descr="Image8.bmp"/>
          <p:cNvPicPr/>
          <p:nvPr/>
        </p:nvPicPr>
        <p:blipFill>
          <a:blip r:embed="rId2"/>
          <a:stretch/>
        </p:blipFill>
        <p:spPr>
          <a:xfrm>
            <a:off x="3492360" y="260280"/>
            <a:ext cx="4641840" cy="6310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6" name="TextBox 3"/>
          <p:cNvSpPr/>
          <p:nvPr/>
        </p:nvSpPr>
        <p:spPr>
          <a:xfrm>
            <a:off x="3497040" y="17002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/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15-10-22T16:55:19Z</dcterms:modified>
  <cp:revision>55</cp:revision>
  <dc:subject>Числа от 1 до 10. Закрепление</dc:subject>
  <dc:title>Математика. 1 класс</dc:title>
</cp:coreProperties>
</file>