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303-F7DE-40D3-9491-D02EF67F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F93-69C8-4AB3-961B-D272ADD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8A5-DFDE-48F2-BF60-CDA31E23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BE0-32C2-4F5E-B964-530D671D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A0E-C5D3-49B6-AA4E-89B1B487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E9F-C1EB-4BD7-A2F9-1D4C2E6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30D-78ED-4978-A534-BAA84B8F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3B0-E378-4651-8C11-2FA5A42B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09C-22CA-4B7B-8777-A615608C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42B-73BB-4EB6-919C-FC2C25B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EC8-B58E-4AA0-846D-66C9A25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8BD-B2EC-4BDC-BDB5-E1C384A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2656-6598-4F53-9C6F-32A226449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klass.jpg"/>
          <p:cNvPicPr/>
          <p:nvPr/>
        </p:nvPicPr>
        <p:blipFill>
          <a:blip r:embed="rId1"/>
          <a:stretch/>
        </p:blipFill>
        <p:spPr>
          <a:xfrm rot="1046400">
            <a:off x="-61920" y="4146120"/>
            <a:ext cx="2790720" cy="2664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816280" y="2225520"/>
            <a:ext cx="3456000" cy="1150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-219240" y="-19080"/>
            <a:ext cx="9759960" cy="2171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Рисунок9.png"/>
          <p:cNvPicPr/>
          <p:nvPr/>
        </p:nvPicPr>
        <p:blipFill>
          <a:blip r:embed="rId4"/>
          <a:stretch/>
        </p:blipFill>
        <p:spPr>
          <a:xfrm>
            <a:off x="3348000" y="3090960"/>
            <a:ext cx="51116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УЗиныкоза.Зинапаслакозу.УИванакоса.Онкосилтраву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Рис1"/>
          <p:cNvPicPr/>
          <p:nvPr/>
        </p:nvPicPr>
        <p:blipFill>
          <a:blip r:embed="rId2"/>
          <a:stretch/>
        </p:blipFill>
        <p:spPr>
          <a:xfrm>
            <a:off x="2987640" y="3141720"/>
            <a:ext cx="3456000" cy="3203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684360" y="836640"/>
            <a:ext cx="7775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Чтение текста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через "решётку"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179280" y="189000"/>
            <a:ext cx="921708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В зоопарке разные звери. Вот за забором лев. Мы сразу узнали слона. Он стоит и посыпает песком спину. В аквариуме усатые сомы и налимы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Группа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179280" y="189000"/>
            <a:ext cx="921708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У Зои ваза. В вазе астры. Они красивые. Сима и Зина вырастили розы. Выросли розы – красные и розовые. Зина и Сима принесли розы в класс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Группа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Азбука. часть 1.JPG"/>
          <p:cNvPicPr/>
          <p:nvPr/>
        </p:nvPicPr>
        <p:blipFill>
          <a:blip r:embed="rId1"/>
          <a:stretch/>
        </p:blipFill>
        <p:spPr>
          <a:xfrm>
            <a:off x="179280" y="189000"/>
            <a:ext cx="3375000" cy="44640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02" name="Рисунок 3" descr="Image8.bmp"/>
          <p:cNvPicPr/>
          <p:nvPr/>
        </p:nvPicPr>
        <p:blipFill>
          <a:blip r:embed="rId2"/>
          <a:stretch/>
        </p:blipFill>
        <p:spPr>
          <a:xfrm>
            <a:off x="4044960" y="0"/>
            <a:ext cx="509904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Image8.bmp"/>
          <p:cNvPicPr/>
          <p:nvPr/>
        </p:nvPicPr>
        <p:blipFill>
          <a:blip r:embed="rId1"/>
          <a:stretch/>
        </p:blipFill>
        <p:spPr>
          <a:xfrm>
            <a:off x="179280" y="189000"/>
            <a:ext cx="8805960" cy="2376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04" name="Рисунок 5" descr="Image8.bmp"/>
          <p:cNvPicPr/>
          <p:nvPr/>
        </p:nvPicPr>
        <p:blipFill>
          <a:blip r:embed="rId2"/>
          <a:stretch/>
        </p:blipFill>
        <p:spPr>
          <a:xfrm>
            <a:off x="2340000" y="2781360"/>
            <a:ext cx="4392720" cy="3240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-182520"/>
            <a:ext cx="9558360" cy="1152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163520" y="94860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айди в квадрате слова, которые начинаются с буквы 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Раскрась их разными цв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Image28"/>
          <p:cNvPicPr/>
          <p:nvPr/>
        </p:nvPicPr>
        <p:blipFill>
          <a:blip r:embed="rId2"/>
          <a:srcRect l="14954" t="15693" r="16453" b="36981"/>
          <a:stretch/>
        </p:blipFill>
        <p:spPr>
          <a:xfrm>
            <a:off x="1685880" y="1593720"/>
            <a:ext cx="573084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Азбука. часть 1.JPG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4095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9" name="Прямоугольник 2"/>
          <p:cNvSpPr/>
          <p:nvPr/>
        </p:nvSpPr>
        <p:spPr>
          <a:xfrm>
            <a:off x="160200" y="4437000"/>
            <a:ext cx="311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91 – 95 читать, выполнить задания в карточке, карточку вклеить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5" descr="Image23"/>
          <p:cNvPicPr/>
          <p:nvPr/>
        </p:nvPicPr>
        <p:blipFill>
          <a:blip r:embed="rId2"/>
          <a:srcRect l="2917" t="39066" r="3892" b="45034"/>
          <a:stretch/>
        </p:blipFill>
        <p:spPr>
          <a:xfrm>
            <a:off x="4632480" y="673200"/>
            <a:ext cx="3371760" cy="6001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Image27"/>
          <p:cNvPicPr/>
          <p:nvPr/>
        </p:nvPicPr>
        <p:blipFill>
          <a:blip r:embed="rId3"/>
          <a:srcRect l="7576" t="45669" r="8538" b="1650"/>
          <a:stretch/>
        </p:blipFill>
        <p:spPr>
          <a:xfrm>
            <a:off x="4967280" y="2852640"/>
            <a:ext cx="219708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Image25"/>
          <p:cNvPicPr/>
          <p:nvPr/>
        </p:nvPicPr>
        <p:blipFill>
          <a:blip r:embed="rId4"/>
          <a:srcRect l="19220" t="18751" r="19220" b="33215"/>
          <a:stretch/>
        </p:blipFill>
        <p:spPr>
          <a:xfrm>
            <a:off x="5267160" y="5057640"/>
            <a:ext cx="2102040" cy="1800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492360" y="-9360"/>
            <a:ext cx="5651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«Буквы З, з, обозначающие согласные звуки [з], [з’]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1. Начерти схемы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  Славы  пила.  Он  пилит  ветку  ли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64000" y="1185480"/>
            <a:ext cx="5508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Кто  пилит ветку липы?  Запи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. Прочитай слово. Выбери вер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КОЗЛ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6 б., 7 з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6 б., 6 з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. Соедини стрелкой слово и картинку. Запиши цифру, соответствующую схеме сл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656160" y="4815000"/>
            <a:ext cx="54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йди в квадрате слова, которые начинаются с буквы З. Раскрась их разными цве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9" descr="tani59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7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24000" y="0"/>
          <a:ext cx="2016000" cy="685800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47" name="Прямоугольник 75" descr=""/>
          <p:cNvPicPr/>
          <p:nvPr/>
        </p:nvPicPr>
        <p:blipFill>
          <a:blip r:embed="rId2"/>
          <a:stretch/>
        </p:blipFill>
        <p:spPr>
          <a:xfrm>
            <a:off x="171360" y="-165240"/>
            <a:ext cx="13334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6" descr=""/>
          <p:cNvPicPr/>
          <p:nvPr/>
        </p:nvPicPr>
        <p:blipFill>
          <a:blip r:embed="rId3"/>
          <a:stretch/>
        </p:blipFill>
        <p:spPr>
          <a:xfrm>
            <a:off x="109440" y="530280"/>
            <a:ext cx="1401840" cy="10173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7" descr=""/>
          <p:cNvPicPr/>
          <p:nvPr/>
        </p:nvPicPr>
        <p:blipFill>
          <a:blip r:embed="rId4"/>
          <a:stretch/>
        </p:blipFill>
        <p:spPr>
          <a:xfrm>
            <a:off x="165240" y="1176480"/>
            <a:ext cx="1272960" cy="1017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8" descr=""/>
          <p:cNvPicPr/>
          <p:nvPr/>
        </p:nvPicPr>
        <p:blipFill>
          <a:blip r:embed="rId5"/>
          <a:stretch/>
        </p:blipFill>
        <p:spPr>
          <a:xfrm>
            <a:off x="237960" y="1828800"/>
            <a:ext cx="1236960" cy="1017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9" descr=""/>
          <p:cNvPicPr/>
          <p:nvPr/>
        </p:nvPicPr>
        <p:blipFill>
          <a:blip r:embed="rId6"/>
          <a:stretch/>
        </p:blipFill>
        <p:spPr>
          <a:xfrm>
            <a:off x="212760" y="2548080"/>
            <a:ext cx="1274760" cy="1017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80" descr=""/>
          <p:cNvPicPr/>
          <p:nvPr/>
        </p:nvPicPr>
        <p:blipFill>
          <a:blip r:embed="rId7"/>
          <a:stretch/>
        </p:blipFill>
        <p:spPr>
          <a:xfrm>
            <a:off x="208080" y="326700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1" descr=""/>
          <p:cNvPicPr/>
          <p:nvPr/>
        </p:nvPicPr>
        <p:blipFill>
          <a:blip r:embed="rId8"/>
          <a:stretch/>
        </p:blipFill>
        <p:spPr>
          <a:xfrm>
            <a:off x="176040" y="3913200"/>
            <a:ext cx="132408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2" descr=""/>
          <p:cNvPicPr/>
          <p:nvPr/>
        </p:nvPicPr>
        <p:blipFill>
          <a:blip r:embed="rId9"/>
          <a:stretch/>
        </p:blipFill>
        <p:spPr>
          <a:xfrm>
            <a:off x="212760" y="4632480"/>
            <a:ext cx="126216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3" descr=""/>
          <p:cNvPicPr/>
          <p:nvPr/>
        </p:nvPicPr>
        <p:blipFill>
          <a:blip r:embed="rId10"/>
          <a:stretch/>
        </p:blipFill>
        <p:spPr>
          <a:xfrm>
            <a:off x="212760" y="5284800"/>
            <a:ext cx="128736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0" descr=""/>
          <p:cNvPicPr/>
          <p:nvPr/>
        </p:nvPicPr>
        <p:blipFill>
          <a:blip r:embed="rId11"/>
          <a:stretch/>
        </p:blipFill>
        <p:spPr>
          <a:xfrm>
            <a:off x="225360" y="5864400"/>
            <a:ext cx="125568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4" descr=""/>
          <p:cNvPicPr/>
          <p:nvPr/>
        </p:nvPicPr>
        <p:blipFill>
          <a:blip r:embed="rId12"/>
          <a:stretch/>
        </p:blipFill>
        <p:spPr>
          <a:xfrm>
            <a:off x="1176480" y="-16524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85" descr=""/>
          <p:cNvPicPr/>
          <p:nvPr/>
        </p:nvPicPr>
        <p:blipFill>
          <a:blip r:embed="rId13"/>
          <a:stretch/>
        </p:blipFill>
        <p:spPr>
          <a:xfrm>
            <a:off x="1146240" y="530280"/>
            <a:ext cx="1272960" cy="101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3276720" y="0"/>
          <a:ext cx="2016000" cy="685800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60" name="Прямоугольник 32" descr=""/>
          <p:cNvPicPr/>
          <p:nvPr/>
        </p:nvPicPr>
        <p:blipFill>
          <a:blip r:embed="rId14"/>
          <a:stretch/>
        </p:blipFill>
        <p:spPr>
          <a:xfrm>
            <a:off x="3121200" y="-16524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33" descr=""/>
          <p:cNvPicPr/>
          <p:nvPr/>
        </p:nvPicPr>
        <p:blipFill>
          <a:blip r:embed="rId15"/>
          <a:stretch/>
        </p:blipFill>
        <p:spPr>
          <a:xfrm>
            <a:off x="3060720" y="530280"/>
            <a:ext cx="1401840" cy="1017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4" descr=""/>
          <p:cNvPicPr/>
          <p:nvPr/>
        </p:nvPicPr>
        <p:blipFill>
          <a:blip r:embed="rId16"/>
          <a:stretch/>
        </p:blipFill>
        <p:spPr>
          <a:xfrm>
            <a:off x="3114720" y="1176480"/>
            <a:ext cx="1274760" cy="1017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5" descr=""/>
          <p:cNvPicPr/>
          <p:nvPr/>
        </p:nvPicPr>
        <p:blipFill>
          <a:blip r:embed="rId17"/>
          <a:stretch/>
        </p:blipFill>
        <p:spPr>
          <a:xfrm>
            <a:off x="3187800" y="1828800"/>
            <a:ext cx="1238040" cy="10177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6" descr=""/>
          <p:cNvPicPr/>
          <p:nvPr/>
        </p:nvPicPr>
        <p:blipFill>
          <a:blip r:embed="rId18"/>
          <a:stretch/>
        </p:blipFill>
        <p:spPr>
          <a:xfrm>
            <a:off x="3164040" y="2548080"/>
            <a:ext cx="1274760" cy="1017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7" descr=""/>
          <p:cNvPicPr/>
          <p:nvPr/>
        </p:nvPicPr>
        <p:blipFill>
          <a:blip r:embed="rId19"/>
          <a:stretch/>
        </p:blipFill>
        <p:spPr>
          <a:xfrm>
            <a:off x="3164040" y="326700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38" descr=""/>
          <p:cNvPicPr/>
          <p:nvPr/>
        </p:nvPicPr>
        <p:blipFill>
          <a:blip r:embed="rId20"/>
          <a:stretch/>
        </p:blipFill>
        <p:spPr>
          <a:xfrm>
            <a:off x="3127320" y="3913200"/>
            <a:ext cx="132228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9" descr=""/>
          <p:cNvPicPr/>
          <p:nvPr/>
        </p:nvPicPr>
        <p:blipFill>
          <a:blip r:embed="rId21"/>
          <a:stretch/>
        </p:blipFill>
        <p:spPr>
          <a:xfrm>
            <a:off x="3164040" y="4632480"/>
            <a:ext cx="126180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0" descr=""/>
          <p:cNvPicPr/>
          <p:nvPr/>
        </p:nvPicPr>
        <p:blipFill>
          <a:blip r:embed="rId22"/>
          <a:stretch/>
        </p:blipFill>
        <p:spPr>
          <a:xfrm>
            <a:off x="3164040" y="5284800"/>
            <a:ext cx="128556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1" descr=""/>
          <p:cNvPicPr/>
          <p:nvPr/>
        </p:nvPicPr>
        <p:blipFill>
          <a:blip r:embed="rId23"/>
          <a:stretch/>
        </p:blipFill>
        <p:spPr>
          <a:xfrm>
            <a:off x="3176640" y="5864400"/>
            <a:ext cx="1255680" cy="1017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42" descr=""/>
          <p:cNvPicPr/>
          <p:nvPr/>
        </p:nvPicPr>
        <p:blipFill>
          <a:blip r:embed="rId24"/>
          <a:stretch/>
        </p:blipFill>
        <p:spPr>
          <a:xfrm>
            <a:off x="4164120" y="-165240"/>
            <a:ext cx="1272960" cy="10191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3" descr=""/>
          <p:cNvPicPr/>
          <p:nvPr/>
        </p:nvPicPr>
        <p:blipFill>
          <a:blip r:embed="rId25"/>
          <a:stretch/>
        </p:blipFill>
        <p:spPr>
          <a:xfrm>
            <a:off x="4095720" y="457200"/>
            <a:ext cx="1324080" cy="10177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4" descr=""/>
          <p:cNvPicPr/>
          <p:nvPr/>
        </p:nvPicPr>
        <p:blipFill>
          <a:blip r:embed="rId26"/>
          <a:stretch/>
        </p:blipFill>
        <p:spPr>
          <a:xfrm>
            <a:off x="4029120" y="1176480"/>
            <a:ext cx="1469880" cy="1017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5" descr=""/>
          <p:cNvPicPr/>
          <p:nvPr/>
        </p:nvPicPr>
        <p:blipFill>
          <a:blip r:embed="rId27"/>
          <a:stretch/>
        </p:blipFill>
        <p:spPr>
          <a:xfrm>
            <a:off x="4095720" y="1828800"/>
            <a:ext cx="125748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0" y="1268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Bookman Old Style"/>
              </a:rPr>
              <a:t>За – за – за –</a:t>
            </a:r>
            <a:r>
              <a:rPr b="1" lang="ru-RU" sz="6600" spc="-1" strike="noStrike">
                <a:solidFill>
                  <a:srgbClr val="99cc00"/>
                </a:solidFill>
                <a:latin typeface="Bookman Old Style"/>
              </a:rPr>
              <a:t>         </a:t>
            </a:r>
            <a:r>
              <a:rPr b="1" lang="ru-RU" sz="6600" spc="-1" strike="noStrike">
                <a:solidFill>
                  <a:srgbClr val="cc0000"/>
                </a:solidFill>
                <a:latin typeface="Bookman Old Style"/>
              </a:rPr>
              <a:t>уходи домой, коз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5922s"/>
          <p:cNvPicPr/>
          <p:nvPr/>
        </p:nvPicPr>
        <p:blipFill>
          <a:blip r:embed="rId1"/>
          <a:stretch/>
        </p:blipFill>
        <p:spPr>
          <a:xfrm>
            <a:off x="2627280" y="3573360"/>
            <a:ext cx="3294000" cy="29512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76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-12600"/>
            <a:ext cx="71326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1268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ookman Old Style"/>
              </a:rPr>
              <a:t>Зу – зу – зу –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Bookman Old Style"/>
              </a:rPr>
              <a:t>моем Катю мы в таз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%D1%80%D0%B5%D0%B1%D0%B5%D0%BD%D0%BE%D0%BA%20%D0%BA%D1%83%D0%BF%D0%B0%D0%B5%D1%82%D1%81%D1%8F"/>
          <p:cNvPicPr/>
          <p:nvPr/>
        </p:nvPicPr>
        <p:blipFill>
          <a:blip r:embed="rId1"/>
          <a:stretch/>
        </p:blipFill>
        <p:spPr>
          <a:xfrm>
            <a:off x="3203640" y="3645000"/>
            <a:ext cx="2085840" cy="295272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79" name="Прямоугольник 5" descr=""/>
          <p:cNvPicPr/>
          <p:nvPr/>
        </p:nvPicPr>
        <p:blipFill>
          <a:blip r:embed="rId2"/>
          <a:stretch/>
        </p:blipFill>
        <p:spPr>
          <a:xfrm>
            <a:off x="901800" y="-12600"/>
            <a:ext cx="71326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10800000">
            <a:off x="0" y="539280"/>
            <a:ext cx="914400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има            Лиза             завтрак           за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о         розы             Золушка         к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убы            зяблик          Мурзилка        з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убры          арбузы         газон               зая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ат            зебра            здание             в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 rot="10800000">
            <a:off x="0" y="177480"/>
            <a:ext cx="9144000" cy="42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фир          змеи          звери           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ина           завод         замок            обез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ад          приз          звёзды          зоопа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ёзы         базар         сказка           му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рёза        друзья      озеро             праз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мля         мороз        звук                Ту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9280" y="0"/>
            <a:ext cx="896472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а  принесла  кор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у  с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лян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 забором  сидят  Тузик  и  Мурз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ли  выл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зелёный  ро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опарке  дети  смотрели  на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ёный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астый  крокодил  чуть  меня не  прогло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 планете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ля  есть  ж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  и  Мур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 – дру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0" y="404640"/>
            <a:ext cx="914400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1125360"/>
            <a:ext cx="91440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1844640"/>
            <a:ext cx="914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2565360"/>
            <a:ext cx="91440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0" y="3284640"/>
            <a:ext cx="9144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0" y="3789360"/>
            <a:ext cx="9144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0" y="4508640"/>
            <a:ext cx="9144000" cy="2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0" y="5229360"/>
            <a:ext cx="9144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476360" y="836640"/>
            <a:ext cx="5904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Чтение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сплошного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текста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pic>
        <p:nvPicPr>
          <p:cNvPr id="92" name="Picture 3" descr="Рис1"/>
          <p:cNvPicPr/>
          <p:nvPr/>
        </p:nvPicPr>
        <p:blipFill>
          <a:blip r:embed="rId2"/>
          <a:stretch/>
        </p:blipFill>
        <p:spPr>
          <a:xfrm>
            <a:off x="2987640" y="3141720"/>
            <a:ext cx="345600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Arial"/>
              </a:rPr>
              <a:t>Всубботунашклассходилвзоопарк.Таммывиделиразныхживотных.Намбольшевсегопонравилсялев.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42:50Z</dcterms:created>
  <dc:creator>Синецкая Г.Г.</dc:creator>
  <dc:description/>
  <dc:language>en-US</dc:language>
  <cp:lastModifiedBy>User</cp:lastModifiedBy>
  <dcterms:modified xsi:type="dcterms:W3CDTF">2016-07-10T13:20:59Z</dcterms:modified>
  <cp:revision>134</cp:revision>
  <dc:subject>Согласные звуки з, зь. Буквы Зз. Урок 3</dc:subject>
  <dc:title>1 класс. Обучение грамоте.</dc:title>
</cp:coreProperties>
</file>