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D0A-320F-473A-9A79-EDB000CA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159-BDE2-4092-BCB2-997663A6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885-23B7-4575-9656-00511DAD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74F-BEE7-4FCD-A77F-D4F72040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608-7EB8-4653-99EC-D25D59CD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B21-7DAE-411B-A727-EC2C8EEC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4EA-8FB9-40FA-B489-D1205524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938-BB64-4B1F-A02F-F08F6588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E2D-C52E-4C73-8FAB-2C5CB5A4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568-5F31-4A13-B649-50F14B0D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0AA-EABE-4FE0-B482-33E7314A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043-CED0-4DFC-B8BA-C1C07E06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E0A7-F862-4101-90EB-7BF76F0CE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603440" y="1127160"/>
            <a:ext cx="593712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93560" y="2305080"/>
            <a:ext cx="8199720" cy="1833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469040" y="4381560"/>
            <a:ext cx="48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оставит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енова Ольга Святослав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ГБУ ДО ДДТ Петроградского райо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405960" y="62467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20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98440" y="88920"/>
            <a:ext cx="8547120" cy="6680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88720" y="5516640"/>
            <a:ext cx="854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34 году дорожный рабочий англичанин  Перси Шоу ехал по неосвещённо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илистой дороге и внезапно заметил два мелькнувших в темноте зелёных огоньк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в их за фары встречного автомобиля, Перси резко затормозил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видел… испуганную кошку, чьи глаза отразили свет фа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414360" y="5380200"/>
            <a:ext cx="831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бсолютной темноте кошку можно заметить на расстоянии до 80 метров. Все потому, что у кошек в глубине глаза есть специальный слой клеток, называемый зеркальцем или светящимся ковром. В темноте кошачий глаз собирает, увеличивает и отражает каждый лучик света, который в него попадает. Именно поэтому кошачьи глаза так ярко светятся ночью в отраженном све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s://cdn.fishki.net/upload/post/2018/02/01/2499554/4ee7095aa878b87b5d84e04db8530f1b.jpg"/>
          <p:cNvPicPr/>
          <p:nvPr/>
        </p:nvPicPr>
        <p:blipFill>
          <a:blip r:embed="rId1"/>
          <a:stretch/>
        </p:blipFill>
        <p:spPr>
          <a:xfrm>
            <a:off x="1549440" y="476280"/>
            <a:ext cx="60418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414360" y="5443560"/>
            <a:ext cx="83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35 году британец Перси Шоу придумал дорожные светоотражатели, которые работали по принципу «кошачьих глаз», отражая свет фар. Этим изобретением мы пользуемся до сих пор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secureservercdn.net/45.40.150.47/a4b.8c5.myftpupload.com/wp-content/uploads/2015/03/Percy_Shaw.png"/>
          <p:cNvPicPr/>
          <p:nvPr/>
        </p:nvPicPr>
        <p:blipFill>
          <a:blip r:embed="rId1"/>
          <a:stretch/>
        </p:blipFill>
        <p:spPr>
          <a:xfrm>
            <a:off x="422280" y="260280"/>
            <a:ext cx="254952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avatars.mds.yandex.net/get-zen_doc/1221393/pub_5e9968aba9fecf0f5619497c_5e9969255a36af666d4fef1c/scale_1200"/>
          <p:cNvPicPr/>
          <p:nvPr/>
        </p:nvPicPr>
        <p:blipFill>
          <a:blip r:embed="rId2"/>
          <a:stretch/>
        </p:blipFill>
        <p:spPr>
          <a:xfrm>
            <a:off x="3610080" y="2232000"/>
            <a:ext cx="2833560" cy="23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news.bbcimg.co.uk/media/images/56405000/jpg/_56405454_percycat.304.jpg"/>
          <p:cNvPicPr/>
          <p:nvPr/>
        </p:nvPicPr>
        <p:blipFill>
          <a:blip r:embed="rId3"/>
          <a:stretch/>
        </p:blipFill>
        <p:spPr>
          <a:xfrm>
            <a:off x="6667560" y="2254320"/>
            <a:ext cx="2087640" cy="2349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401040" y="4613400"/>
            <a:ext cx="41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атель дорожных отражателе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и Ш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5277960" y="461808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ыглядел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светоотраж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https://a.d-cd.net/JUAAAgDQzuA-960.jpg"/>
          <p:cNvPicPr/>
          <p:nvPr/>
        </p:nvPicPr>
        <p:blipFill>
          <a:blip r:embed="rId4"/>
          <a:stretch/>
        </p:blipFill>
        <p:spPr>
          <a:xfrm>
            <a:off x="3635280" y="260280"/>
            <a:ext cx="50943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ds04.infourok.ru/uploads/ex/005c/000a4d13-8cc9277e/img7.jpg"/>
          <p:cNvPicPr/>
          <p:nvPr/>
        </p:nvPicPr>
        <p:blipFill>
          <a:blip r:embed="rId1"/>
          <a:stretch/>
        </p:blipFill>
        <p:spPr>
          <a:xfrm>
            <a:off x="-1440" y="722160"/>
            <a:ext cx="9145440" cy="33958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414360" y="5443560"/>
            <a:ext cx="831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ретатель разместил 50 катафотов вдоль одного из опасных дорожных участков, и число аварий на этом участке резко снизилось. Тогда  катафотами стали оснащать дороги по всему миру, а Перси Шоу был удостоен ордена Британской империи за весомый вклад в безопасность дорожного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50920" y="674640"/>
            <a:ext cx="87138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жегодно в мире в результате дорожно-транспортных происшествий погибает 1,2 млн человек, а около 20 – 50 млн получают травмы и становятся инвалид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ибольшее количество происшествий со смертельным исходом происходит ночью – их количество в  3 раза выше, чем в дневное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ная указываемая причина происшествий – плохая видимость объек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идимость становится единственным способом защиты пешеходов</a:t>
            </a:r>
            <a:r>
              <a:rPr b="0" lang="ru-RU" sz="1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условиях ночной освещенности,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наличие специальных световозвращающих элементов на одежде – единственным средством  увеличить контраст по сравнению с окружающей сред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95440" y="4508640"/>
            <a:ext cx="792468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делать видимым – значит …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ПАСТИ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16000" y="558972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имость - это единственный способ защи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…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 в условиях недостаточной дневной и ночной освеще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5T12:37:24Z</dcterms:created>
  <dc:creator>Юлия Юрьевна</dc:creator>
  <dc:description/>
  <dc:language>en-US</dc:language>
  <cp:lastModifiedBy>Юлия Юрьевна</cp:lastModifiedBy>
  <dcterms:modified xsi:type="dcterms:W3CDTF">2021-06-02T10:45:57Z</dcterms:modified>
  <cp:revision>53</cp:revision>
  <dc:subject/>
  <dc:title>Презентация PowerPoint</dc:title>
</cp:coreProperties>
</file>