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F8B-5660-4F7D-8013-470E4CF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468-AF3B-4499-B5AF-FF2B6A7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D60-83A1-4397-96CC-9DD732D6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2AD-9AD6-4502-8544-D411B464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6C0-8910-49A2-91CB-DB26538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4AF-F93C-43BF-8E7C-BFCF891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1EB-4229-4AAD-AFC4-4933EBCB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FDA-B5C0-4EFB-955C-9505DB4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B4D-F6C5-4E26-B2D9-75608DB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174-F872-4CA5-8FAB-4BC3F98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70D-55C6-4791-8034-5C4A53F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FDD-28AC-4524-8DBA-AAA139B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9D1-AD31-493E-A442-EA3D7C20B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603440" y="1127160"/>
            <a:ext cx="593712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3560" y="2305080"/>
            <a:ext cx="8199720" cy="1833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469040" y="438156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нова Ольга Святослав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ГБУ ДО ДДТ Петроградского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405960" y="62467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98440" y="88920"/>
            <a:ext cx="8547120" cy="6680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88720" y="5516640"/>
            <a:ext cx="854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34 году дорожный рабочий англичанин  Перси Шоу ехал по неосвещённо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листой дороге и внезапно заметил два мелькнувших в темноте зелёных огоньк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в их за фары встречного автомобиля, Перси резко затормози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видел… испуганную кошку, чьи глаза отразили свет ф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14360" y="5380200"/>
            <a:ext cx="83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бсолютной темноте кошку можно заметить на расстоянии до 80 метров. Все потому, что у кошек в глубине глаза есть специальный слой клеток, называемый зеркальцем или светящимся ковром. В темноте кошачий глаз собирает, увеличивает и отражает каждый лучик света, который в него попадает. Именно поэтому кошачьи глаза так ярко светятся ночью в отраженном св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cdn.fishki.net/upload/post/2018/02/01/2499554/4ee7095aa878b87b5d84e04db8530f1b.jpg"/>
          <p:cNvPicPr/>
          <p:nvPr/>
        </p:nvPicPr>
        <p:blipFill>
          <a:blip r:embed="rId1"/>
          <a:stretch/>
        </p:blipFill>
        <p:spPr>
          <a:xfrm>
            <a:off x="1549440" y="476280"/>
            <a:ext cx="60418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14360" y="5443560"/>
            <a:ext cx="83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35 году британец Перси Шоу придумал дорожные светоотражатели, которые работали по принципу «кошачьих глаз», отражая свет фар. Этим изобретением мы пользуемся до сих пор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ecureservercdn.net/45.40.150.47/a4b.8c5.myftpupload.com/wp-content/uploads/2015/03/Percy_Shaw.png"/>
          <p:cNvPicPr/>
          <p:nvPr/>
        </p:nvPicPr>
        <p:blipFill>
          <a:blip r:embed="rId1"/>
          <a:stretch/>
        </p:blipFill>
        <p:spPr>
          <a:xfrm>
            <a:off x="422280" y="260280"/>
            <a:ext cx="254952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avatars.mds.yandex.net/get-zen_doc/1221393/pub_5e9968aba9fecf0f5619497c_5e9969255a36af666d4fef1c/scale_1200"/>
          <p:cNvPicPr/>
          <p:nvPr/>
        </p:nvPicPr>
        <p:blipFill>
          <a:blip r:embed="rId2"/>
          <a:stretch/>
        </p:blipFill>
        <p:spPr>
          <a:xfrm>
            <a:off x="3610080" y="2232000"/>
            <a:ext cx="28335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news.bbcimg.co.uk/media/images/56405000/jpg/_56405454_percycat.304.jpg"/>
          <p:cNvPicPr/>
          <p:nvPr/>
        </p:nvPicPr>
        <p:blipFill>
          <a:blip r:embed="rId3"/>
          <a:stretch/>
        </p:blipFill>
        <p:spPr>
          <a:xfrm>
            <a:off x="6667560" y="2254320"/>
            <a:ext cx="2087640" cy="2349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401040" y="4613400"/>
            <a:ext cx="41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атель дорожных отражател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и Ш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5277960" y="461808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ел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светоотраж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s://a.d-cd.net/JUAAAgDQzuA-960.jpg"/>
          <p:cNvPicPr/>
          <p:nvPr/>
        </p:nvPicPr>
        <p:blipFill>
          <a:blip r:embed="rId4"/>
          <a:stretch/>
        </p:blipFill>
        <p:spPr>
          <a:xfrm>
            <a:off x="3635280" y="260280"/>
            <a:ext cx="5094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ds04.infourok.ru/uploads/ex/005c/000a4d13-8cc9277e/img7.jpg"/>
          <p:cNvPicPr/>
          <p:nvPr/>
        </p:nvPicPr>
        <p:blipFill>
          <a:blip r:embed="rId1"/>
          <a:stretch/>
        </p:blipFill>
        <p:spPr>
          <a:xfrm>
            <a:off x="-1440" y="722160"/>
            <a:ext cx="9145440" cy="3395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414360" y="5443560"/>
            <a:ext cx="83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етатель разместил 50 катафотов вдоль одного из опасных дорожных участков, и число аварий на этом участке резко снизилось. Тогда  катафотами стали оснащать дороги по всему миру, а Перси Шоу был удостоен ордена Британской империи за весомый вклад в безопасность дорожного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50920" y="674640"/>
            <a:ext cx="87138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годно в мире в результате дорожно-транспортных происшествий погибает 1,2 млн человек, а около 20 – 50 млн получают травмы и становятся инвалид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ибольшее количество происшествий со смертельным исходом происходит ночью – их количество в  3 раза выше, чем в дневное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ая указываемая причина происшествий – плохая видимость объек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идимость становится единственным способом защиты пешеходов</a:t>
            </a: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условиях ночной освещенности,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наличие специальных световозвращающих элементов на одежде – единственным средством  увеличить контраст по сравнению с окружающей сре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5443560"/>
            <a:ext cx="9144000" cy="1414440"/>
          </a:xfrm>
          <a:prstGeom prst="rect">
            <a:avLst/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95440" y="4508640"/>
            <a:ext cx="792468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делать видимым – значит …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ПАСТИ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16000" y="558972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имость - это единственный способ защи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…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 в условиях недостаточной дневной и ночной освещ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5T12:37:24Z</dcterms:created>
  <dc:creator>Юлия Юрьевна</dc:creator>
  <dc:description/>
  <dc:language>en-US</dc:language>
  <cp:lastModifiedBy>Юлия Юрьевна</cp:lastModifiedBy>
  <dcterms:modified xsi:type="dcterms:W3CDTF">2021-06-02T10:45:57Z</dcterms:modified>
  <cp:revision>53</cp:revision>
  <dc:subject/>
  <dc:title>Презентация PowerPoint</dc:title>
</cp:coreProperties>
</file>