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F7E-8175-42C8-9B65-220EFCAA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06E-DF18-419B-AC19-AAA51D36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053-D540-4425-94E3-27632CAD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247-3E58-4D44-88E4-2A639358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22A-D8F7-4A36-85A9-79F7D718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A4A-27D9-48CF-A677-BD476146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71F-5CB9-4F28-96AB-15A9683B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2B4-632D-4575-B6E0-F1F9725C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85D-EA7B-492F-AF13-CB71C1D8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EA4-23F2-47A5-A973-EF9B869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AC4-AD5A-4845-9FB4-04ED0057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B55-9EC3-41A1-8C20-2AA37B0C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4D3E7-0C83-4E9E-A74F-B3CE7CBFEEF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1120" y="476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66"/>
                </a:solidFill>
                <a:latin typeface="Arial"/>
              </a:rPr>
              <a:t>Цветная металлургия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- 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сль МК, которая включает добычу, обогащение руд цветных металлов и выплавку цветных металлов и их спла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132000" y="2990880"/>
            <a:ext cx="266400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179280" y="2984400"/>
            <a:ext cx="2664000" cy="2673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940360" y="3073320"/>
            <a:ext cx="281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Ольга Андр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Голован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ГБОУ СОШ №5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Нев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ы 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-320760"/>
            <a:ext cx="8589960" cy="69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66"/>
                </a:solidFill>
                <a:latin typeface="Arial"/>
              </a:rPr>
              <a:t>Перспективы развития отра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Дальневосточной 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новых технологий добычи, позволяющих меньше загрязнять окр. сре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отаны гео- и биотехнологии добычи р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о из перспективных направлений в металлургии – это создание автоматизированных мини-заводов, которые работают на металлоломе и меньше загрязняют окружающую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ование вторсы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rcRect l="1989" t="0" r="1860" b="5217"/>
          <a:stretch/>
        </p:blipFill>
        <p:spPr>
          <a:xfrm>
            <a:off x="252360" y="539640"/>
            <a:ext cx="8567640" cy="6120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3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66"/>
                </a:solidFill>
                <a:latin typeface="Arial"/>
              </a:rPr>
              <a:t>Состав Ц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720720" y="161928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720720" y="2879640"/>
            <a:ext cx="360036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нцо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нк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720720" y="414036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ель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бальт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720720" y="540072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юмини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4680000" y="161928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тано-магни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680000" y="2879640"/>
            <a:ext cx="360036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ьфрам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ибден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4680000" y="414036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родных 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680000" y="540072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х 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19044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От мировых запасов цветных металлов</a:t>
            </a:r>
            <a:br>
              <a:rPr sz="3200"/>
            </a:b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в России сосредоточ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% запасов м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% запасов сви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6% запасов ц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1% запасов кобаль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7% запасов 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1% запасов ник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11120" y="1141560"/>
          <a:ext cx="8621640" cy="4701960"/>
        </p:xfrm>
        <a:graphic>
          <a:graphicData uri="http://schemas.openxmlformats.org/drawingml/2006/table">
            <a:tbl>
              <a:tblPr/>
              <a:tblGrid>
                <a:gridCol w="1525680"/>
                <a:gridCol w="7095960"/>
              </a:tblGrid>
              <a:tr h="97452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СК, электроэнергетика. В виде сплавов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Sn 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нза;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дюралюминий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латунь;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мельхи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968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аккумуляторов, каб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072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легированной ста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иастроение, строитель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516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отехника, авиационная, полиграфическая пр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480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т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дает антимагнитными свойствами поэтому используется в приборостроении, судостроении, а также при изготовлении ядерных реакто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020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велирная пром., приборо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788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велирная про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серебра нельзя изготовить кино- и фотоплен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42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66"/>
                </a:solidFill>
                <a:latin typeface="Arial"/>
              </a:rPr>
              <a:t>Применение цветных метал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3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66"/>
                </a:solidFill>
                <a:latin typeface="Arial"/>
              </a:rPr>
              <a:t>Классификация</a:t>
            </a:r>
            <a:br>
              <a:rPr sz="4400"/>
            </a:br>
            <a:r>
              <a:rPr b="1" i="1" lang="ru-RU" sz="4400" spc="-1" strike="noStrike">
                <a:solidFill>
                  <a:srgbClr val="ff3366"/>
                </a:solidFill>
                <a:latin typeface="Arial"/>
              </a:rPr>
              <a:t>цветных метал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6300720" y="2879640"/>
            <a:ext cx="251928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г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260360" y="4319640"/>
            <a:ext cx="324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агород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360360" y="2879640"/>
            <a:ext cx="251928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яжел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859280" y="4319640"/>
            <a:ext cx="356400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дкоземельны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1796760" y="1800360"/>
            <a:ext cx="1446120" cy="90000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3056040" y="1979640"/>
            <a:ext cx="906480" cy="21607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4859280" y="1979640"/>
            <a:ext cx="900000" cy="21607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5940360" y="1800360"/>
            <a:ext cx="1260720" cy="90000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0040" y="178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66"/>
                </a:solidFill>
                <a:latin typeface="Arial"/>
              </a:rPr>
              <a:t>Технологический цик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9280" y="5759280"/>
            <a:ext cx="306072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ыча ру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619280" y="4680000"/>
            <a:ext cx="4032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К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но-обогатительный комбина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обогащение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чищение от примесе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3240000" y="3600360"/>
            <a:ext cx="410364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вк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рнового метал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 rot="60000">
            <a:off x="4671720" y="2517480"/>
            <a:ext cx="3672000" cy="93348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9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финированного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очищенного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5940360" y="1440000"/>
            <a:ext cx="306072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ка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AutoShape 9"/>
          <p:cNvCxnSpPr>
            <a:stCxn id="75" idx="3"/>
            <a:endCxn id="75" idx="3"/>
          </p:cNvCxnSpPr>
          <p:nvPr/>
        </p:nvCxnSpPr>
        <p:spPr>
          <a:xfrm rot="5400000">
            <a:off x="9143280" y="3429000"/>
            <a:ext cx="2160" cy="2160"/>
          </a:xfrm>
          <a:prstGeom prst="bentConnector2">
            <a:avLst/>
          </a:prstGeom>
          <a:ln cap="sq" w="9360">
            <a:solidFill>
              <a:srgbClr val="00ff00"/>
            </a:solidFill>
            <a:round/>
          </a:ln>
        </p:spPr>
      </p:cxnSp>
      <p:sp>
        <p:nvSpPr>
          <p:cNvPr id="83" name="Line 10"/>
          <p:cNvSpPr/>
          <p:nvPr/>
        </p:nvSpPr>
        <p:spPr>
          <a:xfrm flipV="1">
            <a:off x="720720" y="5036760"/>
            <a:ext cx="720720" cy="5461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 flipV="1">
            <a:off x="2340000" y="3957120"/>
            <a:ext cx="720720" cy="5461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V="1">
            <a:off x="3780000" y="2876040"/>
            <a:ext cx="720720" cy="5461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 flipV="1">
            <a:off x="5040360" y="1796760"/>
            <a:ext cx="720720" cy="5461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Объект 11" descr=""/>
          <p:cNvPicPr/>
          <p:nvPr/>
        </p:nvPicPr>
        <p:blipFill>
          <a:blip r:embed="rId2"/>
          <a:stretch/>
        </p:blipFill>
        <p:spPr>
          <a:xfrm>
            <a:off x="22320" y="17640"/>
            <a:ext cx="909936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66"/>
                </a:solidFill>
                <a:latin typeface="Arial"/>
              </a:rPr>
              <a:t>Проблемы отра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0360" y="159372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ощение месторождений медных, алюминиевых 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сутствие крупных месторождений марганцевых, хромитовых и титановых 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зкое качество выплавляем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роговизна российского металла. Одна из причин этого – монополия заводов-гиг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пробл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0:43:14Z</dcterms:created>
  <dc:creator>USER</dc:creator>
  <dc:description/>
  <dc:language>en-US</dc:language>
  <cp:lastModifiedBy>User</cp:lastModifiedBy>
  <dcterms:modified xsi:type="dcterms:W3CDTF">2021-06-02T17:02:04Z</dcterms:modified>
  <cp:revision>13</cp:revision>
  <dc:subject/>
  <dc:title>Слайд 1</dc:title>
</cp:coreProperties>
</file>