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0D716-72EC-4FC5-8DA6-9554A3BCF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54A3E-E994-41A6-BC1A-0F4829626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C11BA-25B9-41FA-8854-785BDEF57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69EA-5772-4124-AD48-561E15FB1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C812-2066-4B1D-BD4D-ED482ABB5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CF614-809A-4256-81A9-E900E4B97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CABC-5623-4285-9103-AEF4C54CA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01E0-48E0-41AD-92CF-DF4D7A0B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6928-B1FD-4E28-836D-C939DD6B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7E5B-4965-48DB-8236-6BE8DD3D3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B414-31F2-4648-AA00-F011CC863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F264-EED9-4926-BED8-72C533B07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A48C-8C0F-4409-9E8A-2890CE738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DECB-D3E7-4040-A3A3-A6207C23C8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F2B3-B011-438C-B378-13BE21190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39B4-6D67-40A7-97BA-EA2621C540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0F41-F603-4598-B368-DE15B83C2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1E1E-07A3-4623-A995-941562744B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DF3D-7DB4-4913-94D8-F9B77366A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809C-97A3-4062-94AB-B3C48A92C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4F4B-8B00-4EB4-8B51-FAE879AEC6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900B-7B61-4724-A5E5-73060BC791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C5F7-6E60-45F8-95B4-4AD74C828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771C-34B6-453B-9F69-2CF149202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9F47-4D8F-49BE-B1CD-042CBAB94E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5EC-EACE-4D0D-9D67-B47A4D8217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632-CC3C-40AA-B3FB-DB6C953486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A67-4FDC-4C01-81A4-413F934B41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0C7-E8BD-4C5A-AD54-4CE7326113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B2F-1224-4A5D-B414-E919B80BB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8310-60CA-4605-9AD2-CC8F24D95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1A0-800D-43B8-9A3A-6943A9857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5D0-B566-473B-81AF-937C140E56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8D9-FBE3-439D-A177-18425D33AA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7F0-D5D6-4620-B6DE-ED18FAA141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321-E254-4E88-9686-8ED7455A6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EB7-B2C3-4DDE-ADFF-3F0763593E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905-98EE-4715-ADF1-C76E7008A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F32D-403D-469C-AD8F-55AD1ED40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C98C-2170-486E-9C0D-401ECB63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104D-0041-416C-AF88-6B9AEBB56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CB0A-5A1E-4FC0-A634-F85575A5E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9B5D-18D2-4118-88A3-103731BA5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DFAA-6197-4A6C-B8A5-4F25E3192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sldNum" idx="1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BED55-E75D-47FE-B786-F08CD4E869CB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51960" y="1350720"/>
            <a:ext cx="7837560" cy="22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95480" indent="-195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3360" indent="-16272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5124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1188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A692E-3A41-4B29-87D6-CBD2393F0CBE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Num" idx="3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57A14-6038-4462-8CE6-B65D51A6D87A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995400" y="334800"/>
            <a:ext cx="69372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9680" bIns="0" anchor="t">
            <a:spAutoFit/>
          </a:bodyPr>
          <a:p>
            <a:pPr marL="12600" algn="ctr">
              <a:lnSpc>
                <a:spcPts val="2373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Муниципальное бюджетное дошкольное образовательное 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ts val="23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«Детский сад №18 «Ласт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663560" y="1897200"/>
            <a:ext cx="597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От шума к музыке</a:t>
            </a: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сследовательски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28800" y="3794040"/>
            <a:ext cx="72151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46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оминация: техника и точные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втор: Коцубенко Варвар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Руководитель: Кузнецова Елен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Как сделать звук громч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71640" y="1341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явить причину усиления зву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вод.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ромкость зависит от интенсивности  колебательных движений. Чем быстрее, чаще движения предмета, тем более громкий звук им изд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ромкость находится в прямой зависимости и от размера предмета – чем больше предмет, тем более громкое у него звуч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Объект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2881080" cy="3840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4284720" y="1647720"/>
            <a:ext cx="287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Картинки с надписью «Внимание конкурс!» (30 фото) | %Мемас%"/>
          <p:cNvPicPr/>
          <p:nvPr/>
        </p:nvPicPr>
        <p:blipFill>
          <a:blip r:embed="rId1"/>
          <a:stretch/>
        </p:blipFill>
        <p:spPr>
          <a:xfrm>
            <a:off x="345960" y="425520"/>
            <a:ext cx="6096240" cy="3409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ᐈ Девушка шепчет на ухо фото, фотографии шепчет на ухо | скачать на  Depositphotos®"/>
          <p:cNvPicPr/>
          <p:nvPr/>
        </p:nvPicPr>
        <p:blipFill>
          <a:blip r:embed="rId2"/>
          <a:stretch/>
        </p:blipFill>
        <p:spPr>
          <a:xfrm>
            <a:off x="3468600" y="2820960"/>
            <a:ext cx="5329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изкие и высокие зву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042920" y="1991880"/>
            <a:ext cx="741672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явить причины происхождения низких и высоких зву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сота звука зависит от частоты колебаний – чем мельче предмет тем быстрее он может двигаться и , соответственно выше звучать и наоборот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4" descr=""/>
          <p:cNvPicPr/>
          <p:nvPr/>
        </p:nvPicPr>
        <p:blipFill>
          <a:blip r:embed="rId1"/>
          <a:stretch/>
        </p:blipFill>
        <p:spPr>
          <a:xfrm>
            <a:off x="858960" y="1249200"/>
            <a:ext cx="3547800" cy="4730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"/>
          <p:cNvPicPr/>
          <p:nvPr/>
        </p:nvPicPr>
        <p:blipFill>
          <a:blip r:embed="rId2"/>
          <a:stretch/>
        </p:blipFill>
        <p:spPr>
          <a:xfrm>
            <a:off x="4870440" y="1214280"/>
            <a:ext cx="35751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228160" cy="397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Музыкально-дидактическая игра «Я шагаю вверх»"/>
          <p:cNvPicPr/>
          <p:nvPr/>
        </p:nvPicPr>
        <p:blipFill>
          <a:blip r:embed="rId2"/>
          <a:stretch/>
        </p:blipFill>
        <p:spPr>
          <a:xfrm>
            <a:off x="1116000" y="1019160"/>
            <a:ext cx="642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48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Шум или музык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28440" y="1928880"/>
            <a:ext cx="67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делить отличие музыкального от шумового зв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928800" y="2214720"/>
            <a:ext cx="74548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нструменты из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звуки, а «капсулы – шумелки» - шум  (немузыкальные звуки). Музыкаль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8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тличаются от немузыкальных тем, что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меют высоту, из них можно сложить мел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9" descr="20201023_120253.jpg"/>
          <p:cNvPicPr/>
          <p:nvPr/>
        </p:nvPicPr>
        <p:blipFill>
          <a:blip r:embed="rId1"/>
          <a:srcRect l="0" t="0" r="-69" b="25"/>
          <a:stretch/>
        </p:blipFill>
        <p:spPr>
          <a:xfrm>
            <a:off x="2050920" y="2309760"/>
            <a:ext cx="3446640" cy="4038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Объект 4" descr=""/>
          <p:cNvPicPr/>
          <p:nvPr/>
        </p:nvPicPr>
        <p:blipFill>
          <a:blip r:embed="rId2"/>
          <a:srcRect l="0" t="0" r="16" b="-54"/>
          <a:stretch/>
        </p:blipFill>
        <p:spPr>
          <a:xfrm>
            <a:off x="611280" y="844560"/>
            <a:ext cx="2070000" cy="250020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6" descr=""/>
          <p:cNvPicPr/>
          <p:nvPr/>
        </p:nvPicPr>
        <p:blipFill>
          <a:blip r:embed="rId3"/>
          <a:stretch/>
        </p:blipFill>
        <p:spPr>
          <a:xfrm>
            <a:off x="5076720" y="1025640"/>
            <a:ext cx="24764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944640" y="2201760"/>
            <a:ext cx="74548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нструменты из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звуки, а «капсулы – шумелки» - шум  (немузыкальные звуки). Музыкаль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8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тличаются от немузыкальных тем, что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меют высоту, из них можно сложить мел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976320" y="1808280"/>
            <a:ext cx="7645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роведенные опыты со зв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кружающего мира доказали, что их 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разделить на музыкальные и немузыкальные, по  причине отсутствия звуковысотности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ослед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12049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28800" y="1285920"/>
            <a:ext cx="766584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t">
            <a:spAutoFit/>
          </a:bodyPr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Исследовать свойства звуков окружающей действительности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с помощью простейших  опы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4280" y="2642760"/>
            <a:ext cx="16495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071720" y="3254400"/>
            <a:ext cx="7094520" cy="28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обрать материал о том, что такое зв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ыяснить, как появляется зв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айти информацию о том, какие звуки бываю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сследовать свойства звуков опыт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60120" y="2750760"/>
            <a:ext cx="54212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95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Спасибо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09440" y="1542600"/>
            <a:ext cx="7342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237"/>
              </a:lnSpc>
              <a:spcBef>
                <a:spcPts val="10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если изучить звуки окружающего мира, то  мы сможем их классифицировать на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 немузыкальные, так как они  отличаются по свойств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1187280" y="4286160"/>
            <a:ext cx="7342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 Narrow"/>
                <a:ea typeface="Times New Roman"/>
              </a:rPr>
              <a:t>найти отличие музыкального звука от немузыкально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4760" y="544680"/>
            <a:ext cx="407484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Звуки вокруг на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2320" y="1351080"/>
            <a:ext cx="78393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noAutofit/>
          </a:bodyPr>
          <a:p>
            <a:pPr marL="16992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Цель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ознакомить с разнообразием звуков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699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кружающий мир наполнен разнообразными звуками. Характер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или ТЕМБР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их зависит от материала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з которого сделаны предметы,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здающие звук: деревянные - сухой, теплый; стеклянные – нежный,  чистый, прозрачный, металлические – призывный, яркий, звонкий,  бумажные – шуршащие, тихие, незаме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Объект 3" descr=""/>
          <p:cNvPicPr/>
          <p:nvPr/>
        </p:nvPicPr>
        <p:blipFill>
          <a:blip r:embed="rId1"/>
          <a:srcRect l="0" t="0" r="12" b="32"/>
          <a:stretch/>
        </p:blipFill>
        <p:spPr>
          <a:xfrm>
            <a:off x="1128600" y="266760"/>
            <a:ext cx="27561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2"/>
          <a:srcRect l="0" t="0" r="62" b="0"/>
          <a:stretch/>
        </p:blipFill>
        <p:spPr>
          <a:xfrm>
            <a:off x="4641840" y="187200"/>
            <a:ext cx="2736720" cy="31338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3"/>
          <a:srcRect l="0" t="0" r="37" b="54"/>
          <a:stretch/>
        </p:blipFill>
        <p:spPr>
          <a:xfrm>
            <a:off x="4641840" y="3457440"/>
            <a:ext cx="2736720" cy="3102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"/>
          <p:cNvPicPr/>
          <p:nvPr/>
        </p:nvPicPr>
        <p:blipFill>
          <a:blip r:embed="rId4"/>
          <a:srcRect l="0" t="0" r="26" b="0"/>
          <a:stretch/>
        </p:blipFill>
        <p:spPr>
          <a:xfrm>
            <a:off x="1298520" y="3639960"/>
            <a:ext cx="25862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Скачать - Гуашевые краски и кисти — стоковое изображение | Краска,  Картинки, Фотографии"/>
          <p:cNvPicPr/>
          <p:nvPr/>
        </p:nvPicPr>
        <p:blipFill>
          <a:blip r:embed="rId1"/>
          <a:stretch/>
        </p:blipFill>
        <p:spPr>
          <a:xfrm>
            <a:off x="685800" y="8859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Скачать - Музыкальные инструменты. Саксофон, барабаны, контрабас, гитары,  скрипка и труба. — стоковое изображение | Саксофоны, Барабаны, Музыкальные  инструменты"/>
          <p:cNvPicPr/>
          <p:nvPr/>
        </p:nvPicPr>
        <p:blipFill>
          <a:blip r:embed="rId2"/>
          <a:srcRect l="0" t="0" r="-25" b="-8"/>
          <a:stretch/>
        </p:blipFill>
        <p:spPr>
          <a:xfrm>
            <a:off x="4322880" y="2279520"/>
            <a:ext cx="41353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8000" y="793440"/>
            <a:ext cx="48196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Почему все звучит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768240" y="2084400"/>
            <a:ext cx="713592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t">
            <a:spAutoFit/>
          </a:bodyPr>
          <a:p>
            <a:pPr marL="241200" indent="-22680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Цель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Создать условия для осознания причины  возникновения звука: колебание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Если предмет заставить двиг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- возникнет звук. Прекратить звучание  можно остановив движение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Объект 4" descr=""/>
          <p:cNvPicPr/>
          <p:nvPr/>
        </p:nvPicPr>
        <p:blipFill>
          <a:blip r:embed="rId1"/>
          <a:stretch/>
        </p:blipFill>
        <p:spPr>
          <a:xfrm>
            <a:off x="984240" y="1604880"/>
            <a:ext cx="2981160" cy="397512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6" descr=""/>
          <p:cNvPicPr/>
          <p:nvPr/>
        </p:nvPicPr>
        <p:blipFill>
          <a:blip r:embed="rId2"/>
          <a:stretch/>
        </p:blipFill>
        <p:spPr>
          <a:xfrm>
            <a:off x="5175360" y="1604880"/>
            <a:ext cx="2981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Ритмические карточки скачать"/>
          <p:cNvPicPr/>
          <p:nvPr/>
        </p:nvPicPr>
        <p:blipFill>
          <a:blip r:embed="rId1"/>
          <a:stretch/>
        </p:blipFill>
        <p:spPr>
          <a:xfrm>
            <a:off x="1500120" y="1214280"/>
            <a:ext cx="59295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8T06:08:49Z</dcterms:created>
  <dc:creator>Артём Кулаков</dc:creator>
  <dc:description/>
  <dc:language>en-US</dc:language>
  <cp:lastModifiedBy>Пользователь</cp:lastModifiedBy>
  <dcterms:modified xsi:type="dcterms:W3CDTF">2021-02-05T06:51:57Z</dcterms:modified>
  <cp:revision>4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yperlinksChanged">
    <vt:bool>0</vt:bool>
  </property>
  <property fmtid="{D5CDD505-2E9C-101B-9397-08002B2CF9AE}" pid="3" name="LinksUpToDate">
    <vt:bool>0</vt:bool>
  </property>
  <property fmtid="{D5CDD505-2E9C-101B-9397-08002B2CF9AE}" pid="4" name="NXTAG2">
    <vt:lpwstr>000800ac0b0000000000010290310207f7000400038000</vt:lpwstr>
  </property>
  <property fmtid="{D5CDD505-2E9C-101B-9397-08002B2CF9AE}" pid="5" name="PresentationFormat">
    <vt:lpwstr>On-screen Show (4:3)</vt:lpwstr>
  </property>
  <property fmtid="{D5CDD505-2E9C-101B-9397-08002B2CF9AE}" pid="6" name="ScaleCrop">
    <vt:bool>0</vt:bool>
  </property>
  <property fmtid="{D5CDD505-2E9C-101B-9397-08002B2CF9AE}" pid="7" name="ShareDoc">
    <vt:bool>0</vt:bool>
  </property>
</Properties>
</file>