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5CC42-5D50-4D40-AAB9-FA50C5DCE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CE47C-A6EC-49D9-B144-438A210D6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9D840-90CA-4094-ADE4-E4A7377EF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300CE-E5A5-4E5F-A7BA-B23EA31C0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E688A-C4C3-4282-BA2B-EBA78741F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3D73A-00B2-42A1-BA8D-5DC269BA27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AAA29-18C0-4169-B852-7870929B0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74BF8-8721-4D81-BA16-425E6F6DCC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4955-4DD8-41B6-9559-6817E8FE6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AE56-9D56-44CD-A27B-9CE913F9F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65B2-9E1D-4C95-8E3A-70EC698E5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40D8-EC27-4BDA-9483-F2929A1B2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FD65-D9BE-48E5-ABD4-A5040C8EBB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9061-F5F1-4D71-A837-92D95C0147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5DA6-6CC8-44C7-8E95-B3C9E4A77E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F491-BB4A-444D-BBEE-404673F1E1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0A66-64AD-4873-BD16-1357B2CB7B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860120" y="2751120"/>
            <a:ext cx="541980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11AF-D36C-40F1-9C77-A4A220E9A4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F5BC6-18A9-465D-829B-0EB49ABE18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9E13-5465-441C-8D93-C6447B4C7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4081-C18A-402A-9D94-65120A5DA7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B112-1FE2-491E-89A1-36CC15C003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D4019-7C8F-4FFD-BBC7-C81F27ED2D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2C05-FE29-419F-92DA-ADA50E624D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96ED-EDD3-415E-AA7E-385FC12D7C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B65-FFC3-4EF4-8378-6B120644AB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D90-BE43-4DE0-AB81-B786690778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646-9CB7-4D6A-BC93-424571BFDD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A1A-1E89-418C-9C32-52A2BE577B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E83-DFE2-45C0-8AAF-6460DBADB8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1D4B-CD06-4A0C-ADDF-94C36A72C6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860120" y="2751120"/>
            <a:ext cx="541980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7D8-1655-4BF2-A4F8-327CC45E39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97B-FF0D-4B1E-A3E8-8B8E7386EC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9FF-A38B-4C61-8314-EA58A77E43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923-68DE-47C5-BD4D-10C8C14383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F36-0917-44DB-A4C2-4F2BD6D2A5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492-915D-418D-ABC1-CCCCF54AB4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971-4ECD-4FD6-B63E-DC2A67369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6859-9D99-4449-BB71-3F328C6AF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08BE-173B-4862-8A1C-03EF10671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60120" y="2751120"/>
            <a:ext cx="541980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6443-B287-4320-91D2-9CE3E265E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598B-CF7E-49C2-BEAF-AB8667E39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2FC8-5202-47BB-8BBF-08A9D335D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BF62-C606-4D26-B47E-E484FF452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728496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577880" cy="3722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0" y="3084480"/>
            <a:ext cx="1617840" cy="37720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6"/>
          <a:stretch/>
        </p:blipFill>
        <p:spPr>
          <a:xfrm>
            <a:off x="6380280" y="4260960"/>
            <a:ext cx="2763720" cy="2597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3108240" y="6378480"/>
            <a:ext cx="2925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sldNum" idx="1"/>
          </p:nvPr>
        </p:nvSpPr>
        <p:spPr>
          <a:xfrm>
            <a:off x="6582960" y="6378480"/>
            <a:ext cx="21020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5F3C6-FC00-4770-97B8-1A7AAACDFB31}" type="slidenum">
              <a: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728496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577880" cy="3722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5"/>
          <a:stretch/>
        </p:blipFill>
        <p:spPr>
          <a:xfrm>
            <a:off x="0" y="3084480"/>
            <a:ext cx="1617840" cy="377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6"/>
          <a:stretch/>
        </p:blipFill>
        <p:spPr>
          <a:xfrm>
            <a:off x="6380280" y="4260960"/>
            <a:ext cx="2763720" cy="2597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51960" y="1350720"/>
            <a:ext cx="7837560" cy="22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95480" indent="-195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3360" indent="-16272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51240" indent="-12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11880" indent="-12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72520" indent="-12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72520" indent="-12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72520" indent="-12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108240" y="6378480"/>
            <a:ext cx="2925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6582960" y="6378480"/>
            <a:ext cx="21020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E6578-932D-44E0-97E3-62FF7E79E6C8}" type="slidenum">
              <a: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728496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577880" cy="3722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5"/>
          <a:stretch/>
        </p:blipFill>
        <p:spPr>
          <a:xfrm>
            <a:off x="0" y="3084480"/>
            <a:ext cx="1617840" cy="3772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6"/>
          <a:stretch/>
        </p:blipFill>
        <p:spPr>
          <a:xfrm>
            <a:off x="6380280" y="4260960"/>
            <a:ext cx="2763720" cy="2597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108240" y="6378480"/>
            <a:ext cx="2925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5720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Num" idx="3"/>
          </p:nvPr>
        </p:nvSpPr>
        <p:spPr>
          <a:xfrm>
            <a:off x="6582960" y="6378480"/>
            <a:ext cx="21020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77495-26E3-4909-821A-54CDE77F4A47}" type="slidenum">
              <a:rPr b="0" lang="en-US" sz="1400" spc="-1" strike="noStrike">
                <a:solidFill>
                  <a:srgbClr val="b2b2b2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3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3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3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3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995400" y="334800"/>
            <a:ext cx="69372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9680" bIns="0" anchor="t">
            <a:spAutoFit/>
          </a:bodyPr>
          <a:p>
            <a:pPr marL="12600" algn="ctr">
              <a:lnSpc>
                <a:spcPts val="2373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Муниципальное бюджетное дошкольное образовательное  учре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ts val="23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«Детский сад №18 «Ласт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663560" y="1897200"/>
            <a:ext cx="597708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8960" bIns="0" anchor="t">
            <a:spAutoFit/>
          </a:bodyPr>
          <a:p>
            <a:pPr marL="1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От шума к музыке</a:t>
            </a: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исследовательски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928800" y="3794040"/>
            <a:ext cx="72151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algn="ctr">
              <a:lnSpc>
                <a:spcPct val="146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Номинация: техника и точные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Автор: Коцубенко Варвар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тарш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Руководитель: Кузнецова Елена Анатоль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узыкальный руковод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Как сделать звук громче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71640" y="134136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Цель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Выявить причину усиления зву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ывод.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Громкость зависит от интенсивности  колебательных движений. Чем быстрее, чаще движения предмета, тем более громкий звук им изд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Громкость находится в прямой зависимости и от размера предмета – чем больше предмет, тем более громкое у него звуча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Объект 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2881080" cy="3840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"/>
          <p:cNvPicPr/>
          <p:nvPr/>
        </p:nvPicPr>
        <p:blipFill>
          <a:blip r:embed="rId2"/>
          <a:stretch/>
        </p:blipFill>
        <p:spPr>
          <a:xfrm>
            <a:off x="4284720" y="1647720"/>
            <a:ext cx="2879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Картинки с надписью «Внимание конкурс!» (30 фото) | %Мемас%"/>
          <p:cNvPicPr/>
          <p:nvPr/>
        </p:nvPicPr>
        <p:blipFill>
          <a:blip r:embed="rId1"/>
          <a:stretch/>
        </p:blipFill>
        <p:spPr>
          <a:xfrm>
            <a:off x="345960" y="425520"/>
            <a:ext cx="6096240" cy="3409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ᐈ Девушка шепчет на ухо фото, фотографии шепчет на ухо | скачать на  Depositphotos®"/>
          <p:cNvPicPr/>
          <p:nvPr/>
        </p:nvPicPr>
        <p:blipFill>
          <a:blip r:embed="rId2"/>
          <a:stretch/>
        </p:blipFill>
        <p:spPr>
          <a:xfrm>
            <a:off x="3468600" y="2820960"/>
            <a:ext cx="53294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Низкие и высокие зву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042920" y="1991880"/>
            <a:ext cx="741672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Цель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Выявить причины происхождения низких и высоких зву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вод.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Высота звука зависит от частоты колебаний – чем мельче предмет тем быстрее он может двигаться и , соответственно выше звучать и наоборот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4" descr=""/>
          <p:cNvPicPr/>
          <p:nvPr/>
        </p:nvPicPr>
        <p:blipFill>
          <a:blip r:embed="rId1"/>
          <a:stretch/>
        </p:blipFill>
        <p:spPr>
          <a:xfrm>
            <a:off x="858960" y="1249200"/>
            <a:ext cx="3547800" cy="47307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6" descr=""/>
          <p:cNvPicPr/>
          <p:nvPr/>
        </p:nvPicPr>
        <p:blipFill>
          <a:blip r:embed="rId2"/>
          <a:stretch/>
        </p:blipFill>
        <p:spPr>
          <a:xfrm>
            <a:off x="4870440" y="1214280"/>
            <a:ext cx="35751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228160" cy="3975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Музыкально-дидактическая игра «Я шагаю вверх»"/>
          <p:cNvPicPr/>
          <p:nvPr/>
        </p:nvPicPr>
        <p:blipFill>
          <a:blip r:embed="rId2"/>
          <a:stretch/>
        </p:blipFill>
        <p:spPr>
          <a:xfrm>
            <a:off x="1116000" y="1019160"/>
            <a:ext cx="64292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48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Шум или музыка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28440" y="1928880"/>
            <a:ext cx="67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Выделить отличие музыкального от шумового зву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928800" y="2214720"/>
            <a:ext cx="745488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ывод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Музыкальные инструменты изд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01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музыкальные звуки, а «капсулы – шумелки» - шум  (немузыкальные звуки). Музыкальные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8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отличаются от немузыкальных тем, что 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18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имеют высоту, из них можно сложить мелод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9" descr="20201023_120253.jpg"/>
          <p:cNvPicPr/>
          <p:nvPr/>
        </p:nvPicPr>
        <p:blipFill>
          <a:blip r:embed="rId1"/>
          <a:srcRect l="0" t="0" r="-69" b="25"/>
          <a:stretch/>
        </p:blipFill>
        <p:spPr>
          <a:xfrm>
            <a:off x="2050920" y="2309760"/>
            <a:ext cx="3446640" cy="4038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Объект 4" descr=""/>
          <p:cNvPicPr/>
          <p:nvPr/>
        </p:nvPicPr>
        <p:blipFill>
          <a:blip r:embed="rId2"/>
          <a:srcRect l="0" t="0" r="16" b="-54"/>
          <a:stretch/>
        </p:blipFill>
        <p:spPr>
          <a:xfrm>
            <a:off x="611280" y="844560"/>
            <a:ext cx="2070000" cy="2500200"/>
          </a:xfrm>
          <a:prstGeom prst="rect">
            <a:avLst/>
          </a:prstGeom>
          <a:ln w="0">
            <a:noFill/>
          </a:ln>
        </p:spPr>
      </p:pic>
      <p:pic>
        <p:nvPicPr>
          <p:cNvPr id="198" name="Объект 6" descr=""/>
          <p:cNvPicPr/>
          <p:nvPr/>
        </p:nvPicPr>
        <p:blipFill>
          <a:blip r:embed="rId3"/>
          <a:stretch/>
        </p:blipFill>
        <p:spPr>
          <a:xfrm>
            <a:off x="5076720" y="1025640"/>
            <a:ext cx="247644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944640" y="2201760"/>
            <a:ext cx="745488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ывод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Музыкальные инструменты изд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01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музыкальные звуки, а «капсулы – шумелки» - шум  (немузыкальные звуки). Музыкальные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8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отличаются от немузыкальных тем, что 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18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имеют высоту, из них можно сложить мелод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976320" y="1808280"/>
            <a:ext cx="76453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3186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ывод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Проведенные опыты со зв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01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окружающего мира доказали, что их м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01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разделить на музыкальные и немузыкальные, по  причине отсутствия звуковысотности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9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послед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120492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928800" y="1285920"/>
            <a:ext cx="766584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t">
            <a:spAutoFit/>
          </a:bodyPr>
          <a:p>
            <a:pPr marL="241200" indent="12960">
              <a:lnSpc>
                <a:spcPts val="301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Исследовать свойства звуков окружающей действительности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с помощью простейших  опы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200" indent="12960">
              <a:lnSpc>
                <a:spcPts val="301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200" indent="12960">
              <a:lnSpc>
                <a:spcPts val="301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214280" y="2642760"/>
            <a:ext cx="164952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071720" y="3254400"/>
            <a:ext cx="7094520" cy="28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обрать материал о том, что такое зв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ыяснить, как появляется зв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найти информацию о том, какие звуки бываю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сследовать свойства звуков опытн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189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60120" y="2750760"/>
            <a:ext cx="542124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295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Спасибо за внимание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Гипотез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09440" y="1542600"/>
            <a:ext cx="7342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237"/>
              </a:lnSpc>
              <a:spcBef>
                <a:spcPts val="10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если изучить звуки окружающего мира, то  мы сможем их классифицировать на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музыкальные и немузыкальные, так как они  отличаются по свойств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1187280" y="4286160"/>
            <a:ext cx="7342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 Narrow"/>
                <a:ea typeface="Times New Roman"/>
              </a:rPr>
              <a:t>найти отличие музыкального звука от немузыкальног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4760" y="544680"/>
            <a:ext cx="407484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«Звуки вокруг нас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652320" y="1351080"/>
            <a:ext cx="78393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noAutofit/>
          </a:bodyPr>
          <a:p>
            <a:pPr marL="16992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Цель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Познакомить с разнообразием звуков окружающего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6992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ывод.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Окружающий мир наполнен разнообразными звуками. Характер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или ТЕМБР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их зависит от материала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из которого сделаны предметы,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издающие звук: деревянные - сухой, теплый; стеклянные – нежный,  чистый, прозрачный, металлические – призывный, яркий, звонкий,  бумажные – шуршащие, тихие, незаме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60120" y="2751120"/>
            <a:ext cx="5419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Объект 3" descr=""/>
          <p:cNvPicPr/>
          <p:nvPr/>
        </p:nvPicPr>
        <p:blipFill>
          <a:blip r:embed="rId1"/>
          <a:srcRect l="0" t="0" r="12" b="32"/>
          <a:stretch/>
        </p:blipFill>
        <p:spPr>
          <a:xfrm>
            <a:off x="1128600" y="266760"/>
            <a:ext cx="275616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"/>
          <p:cNvPicPr/>
          <p:nvPr/>
        </p:nvPicPr>
        <p:blipFill>
          <a:blip r:embed="rId2"/>
          <a:srcRect l="0" t="0" r="62" b="0"/>
          <a:stretch/>
        </p:blipFill>
        <p:spPr>
          <a:xfrm>
            <a:off x="4641840" y="187200"/>
            <a:ext cx="2736720" cy="31338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7" descr=""/>
          <p:cNvPicPr/>
          <p:nvPr/>
        </p:nvPicPr>
        <p:blipFill>
          <a:blip r:embed="rId3"/>
          <a:srcRect l="0" t="0" r="37" b="54"/>
          <a:stretch/>
        </p:blipFill>
        <p:spPr>
          <a:xfrm>
            <a:off x="4641840" y="3457440"/>
            <a:ext cx="2736720" cy="3102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"/>
          <p:cNvPicPr/>
          <p:nvPr/>
        </p:nvPicPr>
        <p:blipFill>
          <a:blip r:embed="rId4"/>
          <a:srcRect l="0" t="0" r="26" b="0"/>
          <a:stretch/>
        </p:blipFill>
        <p:spPr>
          <a:xfrm>
            <a:off x="1298520" y="3639960"/>
            <a:ext cx="258624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Скачать - Гуашевые краски и кисти — стоковое изображение | Краска,  Картинки, Фотографии"/>
          <p:cNvPicPr/>
          <p:nvPr/>
        </p:nvPicPr>
        <p:blipFill>
          <a:blip r:embed="rId1"/>
          <a:stretch/>
        </p:blipFill>
        <p:spPr>
          <a:xfrm>
            <a:off x="685800" y="88596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Скачать - Музыкальные инструменты. Саксофон, барабаны, контрабас, гитары,  скрипка и труба. — стоковое изображение | Саксофоны, Барабаны, Музыкальные  инструменты"/>
          <p:cNvPicPr/>
          <p:nvPr/>
        </p:nvPicPr>
        <p:blipFill>
          <a:blip r:embed="rId2"/>
          <a:srcRect l="0" t="0" r="-25" b="-8"/>
          <a:stretch/>
        </p:blipFill>
        <p:spPr>
          <a:xfrm>
            <a:off x="4322880" y="2279520"/>
            <a:ext cx="41353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8000" y="793440"/>
            <a:ext cx="481968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«Почему все звучит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768240" y="2084400"/>
            <a:ext cx="713592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t">
            <a:spAutoFit/>
          </a:bodyPr>
          <a:p>
            <a:pPr marL="241200" indent="-226800">
              <a:lnSpc>
                <a:spcPts val="301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Цель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Создать условия для осознания причины  возникновения звука: колебание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200" indent="-2268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41200" indent="-226800">
              <a:lnSpc>
                <a:spcPts val="318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ывод.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Если предмет заставить двиг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200" indent="-226800">
              <a:lnSpc>
                <a:spcPts val="301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- возникнет звук. Прекратить звучание  можно остановив движение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Объект 4" descr=""/>
          <p:cNvPicPr/>
          <p:nvPr/>
        </p:nvPicPr>
        <p:blipFill>
          <a:blip r:embed="rId1"/>
          <a:stretch/>
        </p:blipFill>
        <p:spPr>
          <a:xfrm>
            <a:off x="984240" y="1604880"/>
            <a:ext cx="2981160" cy="3975120"/>
          </a:xfrm>
          <a:prstGeom prst="rect">
            <a:avLst/>
          </a:prstGeom>
          <a:ln w="0">
            <a:noFill/>
          </a:ln>
        </p:spPr>
      </p:pic>
      <p:pic>
        <p:nvPicPr>
          <p:cNvPr id="170" name="Объект 6" descr=""/>
          <p:cNvPicPr/>
          <p:nvPr/>
        </p:nvPicPr>
        <p:blipFill>
          <a:blip r:embed="rId2"/>
          <a:stretch/>
        </p:blipFill>
        <p:spPr>
          <a:xfrm>
            <a:off x="5175360" y="1604880"/>
            <a:ext cx="29811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Ритмические карточки скачать"/>
          <p:cNvPicPr/>
          <p:nvPr/>
        </p:nvPicPr>
        <p:blipFill>
          <a:blip r:embed="rId1"/>
          <a:stretch/>
        </p:blipFill>
        <p:spPr>
          <a:xfrm>
            <a:off x="1500120" y="1214280"/>
            <a:ext cx="59295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8T06:08:49Z</dcterms:created>
  <dc:creator>Артём Кулаков</dc:creator>
  <dc:description/>
  <dc:language>en-US</dc:language>
  <cp:lastModifiedBy>Пользователь</cp:lastModifiedBy>
  <dcterms:modified xsi:type="dcterms:W3CDTF">2021-02-05T06:51:57Z</dcterms:modified>
  <cp:revision>4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yperlinksChanged">
    <vt:bool>0</vt:bool>
  </property>
  <property fmtid="{D5CDD505-2E9C-101B-9397-08002B2CF9AE}" pid="3" name="LinksUpToDate">
    <vt:bool>0</vt:bool>
  </property>
  <property fmtid="{D5CDD505-2E9C-101B-9397-08002B2CF9AE}" pid="4" name="NXTAG2">
    <vt:lpwstr>000800ac0b0000000000010290310207f7000400038000</vt:lpwstr>
  </property>
  <property fmtid="{D5CDD505-2E9C-101B-9397-08002B2CF9AE}" pid="5" name="PresentationFormat">
    <vt:lpwstr>On-screen Show (4:3)</vt:lpwstr>
  </property>
  <property fmtid="{D5CDD505-2E9C-101B-9397-08002B2CF9AE}" pid="6" name="ScaleCrop">
    <vt:bool>0</vt:bool>
  </property>
  <property fmtid="{D5CDD505-2E9C-101B-9397-08002B2CF9AE}" pid="7" name="ShareDoc">
    <vt:bool>0</vt:bool>
  </property>
</Properties>
</file>