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231120" y="243720"/>
            <a:ext cx="11724120" cy="637740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orbel"/>
              <a:ea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231120" y="243720"/>
            <a:ext cx="11724120" cy="6377400"/>
          </a:xfrm>
          <a:prstGeom prst="rect">
            <a:avLst/>
          </a:prstGeom>
          <a:solidFill>
            <a:schemeClr val="accent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orbel"/>
              <a:ea typeface="Arial"/>
            </a:endParaRPr>
          </a:p>
        </p:txBody>
      </p:sp>
      <p:cxnSp>
        <p:nvCxnSpPr>
          <p:cNvPr id="2" name="Straight Connector 7"/>
          <p:cNvCxnSpPr/>
          <p:nvPr/>
        </p:nvCxnSpPr>
        <p:spPr>
          <a:xfrm>
            <a:off x="1977840" y="3733560"/>
            <a:ext cx="8229960" cy="360"/>
          </a:xfrm>
          <a:prstGeom prst="straightConnector1">
            <a:avLst/>
          </a:prstGeom>
          <a:ln w="10000">
            <a:solidFill>
              <a:srgbClr val="ffffff"/>
            </a:solidFill>
            <a:miter/>
          </a:ln>
        </p:spPr>
      </p:cxn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9880" y="882360"/>
            <a:ext cx="9966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7200" spc="-1" strike="noStrike" cap="all">
                <a:solidFill>
                  <a:schemeClr val="accent1"/>
                </a:solidFill>
                <a:latin typeface="Corbel"/>
                <a:ea typeface="Arial"/>
              </a:rPr>
              <a:t>Образец заголовка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chemeClr val="accent1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chemeClr val="accent1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chemeClr val="accent1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chemeClr val="accent1"/>
                </a:solidFill>
                <a:latin typeface="Corbel"/>
              </a:rPr>
              <a:t>Third Outline Level</a:t>
            </a:r>
            <a:endParaRPr b="0" lang="en-US" sz="1600" spc="-1" strike="noStrike">
              <a:solidFill>
                <a:schemeClr val="accent1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chemeClr val="accent1"/>
                </a:solidFill>
                <a:latin typeface="Corbel"/>
              </a:rPr>
              <a:t>Fourth Outline Level</a:t>
            </a:r>
            <a:endParaRPr b="0" lang="en-US" sz="1600" spc="-1" strike="noStrike">
              <a:solidFill>
                <a:schemeClr val="accent1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1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chemeClr val="accent1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1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chemeClr val="accent1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1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31120" y="243720"/>
            <a:ext cx="11724120" cy="637740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orbe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chemeClr val="accent1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chemeClr val="accent1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chemeClr val="accent1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chemeClr val="accent1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chemeClr val="accent1"/>
                </a:solidFill>
                <a:latin typeface="Corbel"/>
              </a:rPr>
              <a:t>Third Outline Level</a:t>
            </a:r>
            <a:endParaRPr b="0" lang="en-US" sz="1600" spc="-1" strike="noStrike">
              <a:solidFill>
                <a:schemeClr val="accent1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chemeClr val="accent1"/>
                </a:solidFill>
                <a:latin typeface="Corbel"/>
              </a:rPr>
              <a:t>Fourth Outline Level</a:t>
            </a:r>
            <a:endParaRPr b="0" lang="en-US" sz="1600" spc="-1" strike="noStrike">
              <a:solidFill>
                <a:schemeClr val="accent1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1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chemeClr val="accent1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1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chemeClr val="accent1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1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chemeClr val="accent1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09880" y="577080"/>
            <a:ext cx="9966600" cy="305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600" spc="-1" strike="noStrike" cap="all">
                <a:solidFill>
                  <a:srgbClr val="000000"/>
                </a:solidFill>
                <a:latin typeface="Times New Roman"/>
                <a:ea typeface="Times New Roman"/>
              </a:rPr>
              <a:t>Мастер-класс</a:t>
            </a:r>
            <a:br>
              <a:rPr sz="3600"/>
            </a:br>
            <a:r>
              <a:rPr b="0" lang="ru-RU" sz="3600" spc="-1" strike="noStrike" cap="all">
                <a:solidFill>
                  <a:srgbClr val="000000"/>
                </a:solidFill>
                <a:latin typeface="Times New Roman"/>
                <a:ea typeface="Times New Roman"/>
              </a:rPr>
              <a:t>«Мульттерапия как современная техника в работе по развитию эмоциональной сферы дошкольников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8320" y="4181400"/>
            <a:ext cx="11433960" cy="22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педагог-психол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кова М.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г. Мурманска №1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2"/>
          <p:cNvSpPr/>
          <p:nvPr/>
        </p:nvSpPr>
        <p:spPr>
          <a:xfrm>
            <a:off x="417600" y="390600"/>
            <a:ext cx="113565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А ЗАНЯТИЯ С ИСПОЛЬЗОВАНИЕМ МЕТОДА ПАССИВНОЙ МУЛЬТ-ТЕРА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65520" y="925200"/>
            <a:ext cx="11548800" cy="9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7000"/>
              </a:lnSpc>
              <a:spcAft>
                <a:spcPts val="799"/>
              </a:spcAft>
              <a:buClr>
                <a:srgbClr val="00b050"/>
              </a:buClr>
              <a:buFont typeface="Corbel"/>
              <a:buAutoNum type="arabicPeriod"/>
              <a:tabLst>
                <a:tab algn="l" pos="4572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стройка на работу, активизация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3400" indent="-285840" algn="ctr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Font typeface="Corbel"/>
              <a:buChar char="•"/>
              <a:tabLst>
                <a:tab algn="l" pos="4572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ПРАЖНЕНИЕ «ГОЛОС ЛЕ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5" descr="Изображение выглядит как толп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6340320" y="2444760"/>
            <a:ext cx="5301720" cy="40478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Изображение выглядит как текст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712800" y="1932120"/>
            <a:ext cx="5138280" cy="39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394200" y="459360"/>
            <a:ext cx="1138608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. Постановка проблемы – с чем мы будем работ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подведение к основной те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КАЗ ФОТОГРАФИИ С ИЗОБРАЖЕНИЕМ ЭМОЦИИ «СТР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Изображение выглядит как текст, обеденный стол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6321600" y="2266920"/>
            <a:ext cx="5608440" cy="427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Самая страшная эмоция. Как побороть страхи и тревогу"/>
          <p:cNvPicPr/>
          <p:nvPr/>
        </p:nvPicPr>
        <p:blipFill>
          <a:blip r:embed="rId2"/>
          <a:stretch/>
        </p:blipFill>
        <p:spPr>
          <a:xfrm>
            <a:off x="851040" y="2583000"/>
            <a:ext cx="4608000" cy="30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500400" y="401400"/>
            <a:ext cx="113864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7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. Просмотр мультфильма «Солнышонок, Андрейка и темнота» (19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675"/>
              </a:spcAft>
              <a:tabLst>
                <a:tab algn="l" pos="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ля просмотра могут подбираться самые различные мультипликационные произведения которые имеют поучительный смысл, в которых заложено решение различных жизненных пробл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Мультфильм &quot;Солнышонок, Андрейка и темнота&quot; (КИЕВНАУЧФИЛЬМ, 1980 г.)"/>
          <p:cNvPicPr/>
          <p:nvPr/>
        </p:nvPicPr>
        <p:blipFill>
          <a:blip r:embed="rId1"/>
          <a:stretch/>
        </p:blipFill>
        <p:spPr>
          <a:xfrm>
            <a:off x="9199440" y="4175280"/>
            <a:ext cx="2827080" cy="2469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Солнышонок, Андрейка и темнота"/>
          <p:cNvPicPr/>
          <p:nvPr/>
        </p:nvPicPr>
        <p:blipFill>
          <a:blip r:embed="rId2"/>
          <a:stretch/>
        </p:blipFill>
        <p:spPr>
          <a:xfrm>
            <a:off x="6638760" y="1725480"/>
            <a:ext cx="3882600" cy="30776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7" descr=""/>
          <p:cNvPicPr/>
          <p:nvPr/>
        </p:nvPicPr>
        <p:blipFill>
          <a:blip r:embed="rId3"/>
          <a:stretch/>
        </p:blipFill>
        <p:spPr>
          <a:xfrm>
            <a:off x="353880" y="1511280"/>
            <a:ext cx="4333680" cy="2987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4"/>
          <a:stretch/>
        </p:blipFill>
        <p:spPr>
          <a:xfrm>
            <a:off x="2919240" y="3517920"/>
            <a:ext cx="4474800" cy="30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426240" y="284760"/>
            <a:ext cx="1131876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Вопросы для обсуждения мультфиль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487b7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больше понрав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487b7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го боялся Андрейка, поч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487b7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Солнышонок не боялся темн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487b7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эмоции, лицо были у мальчика когда он слышал или видел что-то необы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487b7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помогло справиться мальчику со своими страх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487b7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м на самом деле оказались страхи маль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487b7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эмоции были у мальчика в конце муль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Духовная группа поддержки и обсуждения Интернет-форум Группы Google,  другие, текст, связи с общественностью, другие png | PNGWing"/>
          <p:cNvPicPr/>
          <p:nvPr/>
        </p:nvPicPr>
        <p:blipFill>
          <a:blip r:embed="rId1"/>
          <a:stretch/>
        </p:blipFill>
        <p:spPr>
          <a:xfrm>
            <a:off x="271440" y="4533840"/>
            <a:ext cx="4750920" cy="206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Духовная группа поддержки и обсуждения Интернет-форум Группы Google,  другие, текст, связи с общественностью, другие png | PNGWing"/>
          <p:cNvPicPr/>
          <p:nvPr/>
        </p:nvPicPr>
        <p:blipFill>
          <a:blip r:embed="rId2"/>
          <a:stretch/>
        </p:blipFill>
        <p:spPr>
          <a:xfrm>
            <a:off x="5022720" y="4579920"/>
            <a:ext cx="4750920" cy="2060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Духовная группа поддержки и обсуждения Интернет-форум Группы Google,  другие, текст, связи с общественностью, другие png | PNGWing"/>
          <p:cNvPicPr/>
          <p:nvPr/>
        </p:nvPicPr>
        <p:blipFill>
          <a:blip r:embed="rId3"/>
          <a:srcRect l="0" t="0" r="55283" b="0"/>
          <a:stretch/>
        </p:blipFill>
        <p:spPr>
          <a:xfrm>
            <a:off x="9774360" y="4602240"/>
            <a:ext cx="21254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407520" y="441360"/>
            <a:ext cx="11461680" cy="16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7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. Обсуждение проблемы через образы, представленные в мультфиль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АТР ТЕ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благодаря мультипликационным персонажам, игре теней теперь вы можете смело выйти к своему страху навстречу, потому что не зря говорят «У страха глаза велики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Изображение выглядит как стена, человек, внутренний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5992920" y="2163600"/>
            <a:ext cx="5870160" cy="45651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Изображение выглядит как текст, человек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328680" y="2163600"/>
            <a:ext cx="5870160" cy="45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354960" y="301680"/>
            <a:ext cx="661500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. Поиск решения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СМОТР ОТРЫВКОВ ИЗ МУЛЬТФИЛЬ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Щенячий патруль» (серия «Страх перед дантистом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-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ать о своих страхах кому-то близкому, хорошему знакомому ведь страх - нормальное человеческое чувство и его не надо стыди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9" descr=""/>
          <p:cNvPicPr/>
          <p:nvPr/>
        </p:nvPicPr>
        <p:blipFill>
          <a:blip r:embed="rId1"/>
          <a:stretch/>
        </p:blipFill>
        <p:spPr>
          <a:xfrm>
            <a:off x="542880" y="2784600"/>
            <a:ext cx="5178240" cy="2523600"/>
          </a:xfrm>
          <a:prstGeom prst="rect">
            <a:avLst/>
          </a:prstGeom>
          <a:ln w="38100">
            <a:solidFill>
              <a:srgbClr val="215d4b"/>
            </a:solidFill>
            <a:miter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>
            <a:off x="7434360" y="301680"/>
            <a:ext cx="4401720" cy="2937960"/>
          </a:xfrm>
          <a:prstGeom prst="rect">
            <a:avLst/>
          </a:prstGeom>
          <a:ln w="57150">
            <a:solidFill>
              <a:srgbClr val="7030a0"/>
            </a:solidFill>
            <a:miter/>
          </a:ln>
        </p:spPr>
      </p:pic>
      <p:pic>
        <p:nvPicPr>
          <p:cNvPr id="132" name="Рисунок 8" descr=""/>
          <p:cNvPicPr/>
          <p:nvPr/>
        </p:nvPicPr>
        <p:blipFill>
          <a:blip r:embed="rId3"/>
          <a:stretch/>
        </p:blipFill>
        <p:spPr>
          <a:xfrm>
            <a:off x="6970680" y="2863800"/>
            <a:ext cx="4144680" cy="2766600"/>
          </a:xfrm>
          <a:prstGeom prst="rect">
            <a:avLst/>
          </a:prstGeom>
          <a:ln w="57150">
            <a:solidFill>
              <a:srgbClr val="7030a0"/>
            </a:solidFill>
            <a:miter/>
          </a:ln>
        </p:spPr>
      </p:pic>
      <p:pic>
        <p:nvPicPr>
          <p:cNvPr id="133" name="Рисунок 7" descr=""/>
          <p:cNvPicPr/>
          <p:nvPr/>
        </p:nvPicPr>
        <p:blipFill>
          <a:blip r:embed="rId4"/>
          <a:stretch/>
        </p:blipFill>
        <p:spPr>
          <a:xfrm>
            <a:off x="4152960" y="4248000"/>
            <a:ext cx="3684240" cy="2122200"/>
          </a:xfrm>
          <a:prstGeom prst="rect">
            <a:avLst/>
          </a:prstGeom>
          <a:ln w="38100">
            <a:solidFill>
              <a:srgbClr val="215d4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450720" y="473400"/>
            <a:ext cx="6970320" cy="17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Жила-была Царевна» (серия «Монстры вокруг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можность модифицировать отрицательные образы в положительные (например, превращение во что-то доброе и смеш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6" descr=""/>
          <p:cNvPicPr/>
          <p:nvPr/>
        </p:nvPicPr>
        <p:blipFill>
          <a:blip r:embed="rId1"/>
          <a:stretch/>
        </p:blipFill>
        <p:spPr>
          <a:xfrm>
            <a:off x="3201840" y="2154240"/>
            <a:ext cx="3997080" cy="2991960"/>
          </a:xfrm>
          <a:prstGeom prst="rect">
            <a:avLst/>
          </a:prstGeom>
          <a:ln w="57150">
            <a:solidFill>
              <a:srgbClr val="215d4b"/>
            </a:solidFill>
            <a:miter/>
          </a:ln>
        </p:spPr>
      </p:pic>
      <p:pic>
        <p:nvPicPr>
          <p:cNvPr id="136" name="Рисунок 8" descr=""/>
          <p:cNvPicPr/>
          <p:nvPr/>
        </p:nvPicPr>
        <p:blipFill>
          <a:blip r:embed="rId2"/>
          <a:stretch/>
        </p:blipFill>
        <p:spPr>
          <a:xfrm>
            <a:off x="7729560" y="3735360"/>
            <a:ext cx="3736440" cy="2665080"/>
          </a:xfrm>
          <a:prstGeom prst="rect">
            <a:avLst/>
          </a:prstGeom>
          <a:ln w="57150">
            <a:solidFill>
              <a:srgbClr val="215d4b"/>
            </a:solidFill>
            <a:miter/>
          </a:ln>
        </p:spPr>
      </p:pic>
      <p:pic>
        <p:nvPicPr>
          <p:cNvPr id="137" name="Рисунок 10" descr=""/>
          <p:cNvPicPr/>
          <p:nvPr/>
        </p:nvPicPr>
        <p:blipFill>
          <a:blip r:embed="rId3"/>
          <a:stretch/>
        </p:blipFill>
        <p:spPr>
          <a:xfrm>
            <a:off x="369720" y="3960720"/>
            <a:ext cx="4092120" cy="2439720"/>
          </a:xfrm>
          <a:prstGeom prst="rect">
            <a:avLst/>
          </a:prstGeom>
          <a:ln w="57150">
            <a:solidFill>
              <a:srgbClr val="215d4b"/>
            </a:solidFill>
            <a:miter/>
          </a:ln>
        </p:spPr>
      </p:pic>
      <p:pic>
        <p:nvPicPr>
          <p:cNvPr id="138" name="Рисунок 3" descr=""/>
          <p:cNvPicPr/>
          <p:nvPr/>
        </p:nvPicPr>
        <p:blipFill>
          <a:blip r:embed="rId4"/>
          <a:stretch/>
        </p:blipFill>
        <p:spPr>
          <a:xfrm>
            <a:off x="7454880" y="503280"/>
            <a:ext cx="4285800" cy="2860200"/>
          </a:xfrm>
          <a:prstGeom prst="rect">
            <a:avLst/>
          </a:prstGeom>
          <a:ln w="57150">
            <a:solidFill>
              <a:srgbClr val="318b7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301320" y="470160"/>
            <a:ext cx="1144332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7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. Закрепление и проработка пробл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ПРАЖНЕНИЕ «ДАВАЙ ВМЕСТЕ БОЯТЬСЯ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теперь давай позволим себе побояться вслас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наши зубы стучат как барабанные палочки, а по спине бегут 40000 мурашек! У страха глаза велики, а наши глаза пусть станут еще больше, кричи от страха громко «Ма-а-ма-а». Думаю, что раньше ты так не умел бояться. Страх был вовсе не страх, а так – легкое беспоко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301680" y="5156280"/>
            <a:ext cx="1155492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7. Рефлек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конце проговариваем тему занятия, какие чувства у них были в начале и конце занятия, что больше всего понрав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смайлик, страх, смайлики"/>
          <p:cNvPicPr/>
          <p:nvPr/>
        </p:nvPicPr>
        <p:blipFill>
          <a:blip r:embed="rId1"/>
          <a:stretch/>
        </p:blipFill>
        <p:spPr>
          <a:xfrm>
            <a:off x="7246800" y="3008160"/>
            <a:ext cx="4169880" cy="2871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смайлик, смайлики, страх"/>
          <p:cNvPicPr/>
          <p:nvPr/>
        </p:nvPicPr>
        <p:blipFill>
          <a:blip r:embed="rId2"/>
          <a:stretch/>
        </p:blipFill>
        <p:spPr>
          <a:xfrm>
            <a:off x="185760" y="2727360"/>
            <a:ext cx="4892400" cy="282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Emoji iPhone Emoticon Sadness Обмен текстовыми сообщениями, Emoji, смайлик,  мобильные телефоны, жёлтый png | PNGWing"/>
          <p:cNvPicPr/>
          <p:nvPr/>
        </p:nvPicPr>
        <p:blipFill>
          <a:blip r:embed="rId3"/>
          <a:stretch/>
        </p:blipFill>
        <p:spPr>
          <a:xfrm>
            <a:off x="4573440" y="3008160"/>
            <a:ext cx="30445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312840" y="442800"/>
            <a:ext cx="115660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льтипликация может в увлекательной форме и доступными для понимания словами показать окружающую жизнь, людей, их поступки и судьбы, в самое короткое время показать, к чему приводит тот или иной поступок героя, дает возможность за 15 – 20 мин примерить на себя и пережить чужую судьбу, чужие чувства, радости и горести. Это уникальная возможность пережить, «проиграть» жизненные ситуации без ущерба для собственной жизни и судьбы ставит мультфильм в ряд с самыми эффективными способами воспитательно-образовательной работы с детьм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Д. Корот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258840" y="294480"/>
            <a:ext cx="1167372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К ПРАВИЛЬНО ВЫБРАТЬ МУЛЬТФИЛЬМ ДЛЯ ПРО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вы критерии выбора продолжительности мультфильм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ять-шесть лет длительность просмотра можно увеличить 7-10 минут - 2 раза в неделю. При нарушенном зрении, особенно близорукости, длительность просмотра должна быть минимальной, до 10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ая организация просмотра мультфиль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подходящей для просмотра мультфильмов считается первая половина 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шком длительные мультипликационные картины следует разбить на ч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ая осанка и расстояние до экрана играют очень важную роль в физическом развитии детей. Следует следить, чтобы расстояние до экрана телевизора было около двух метров, угол просмотра был прям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правильно выбирать мультфильмы для просмот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мультфильме отсутствуют агрессивные, аморальные модели поведения, а еще лучше, если в сюжете четко прорисовываются качества доброты, милосердия, целомудрия, то такой мультик может расцениваться как полезный, имеющий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жно ли оставлять ребенка наедине при просмотре мультфиль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смотра мультфильма с ребенком нужно обсудить мультфильм, персонажей, спросить: «А как бы ты поступил на месте того или иного героя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162800" y="965880"/>
            <a:ext cx="1022040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вышение профессионального уровня, расширение кругозора участников и ознакомление  с элементами мульттерапии как современной техники в работе по развитию эмоциональной сферы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педагогов с понятием  «мульттерап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пыта работы с использованием видеоматериала (мультипликационных фильмов) в практической деятельности в работе с детьми старшего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Таблица 3"/>
          <p:cNvGraphicFramePr/>
          <p:nvPr/>
        </p:nvGraphicFramePr>
        <p:xfrm>
          <a:off x="431640" y="436680"/>
          <a:ext cx="11328120" cy="5595480"/>
        </p:xfrm>
        <a:graphic>
          <a:graphicData uri="http://schemas.openxmlformats.org/drawingml/2006/table">
            <a:tbl>
              <a:tblPr/>
              <a:tblGrid>
                <a:gridCol w="8599320"/>
                <a:gridCol w="2728800"/>
              </a:tblGrid>
              <a:tr h="43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a1acb2"/>
                          </a:solidFill>
                          <a:latin typeface="Times New Roman"/>
                          <a:ea typeface="Times New Roman"/>
                        </a:rPr>
                        <a:t>НАЗВАНИЕ МУЛЬТФИЛЬ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a1acb2"/>
                          </a:solidFill>
                          <a:latin typeface="Times New Roman"/>
                          <a:ea typeface="Times New Roman"/>
                        </a:rPr>
                        <a:t>ЭМО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69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Трям! Здравствуйте!» (1980) ТО «Экра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Ох и Ах» (1975) «Союзмульт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Крошка енот» (1974) ТО «Экра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Краденое солнце» (193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Просто так» (1976) «Союзмульт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рад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Солнышок, Андрейка и темнота» (1980) «КИЕВНАУЧ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Три поросенка» (США, 19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Жила-была Царевна. Монстры вокруг» (2013) X-Media Dig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Ничуть не страшно» (1981, 1983) «Союзмульт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Месть кота Леопольда» (1981) ТО «Экра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Монсики. Успокойся, спаси мир!» (2019) «Союзмульт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Мойдодыр» (1954) «Союзмульт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Краденое солнце» (1944) «Союзмульт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злость, гн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До свидания, овраг» (1981) «Союзмульт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Ох и Ах» (1975) «Союзмульт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Крошка енот» (1974) ТО «Экра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Как ослик грустью заболел» (1987) «Союзмульт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грусть, печ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Таблица 1"/>
          <p:cNvGraphicFramePr/>
          <p:nvPr/>
        </p:nvGraphicFramePr>
        <p:xfrm>
          <a:off x="372960" y="307800"/>
          <a:ext cx="11459880" cy="4129920"/>
        </p:xfrm>
        <a:graphic>
          <a:graphicData uri="http://schemas.openxmlformats.org/drawingml/2006/table">
            <a:tbl>
              <a:tblPr/>
              <a:tblGrid>
                <a:gridCol w="6427440"/>
                <a:gridCol w="5032080"/>
              </a:tblGrid>
              <a:tr h="4539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Сказка о рыбаке и рыбке» (1950) «Союзмульт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Зверюшки – добрюшки. Первое удивление» (2010-2011) «Мастер-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уди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Бабушка» (1996) Свердловская киностудия, ТПО художественной мультипл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Доктор Айболит» (1985) «КИЕВНАУЧ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Волшебное кольцо» (1979) «Союзмульт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Кукушка» (2013) «ДС-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Бабушкин урок» (1986) Свердловская киносту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«Цветик – семи цветик» (1948) «Союзмультфиль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Полнометражный м/ф «Головоломка» (2015) Walt Disney Pictures; Pixar Animation Stud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64457"/>
                        </a:buClr>
                        <a:buFont typeface="Symbol" charset="2"/>
                        <a:buChar char=""/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Отрывки из мультфильмов по сказкам А.С. Пушк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264457"/>
                          </a:solidFill>
                          <a:latin typeface="Times New Roman"/>
                          <a:ea typeface="Times New Roman"/>
                        </a:rPr>
                        <a:t>актуализация и отреагирование чувств; осознание детьми своих и чужих эмоций; способствовать осознанию необходимости проявления сочувствия, сопереживания, а также посильной помощи своим близким и окружающи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56400" y="328320"/>
            <a:ext cx="73404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18b71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уровня эмоциональной сферы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18b71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о сверст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18b71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испытывают трудности в правильной оценке эмоционального состояния своего сверс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18b71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ы осознание и контроль своих эмоций и контроль над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18b71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ются частые конфли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Look At Me — Интернет-издание о креативных индустриях"/>
          <p:cNvPicPr/>
          <p:nvPr/>
        </p:nvPicPr>
        <p:blipFill>
          <a:blip r:embed="rId1"/>
          <a:stretch/>
        </p:blipFill>
        <p:spPr>
          <a:xfrm>
            <a:off x="7226280" y="652320"/>
            <a:ext cx="496548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390600" y="503280"/>
            <a:ext cx="11407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18b71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стало появляться людей, осознающих образовательный и коммуникационный потенциал новых технологий и их значительную доступ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Картинки компьютера для детей (31 фото) ⭐ Юмор, картинки и забавные фото |  Kids clipart, Kids background, Clip art borders"/>
          <p:cNvPicPr/>
          <p:nvPr/>
        </p:nvPicPr>
        <p:blipFill>
          <a:blip r:embed="rId1"/>
          <a:stretch/>
        </p:blipFill>
        <p:spPr>
          <a:xfrm>
            <a:off x="749160" y="4246560"/>
            <a:ext cx="3398400" cy="2107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4518720" y="4673160"/>
            <a:ext cx="71992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2e663e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фильмы, благодаря наличию ярких и запоминающихся образов, динамике, частой смене образов и сюжетов, переплетению реальности и волшебства, привлекают внимание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школа№18 г.Иркутска - Наша школа ОНЛАЙН"/>
          <p:cNvPicPr/>
          <p:nvPr/>
        </p:nvPicPr>
        <p:blipFill>
          <a:blip r:embed="rId2"/>
          <a:stretch/>
        </p:blipFill>
        <p:spPr>
          <a:xfrm>
            <a:off x="4282920" y="1376280"/>
            <a:ext cx="3841560" cy="28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449280" y="587520"/>
            <a:ext cx="112932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льттерапия – это созерцание и раскрытие внутреннего и внешнего мира, осмысление прожитого, моделирование будущего, процесс подбора каждому своей особой мультипликации. Это процесс познания в наиболее созвучной душе мультипликационной форме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А. Сак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531720" y="371520"/>
            <a:ext cx="112834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пликационная терапия, или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терап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один из методов психотерапии искусством; как одно из направлений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-терап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31720" y="2349360"/>
            <a:ext cx="39952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здание мультфиль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Прямая со стрелкой 3"/>
          <p:cNvCxnSpPr/>
          <p:nvPr/>
        </p:nvCxnSpPr>
        <p:spPr>
          <a:xfrm>
            <a:off x="5671800" y="1431720"/>
            <a:ext cx="502200" cy="540000"/>
          </a:xfrm>
          <a:prstGeom prst="straightConnector1">
            <a:avLst/>
          </a:prstGeom>
          <a:ln w="76200">
            <a:solidFill>
              <a:srgbClr val="1cade4"/>
            </a:solidFill>
            <a:miter/>
            <a:tailEnd len="med" type="triangle" w="med"/>
          </a:ln>
        </p:spPr>
      </p:cxnSp>
      <p:cxnSp>
        <p:nvCxnSpPr>
          <p:cNvPr id="93" name="Прямая со стрелкой 5"/>
          <p:cNvCxnSpPr/>
          <p:nvPr/>
        </p:nvCxnSpPr>
        <p:spPr>
          <a:xfrm flipH="1">
            <a:off x="3417840" y="1438200"/>
            <a:ext cx="829080" cy="898920"/>
          </a:xfrm>
          <a:prstGeom prst="straightConnector1">
            <a:avLst/>
          </a:prstGeom>
          <a:ln w="76200">
            <a:solidFill>
              <a:srgbClr val="1cade4"/>
            </a:solidFill>
            <a:miter/>
            <a:tailEnd len="med" type="triangle" w="med"/>
          </a:ln>
        </p:spPr>
      </p:cxnSp>
      <p:sp>
        <p:nvSpPr>
          <p:cNvPr id="94" name="TextBox 8"/>
          <p:cNvSpPr/>
          <p:nvPr/>
        </p:nvSpPr>
        <p:spPr>
          <a:xfrm>
            <a:off x="5064120" y="2000160"/>
            <a:ext cx="6606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ССИВ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смотр, анализ мультфильма и закрепление полученного опыта через практику (упражнение, игру, зад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Создание мультфильмов в ДОУ – АНРО технолоджи"/>
          <p:cNvPicPr/>
          <p:nvPr/>
        </p:nvPicPr>
        <p:blipFill>
          <a:blip r:embed="rId1"/>
          <a:stretch/>
        </p:blipFill>
        <p:spPr>
          <a:xfrm>
            <a:off x="298440" y="3371760"/>
            <a:ext cx="4852800" cy="281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Электронный капитал | Новости | Семейный Адвокат +7(499) 653-8783"/>
          <p:cNvPicPr/>
          <p:nvPr/>
        </p:nvPicPr>
        <p:blipFill>
          <a:blip r:embed="rId2"/>
          <a:stretch/>
        </p:blipFill>
        <p:spPr>
          <a:xfrm>
            <a:off x="6473880" y="3255840"/>
            <a:ext cx="40478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2"/>
          <p:cNvSpPr/>
          <p:nvPr/>
        </p:nvSpPr>
        <p:spPr>
          <a:xfrm>
            <a:off x="411120" y="325440"/>
            <a:ext cx="113691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мульттерап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мочь ребенку выявить и осознать свои проблемы и показать некоторые пути ре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Герои советских мультиков"/>
          <p:cNvPicPr/>
          <p:nvPr/>
        </p:nvPicPr>
        <p:blipFill>
          <a:blip r:embed="rId1"/>
          <a:stretch/>
        </p:blipFill>
        <p:spPr>
          <a:xfrm>
            <a:off x="2225520" y="1030320"/>
            <a:ext cx="7911720" cy="57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36"/>
          <p:cNvSpPr/>
          <p:nvPr/>
        </p:nvSpPr>
        <p:spPr>
          <a:xfrm>
            <a:off x="231120" y="243720"/>
            <a:ext cx="11724120" cy="637740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orbel"/>
              <a:ea typeface="Arial"/>
            </a:endParaRPr>
          </a:p>
        </p:txBody>
      </p:sp>
      <p:sp>
        <p:nvSpPr>
          <p:cNvPr id="100" name="Rectangle 138"/>
          <p:cNvSpPr/>
          <p:nvPr/>
        </p:nvSpPr>
        <p:spPr>
          <a:xfrm>
            <a:off x="231120" y="243720"/>
            <a:ext cx="11724120" cy="6377400"/>
          </a:xfrm>
          <a:prstGeom prst="rect">
            <a:avLst/>
          </a:prstGeom>
          <a:solidFill>
            <a:schemeClr val="accent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orbel"/>
              <a:ea typeface="Arial"/>
            </a:endParaRPr>
          </a:p>
        </p:txBody>
      </p:sp>
      <p:cxnSp>
        <p:nvCxnSpPr>
          <p:cNvPr id="101" name="Straight Connector 140"/>
          <p:cNvCxnSpPr/>
          <p:nvPr/>
        </p:nvCxnSpPr>
        <p:spPr>
          <a:xfrm>
            <a:off x="1977840" y="3733560"/>
            <a:ext cx="8229960" cy="360"/>
          </a:xfrm>
          <a:prstGeom prst="straightConnector1">
            <a:avLst/>
          </a:prstGeom>
          <a:ln w="10000">
            <a:solidFill>
              <a:srgbClr val="ffffff"/>
            </a:solidFill>
            <a:miter/>
          </a:ln>
        </p:spPr>
      </p:cxnSp>
      <p:sp>
        <p:nvSpPr>
          <p:cNvPr id="102" name="Rectangle 142"/>
          <p:cNvSpPr/>
          <p:nvPr/>
        </p:nvSpPr>
        <p:spPr>
          <a:xfrm>
            <a:off x="231120" y="243720"/>
            <a:ext cx="11721600" cy="6377400"/>
          </a:xfrm>
          <a:prstGeom prst="rect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orbel"/>
              <a:ea typeface="Arial"/>
            </a:endParaRPr>
          </a:p>
        </p:txBody>
      </p:sp>
      <p:sp useBgFill="1">
        <p:nvSpPr>
          <p:cNvPr id="103" name="Rectangle 144"/>
          <p:cNvSpPr/>
          <p:nvPr/>
        </p:nvSpPr>
        <p:spPr>
          <a:xfrm>
            <a:off x="4636080" y="246960"/>
            <a:ext cx="7314480" cy="6377400"/>
          </a:xfrm>
          <a:prstGeom prst="rect">
            <a:avLst/>
          </a:prstGeom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orbel"/>
              <a:ea typeface="Arial"/>
            </a:endParaRPr>
          </a:p>
        </p:txBody>
      </p:sp>
      <p:cxnSp>
        <p:nvCxnSpPr>
          <p:cNvPr id="104" name="Straight Connector 146"/>
          <p:cNvCxnSpPr/>
          <p:nvPr/>
        </p:nvCxnSpPr>
        <p:spPr>
          <a:xfrm>
            <a:off x="5634000" y="4005000"/>
            <a:ext cx="5318280" cy="360"/>
          </a:xfrm>
          <a:prstGeom prst="straightConnector1">
            <a:avLst/>
          </a:prstGeom>
          <a:ln w="10000">
            <a:solidFill>
              <a:srgbClr val="ffffff"/>
            </a:solidFill>
            <a:miter/>
          </a:ln>
        </p:spPr>
      </p:cxnSp>
      <p:sp>
        <p:nvSpPr>
          <p:cNvPr id="105" name="Rectangle 148"/>
          <p:cNvSpPr/>
          <p:nvPr/>
        </p:nvSpPr>
        <p:spPr>
          <a:xfrm>
            <a:off x="228600" y="246960"/>
            <a:ext cx="11724120" cy="6377400"/>
          </a:xfrm>
          <a:prstGeom prst="rect">
            <a:avLst/>
          </a:prstGeom>
          <a:noFill/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orbel"/>
              <a:ea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5283720" y="893520"/>
            <a:ext cx="6019200" cy="31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АССИВНАЯ МУЛЬТТЕРАПИЯ, КАК СОВРЕМЕННАЯ ТЕХНИКА В РАБОТЕ ПО РАЗВИТИЮ ЭМОЦИОНАЛЬНОЙ СФЕРЫ ДОШКОЛЬНИ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Vector Illustration of a mother and a child sitting on the desk in Stock  Vector Image &amp; Art - Alamy"/>
          <p:cNvPicPr/>
          <p:nvPr/>
        </p:nvPicPr>
        <p:blipFill>
          <a:blip r:embed="rId1"/>
          <a:stretch/>
        </p:blipFill>
        <p:spPr>
          <a:xfrm>
            <a:off x="871560" y="2046240"/>
            <a:ext cx="3134880" cy="27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2"/>
          <p:cNvSpPr/>
          <p:nvPr/>
        </p:nvSpPr>
        <p:spPr>
          <a:xfrm>
            <a:off x="529920" y="562320"/>
            <a:ext cx="1146276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7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ЗА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Font typeface="Corbel"/>
              <a:buAutoNum type="arabicPeriod"/>
              <a:tabLst>
                <a:tab algn="l" pos="4572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ройка детей на работу, активизация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Font typeface="Corbel"/>
              <a:buAutoNum type="arabicPeriod"/>
              <a:tabLst>
                <a:tab algn="l" pos="4572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проблемы (подведение к основной тем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Font typeface="Corbel"/>
              <a:buAutoNum type="arabicPeriod"/>
              <a:tabLst>
                <a:tab algn="l" pos="4572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мультфил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Font typeface="Corbel"/>
              <a:buAutoNum type="arabicPeriod"/>
              <a:tabLst>
                <a:tab algn="l" pos="4572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суждение проблемы через обр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Font typeface="Corbel"/>
              <a:buAutoNum type="arabicPeriod"/>
              <a:tabLst>
                <a:tab algn="l" pos="4572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решения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Font typeface="Corbel"/>
              <a:buAutoNum type="arabicPeriod"/>
              <a:tabLst>
                <a:tab algn="l" pos="4572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, проработка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Font typeface="Corbel"/>
              <a:buAutoNum type="arabicPeriod"/>
              <a:tabLst>
                <a:tab algn="l" pos="4572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6869160" y="3000240"/>
            <a:ext cx="4792320" cy="3366720"/>
          </a:xfrm>
          <a:prstGeom prst="rect">
            <a:avLst/>
          </a:prstGeom>
          <a:ln w="57150">
            <a:solidFill>
              <a:srgbClr val="2e663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Базис">
  <a:themeElements>
    <a:clrScheme name="Базис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азис">
  <a:themeElements>
    <a:clrScheme name="Базис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Базис</Template>
  <TotalTime>957</TotalTime>
  <Application>LibreOffice/7.4.7.2$Linux_X86_64 LibreOffice_project/40$Build-2</Application>
  <AppVersion>15.0000</AppVersion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9T08:50:03Z</dcterms:created>
  <dc:creator>Мария Зайкова</dc:creator>
  <dc:description/>
  <dc:language>en-US</dc:language>
  <cp:lastModifiedBy>Мария Зайкова</cp:lastModifiedBy>
  <dcterms:modified xsi:type="dcterms:W3CDTF">2021-06-03T08:35:08Z</dcterms:modified>
  <cp:revision>82</cp:revision>
  <dc:subject/>
  <dc:title>Мульттерапия при работе с психологическими рисками дошкольников 6 л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lides">
    <vt:r8>21</vt:r8>
  </property>
</Properties>
</file>