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.jpeg" ContentType="image/jpeg"/>
  <Override PartName="/ppt/media/image4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8.jpeg" ContentType="image/jpeg"/>
  <Override PartName="/ppt/media/image23.wmf" ContentType="image/x-wmf"/>
  <Override PartName="/ppt/media/image11.jpeg" ContentType="image/jpeg"/>
  <Override PartName="/ppt/media/image24.png" ContentType="image/png"/>
  <Override PartName="/ppt/media/image25.jpeg" ContentType="image/jpeg"/>
  <Override PartName="/ppt/media/image27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6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ftr" idx="6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 type="sldNum" idx="6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9B23-1E90-4E86-8B0B-E5D8C0160F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1"/>
          <p:cNvSpPr/>
          <p:nvPr/>
        </p:nvSpPr>
        <p:spPr>
          <a:xfrm>
            <a:off x="1214280" y="914400"/>
            <a:ext cx="442944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3EB5-09BB-4952-9AEF-64D06FA01A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Text Box 1"/>
          <p:cNvSpPr/>
          <p:nvPr/>
        </p:nvSpPr>
        <p:spPr>
          <a:xfrm>
            <a:off x="1214280" y="914400"/>
            <a:ext cx="442944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1"/>
          <p:cNvSpPr/>
          <p:nvPr/>
        </p:nvSpPr>
        <p:spPr>
          <a:xfrm>
            <a:off x="1401840" y="914400"/>
            <a:ext cx="40543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 Box 1"/>
          <p:cNvSpPr/>
          <p:nvPr/>
        </p:nvSpPr>
        <p:spPr>
          <a:xfrm>
            <a:off x="1214280" y="914400"/>
            <a:ext cx="442944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019-DEF1-4AB3-BE48-52DFA85A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FCB-E5CD-443C-8113-FD549EBB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1511-9ABF-4709-85BE-5954E1B1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5DC30-C817-4DA0-8286-1467C62F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C4791-7843-4167-9210-5EE05F69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7AEAD-7B27-40C4-851A-CDCA14E3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6888D-5699-45FC-BF8E-118D552E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04C04-E5BD-43A5-BBD9-CE355482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347DC-6476-4DD7-A792-A6101D75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CDAF0-3C35-4F90-BA5E-8122B649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7F9C1-61CD-4FD0-A254-438B8716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A040B-A972-4374-B83F-DE8B3C4C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F30-51FA-49AF-8EA6-50D0C46A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C9990-5B5C-4B52-AF6C-0D9AB175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4B94D-47D7-4A9B-81D4-F5A46629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2B774-B930-409E-BED9-F458853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F3F70-537C-4EE7-AC40-8AE6D87E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CA9FB-C09E-47E3-944F-DC89C847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5D83E-E6E6-416F-B669-A4B2ED46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132CD-9848-4136-B34A-A303A3F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26A77-B8B1-4EF5-B83E-8DD1A1C9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989F9-BA94-4D12-9CFF-323BB9C5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857FD-FBE2-43D7-A84B-EB8CD2A2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3CC-CA41-479A-98C2-5DAE2312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C4B65-71D3-4A37-B417-4C312591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FF72A-960C-4DEA-9FE3-439B02AD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4ED88-3C09-4EF3-8314-65890A84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1F882-6A2E-40B0-92BD-DDD2ACBE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BF5A4-7E9C-48B0-A3A9-C3F46D35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AA6D-E258-4310-AA09-CCF8C436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09A1C-E6C8-4F79-9008-310A15BD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205EC-A234-422B-BD00-BD27127F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09B68-F474-43AD-9168-C436EBDE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14396-AB46-42BF-BEC6-F0D4BBE7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6097-DBB5-48E3-876A-6CEC5E5D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CE7EE-B74F-4859-99A6-74FB6B07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4E70C-2B35-4AAD-AC0C-F35A5D2B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399D0-A70D-4F98-9F64-5B90F931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4E8F5-93C6-43C5-8250-7DB7B306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08CA3-F923-4EA8-87D8-B5EDB07D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7A1B6-A739-43D0-92FC-44CDB7DD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F6B28-2E43-4F9D-BB7A-DA890E75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104E5-D39D-428D-8C39-CA6877B1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7C2D1-8635-4C3F-AC76-31342B3F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A67BE-6AAD-47EA-BF32-D00B22D6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1D3C-83A9-4BB8-A67F-507C6F7D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C5631-3741-483A-B78A-2457103A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A416B-594A-48E3-94B6-F69D9930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86737-369C-4C86-B8F5-19353421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03E59-B48D-442B-889D-4F28A258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59B5C-623D-4277-87C0-E5EFE90B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40C47-36C7-4522-8B59-8B48A632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01FED-1027-4B3C-A1DD-E2B93C1B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04F8A-EFA8-4126-AFDF-19815D05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927B7-8E39-4707-BE26-C0F6E3F8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3F426-00B6-4971-8DB1-C153ED17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0B18-715F-4EA1-91D0-7E0C9E54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2A22E-E1A0-4CC2-9FF2-F5604C00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D43F8-FC53-4AEC-9D70-EB1203B0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15595-5A8E-4F79-A014-38E0C28F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53A30-A7AD-4861-8B3E-392B7CBD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2046D-C02C-4E3E-84C8-7B3F452A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34497-D98E-4600-82B3-EC9A514F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951EB-C4A1-44FF-BA8D-2E5A218D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2BCBA-D96B-485C-BED2-91C378A4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FAA00-248F-4D91-878B-E480485F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ADDBE-4898-4784-8212-964358D4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ADCF-BF76-415C-89B2-D4E81AC2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B6DE3-C98F-4500-8D43-9893DCCF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5CB4E-FD75-450A-8FA4-F77EDF67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7BFD7-B753-49D2-9857-4B883640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5BAC2-842C-4BEB-B917-AA70DB11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5A77C-BE2A-44F8-8F7C-B33C28FA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1D2DF-6E00-4323-82FD-1ABDF2BD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22877-025B-47D7-B5AB-11895714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D5AC2-B094-4947-853F-DFFAC5B5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4FEB9-9C76-464C-9BBE-11DE2513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00323-9F96-44BB-A3E6-895460E0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BC3C-FAF9-4EDC-AEC3-DCDE3D7E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3DE0D-6F5E-4D33-B456-C8E07724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86FCC-3737-402B-9A35-8727760A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B6115-4936-4F56-941D-DE62774B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48DC9-52F7-4BDD-BDA5-2FA2737A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A786F-08CA-4065-A1B6-6C9847EC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BE77A9-1559-4045-B98A-EA8BC2CD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7FF33-8842-4B77-BDCF-040DD435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3643C-5504-4A75-AED3-80FF147B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7FA7A-A4BB-454A-9FD4-0BDCD2C9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A6C0C-F96B-4EBD-B1AC-0C4F7464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B61B-8380-4897-B662-F57F9A92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50DE8-41BF-4D85-B805-ED7FFF85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A403D-E1E9-44B0-A143-1568785D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2DC1F-B62B-480C-B7FB-DC68576C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1C6C3-3FF4-4694-B3EE-DE31DBC0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452F3-B923-4C29-BDF3-48EE4D0A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09005-1E88-43D2-9BF2-18F17318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822F1-CEAF-4C0E-A774-1B82D1D8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FA938-5C88-4496-AEAC-EBC565E5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E8A81-F254-4709-918C-5406C55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D83B3-DC33-43B1-A381-6893029B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D065-701A-429B-B6ED-3C6146DC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4187C-55C5-4C97-B33E-165411EC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8B6E7-800A-4F29-BF7F-FEA0F4F0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5D42D7-A858-4FEA-9095-9B907DB7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0CD6F1-69ED-41DE-8454-6BB88D13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B6D40-2B3F-479D-8C14-CBD82D18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10C15E-105A-41E2-9A3E-DB78CE3A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D35C0-7885-4B65-890E-AF1F0CD9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DDCA2-0945-4112-8208-0E0820DE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B361F-CD9D-4FF3-9985-1CB29321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D08AF-EB02-4429-A514-4387D449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18C-963B-456E-AFC3-0850E72F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C32F-3843-43A8-867B-DDD43177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2C3C1-ED03-40B2-A430-2ED84DEA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A38557-9416-49BA-A54A-0C596534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539E4-DC2E-4984-9D77-92909EE3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4C4AE-F891-4ACB-8D8A-B490370B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BF5A6-C3D3-4BB9-8AB2-E88D9DC3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E0E34-0721-4DBD-8A37-D62CD168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4CFB4-23B6-436A-B53D-ADA79879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7DB3B-AEEC-458F-96F9-6DA4BABA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08C88-1552-4C07-9E29-A3A4C1B0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ED2CA-16EE-498F-81CE-2F19962B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9909-34BC-48BB-9C9D-1BED828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BB112-8774-4CFB-8096-4D43F05A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90906-4543-448C-B9FD-1C4C9F28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7AA4A-17E5-4ED0-A2BB-D8B2E53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3779DE-7A8C-407D-B829-B9ABB36E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91F90-3689-48B5-94F3-6A705CAB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3DBC2-30F0-491E-8972-293004EC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3714E-D94A-4130-8227-DA044F90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EAB71E-EDEA-4BD8-9779-C78F8341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E6619-D1EC-4C83-BDA2-CDF8CD84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BFA24A-42BF-4C8A-BE7C-B14ED5CF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C395-4C54-4766-899F-D6B4CBA3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F7C3B-4101-4B80-AF25-444ABEE9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9BB5FB-5034-4ED0-9516-73F08437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77ED7-663B-40C0-95EF-DF0B2AE9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9674F4-5EC1-4EFD-8716-2A960D91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1C34DC-D1FF-423F-B088-A8D04296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C58CCD-732F-4852-8695-FFDD5159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8F7E98-F0AB-47DF-9344-6EBC05BA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B82C8-1818-470C-8F2B-25A28D11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CD5173-636B-4A21-A3DB-E4F95785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CF590A-134D-4279-9C2A-8F7D304A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FBA7-A85A-4EE7-B4A0-82E3178C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12895DB-8917-4517-88D5-5FA2E8D5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80B2CF0-55B3-46B2-8ADE-A433DDB7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071CDC9-B2FE-419E-B5A7-66CD33BC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28C941-96F4-4D2A-945C-AA79E1C9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ECFAC06-923E-4A2C-8EB1-7628BA9A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DDE2B4-0B54-4002-A1DC-39825DF9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2375295-1CC3-4B74-9E9A-03E40C34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4C180C-7F0A-4814-8EE7-0A91DFC4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C579368-9AC2-4E66-85E5-8E408E54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D122DF-F309-43BD-A572-BBA7250D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746D-9FB0-4B59-9BE7-8DF5F0E0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532CA9-0B7C-4045-B73B-9E0FD1BF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F25814-2049-4BE1-BA7F-8C8D040D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EE83E-C447-4634-AC62-15EA67C3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D032D8-BC39-4060-8C8A-8FCD7FB7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20E17-A844-4F76-8962-32BCEEBF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8A3338-2B30-48D7-A631-28777AAF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D4E60-DB1D-431C-AB9F-D404D09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481C3E-CB2A-4D9A-846A-5C67D9BC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5E473D-7945-4738-B547-881A9FA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FA7B95-3B66-42DC-8549-C3282EF2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CEAC-5739-434A-89DD-9559A368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CB1AB-11C4-4DE8-AD15-C2862633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D8844-3AF9-44CE-82E6-84FC6111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295A0E-F7C5-4DD3-B42A-BBE18086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03FED5F-58AA-4FF3-B354-B21BB341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BD51037-3C84-44D4-B698-EE33DD42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0B8076C-8C17-45F3-82AA-4A3FD91A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2DAD15B-4029-4ED0-BAC4-B92A643E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46C7CB-845E-485A-B17E-761AFE2C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76FF95C-B54C-4978-95DA-FD82AE2E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46466FF-925B-4533-8422-432EAFD1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AAD66-4A45-4C4D-9A71-42E4B0BB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2B653B-30D6-4B10-8F9C-37574860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50FF2DC-D7BE-4006-8B02-06CEF399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F6C6117-AE78-4A83-8441-6701816C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2FD88E9-367A-4C5E-8E95-A971F007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6A934F-DCDB-4841-BD6E-957996C3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DE0D4-1645-4326-B710-534CC1A4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F656-28EF-4B5B-A46A-FF074DF5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5DA7-6496-4F42-A188-CA2A97C6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F04-F234-4AFC-90DD-7CAAFAB6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B91B-B67C-4AE3-B338-BF1EFEE8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67B0-F909-4726-AAEC-D0B1F39D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5722-84AF-4A8B-9084-2E31D6B6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F9AC7-558B-4363-B8B2-C41A71D7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B46E-2271-40DB-96CB-E41F45EA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6665-12C4-4713-B72D-31D5C908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3037-AEF6-44A1-A2AC-85E4C88D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26D80-D308-4E89-BD25-3FD268C1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D5B5-E88F-471E-A2D6-E81B4CF9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AB33-1870-41CB-A7F4-7F92F74A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900-EDB6-466A-A9A7-DCE6246F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507E-AC0D-4633-8666-DE5B81F4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DC5B9-A485-45E2-9921-EB80FE44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4C331-9C91-4716-AE8B-7DBFCE98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C576-31E3-4DDF-AE43-36511E8B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EAEF6-817D-4F07-BCB4-0709D593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B450-5EF7-4130-B0A1-B4F968E5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CF6EF-9347-4CA2-AB63-6D00D308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01B5-D0A5-4C56-A87C-171CD243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BC0F7-0313-4909-95B4-FAFF2A3B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EAF1E-C46E-4FAF-8E1B-AA3B18C3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E9A-9192-40EF-94E0-698D4A7C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06D91-CF46-4B5A-A68B-907A4665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D340A-73F0-4621-8795-B5659C43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A332-DBEF-43DE-8BA0-2F580351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4E204-8A09-42B5-8F2F-5D687AA4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E81F7-EA91-4AFA-AC2C-5D333AC6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D882-8AF6-440A-94D7-7F5F4B3A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5834-990E-418C-9689-99BED1E3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C8532-8814-4088-92A5-28CC9A0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48C3-D022-45A6-BAEF-B25FAB2B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F877B-5E90-48FB-8EB0-33D47C6D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41E-1F3A-41F2-BB5E-943BCBB4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FA07F-D4F6-4573-881E-A1B6AAE3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2507E-EBD1-40D2-9C2A-E0299788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151D6-6CE0-45E1-A7B2-16A8B9A7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72E43-6515-4183-8CF9-4654E621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80193-10D4-4C6B-A76E-0A88C843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911D6-356F-4D2D-9882-580AAF56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E8763-C075-4D3C-8D0D-C51B8034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53502-28D1-4B25-8EDB-B7860815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CAB37-6332-4488-8689-8C257884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3CFA-2B16-4A63-ADA5-4295C59A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699-0616-4243-A002-0FD157CE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9E1EB-F5EF-4585-9242-55EAD145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C4BE3-15A6-4E10-AC6C-61130EF3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E7814-EBE4-4D82-A424-0F852669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50BA-B379-4427-A6D0-5ECDFEFA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56AE6-058F-4CB4-8F06-685CEE1F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2745B-1975-4095-90AE-5222CB97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FE7B2-4D31-4405-852C-51C0406A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5151E-F96F-4CDD-BE5F-143CA48E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956DC-7C18-472A-899B-0C973DEF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6C114-BB3B-43B4-B822-2ED95595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EAC-902C-44D3-9608-0652F5D4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26C5-C46D-4163-A313-548F2D1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F3B8-B520-4BB0-9945-3BEE11B5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DD209-8B4A-4F03-A81F-2624FE3C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3FC34-E60A-4FEB-A459-3443CE07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50E2E-6DD3-4BC6-93D0-ED897184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5A4DA-6A7E-476A-BC43-57D5AF4A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298B5-3E3C-4F6F-A0AA-E596FD93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51F56-21B3-4132-A554-12D32357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219FA-BD29-4E07-A524-571709C0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846DA-29A1-46B3-999C-CAD15860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895-5390-4E06-8FED-92EDE59B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014B2-BD75-4750-A83D-28B6A65B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50780-D6CF-4E75-BB1F-BBCFF38B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FE61F-9552-4300-A720-22134DB4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75FFC-2B70-42CA-981C-187E6C89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C94AE-BA79-431B-A756-B2A58828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EA2B7-8477-4FD9-BB5D-80FC3B42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39D3F-1232-49BE-BEC4-F8B7CED8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C56AD-8DAC-4DED-B657-7521375D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6CC66-A008-40BA-9A09-27F12E8C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14DAE-EC63-4CDE-8283-463B0CF0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64A5-0BBB-475D-A695-42AE9216E08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5443-50F9-43D3-AC50-6AB76AF5946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39D1-2123-4829-B292-7F5E29EC771B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97C4-7B0C-4E66-A713-5724F5D040B6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96BE-9EF7-46EC-A1FB-7EE9CDEC915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0234-B26F-4524-B207-852C40F55F3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EE2F-88A7-4837-84CB-DB74CF6FDBF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FA12-C7ED-44DC-A73D-4ACA58D26F5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2B43-7B19-4E41-B1DB-B78C2C3A983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5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F02D-50E3-49DE-B514-AE7DF92AD2B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DEDF-5B98-403B-9EA0-46C7DBE62C7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9ED3-ED56-4551-8A5B-C8C0AE0E538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sldNum" idx="5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BB12-BF49-4417-85CA-4C78BCA5259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ftr" idx="6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6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6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6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0884-6384-450E-A0A6-06FD8659F55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sldNum" idx="6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53A5-D95E-46FE-8822-1A343EEA5D2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6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dt" idx="6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D997-8165-41C4-989B-9B993244E56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DF4A-0BEA-411F-92D1-FCF4DF582DA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9C89-712D-40F1-9F6F-708B804EA9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8EFE-A924-4501-9E5E-F60FAA32EA7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32A0-BDEC-4497-808B-102AD12C67AC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3293-8EE7-47CF-94B5-15F0A43EE12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FF32-1A24-40C1-BFE6-981012BAE1C6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Rectangle 4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8" descr="EN00301_"/>
          <p:cNvPicPr/>
          <p:nvPr/>
        </p:nvPicPr>
        <p:blipFill>
          <a:blip r:embed="rId2"/>
          <a:stretch/>
        </p:blipFill>
        <p:spPr>
          <a:xfrm>
            <a:off x="1523880" y="2209680"/>
            <a:ext cx="6782040" cy="3391200"/>
          </a:xfrm>
          <a:prstGeom prst="rect">
            <a:avLst/>
          </a:prstGeom>
          <a:ln w="0">
            <a:noFill/>
          </a:ln>
        </p:spPr>
      </p:pic>
      <p:sp>
        <p:nvSpPr>
          <p:cNvPr id="943" name="TextBox 1"/>
          <p:cNvSpPr/>
          <p:nvPr/>
        </p:nvSpPr>
        <p:spPr>
          <a:xfrm>
            <a:off x="6588000" y="64864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делал Черлин Дени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 Box 1"/>
          <p:cNvSpPr/>
          <p:nvPr/>
        </p:nvSpPr>
        <p:spPr>
          <a:xfrm>
            <a:off x="816120" y="469800"/>
            <a:ext cx="767376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672840" y="488520"/>
            <a:ext cx="7807320" cy="60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624"/>
              </a:spcBef>
              <a:buClr>
                <a:srgbClr val="8e58b6"/>
              </a:buClr>
              <a:buSzPct val="85000"/>
              <a:buFont typeface="Wingdings" charset="2"/>
              <a:buChar char="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008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А.Галич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был очень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талантлив: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актер,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певец,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прозаик,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драматург,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киносценарист.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Он стал неугоден власти из-за  своих остросатирических песен.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Вынужден был эмигрировать в Париж.</a:t>
            </a: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98000"/>
              </a:lnSpc>
              <a:spcBef>
                <a:spcPts val="624"/>
              </a:spcBef>
              <a:buClr>
                <a:srgbClr val="8e58b6"/>
              </a:buClr>
              <a:buSzPct val="85000"/>
              <a:buFont typeface="Wingdings" charset="2"/>
              <a:buChar char="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008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Б.Окуджава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продолжил традиции  19 века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–дух декабристов,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когда честь и достоинство были превыше всего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98000"/>
              </a:lnSpc>
              <a:spcBef>
                <a:spcPts val="624"/>
              </a:spcBef>
              <a:buClr>
                <a:srgbClr val="8e58b6"/>
              </a:buClr>
              <a:buSzPct val="85000"/>
              <a:buFont typeface="Wingdings 2" charset="2"/>
              <a:buChar char="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008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98000"/>
              </a:lnSpc>
              <a:spcBef>
                <a:spcPts val="624"/>
              </a:spcBef>
              <a:buClr>
                <a:srgbClr val="8e58b6"/>
              </a:buClr>
              <a:buSzPct val="85000"/>
              <a:buFont typeface="Wingdings" charset="2"/>
              <a:buChar char="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008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В.Высоцкий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и после смерти продолжает своим творчеством оказывать влияние на развитие авторской песни.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Его по праву называют “сердцем” авторской песни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97000"/>
              </a:lnSpc>
              <a:spcBef>
                <a:spcPts val="624"/>
              </a:spcBef>
              <a:buClr>
                <a:srgbClr val="8e58b6"/>
              </a:buClr>
              <a:buSzPct val="85000"/>
              <a:buFont typeface="Wingdings 2" charset="2"/>
              <a:buChar char="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008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94920" y="6165720"/>
            <a:ext cx="50403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 rot="10800000">
            <a:off x="0" y="5659920"/>
            <a:ext cx="8524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8" name="Picture 4" descr="Окуджава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979" name="WordArt 7"/>
          <p:cNvSpPr txBox="1"/>
          <p:nvPr/>
        </p:nvSpPr>
        <p:spPr>
          <a:xfrm rot="309600">
            <a:off x="852120" y="283680"/>
            <a:ext cx="194004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28000"/>
                </a:gradFill>
                <a:latin typeface="Impact"/>
              </a:rPr>
              <a:t>Була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28000"/>
              </a:gradFill>
              <a:latin typeface="Impact"/>
              <a:ea typeface="Impact"/>
            </a:endParaRPr>
          </a:p>
        </p:txBody>
      </p:sp>
      <p:sp>
        <p:nvSpPr>
          <p:cNvPr id="980" name="WordArt 8"/>
          <p:cNvSpPr txBox="1"/>
          <p:nvPr/>
        </p:nvSpPr>
        <p:spPr>
          <a:xfrm rot="21465000">
            <a:off x="324000" y="120168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658000"/>
                </a:gradFill>
                <a:latin typeface="Impact"/>
              </a:rPr>
              <a:t>Шалв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658000"/>
              </a:gradFill>
              <a:latin typeface="Impact"/>
              <a:ea typeface="Impact"/>
            </a:endParaRPr>
          </a:p>
        </p:txBody>
      </p:sp>
      <p:sp>
        <p:nvSpPr>
          <p:cNvPr id="981" name="WordArt 9"/>
          <p:cNvSpPr txBox="1"/>
          <p:nvPr/>
        </p:nvSpPr>
        <p:spPr>
          <a:xfrm>
            <a:off x="0" y="2276640"/>
            <a:ext cx="34923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кудж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468360" y="407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(1924 – 199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2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887480" y="56847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WordArt 15"/>
          <p:cNvSpPr txBox="1"/>
          <p:nvPr/>
        </p:nvSpPr>
        <p:spPr>
          <a:xfrm>
            <a:off x="395280" y="4869000"/>
            <a:ext cx="51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эт, прозаик, автор-исполнитель песе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ауреат Государственной преми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4"/>
          <p:cNvSpPr/>
          <p:nvPr/>
        </p:nvSpPr>
        <p:spPr>
          <a:xfrm>
            <a:off x="1258920" y="95580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900000" y="1052640"/>
            <a:ext cx="1044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7" descr="bscap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8"/>
          <p:cNvSpPr/>
          <p:nvPr/>
        </p:nvSpPr>
        <p:spPr>
          <a:xfrm>
            <a:off x="2290680" y="-6896160"/>
            <a:ext cx="45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9"/>
          <p:cNvSpPr/>
          <p:nvPr/>
        </p:nvSpPr>
        <p:spPr>
          <a:xfrm>
            <a:off x="826920" y="1268280"/>
            <a:ext cx="748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овесть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благородство и достоинство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т оно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святое наше воинство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отяни ему свою ладонь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За него не страшно и в огонь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ик его высок и удивителен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святи ему свой краткий век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ожет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и не станешь победителем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о зато умрёшь как человек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WordArt 7"/>
          <p:cNvSpPr txBox="1"/>
          <p:nvPr/>
        </p:nvSpPr>
        <p:spPr>
          <a:xfrm rot="225600">
            <a:off x="178920" y="404640"/>
            <a:ext cx="43531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32000"/>
                </a:gradFill>
                <a:latin typeface="Impact"/>
              </a:rPr>
              <a:t>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32000"/>
              </a:gradFill>
              <a:latin typeface="Impact"/>
              <a:ea typeface="Impact"/>
            </a:endParaRPr>
          </a:p>
        </p:txBody>
      </p:sp>
      <p:sp>
        <p:nvSpPr>
          <p:cNvPr id="993" name="WordArt 8"/>
          <p:cNvSpPr txBox="1"/>
          <p:nvPr/>
        </p:nvSpPr>
        <p:spPr>
          <a:xfrm rot="423000">
            <a:off x="-252000" y="764640"/>
            <a:ext cx="4856040" cy="190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5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5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500000"/>
                </a:gradFill>
                <a:latin typeface="Impact"/>
              </a:rPr>
              <a:t>Семёно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500000"/>
              </a:gradFill>
              <a:latin typeface="Impact"/>
              <a:ea typeface="Impact"/>
            </a:endParaRPr>
          </a:p>
        </p:txBody>
      </p:sp>
      <p:sp>
        <p:nvSpPr>
          <p:cNvPr id="994" name="WordArt 9"/>
          <p:cNvSpPr txBox="1"/>
          <p:nvPr/>
        </p:nvSpPr>
        <p:spPr>
          <a:xfrm rot="393600">
            <a:off x="-11160" y="2322360"/>
            <a:ext cx="4356000" cy="22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584000"/>
                </a:gradFill>
                <a:latin typeface="Impact"/>
              </a:rPr>
              <a:t>Высоц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584000"/>
              </a:gradFill>
              <a:latin typeface="Impact"/>
              <a:ea typeface="Impact"/>
            </a:endParaRPr>
          </a:p>
        </p:txBody>
      </p:sp>
      <p:pic>
        <p:nvPicPr>
          <p:cNvPr id="995" name="Picture 11" descr="Высоцкий 2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96" name="Text Box 13"/>
          <p:cNvSpPr/>
          <p:nvPr/>
        </p:nvSpPr>
        <p:spPr>
          <a:xfrm>
            <a:off x="1042920" y="4149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(1938 – 198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WordArt 14"/>
          <p:cNvSpPr txBox="1"/>
          <p:nvPr/>
        </p:nvSpPr>
        <p:spPr>
          <a:xfrm>
            <a:off x="395280" y="4797360"/>
            <a:ext cx="51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эт, актер театра и кино, автор-исполнитель песе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ауреат Государственной премии (посмертно)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9" name="Picture 4" descr="62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6"/>
          <p:cNvSpPr/>
          <p:nvPr/>
        </p:nvSpPr>
        <p:spPr>
          <a:xfrm rot="6699600">
            <a:off x="4401720" y="-1771560"/>
            <a:ext cx="100656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 Box 8"/>
          <p:cNvSpPr/>
          <p:nvPr/>
        </p:nvSpPr>
        <p:spPr>
          <a:xfrm>
            <a:off x="1258920" y="836640"/>
            <a:ext cx="8064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Если руки слож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блюдал свысо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в борьбу не вступи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подлецом, с палачом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Значит в жизни ты бы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и при чём. Ни при чём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4"/>
          <p:cNvSpPr/>
          <p:nvPr/>
        </p:nvSpPr>
        <p:spPr>
          <a:xfrm>
            <a:off x="2392200" y="12924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5"/>
          <p:cNvSpPr/>
          <p:nvPr/>
        </p:nvSpPr>
        <p:spPr>
          <a:xfrm>
            <a:off x="250920" y="333360"/>
            <a:ext cx="399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Picture 6" descr="Визбор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8"/>
          <p:cNvSpPr/>
          <p:nvPr/>
        </p:nvSpPr>
        <p:spPr>
          <a:xfrm>
            <a:off x="250920" y="1197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WordArt 11"/>
          <p:cNvSpPr txBox="1"/>
          <p:nvPr/>
        </p:nvSpPr>
        <p:spPr>
          <a:xfrm>
            <a:off x="0" y="-243000"/>
            <a:ext cx="4500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Юр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осифо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изб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7" name="Text Box 12"/>
          <p:cNvSpPr/>
          <p:nvPr/>
        </p:nvSpPr>
        <p:spPr>
          <a:xfrm>
            <a:off x="1866240" y="328464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934 -19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1384200" y="568332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WordArt 16"/>
          <p:cNvSpPr txBox="1"/>
          <p:nvPr/>
        </p:nvSpPr>
        <p:spPr>
          <a:xfrm>
            <a:off x="0" y="3789360"/>
            <a:ext cx="4500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эт, писатель, журналист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ноактёр, автор и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нитель песен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4"/>
          <p:cNvSpPr/>
          <p:nvPr/>
        </p:nvSpPr>
        <p:spPr>
          <a:xfrm>
            <a:off x="0" y="1413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Picture 7" descr="MAYFLOWE"/>
          <p:cNvPicPr/>
          <p:nvPr/>
        </p:nvPicPr>
        <p:blipFill>
          <a:blip r:embed="rId1"/>
          <a:stretch/>
        </p:blipFill>
        <p:spPr>
          <a:xfrm>
            <a:off x="0" y="260280"/>
            <a:ext cx="4067280" cy="659772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10"/>
          <p:cNvSpPr/>
          <p:nvPr/>
        </p:nvSpPr>
        <p:spPr>
          <a:xfrm>
            <a:off x="3635280" y="0"/>
            <a:ext cx="550872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Calibri"/>
              </a:rPr>
              <a:t>Памяти ушедш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Как хочется прожить ещё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                  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100  лет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Ну пусть не 100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  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хотя бы половину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И вдоволь наваляться на траве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Любить и быть немножечк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                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любимым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.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И знать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что среди шум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                  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площад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И тысяч улиц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залитых огнями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Есть Родина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есть несколь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                         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людей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,</a:t>
            </a: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Которых называем мы друзьями</a:t>
            </a:r>
            <a:r>
              <a:rPr b="1" i="1" lang="ru-RU" sz="2800" spc="-1" strike="noStrike">
                <a:solidFill>
                  <a:srgbClr val="6600cc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3" name="Picture 11" descr="rusflaga"/>
          <p:cNvPicPr/>
          <p:nvPr/>
        </p:nvPicPr>
        <p:blipFill>
          <a:blip r:embed="rId2"/>
          <a:stretch/>
        </p:blipFill>
        <p:spPr>
          <a:xfrm>
            <a:off x="1835280" y="333360"/>
            <a:ext cx="720720" cy="520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6" descr="Митяев"/>
          <p:cNvPicPr/>
          <p:nvPr/>
        </p:nvPicPr>
        <p:blipFill>
          <a:blip r:embed="rId1"/>
          <a:stretch/>
        </p:blipFill>
        <p:spPr>
          <a:xfrm>
            <a:off x="1116000" y="260280"/>
            <a:ext cx="8028000" cy="5545080"/>
          </a:xfrm>
          <a:prstGeom prst="rect">
            <a:avLst/>
          </a:prstGeom>
          <a:ln w="0">
            <a:noFill/>
          </a:ln>
        </p:spPr>
      </p:pic>
      <p:sp>
        <p:nvSpPr>
          <p:cNvPr id="1015" name="WordArt 13"/>
          <p:cNvSpPr txBox="1"/>
          <p:nvPr/>
        </p:nvSpPr>
        <p:spPr>
          <a:xfrm>
            <a:off x="0" y="981000"/>
            <a:ext cx="9050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6" name="WordArt 14"/>
          <p:cNvSpPr txBox="1"/>
          <p:nvPr/>
        </p:nvSpPr>
        <p:spPr>
          <a:xfrm>
            <a:off x="250920" y="2349360"/>
            <a:ext cx="431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7" name="WordArt 15"/>
          <p:cNvSpPr txBox="1"/>
          <p:nvPr/>
        </p:nvSpPr>
        <p:spPr>
          <a:xfrm>
            <a:off x="250920" y="3645000"/>
            <a:ext cx="503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8" name="WordArt 16"/>
          <p:cNvSpPr txBox="1"/>
          <p:nvPr/>
        </p:nvSpPr>
        <p:spPr>
          <a:xfrm>
            <a:off x="324000" y="5013360"/>
            <a:ext cx="431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9" name="WordArt 17"/>
          <p:cNvSpPr txBox="1"/>
          <p:nvPr/>
        </p:nvSpPr>
        <p:spPr>
          <a:xfrm>
            <a:off x="1763640" y="5661000"/>
            <a:ext cx="4680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итя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comb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Text Box 4"/>
          <p:cNvSpPr/>
          <p:nvPr/>
        </p:nvSpPr>
        <p:spPr>
          <a:xfrm>
            <a:off x="971640" y="260280"/>
            <a:ext cx="9829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4e7ed"/>
                </a:solidFill>
                <a:latin typeface="Calibri"/>
              </a:rPr>
              <a:t>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лег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ригорьеви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итя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 1956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э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мпози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сполнитель пе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ктёр театра и ки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служенный артист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Лауреат фестивалей авторской пес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 Куйбышеве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Казани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Владивосто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дин из организаторов Ильмен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естиваля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нициатор премии 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ветлое прошлое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Picture 7" descr="LAMPPST1"/>
          <p:cNvPicPr/>
          <p:nvPr/>
        </p:nvPicPr>
        <p:blipFill>
          <a:blip r:embed="rId1"/>
          <a:stretch/>
        </p:blipFill>
        <p:spPr>
          <a:xfrm>
            <a:off x="7164360" y="260280"/>
            <a:ext cx="1671840" cy="6597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0" descr="LAMPPST1"/>
          <p:cNvPicPr/>
          <p:nvPr/>
        </p:nvPicPr>
        <p:blipFill>
          <a:blip r:embed="rId2"/>
          <a:stretch/>
        </p:blipFill>
        <p:spPr>
          <a:xfrm flipH="1">
            <a:off x="250560" y="259560"/>
            <a:ext cx="1692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 Box 4"/>
          <p:cNvSpPr/>
          <p:nvPr/>
        </p:nvSpPr>
        <p:spPr>
          <a:xfrm>
            <a:off x="684360" y="620640"/>
            <a:ext cx="156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00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4" name="Picture 13" descr="Clou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5" name="Text Box 14"/>
          <p:cNvSpPr/>
          <p:nvPr/>
        </p:nvSpPr>
        <p:spPr>
          <a:xfrm>
            <a:off x="1403280" y="981000"/>
            <a:ext cx="71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Барды 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поэты</a:t>
            </a:r>
            <a:r>
              <a:rPr b="1" i="1" lang="ru-RU" sz="54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композиторы</a:t>
            </a:r>
            <a:r>
              <a:rPr b="1" i="1" lang="ru-RU" sz="5400" spc="-1" strike="noStrike">
                <a:solidFill>
                  <a:srgbClr val="000000"/>
                </a:solidFill>
                <a:latin typeface="Arial Unicode MS"/>
              </a:rPr>
              <a:t>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исполнител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в одном лице</a:t>
            </a:r>
            <a:r>
              <a:rPr b="1" i="1" lang="ru-RU" sz="5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Text Box 2"/>
          <p:cNvSpPr/>
          <p:nvPr/>
        </p:nvSpPr>
        <p:spPr>
          <a:xfrm>
            <a:off x="0" y="90792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3" descr="BONFIRE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5738760"/>
          </a:xfrm>
          <a:prstGeom prst="rect">
            <a:avLst/>
          </a:prstGeom>
          <a:ln w="0">
            <a:noFill/>
          </a:ln>
        </p:spPr>
      </p:pic>
      <p:sp>
        <p:nvSpPr>
          <p:cNvPr id="946" name="Text Box 4"/>
          <p:cNvSpPr/>
          <p:nvPr/>
        </p:nvSpPr>
        <p:spPr>
          <a:xfrm>
            <a:off x="395280" y="591192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alibri"/>
              </a:rPr>
              <a:t>Авторская песня – особое направление поэтического и музыкального искус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7" name="Picture 5" descr="i8"/>
          <p:cNvPicPr/>
          <p:nvPr/>
        </p:nvPicPr>
        <p:blipFill>
          <a:blip r:embed="rId2"/>
          <a:stretch/>
        </p:blipFill>
        <p:spPr>
          <a:xfrm>
            <a:off x="4211640" y="3284640"/>
            <a:ext cx="760320" cy="123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0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9"/>
          <p:cNvSpPr/>
          <p:nvPr/>
        </p:nvSpPr>
        <p:spPr>
          <a:xfrm>
            <a:off x="3348000" y="427320"/>
            <a:ext cx="6227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33"/>
                </a:solidFill>
                <a:latin typeface="Calibri"/>
              </a:rPr>
              <a:t>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Мотивы дороги</a:t>
            </a:r>
            <a:r>
              <a:rPr b="1" i="1" lang="ru-RU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встре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и расстав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Исторические 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Военная тема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Интимная лирика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Городские моти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Юмористические пес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 Box 11"/>
          <p:cNvSpPr/>
          <p:nvPr/>
        </p:nvSpPr>
        <p:spPr>
          <a:xfrm>
            <a:off x="0" y="142920"/>
            <a:ext cx="4929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i="1" lang="ru-RU" sz="5200" spc="-1" strike="noStrike">
                <a:solidFill>
                  <a:srgbClr val="ffffff"/>
                </a:solidFill>
                <a:latin typeface="Calibri"/>
              </a:rPr>
              <a:t>О чём поют</a:t>
            </a:r>
            <a:r>
              <a:rPr b="1" i="1" lang="ru-RU" sz="5200" spc="-1" strike="noStrike">
                <a:solidFill>
                  <a:srgbClr val="ffffff"/>
                </a:solidFill>
                <a:latin typeface="Arial Unicode MS"/>
              </a:rPr>
              <a:t>?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4" descr="9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6"/>
          <p:cNvSpPr/>
          <p:nvPr/>
        </p:nvSpPr>
        <p:spPr>
          <a:xfrm>
            <a:off x="-289080" y="4076640"/>
            <a:ext cx="943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Поэтическое творчество авторов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исполнителей  злободневн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оно отражает поиски и надежд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сомнения и разочарования,</a:t>
            </a:r>
            <a:r>
              <a:rPr b="1" i="1" lang="en-US" sz="32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серьёзные</a:t>
            </a:r>
            <a:r>
              <a:rPr b="1" i="1" lang="en-US" sz="3200" spc="-1" strike="noStrike">
                <a:solidFill>
                  <a:srgbClr val="0000cc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испытания и</a:t>
            </a:r>
            <a:r>
              <a:rPr b="1" i="1" lang="en-US" sz="32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Arial Narrow"/>
              </a:rPr>
              <a:t>безусловное принятие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0" y="90792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2" name="Picture 3" descr="ked1"/>
          <p:cNvPicPr/>
          <p:nvPr/>
        </p:nvPicPr>
        <p:blipFill>
          <a:blip r:embed="rId1"/>
          <a:stretch/>
        </p:blipFill>
        <p:spPr>
          <a:xfrm>
            <a:off x="-171360" y="0"/>
            <a:ext cx="9324720" cy="6996240"/>
          </a:xfrm>
          <a:prstGeom prst="rect">
            <a:avLst/>
          </a:prstGeom>
          <a:ln w="0">
            <a:noFill/>
          </a:ln>
        </p:spPr>
      </p:pic>
      <p:sp>
        <p:nvSpPr>
          <p:cNvPr id="1033" name="Rectangle 4"/>
          <p:cNvSpPr/>
          <p:nvPr/>
        </p:nvSpPr>
        <p:spPr>
          <a:xfrm>
            <a:off x="2290680" y="-17175240"/>
            <a:ext cx="45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5"/>
          <p:cNvSpPr/>
          <p:nvPr/>
        </p:nvSpPr>
        <p:spPr>
          <a:xfrm>
            <a:off x="2290680" y="-17175240"/>
            <a:ext cx="45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6"/>
          <p:cNvSpPr/>
          <p:nvPr/>
        </p:nvSpPr>
        <p:spPr>
          <a:xfrm>
            <a:off x="0" y="0"/>
            <a:ext cx="514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улат Окудж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ладимир Высоц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лександр Гал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рий Визб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лий К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лег Митя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лександр Городниц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лександр Доль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алина Хом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иктор Берко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адим и Валерий Мищ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атьяна и Сергей Никитины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да Якуш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рий Ку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вгений Кляч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ихаил Анч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орис Вахню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Прямоугольник 1"/>
          <p:cNvSpPr/>
          <p:nvPr/>
        </p:nvSpPr>
        <p:spPr>
          <a:xfrm>
            <a:off x="4446720" y="3110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ac66bb"/>
                </a:solidFill>
                <a:uFillTx/>
                <a:latin typeface="Arial"/>
              </a:rPr>
              <a:t>Почитайте их стихи,  послушайте их</a:t>
            </a:r>
            <a:r>
              <a:rPr b="1" i="1" lang="en-US" sz="2800" spc="-1" strike="noStrike" u="sng">
                <a:solidFill>
                  <a:srgbClr val="ac66bb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ac66bb"/>
                </a:solidFill>
                <a:uFillTx/>
                <a:latin typeface="Arial"/>
              </a:rPr>
              <a:t>пес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306440" y="2538360"/>
            <a:ext cx="6531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1520"/>
                <a:tab algn="l" pos="2851200"/>
                <a:tab algn="l" pos="3257640"/>
                <a:tab algn="l" pos="3664080"/>
                <a:tab algn="l" pos="4073400"/>
                <a:tab algn="l" pos="4479840"/>
                <a:tab algn="l" pos="4888080"/>
                <a:tab algn="l" pos="5294160"/>
                <a:tab algn="l" pos="5703840"/>
                <a:tab algn="l" pos="6110280"/>
                <a:tab algn="l" pos="6516720"/>
                <a:tab algn="l" pos="6924600"/>
                <a:tab algn="l" pos="7332840"/>
                <a:tab algn="l" pos="77407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e_AlArabiya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Rectangle 1" descr=""/>
          <p:cNvPicPr/>
          <p:nvPr/>
        </p:nvPicPr>
        <p:blipFill>
          <a:blip r:embed="rId1"/>
          <a:stretch/>
        </p:blipFill>
        <p:spPr>
          <a:xfrm>
            <a:off x="682560" y="652320"/>
            <a:ext cx="7809120" cy="1146240"/>
          </a:xfrm>
          <a:prstGeom prst="rect">
            <a:avLst/>
          </a:prstGeom>
          <a:ln w="0">
            <a:noFill/>
          </a:ln>
        </p:spPr>
      </p:pic>
      <p:pic>
        <p:nvPicPr>
          <p:cNvPr id="949" name="Rectangle 3" descr=""/>
          <p:cNvPicPr/>
          <p:nvPr/>
        </p:nvPicPr>
        <p:blipFill>
          <a:blip r:embed="rId2"/>
          <a:stretch/>
        </p:blipFill>
        <p:spPr>
          <a:xfrm>
            <a:off x="1006560" y="1908000"/>
            <a:ext cx="78087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Rectangle 1" descr=""/>
          <p:cNvPicPr/>
          <p:nvPr/>
        </p:nvPicPr>
        <p:blipFill>
          <a:blip r:embed="rId1"/>
          <a:stretch/>
        </p:blipFill>
        <p:spPr>
          <a:xfrm>
            <a:off x="669960" y="360360"/>
            <a:ext cx="7808760" cy="114444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1139760" y="1883880"/>
            <a:ext cx="7809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1520"/>
                <a:tab algn="l" pos="2851200"/>
                <a:tab algn="l" pos="3257640"/>
                <a:tab algn="l" pos="3664080"/>
                <a:tab algn="l" pos="4073400"/>
                <a:tab algn="l" pos="4479840"/>
                <a:tab algn="l" pos="4888080"/>
                <a:tab algn="l" pos="5294160"/>
                <a:tab algn="l" pos="5703840"/>
                <a:tab algn="l" pos="6110280"/>
                <a:tab algn="l" pos="6516720"/>
                <a:tab algn="l" pos="6924600"/>
                <a:tab algn="l" pos="7332840"/>
                <a:tab algn="l" pos="77407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9e98e"/>
                </a:solidFill>
                <a:uFillTx/>
                <a:latin typeface="Arial"/>
              </a:rPr>
              <a:t>Авторская песня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 –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самобытное, неординарное,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музыкальное явление,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которое не укладывается ни в одно определение. Свое начало этот жанр берет  в музыкальной культуре Древней Руси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–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древние слагатели былин,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певцы-дружинники.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Б.Окуджава говорил,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что это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–</a:t>
            </a:r>
            <a:r>
              <a:rPr b="0" lang="ru-RU" sz="3200" spc="-1" strike="noStrike">
                <a:solidFill>
                  <a:srgbClr val="f9e98e"/>
                </a:solidFill>
                <a:latin typeface="ae_AlArabiya"/>
              </a:rPr>
              <a:t> </a:t>
            </a:r>
            <a:r>
              <a:rPr b="0" lang="en-GB" sz="3200" spc="-1" strike="noStrike">
                <a:solidFill>
                  <a:srgbClr val="f9e98e"/>
                </a:solidFill>
                <a:latin typeface="ae_AlArabiya"/>
              </a:rPr>
              <a:t>”поэзия под гитару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4"/>
          <p:cNvSpPr/>
          <p:nvPr/>
        </p:nvSpPr>
        <p:spPr>
          <a:xfrm>
            <a:off x="745560" y="90792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Picture 7" descr="6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954" name="Text Box 8"/>
          <p:cNvSpPr/>
          <p:nvPr/>
        </p:nvSpPr>
        <p:spPr>
          <a:xfrm>
            <a:off x="0" y="981000"/>
            <a:ext cx="464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9"/>
          <p:cNvSpPr/>
          <p:nvPr/>
        </p:nvSpPr>
        <p:spPr>
          <a:xfrm flipH="1" flipV="1">
            <a:off x="252000" y="-10440"/>
            <a:ext cx="460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вообще не песня – это стихи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оторые исполняются  под гитару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занимаюсь авторской песней – сам пишу тексты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мелодии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ам исполняю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е главное в авторской песне текст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оэзия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Для меня это возможность беседовать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азговаривать с людьми на темы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оторые меня волнуют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беспокоят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оц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арды (истоки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ородской роман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нт (бытовая песня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рестьянские пес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ворчество декабрист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волюционные молодёжные песни 20-х год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есни беспризорник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уденческий фолькло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2" descr="Высоцкий1"/>
          <p:cNvPicPr/>
          <p:nvPr/>
        </p:nvPicPr>
        <p:blipFill>
          <a:blip r:embed="rId1"/>
          <a:stretch/>
        </p:blipFill>
        <p:spPr>
          <a:xfrm>
            <a:off x="6400800" y="3200400"/>
            <a:ext cx="2525760" cy="289548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Franklin Gothic Book"/>
              </a:rPr>
              <a:t>Бардовская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Franklin Gothic Book"/>
              </a:rPr>
              <a:t>(авторская) песня 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52280" y="164124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лат Окудж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ександр Гал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адимир Высоц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1" name="Picture 4" descr="Окуджава"/>
          <p:cNvPicPr/>
          <p:nvPr/>
        </p:nvPicPr>
        <p:blipFill>
          <a:blip r:embed="rId2"/>
          <a:stretch/>
        </p:blipFill>
        <p:spPr>
          <a:xfrm>
            <a:off x="838080" y="3200400"/>
            <a:ext cx="2905200" cy="2971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6" descr="1"/>
          <p:cNvPicPr/>
          <p:nvPr/>
        </p:nvPicPr>
        <p:blipFill>
          <a:blip r:embed="rId3"/>
          <a:stretch/>
        </p:blipFill>
        <p:spPr>
          <a:xfrm>
            <a:off x="3962520" y="3200400"/>
            <a:ext cx="2271600" cy="2895480"/>
          </a:xfrm>
          <a:prstGeom prst="rect">
            <a:avLst/>
          </a:prstGeom>
          <a:ln w="0">
            <a:noFill/>
          </a:ln>
        </p:spPr>
      </p:pic>
      <p:sp>
        <p:nvSpPr>
          <p:cNvPr id="963" name="Прямоугольник 1"/>
          <p:cNvSpPr/>
          <p:nvPr/>
        </p:nvSpPr>
        <p:spPr>
          <a:xfrm>
            <a:off x="3490920" y="1579680"/>
            <a:ext cx="581976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1520"/>
                <a:tab algn="l" pos="2851200"/>
                <a:tab algn="l" pos="3257640"/>
                <a:tab algn="l" pos="3664080"/>
                <a:tab algn="l" pos="4073400"/>
                <a:tab algn="l" pos="4479840"/>
                <a:tab algn="l" pos="4888080"/>
                <a:tab algn="l" pos="5294160"/>
                <a:tab algn="l" pos="5703840"/>
                <a:tab algn="l" pos="6110280"/>
                <a:tab algn="l" pos="6516720"/>
                <a:tab algn="l" pos="6924600"/>
                <a:tab algn="l" pos="7332840"/>
                <a:tab algn="l" pos="77407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116e0"/>
                </a:solidFill>
                <a:latin typeface="ae_AlArabiya"/>
              </a:rPr>
              <a:t>Творчество трех бардов –</a:t>
            </a:r>
            <a:r>
              <a:rPr b="0" lang="ru-RU" sz="2400" spc="-1" strike="noStrike">
                <a:solidFill>
                  <a:srgbClr val="a116e0"/>
                </a:solidFill>
                <a:latin typeface="ae_AlArabiya"/>
              </a:rPr>
              <a:t> </a:t>
            </a:r>
            <a:r>
              <a:rPr b="0" lang="en-GB" sz="2400" spc="-1" strike="noStrike">
                <a:solidFill>
                  <a:srgbClr val="a116e0"/>
                </a:solidFill>
                <a:latin typeface="ae_AlArabiya"/>
              </a:rPr>
              <a:t>А.Галича,</a:t>
            </a:r>
            <a:r>
              <a:rPr b="0" lang="ru-RU" sz="2400" spc="-1" strike="noStrike">
                <a:solidFill>
                  <a:srgbClr val="a116e0"/>
                </a:solidFill>
                <a:latin typeface="ae_AlArabiya"/>
              </a:rPr>
              <a:t> </a:t>
            </a:r>
            <a:r>
              <a:rPr b="0" lang="en-GB" sz="2400" spc="-1" strike="noStrike">
                <a:solidFill>
                  <a:srgbClr val="a116e0"/>
                </a:solidFill>
                <a:latin typeface="ae_AlArabiya"/>
              </a:rPr>
              <a:t>Б.Окуджавы и В.Высоцкого</a:t>
            </a:r>
            <a:r>
              <a:rPr b="0" lang="ru-RU" sz="2400" spc="-1" strike="noStrike">
                <a:solidFill>
                  <a:srgbClr val="a116e0"/>
                </a:solidFill>
                <a:latin typeface="ae_AlArabiya"/>
              </a:rPr>
              <a:t> </a:t>
            </a:r>
            <a:r>
              <a:rPr b="0" lang="en-GB" sz="2400" spc="-1" strike="noStrike">
                <a:solidFill>
                  <a:srgbClr val="a116e0"/>
                </a:solidFill>
                <a:latin typeface="ae_AlArabiya"/>
              </a:rPr>
              <a:t>–</a:t>
            </a:r>
            <a:r>
              <a:rPr b="0" lang="ru-RU" sz="2400" spc="-1" strike="noStrike">
                <a:solidFill>
                  <a:srgbClr val="a116e0"/>
                </a:solidFill>
                <a:latin typeface="ae_AlArabiya"/>
              </a:rPr>
              <a:t> к</a:t>
            </a:r>
            <a:r>
              <a:rPr b="0" lang="en-GB" sz="2400" spc="-1" strike="noStrike">
                <a:solidFill>
                  <a:srgbClr val="a116e0"/>
                </a:solidFill>
                <a:latin typeface="ae_AlArabiya"/>
              </a:rPr>
              <a:t>лассический образец этого жан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Franklin Gothic Book"/>
              </a:rPr>
              <a:t>Бардовска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Franklin Gothic Book"/>
              </a:rPr>
              <a:t>(авторская) песня 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рий Визб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одниц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6" descr="Городницкий"/>
          <p:cNvPicPr/>
          <p:nvPr/>
        </p:nvPicPr>
        <p:blipFill>
          <a:blip r:embed="rId1"/>
          <a:stretch/>
        </p:blipFill>
        <p:spPr>
          <a:xfrm>
            <a:off x="5334120" y="2209680"/>
            <a:ext cx="2674800" cy="41911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8" descr="Visbor3"/>
          <p:cNvPicPr/>
          <p:nvPr/>
        </p:nvPicPr>
        <p:blipFill>
          <a:blip r:embed="rId2"/>
          <a:stretch/>
        </p:blipFill>
        <p:spPr>
          <a:xfrm>
            <a:off x="990720" y="2209680"/>
            <a:ext cx="2849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Franklin Gothic Book"/>
              </a:rPr>
              <a:t>Бардовска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Franklin Gothic Book"/>
              </a:rPr>
              <a:t>(авторская) песня 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ь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ег Митя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2" name="Picture 5" descr="Дольский"/>
          <p:cNvPicPr/>
          <p:nvPr/>
        </p:nvPicPr>
        <p:blipFill>
          <a:blip r:embed="rId1"/>
          <a:stretch/>
        </p:blipFill>
        <p:spPr>
          <a:xfrm>
            <a:off x="990720" y="1828800"/>
            <a:ext cx="2946240" cy="3733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Митяев"/>
          <p:cNvPicPr/>
          <p:nvPr/>
        </p:nvPicPr>
        <p:blipFill>
          <a:blip r:embed="rId2"/>
          <a:stretch/>
        </p:blipFill>
        <p:spPr>
          <a:xfrm>
            <a:off x="4800600" y="2209680"/>
            <a:ext cx="38862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ulia</dc:creator>
  <dc:description/>
  <dc:language>en-US</dc:language>
  <cp:lastModifiedBy>Yulia</cp:lastModifiedBy>
  <dcterms:modified xsi:type="dcterms:W3CDTF">2021-04-09T16:47:40Z</dcterms:modified>
  <cp:revision>8</cp:revision>
  <dc:subject/>
  <dc:title>Бардовская (авторская) пес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2f0000000000010290310207f7000400038000</vt:lpwstr>
  </property>
</Properties>
</file>