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.jpeg" ContentType="image/jpeg"/>
  <Override PartName="/ppt/media/image4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8.jpeg" ContentType="image/jpeg"/>
  <Override PartName="/ppt/media/image23.wmf" ContentType="image/x-wmf"/>
  <Override PartName="/ppt/media/image11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6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6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6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4637-354E-4EF2-AF5C-608182A9EE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B41-EBD7-4C20-8753-1A57FA4906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1"/>
          <p:cNvSpPr/>
          <p:nvPr/>
        </p:nvSpPr>
        <p:spPr>
          <a:xfrm>
            <a:off x="1401840" y="914400"/>
            <a:ext cx="40543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D2C-B98D-443B-BA56-CD6E29D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0C6-084A-41E9-87EA-68C84B2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604CF-7D59-4BD9-B0E7-544AA64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55736-1E81-4268-9774-FF962E8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31DDD-D4D8-4594-BE01-7E9724C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51B27-A1FA-46A8-BDED-AB6B4CB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324CC-3407-4BA7-9F2E-1FEAF42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0BBD6-FB32-4A18-9A95-BB43EFD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DDE26-56EF-427F-9E4F-A153185C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85228-E11E-4F8F-BC60-0563E8A5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B1212-22C0-4213-8277-9A44898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961D-DFA3-4D13-9663-FADAB499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F55-D8EE-46C4-A606-49AA282F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48A17-30D8-4E4E-A6C4-24FD6CB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08905-E12E-46AD-A8E9-C0A83260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2F90A-F4F2-4AE4-BE4F-8682FD5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972D-4AE2-4D1B-A83C-DC0FC096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B6E1F-8E5A-4C4A-A88A-592EE52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64777-AA61-407D-A0C0-1EBD939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82E47-4913-4B66-9105-EC421AF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3D82A-C250-458E-AE12-82578A7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F3F0-1A32-4B77-91A1-9924792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6200D-7675-4187-B7A1-DA59BFE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5D1-501A-4079-82D0-4D5485FD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9765B-EEC4-451A-9240-D2D5BC2C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F762-9B2B-4EA0-BB4E-A0913342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EA1A-DC38-4900-8B2F-875D5BD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87C98-75A2-4B75-A864-24E3507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55225-C13C-49B3-B34D-102448C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64069-B1C0-4B70-A2DE-7D1A0D0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36851-DBEC-44DA-9A25-DADEBCA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3119-5F85-4D09-B03B-34404EEC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628F-D358-4B20-B58F-CE48932F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5875C-E1DD-448B-95C1-C68A334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6A4-A626-4600-A4FC-8B769A25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0A3C-A30F-44D8-A6DB-F9C83022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B80B-2F51-4F4D-B8CA-399FC887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33854-9E0E-4B9D-9B29-259360AB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007C-CA10-4E67-91A4-D7BBF421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5A2BE-0176-4138-8B09-B619C84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55C06-62BD-4739-BE71-F8B732D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07CA4-79BE-436C-A7EF-98302E46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EF425-4DDA-4752-BD4D-2FFD2D3F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27CC-CE4A-4C31-B5FF-FE5E98F3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30471-F89C-48C0-A716-91FD81C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3A04-9DB8-4CD0-A855-FAE1CE25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FB82D-5E6D-4C28-A45F-6060513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9A9C2-464E-4297-A987-BA33472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17D25-3018-4490-95F6-89EBA2D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AB63D-DC1E-49EC-A353-67350E2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F80E-BF0C-498D-AC4F-8184C177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99269-89D2-4EEC-8AB1-3D406740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8B666-8911-4DA7-BA78-8382C0D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32DA6-C757-4D54-B61A-49E96B9A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9B3BC-23A0-4226-BF79-48C2B7DC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CD43F-6D77-4C28-AD05-B4461F03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C955-337A-46F7-A3B2-50C72783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8AA41-C07A-4E13-92B8-2CAD7166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198C4-C41B-4D5F-8FBA-CA4D73A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AD98E-C696-4520-8DFA-0C8A360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9BC88-EAAD-419C-8603-D6096AE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FC3B1-C812-4855-B48B-340202A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CDB0B-E6AC-49EA-ADDB-90B88A3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CCFB2-4F6D-409A-8AA0-903823B5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62FC5-0362-4296-BA66-4C5FBC18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C510F-FD49-4FF2-B2D0-423CAEB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FEF9B-8FBC-42B4-8813-5B2F7C29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E4A6-C37A-47D6-90C7-6F83FF28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E0F67-ABBD-453F-A1CC-E61E05A3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D8798-FA54-4E31-AC49-FE74AAB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2CFE8-CD98-45DA-B341-CAF6370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439A5-B62B-47C7-9653-73967B8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AB988-A2DD-4E84-8362-6DC91A5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0DF0D-F867-48E8-A8CE-00A9972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A2548-1700-4586-8716-E44587AC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3FB52-CF8D-4802-B549-BABE8AFB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BC84D-B70A-4882-8032-32C0EE2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450FC-C954-485D-B787-A1E41592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C57-3BE0-4AFD-AFDE-F2A4A2C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BF45F-1FC0-4468-84E6-CE7D188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88304-354F-401B-A5D1-7FFC76DE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80EFF-660B-474F-8BD6-E49345F6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D0290-5C28-43B1-B4FA-BA8424E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7052E-7798-4191-B37B-7E7C4655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B9E12-B578-4E13-AEC6-4BD4987C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443CA-421D-49A9-8C6F-67B024A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95FCB-81CB-4A0F-9990-6FE646B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77D51-6BA1-41F4-A40B-7A437242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3E94F-D548-4291-AB57-7902F0AE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4BE3-733F-4F32-9BD2-AF50D7E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2ADA4-F857-48D5-9F8B-E74473CA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9F8A1-B266-456B-B7F3-FABD05DC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34BE7-16D9-4CDE-B6F6-0F26AF2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5B70F-EB93-4E20-95BA-CB51487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08977-F809-49DC-A7EE-0FD7B09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2CC78-9A85-4AF3-8F3D-0F9B748D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95C69-DAD7-4931-9CF4-D7EC6F9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C96BC-C6BB-4C28-92CA-B6CF356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7A525-35B1-478F-B113-AE354FA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552BF-89A3-4EBC-BC1D-6BFDC20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35B-D7C9-47BB-A491-7FEDCFA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C12A2-3421-4BD5-A17E-8E24CFDA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C5FDB-32FA-4880-8D7B-3338345A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6676D-1A00-48EE-859C-5EF8D422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DC3E1-6C3F-43E0-B9F9-D85BA0B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F9E8C-CC6B-4774-955D-F1D330C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8D732-3E91-4ADD-B39B-745DB6D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CAF6E-19A1-4C65-8359-91953727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DF7C5-F629-435F-A453-F422A73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06796-6488-4433-BBDA-E766594D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B83E6-81D6-4192-BC82-4FF7FBE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BBF-8992-4540-8A8B-B3EBC78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09B-C951-4D28-BD78-892A1B1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2689C-FF57-4995-9D3E-E2B6466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97DF0-327B-4471-8D80-1CF24F5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B6B37-EFAE-4FA9-B64B-A6DDF58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884F6-6A4D-4DDC-ADB1-C87014DC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D0742-974F-4E3E-B4AB-B5D7F0FB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61627-B2EC-4DE3-BA08-7E4647BB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5E3D9-B386-4520-AEB7-C659B0A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B3D0E-76B8-4428-9D45-94F4792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7BB17-47AA-4857-95E7-F455610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8E603-69A8-4EDD-AA1A-E1935E44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5FAA-3984-428D-BB96-C4CAB0A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5AD2E-D26D-46A3-BED2-4EF5740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105CF-9198-48B3-81AF-4D27A66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A9B7E-B1A5-49B8-9370-1D92424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CBBFA-9AC7-4F03-ACF4-5BD70CC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18700-093E-4ABD-A638-EEB3FE3C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4DAF8-60D1-4BBF-9DF5-F493BFA8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94556-60A0-42EE-BFD7-97F65B49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2132B-2086-4BD1-BB5F-1F588DC4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DF5C6-4AB0-4505-9D80-2E3F2B4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B983D-3CB1-426D-9D83-4B2836D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034-0CF7-46B8-B2A7-AA5AD56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C33E9-30DD-401B-A6D7-5B7F12A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2C0FA-29C7-42D4-B66E-545FAF43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F7835-12FB-46EB-883D-DA103E30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DDD66-274B-4C28-9C46-483EBC3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1C7CA-4191-4EDC-84C0-68DBCE3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F76EB-2538-458B-9077-1FC10CA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F6192-5F45-41A1-86E6-778EF68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D386F-C1B8-4CBE-A80D-35E100BD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17BB2-D54F-4756-88C9-AAECDE39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7FFBDA-9A71-445E-AA2C-2EF95E85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D554-700B-4833-8198-A5BA0393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DA7886-666B-4E2B-935D-B30D62D9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C5CCB3-993C-45F2-8D85-05616570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7FD558-848B-443B-A4B2-71E5467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D1A7A8-9648-41BC-9FD9-62BC9DC4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527B2C-EF40-4AD5-8883-96A4CCA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108F91-A99F-4965-914F-0888E5E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85BC2E-7172-4DA0-B2F7-50C7F1C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B86B1A-0CD0-429C-BFEF-6E5A3A6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5A29C3-5186-4221-96BE-1FA302E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A54DAE-8A2A-4E53-9A6A-B6A14A80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688D-A789-4015-B7D4-2288EA25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F0DB4F-4165-476D-A9B9-5404538E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6DF91-B391-483C-BEA8-FBAF4BA8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D5F95-A2D6-4706-90C8-15F3439B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BD194-EC1E-4519-967B-1A27701A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DC5CA-0427-44F5-9DC6-A1CB9D6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0935E-2CFE-4601-A50F-30F2DD6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1CBF3-895D-4095-AA1C-F688AFF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1742C-9ABD-44F8-84B7-4ACBA23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A7BC9-6ACA-41D1-978F-E771FDD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F62D3-E771-4C4B-8E20-FCAF02C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715F-B528-4155-8CB0-F85800A4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56C6A-116A-4A65-A76E-A9FF100C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E02A9-19FA-4039-86A5-71B05AA9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36413-4029-4EFA-947B-3CE22E69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2B0599-737E-478E-A752-C06C5680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AA31A0-B99B-4B24-8AE9-D5C089E9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2B70D2C-E27A-4B93-AAB1-27768F6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67F737-D9E1-4B1B-BB30-29F7D1B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B11CE1-B0DA-40FC-95FE-4D7160C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B902AF-440F-4E5F-9442-88F38FF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19D891-DAE4-488E-8FAC-A7725AB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6623-C164-4B12-A862-8000FF6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61A278-5379-4A3C-8E23-AC2A91D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A89472-0130-48D7-ABC1-55EB6CC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E9D99A-4F2D-43C1-8220-94EC786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7E4379-9E7B-4914-8190-4200FD37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482B61-9192-43C4-AA2B-378FBDD6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89F6-C78D-4E64-B6B4-F88530A3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5B7D-F57B-4C74-81E4-6F3248C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156E-0164-4362-B801-BEDF3E5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86-6D75-4B8E-857E-BBBFB151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22C5-9752-47FC-8058-C47E287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8814-41E6-44B4-BD6A-73DA2B4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E514-0210-4543-885E-2F64747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AE4D-92CC-43E5-B54B-8506F7D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0E0D-4209-4BAA-A7EE-C2F2DBC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9C64-78A3-415B-85E1-062E80DD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354E-863E-462C-9280-98BD78E6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0151-1172-4E33-84FD-5B82EFD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9BEC-23EA-4E48-8C13-218D5AB8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A1CE-29EE-42DD-A44D-D89C0B2A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222-131F-452A-A98C-EDE9E62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25A9-0B3D-4647-9F3F-79031A4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9CC2-BCF0-4265-8EE1-7BAAA009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E64E-B6A3-4B55-A1A0-168400E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C4ED-9E29-44AF-B6AE-65F3D04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D1B7-4832-4A09-B779-BEB60EF0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E990-63F4-407F-B94F-F231C19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D643-87E1-4046-8AFB-D24C42BF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0FFE-75F0-4ACC-A088-52ECCB83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BC11-4880-4B7D-AE69-0D7736A6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132A-43FA-4B4C-9945-406AC0FE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D10-47AB-43A4-83DE-0C627B1D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DCF3-A1BE-4C02-8875-4C563C6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4DF5-45AB-4025-848B-1CE336E5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C0DE-99DA-4C8E-AE60-5B038C8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5158-9603-4BA8-B05F-11435D0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90E7-2C0B-49B7-B399-D0DE7272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6868-21B7-406F-A926-E266DF8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8ABB-15B5-4E46-9447-C11F718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450E-B97F-4DB7-BBB3-A294890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AF1B-DD01-45EA-A4DB-E51545E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BF18-58E0-4B8E-ACF3-F332079F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064-07CF-4F6E-B37C-5F0B6AB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5FE2-BA4C-4DDE-B1F9-08C1EB68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F1B9-E9B9-42AC-9FBC-75F411DB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AB81F-FDB0-4878-B8F2-B50E14C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A686-60A5-4EC4-B51C-ADC321C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B595-F417-4247-967F-95A599B9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03CF-D9DD-45FB-8734-EEB9636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B061-3476-497B-8126-7BF1671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9BCB-82FA-465B-8D65-924F485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7808A-84A0-4408-AEDF-595A285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836E-CA1B-4B86-8D49-55D369F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12B-0E0C-4F4E-B05E-6540801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13E7-0196-4E41-9268-D6CFD05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C37A-5DE8-4D37-A308-8F0BC0A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DDD2-863E-4692-91E6-AD403C27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BC7E-37C4-4605-96B3-3D57725B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C1E9-2CC7-4A20-A5A3-F73F460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0E26-2483-408E-AF99-E7964E2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8F73A-4A69-457F-90B0-3E97206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BDE33-2C9B-4537-9F78-3940EB4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355E-62C6-40C7-A3F7-21F903FD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BA452-005D-4787-A6AE-2869DEB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75E-F552-4B71-A300-58CD9F2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A6C1-BBCF-4D39-9B3E-18BC8AC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A771-B687-4669-B0FE-6D14BEC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02DD-B2F9-4B49-B193-C29AC51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62665-7EA5-48FF-8F82-5F277BFB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B167-0889-48D2-8AC9-102BCE99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8F14-2D0E-4FB7-BA6F-52FDBF5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3CBD-9A62-48F0-B425-76772FD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6FA9E-C5F0-4F01-8316-E4BBAA1F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4125-5B84-47D1-AA0B-E34ACF4C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E90E-D550-4138-8570-9FE7DE1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476-E9A8-4A5F-B57A-C7A295C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34BE-CC91-44AF-B54F-224ED804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3820-CA96-4220-9B87-89F9DFD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664A4-5AF4-4E33-8088-9D6AAF6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63E2-5EA0-410C-9EF6-F7878AE9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3C15-6164-45B5-8856-66A746F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A2407-5747-419F-948C-FFFFC07A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E37CA-32E8-4C8F-ACCA-EED4421A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D8877-52A9-49E2-BD65-145971C9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3A2C-09A8-43EF-A000-A2C1A39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99341-DF8F-4AA2-8449-8C73CF24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58CD-C522-4A93-9097-CA4A57900A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D66-531C-4EC4-AB2F-3F71C370530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9610-98AE-4943-A2BA-F396AB9BC65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5626-3F24-43CB-8654-063210A28A2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FE57-7257-4E7E-B0C1-8690792800A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FF7-064E-4626-924B-3D51AAF0E59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71C-FD4F-45B6-904D-41F8147EB46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29C-67DB-4014-AF01-3D0D44ADF7C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1FB5-2889-4B65-8895-020ADBE0E16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49F-A5C5-48DA-9C09-C441707C38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CCAC-0BE4-4DD5-B022-C244EB52F9C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CB1D-3354-4040-97C3-A623B770856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5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0F6-908B-414E-8BED-2702B19660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6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6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6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3B4-3687-45A0-92E2-2EF107A29FC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sldNum" idx="6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28EA-3CA3-472F-A6CE-685481C518A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6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dt" idx="6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8C7-0D5A-40B2-B82E-CECE4EAB06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58C-C4D0-44B9-90C4-3CAA8ED83D2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7FD-31E8-49E4-9161-B54D7BA8A6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8B1-EE69-4779-B5C1-8807AF1722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D88-0C41-4B18-83A6-8A4DA4C31B8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4DC-6035-4356-AF98-179C0D8C85F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60E-D360-4D72-AD02-A7B94D57DCC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Rectang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8" descr="EN00301_"/>
          <p:cNvPicPr/>
          <p:nvPr/>
        </p:nvPicPr>
        <p:blipFill>
          <a:blip r:embed="rId2"/>
          <a:stretch/>
        </p:blipFill>
        <p:spPr>
          <a:xfrm>
            <a:off x="1523880" y="2209680"/>
            <a:ext cx="6782040" cy="3391200"/>
          </a:xfrm>
          <a:prstGeom prst="rect">
            <a:avLst/>
          </a:prstGeom>
          <a:ln w="0">
            <a:noFill/>
          </a:ln>
        </p:spPr>
      </p:pic>
      <p:sp>
        <p:nvSpPr>
          <p:cNvPr id="943" name="TextBox 1"/>
          <p:cNvSpPr/>
          <p:nvPr/>
        </p:nvSpPr>
        <p:spPr>
          <a:xfrm>
            <a:off x="6588000" y="64864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делал Черлин Дени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1"/>
          <p:cNvSpPr/>
          <p:nvPr/>
        </p:nvSpPr>
        <p:spPr>
          <a:xfrm>
            <a:off x="816120" y="469800"/>
            <a:ext cx="767376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72840" y="488520"/>
            <a:ext cx="780732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А.Галич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был очень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талантлив: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актер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евец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розаик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драматург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киносценарист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Он стал неугоден власти из-за  своих остросатирических песен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Вынужден был эмигрировать в Париж.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Б.Окуджав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родолжил традиции  19 век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–дух декабристов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когда честь и достоинство были превыше всего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 2" charset="2"/>
              <a:buChar char="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В.Высоцкий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и после смерти продолжает своим творчеством оказывать влияние на развитие авторской песни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Его по праву называют “сердцем” авторской песн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7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 2" charset="2"/>
              <a:buChar char="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4920" y="6165720"/>
            <a:ext cx="50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 rot="10800000">
            <a:off x="0" y="5659920"/>
            <a:ext cx="8524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8" name="Picture 4" descr="Окуджава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WordArt 7"/>
          <p:cNvSpPr txBox="1"/>
          <p:nvPr/>
        </p:nvSpPr>
        <p:spPr>
          <a:xfrm rot="309600">
            <a:off x="852120" y="283680"/>
            <a:ext cx="194004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28000"/>
                </a:gradFill>
                <a:latin typeface="Impact"/>
              </a:rPr>
              <a:t>Була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28000"/>
              </a:gradFill>
              <a:latin typeface="Impact"/>
              <a:ea typeface="Impact"/>
            </a:endParaRPr>
          </a:p>
        </p:txBody>
      </p:sp>
      <p:sp>
        <p:nvSpPr>
          <p:cNvPr id="980" name="WordArt 8"/>
          <p:cNvSpPr txBox="1"/>
          <p:nvPr/>
        </p:nvSpPr>
        <p:spPr>
          <a:xfrm rot="21465000">
            <a:off x="324000" y="12016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658000"/>
                </a:gradFill>
                <a:latin typeface="Impact"/>
              </a:rPr>
              <a:t>Шалв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658000"/>
              </a:gradFill>
              <a:latin typeface="Impact"/>
              <a:ea typeface="Impact"/>
            </a:endParaRPr>
          </a:p>
        </p:txBody>
      </p:sp>
      <p:sp>
        <p:nvSpPr>
          <p:cNvPr id="981" name="WordArt 9"/>
          <p:cNvSpPr txBox="1"/>
          <p:nvPr/>
        </p:nvSpPr>
        <p:spPr>
          <a:xfrm>
            <a:off x="0" y="2276640"/>
            <a:ext cx="3492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кудж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468360" y="40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1924 – 1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887480" y="56847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WordArt 15"/>
          <p:cNvSpPr txBox="1"/>
          <p:nvPr/>
        </p:nvSpPr>
        <p:spPr>
          <a:xfrm>
            <a:off x="395280" y="4869000"/>
            <a:ext cx="51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прозаик, автор-исполнитель песе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уреат Государственной преми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4"/>
          <p:cNvSpPr/>
          <p:nvPr/>
        </p:nvSpPr>
        <p:spPr>
          <a:xfrm>
            <a:off x="1258920" y="9558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900000" y="1052640"/>
            <a:ext cx="1044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7" descr="bscap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8"/>
          <p:cNvSpPr/>
          <p:nvPr/>
        </p:nvSpPr>
        <p:spPr>
          <a:xfrm>
            <a:off x="2290680" y="-689616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9"/>
          <p:cNvSpPr/>
          <p:nvPr/>
        </p:nvSpPr>
        <p:spPr>
          <a:xfrm>
            <a:off x="826920" y="1268280"/>
            <a:ext cx="74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вест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благородство и достоинство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т оно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святое наше воинство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тяни ему свою ладон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 него не страшно и в огон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ик его высок и удивителен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вяти ему свой краткий век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жет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и не станешь победителем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о зато умрёшь как человек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WordArt 7"/>
          <p:cNvSpPr txBox="1"/>
          <p:nvPr/>
        </p:nvSpPr>
        <p:spPr>
          <a:xfrm rot="225600">
            <a:off x="178920" y="404640"/>
            <a:ext cx="43531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32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32000"/>
              </a:gradFill>
              <a:latin typeface="Impact"/>
              <a:ea typeface="Impact"/>
            </a:endParaRPr>
          </a:p>
        </p:txBody>
      </p:sp>
      <p:sp>
        <p:nvSpPr>
          <p:cNvPr id="993" name="WordArt 8"/>
          <p:cNvSpPr txBox="1"/>
          <p:nvPr/>
        </p:nvSpPr>
        <p:spPr>
          <a:xfrm rot="423000">
            <a:off x="-252000" y="764640"/>
            <a:ext cx="4856040" cy="19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Семён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00000"/>
              </a:gradFill>
              <a:latin typeface="Impact"/>
              <a:ea typeface="Impact"/>
            </a:endParaRPr>
          </a:p>
        </p:txBody>
      </p:sp>
      <p:sp>
        <p:nvSpPr>
          <p:cNvPr id="994" name="WordArt 9"/>
          <p:cNvSpPr txBox="1"/>
          <p:nvPr/>
        </p:nvSpPr>
        <p:spPr>
          <a:xfrm rot="393600">
            <a:off x="-11160" y="2322360"/>
            <a:ext cx="435600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84000"/>
                </a:gradFill>
                <a:latin typeface="Impact"/>
              </a:rPr>
              <a:t>Выс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84000"/>
              </a:gradFill>
              <a:latin typeface="Impact"/>
              <a:ea typeface="Impact"/>
            </a:endParaRPr>
          </a:p>
        </p:txBody>
      </p:sp>
      <p:pic>
        <p:nvPicPr>
          <p:cNvPr id="995" name="Picture 11" descr="Высоцкий 2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13"/>
          <p:cNvSpPr/>
          <p:nvPr/>
        </p:nvSpPr>
        <p:spPr>
          <a:xfrm>
            <a:off x="1042920" y="414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1938 –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WordArt 14"/>
          <p:cNvSpPr txBox="1"/>
          <p:nvPr/>
        </p:nvSpPr>
        <p:spPr>
          <a:xfrm>
            <a:off x="395280" y="4797360"/>
            <a:ext cx="51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актер театра и кино, автор-исполнитель песе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уреат Государственной премии (посмертно)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9" name="Picture 4" descr="62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6"/>
          <p:cNvSpPr/>
          <p:nvPr/>
        </p:nvSpPr>
        <p:spPr>
          <a:xfrm rot="6699600">
            <a:off x="4401720" y="-1771560"/>
            <a:ext cx="1006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8"/>
          <p:cNvSpPr/>
          <p:nvPr/>
        </p:nvSpPr>
        <p:spPr>
          <a:xfrm>
            <a:off x="1258920" y="836640"/>
            <a:ext cx="806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Если руки слож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блюдал свыс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в борьбу не вступи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подлецом, с палачом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начит в жизни ты бы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и при чём. Ни при чё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4"/>
          <p:cNvSpPr/>
          <p:nvPr/>
        </p:nvSpPr>
        <p:spPr>
          <a:xfrm>
            <a:off x="2392200" y="12924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250920" y="333360"/>
            <a:ext cx="399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Picture 6" descr="Визбор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8"/>
          <p:cNvSpPr/>
          <p:nvPr/>
        </p:nvSpPr>
        <p:spPr>
          <a:xfrm>
            <a:off x="250920" y="1197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WordArt 11"/>
          <p:cNvSpPr txBox="1"/>
          <p:nvPr/>
        </p:nvSpPr>
        <p:spPr>
          <a:xfrm>
            <a:off x="0" y="-243000"/>
            <a:ext cx="4500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Юр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осиф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зб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7" name="Text Box 12"/>
          <p:cNvSpPr/>
          <p:nvPr/>
        </p:nvSpPr>
        <p:spPr>
          <a:xfrm>
            <a:off x="1866240" y="328464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934 -19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384200" y="56833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WordArt 16"/>
          <p:cNvSpPr txBox="1"/>
          <p:nvPr/>
        </p:nvSpPr>
        <p:spPr>
          <a:xfrm>
            <a:off x="0" y="3789360"/>
            <a:ext cx="450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писатель, журналист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ноактёр, автор и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нитель песен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4"/>
          <p:cNvSpPr/>
          <p:nvPr/>
        </p:nvSpPr>
        <p:spPr>
          <a:xfrm>
            <a:off x="0" y="1413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7" descr="MAYFLOWE"/>
          <p:cNvPicPr/>
          <p:nvPr/>
        </p:nvPicPr>
        <p:blipFill>
          <a:blip r:embed="rId1"/>
          <a:stretch/>
        </p:blipFill>
        <p:spPr>
          <a:xfrm>
            <a:off x="0" y="260280"/>
            <a:ext cx="4067280" cy="65977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3635280" y="0"/>
            <a:ext cx="550872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Памяти ушедш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Как хочется прожить ещё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100  лет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Ну пусть не 100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хотя бы половину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вдоволь наваляться на траве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бить и быть немножечк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бимым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знать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что среди шум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площад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тысяч улиц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залитых огнями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Есть Родина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есть неск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дей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Которых называем мы друзьями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3" name="Picture 11" descr="rusflaga"/>
          <p:cNvPicPr/>
          <p:nvPr/>
        </p:nvPicPr>
        <p:blipFill>
          <a:blip r:embed="rId2"/>
          <a:stretch/>
        </p:blipFill>
        <p:spPr>
          <a:xfrm>
            <a:off x="1835280" y="333360"/>
            <a:ext cx="720720" cy="520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6" descr="Митяев"/>
          <p:cNvPicPr/>
          <p:nvPr/>
        </p:nvPicPr>
        <p:blipFill>
          <a:blip r:embed="rId1"/>
          <a:stretch/>
        </p:blipFill>
        <p:spPr>
          <a:xfrm>
            <a:off x="1116000" y="260280"/>
            <a:ext cx="8028000" cy="5545080"/>
          </a:xfrm>
          <a:prstGeom prst="rect">
            <a:avLst/>
          </a:prstGeom>
          <a:ln w="0">
            <a:noFill/>
          </a:ln>
        </p:spPr>
      </p:pic>
      <p:sp>
        <p:nvSpPr>
          <p:cNvPr id="1015" name="WordArt 13"/>
          <p:cNvSpPr txBox="1"/>
          <p:nvPr/>
        </p:nvSpPr>
        <p:spPr>
          <a:xfrm>
            <a:off x="0" y="981000"/>
            <a:ext cx="905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6" name="WordArt 14"/>
          <p:cNvSpPr txBox="1"/>
          <p:nvPr/>
        </p:nvSpPr>
        <p:spPr>
          <a:xfrm>
            <a:off x="250920" y="2349360"/>
            <a:ext cx="431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7" name="WordArt 15"/>
          <p:cNvSpPr txBox="1"/>
          <p:nvPr/>
        </p:nvSpPr>
        <p:spPr>
          <a:xfrm>
            <a:off x="250920" y="3645000"/>
            <a:ext cx="503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8" name="WordArt 16"/>
          <p:cNvSpPr txBox="1"/>
          <p:nvPr/>
        </p:nvSpPr>
        <p:spPr>
          <a:xfrm>
            <a:off x="324000" y="5013360"/>
            <a:ext cx="431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9" name="WordArt 17"/>
          <p:cNvSpPr txBox="1"/>
          <p:nvPr/>
        </p:nvSpPr>
        <p:spPr>
          <a:xfrm>
            <a:off x="1763640" y="5661000"/>
            <a:ext cx="4680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тя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4"/>
          <p:cNvSpPr/>
          <p:nvPr/>
        </p:nvSpPr>
        <p:spPr>
          <a:xfrm>
            <a:off x="971640" y="260280"/>
            <a:ext cx="9829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4e7ed"/>
                </a:solidFill>
                <a:latin typeface="Calibri"/>
              </a:rPr>
              <a:t>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ле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ригорьеви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тя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 1956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оз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полнитель пе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ктёр театра и ки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служенный артист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ауреат фестивалей авторской пес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Куйбышеве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Казани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Владивост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дин из организаторов Ильмен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естиваля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ициатор премии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ветлое прошлое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" descr="LAMPPST1"/>
          <p:cNvPicPr/>
          <p:nvPr/>
        </p:nvPicPr>
        <p:blipFill>
          <a:blip r:embed="rId1"/>
          <a:stretch/>
        </p:blipFill>
        <p:spPr>
          <a:xfrm>
            <a:off x="7164360" y="260280"/>
            <a:ext cx="1671840" cy="6597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LAMPPST1"/>
          <p:cNvPicPr/>
          <p:nvPr/>
        </p:nvPicPr>
        <p:blipFill>
          <a:blip r:embed="rId2"/>
          <a:stretch/>
        </p:blipFill>
        <p:spPr>
          <a:xfrm flipH="1">
            <a:off x="250560" y="259560"/>
            <a:ext cx="1692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4"/>
          <p:cNvSpPr/>
          <p:nvPr/>
        </p:nvSpPr>
        <p:spPr>
          <a:xfrm>
            <a:off x="684360" y="620640"/>
            <a:ext cx="156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13" descr="Clou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14"/>
          <p:cNvSpPr/>
          <p:nvPr/>
        </p:nvSpPr>
        <p:spPr>
          <a:xfrm>
            <a:off x="1403280" y="98100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арды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оэты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композиторы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сполнител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 одном лице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 Box 2"/>
          <p:cNvSpPr/>
          <p:nvPr/>
        </p:nvSpPr>
        <p:spPr>
          <a:xfrm>
            <a:off x="0" y="9079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3" descr="BONFIRE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4"/>
          <p:cNvSpPr/>
          <p:nvPr/>
        </p:nvSpPr>
        <p:spPr>
          <a:xfrm>
            <a:off x="395280" y="59119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Авторская песня – особое направление поэтического и музыкального искус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5" descr="i8"/>
          <p:cNvPicPr/>
          <p:nvPr/>
        </p:nvPicPr>
        <p:blipFill>
          <a:blip r:embed="rId2"/>
          <a:stretch/>
        </p:blipFill>
        <p:spPr>
          <a:xfrm>
            <a:off x="4211640" y="3284640"/>
            <a:ext cx="76032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0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9"/>
          <p:cNvSpPr/>
          <p:nvPr/>
        </p:nvSpPr>
        <p:spPr>
          <a:xfrm>
            <a:off x="3348000" y="427320"/>
            <a:ext cx="6227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33"/>
                </a:solidFill>
                <a:latin typeface="Calibri"/>
              </a:rPr>
              <a:t>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Мотивы дороги</a:t>
            </a:r>
            <a:r>
              <a:rPr b="1" i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встре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и расста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Исторические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Военная те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Интимная лирика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Городские моти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Юмористические пес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11"/>
          <p:cNvSpPr/>
          <p:nvPr/>
        </p:nvSpPr>
        <p:spPr>
          <a:xfrm>
            <a:off x="0" y="142920"/>
            <a:ext cx="4929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5200" spc="-1" strike="noStrike">
                <a:solidFill>
                  <a:srgbClr val="ffffff"/>
                </a:solidFill>
                <a:latin typeface="Calibri"/>
              </a:rPr>
              <a:t>О чём поют</a:t>
            </a:r>
            <a:r>
              <a:rPr b="1" i="1" lang="ru-RU" sz="52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4" descr="9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6"/>
          <p:cNvSpPr/>
          <p:nvPr/>
        </p:nvSpPr>
        <p:spPr>
          <a:xfrm>
            <a:off x="-289080" y="4076640"/>
            <a:ext cx="943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Поэтическое творчество авторов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исполнителей  злободневн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оно отражает поиски и надежд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сомнения и разочарования,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серьёзные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испытания и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безусловное принятие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0" y="9079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Picture 3" descr="ked1"/>
          <p:cNvPicPr/>
          <p:nvPr/>
        </p:nvPicPr>
        <p:blipFill>
          <a:blip r:embed="rId1"/>
          <a:stretch/>
        </p:blipFill>
        <p:spPr>
          <a:xfrm>
            <a:off x="-171360" y="0"/>
            <a:ext cx="9324720" cy="699624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4"/>
          <p:cNvSpPr/>
          <p:nvPr/>
        </p:nvSpPr>
        <p:spPr>
          <a:xfrm>
            <a:off x="2290680" y="-1717524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2290680" y="-1717524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0" y="0"/>
            <a:ext cx="51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улат Окудж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ладимир Высоц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Г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рий Виз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лий 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лег Митя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Городни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До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лина Хом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иктор Бер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адим и Валерий Мищ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атьяна и Сергей Никитины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да Якуш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рий Ку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вгений Кляч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ихаил Анч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рис Вахню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Прямоугольник 1"/>
          <p:cNvSpPr/>
          <p:nvPr/>
        </p:nvSpPr>
        <p:spPr>
          <a:xfrm>
            <a:off x="4446720" y="311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ac66bb"/>
                </a:solidFill>
                <a:uFillTx/>
                <a:latin typeface="Arial"/>
              </a:rPr>
              <a:t>Почитайте их стихи,  послушайте их</a:t>
            </a:r>
            <a:r>
              <a:rPr b="1" i="1" lang="en-US" sz="2800" spc="-1" strike="noStrike" u="sng">
                <a:solidFill>
                  <a:srgbClr val="ac66bb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ac66bb"/>
                </a:solidFill>
                <a:uFillTx/>
                <a:latin typeface="Arial"/>
              </a:rPr>
              <a:t>пес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306440" y="2538360"/>
            <a:ext cx="6531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e_AlArabiy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Rectangle 1" descr=""/>
          <p:cNvPicPr/>
          <p:nvPr/>
        </p:nvPicPr>
        <p:blipFill>
          <a:blip r:embed="rId1"/>
          <a:stretch/>
        </p:blipFill>
        <p:spPr>
          <a:xfrm>
            <a:off x="682560" y="652320"/>
            <a:ext cx="7809120" cy="1146240"/>
          </a:xfrm>
          <a:prstGeom prst="rect">
            <a:avLst/>
          </a:prstGeom>
          <a:ln w="0">
            <a:noFill/>
          </a:ln>
        </p:spPr>
      </p:pic>
      <p:pic>
        <p:nvPicPr>
          <p:cNvPr id="949" name="Rectangle 3" descr=""/>
          <p:cNvPicPr/>
          <p:nvPr/>
        </p:nvPicPr>
        <p:blipFill>
          <a:blip r:embed="rId2"/>
          <a:stretch/>
        </p:blipFill>
        <p:spPr>
          <a:xfrm>
            <a:off x="1006560" y="1908000"/>
            <a:ext cx="78087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Rectangle 1" descr=""/>
          <p:cNvPicPr/>
          <p:nvPr/>
        </p:nvPicPr>
        <p:blipFill>
          <a:blip r:embed="rId1"/>
          <a:stretch/>
        </p:blipFill>
        <p:spPr>
          <a:xfrm>
            <a:off x="669960" y="360360"/>
            <a:ext cx="7808760" cy="11444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139760" y="1883880"/>
            <a:ext cx="7809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9e98e"/>
                </a:solidFill>
                <a:uFillTx/>
                <a:latin typeface="Arial"/>
              </a:rPr>
              <a:t>Авторская песня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 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самобытное, неординарное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музыкальное явление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которое не укладывается ни в одно определение. Свое начало этот жанр берет  в музыкальной культуре Древней Руси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древние слагатели былин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певцы-дружинники.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Б.Окуджава говорил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что это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”поэзия под гитару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4"/>
          <p:cNvSpPr/>
          <p:nvPr/>
        </p:nvSpPr>
        <p:spPr>
          <a:xfrm>
            <a:off x="745560" y="9079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8"/>
          <p:cNvSpPr/>
          <p:nvPr/>
        </p:nvSpPr>
        <p:spPr>
          <a:xfrm>
            <a:off x="0" y="981000"/>
            <a:ext cx="46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9"/>
          <p:cNvSpPr/>
          <p:nvPr/>
        </p:nvSpPr>
        <p:spPr>
          <a:xfrm flipH="1" flipV="1">
            <a:off x="252000" y="-10440"/>
            <a:ext cx="460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вообще не песня – это стих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исполняются  под гитару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занимаюсь авторской песней – сам пишу тексты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елоди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ам исполняю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е главное в авторской песне текс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оэзия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ля меня это возможность беседовать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азговаривать с людьми на темы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меня волную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еспокоя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арды (истоки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родской роман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нт (бытовая песн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естьянские пес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ворчество декабрис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волюционные молодёжные песни 20-х год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сни беспризорни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уденческий фолькло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2" descr="Высоцкий1"/>
          <p:cNvPicPr/>
          <p:nvPr/>
        </p:nvPicPr>
        <p:blipFill>
          <a:blip r:embed="rId1"/>
          <a:stretch/>
        </p:blipFill>
        <p:spPr>
          <a:xfrm>
            <a:off x="6400800" y="3200400"/>
            <a:ext cx="2525760" cy="289548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52280" y="16412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лат Окудж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 Г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имир Высо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Picture 4" descr="Окуджава"/>
          <p:cNvPicPr/>
          <p:nvPr/>
        </p:nvPicPr>
        <p:blipFill>
          <a:blip r:embed="rId2"/>
          <a:stretch/>
        </p:blipFill>
        <p:spPr>
          <a:xfrm>
            <a:off x="838080" y="320040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1"/>
          <p:cNvPicPr/>
          <p:nvPr/>
        </p:nvPicPr>
        <p:blipFill>
          <a:blip r:embed="rId3"/>
          <a:stretch/>
        </p:blipFill>
        <p:spPr>
          <a:xfrm>
            <a:off x="3962520" y="3200400"/>
            <a:ext cx="2271600" cy="2895480"/>
          </a:xfrm>
          <a:prstGeom prst="rect">
            <a:avLst/>
          </a:prstGeom>
          <a:ln w="0">
            <a:noFill/>
          </a:ln>
        </p:spPr>
      </p:pic>
      <p:sp>
        <p:nvSpPr>
          <p:cNvPr id="963" name="Прямоугольник 1"/>
          <p:cNvSpPr/>
          <p:nvPr/>
        </p:nvSpPr>
        <p:spPr>
          <a:xfrm>
            <a:off x="3490920" y="1579680"/>
            <a:ext cx="58197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Творчество трех бардов –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А.Галича,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Б.Окуджавы и В.Высоцкого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–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к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лассический образец этого жан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рий Виз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одни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6" descr="Городницкий"/>
          <p:cNvPicPr/>
          <p:nvPr/>
        </p:nvPicPr>
        <p:blipFill>
          <a:blip r:embed="rId1"/>
          <a:stretch/>
        </p:blipFill>
        <p:spPr>
          <a:xfrm>
            <a:off x="5334120" y="2209680"/>
            <a:ext cx="2674800" cy="4191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8" descr="Visbor3"/>
          <p:cNvPicPr/>
          <p:nvPr/>
        </p:nvPicPr>
        <p:blipFill>
          <a:blip r:embed="rId2"/>
          <a:stretch/>
        </p:blipFill>
        <p:spPr>
          <a:xfrm>
            <a:off x="990720" y="2209680"/>
            <a:ext cx="2849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ег Митя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5" descr="Дольский"/>
          <p:cNvPicPr/>
          <p:nvPr/>
        </p:nvPicPr>
        <p:blipFill>
          <a:blip r:embed="rId1"/>
          <a:stretch/>
        </p:blipFill>
        <p:spPr>
          <a:xfrm>
            <a:off x="990720" y="1828800"/>
            <a:ext cx="2946240" cy="373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Митяев"/>
          <p:cNvPicPr/>
          <p:nvPr/>
        </p:nvPicPr>
        <p:blipFill>
          <a:blip r:embed="rId2"/>
          <a:stretch/>
        </p:blipFill>
        <p:spPr>
          <a:xfrm>
            <a:off x="4800600" y="22096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ulia</dc:creator>
  <dc:description/>
  <dc:language>en-US</dc:language>
  <cp:lastModifiedBy>Yulia</cp:lastModifiedBy>
  <dcterms:modified xsi:type="dcterms:W3CDTF">2021-04-09T16:47:40Z</dcterms:modified>
  <cp:revision>8</cp:revision>
  <dc:subject/>
  <dc:title>Бардовская (авторская) пес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2f0000000000010290310207f7000400038000</vt:lpwstr>
  </property>
</Properties>
</file>