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08E-51DB-4DC5-BCFF-570FAAC0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60A-0BE1-4A95-9784-36C44272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CB3-B4A8-4786-8746-414DC5C3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CD7-1F28-4DA7-92CC-5B337BAA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65D6-04EC-45FB-8874-9BB57B56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DC7D-C3C1-4796-B69A-A5E6E5CF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3780-B4DA-4B36-9CEC-18B7C091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6EB9-AC94-401F-88AB-E1550810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CBBC-AE7C-499D-8483-9A9B2BD4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5AB4-4D74-4A6C-8711-492C988D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71D5-3F04-42A4-ACAC-CDF28E8B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387-0F07-4AAE-AAED-DFA00F6E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0904-F7CE-47B4-9975-AB2F934E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CA98-E3D5-49E7-8594-ABFFE086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EBD4-40F3-45A1-AA22-C2F64247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B122-DD90-4840-B51A-FF0BDE48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E84A-B2EC-4E58-8EE4-F183634A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5A96-1D25-4280-8B40-A149DFAE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F57-6637-44E7-956B-B492ECCD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55B-31A5-448E-9DD3-B20E7C9A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751-7BB1-4186-80B0-15EA40FF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FE0-08A5-4351-AE06-0DEF91AA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D1B-DAE4-41D1-9AA6-3BB55EDB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543-279D-458F-8C96-1596721D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06A6-87DF-4904-B059-DF4E7A68A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7FDF-BAE1-409B-86D8-C15FC177C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 rot="10800000">
            <a:off x="684360" y="548280"/>
            <a:ext cx="777240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-логопед шк.№ 16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орникова В. 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476280"/>
            <a:ext cx="8137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ормир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выка чтен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Целыми  словам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чинает формироваться орфоэпический способ чтения. Трудность может возникнуть из-за того, что первоклассники не могут удержать в памяти множество требований орфоэпического способа чтени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менить «о» на «а» ( в безударном слоге), «ч» на «ш»( в слове «что» ) и д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руппами сл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 этом этапе формируется выразительность чтения. Она зависит от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темп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прави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осознан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чевая деятельно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69720" y="1617840"/>
            <a:ext cx="8208360" cy="4462560"/>
            <a:chOff x="369720" y="1617840"/>
            <a:chExt cx="8208360" cy="4462560"/>
          </a:xfrm>
        </p:grpSpPr>
        <p:cxnSp>
          <p:nvCxnSpPr>
            <p:cNvPr id="125" name="_s49166"/>
            <p:cNvCxnSpPr>
              <a:stCxn id="126" idx="0"/>
              <a:endCxn id="127" idx="2"/>
            </p:cNvCxnSpPr>
            <p:nvPr/>
          </p:nvCxnSpPr>
          <p:spPr>
            <a:xfrm flipV="1" rot="16200000">
              <a:off x="5463720" y="241164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49165"/>
            <p:cNvCxnSpPr>
              <a:stCxn id="129" idx="0"/>
              <a:endCxn id="127" idx="2"/>
            </p:cNvCxnSpPr>
            <p:nvPr/>
          </p:nvCxnSpPr>
          <p:spPr>
            <a:xfrm flipV="1">
              <a:off x="4474080" y="3402000"/>
              <a:ext cx="360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49164"/>
            <p:cNvCxnSpPr>
              <a:stCxn id="131" idx="0"/>
              <a:endCxn id="127" idx="2"/>
            </p:cNvCxnSpPr>
            <p:nvPr/>
          </p:nvCxnSpPr>
          <p:spPr>
            <a:xfrm flipH="1" flipV="1" rot="5400000">
              <a:off x="2590920" y="24120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7" name="_s49160"/>
            <p:cNvSpPr/>
            <p:nvPr/>
          </p:nvSpPr>
          <p:spPr>
            <a:xfrm>
              <a:off x="3242520" y="16178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3300"/>
                  </a:solidFill>
                  <a:latin typeface="Times New Roman"/>
                </a:rPr>
                <a:t>Сторон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3300"/>
                  </a:solidFill>
                  <a:latin typeface="Times New Roman"/>
                </a:rPr>
                <a:t>реч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49161"/>
            <p:cNvSpPr/>
            <p:nvPr/>
          </p:nvSpPr>
          <p:spPr>
            <a:xfrm>
              <a:off x="369720" y="42955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3300"/>
                  </a:solidFill>
                  <a:latin typeface="Times New Roman"/>
                </a:rPr>
                <a:t>Звукопроизношен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3300"/>
                  </a:solidFill>
                  <a:latin typeface="Times New Roman"/>
                </a:rPr>
                <a:t>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3300"/>
                  </a:solidFill>
                  <a:latin typeface="Times New Roman"/>
                </a:rPr>
                <a:t>звукоразлич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49162"/>
            <p:cNvSpPr/>
            <p:nvPr/>
          </p:nvSpPr>
          <p:spPr>
            <a:xfrm>
              <a:off x="3242520" y="42955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3300"/>
                  </a:solidFill>
                  <a:latin typeface="Times New Roman"/>
                </a:rPr>
                <a:t>Лекси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3300"/>
                  </a:solidFill>
                  <a:latin typeface="Times New Roman"/>
                </a:rPr>
                <a:t>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3300"/>
                  </a:solidFill>
                  <a:latin typeface="Times New Roman"/>
                </a:rPr>
                <a:t>граммати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49163"/>
            <p:cNvSpPr/>
            <p:nvPr/>
          </p:nvSpPr>
          <p:spPr>
            <a:xfrm>
              <a:off x="6115680" y="42955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3300"/>
                  </a:solidFill>
                  <a:latin typeface="Times New Roman"/>
                </a:rPr>
                <a:t>Смысловая сторон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Основные характеристики процесса чтени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Техническ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-способ чт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-темп (скорость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-динамика (увелич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-правильност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Смыслов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-выразитель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-понима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. С. Выготск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Обычно думают ,что понимание выше пр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дленном чтении ; однако в действительнос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 при быстром чтении понимание оказыва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тся лучше , ибо различные процессы совер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аются с различной скоростью и скорость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нимания отвечает более быстрому темп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ехническая сторон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Способ чт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Скорость чт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Динамика скорост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а последователь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сть была выявлена пу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 исследования и ана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за процесса овлад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хникой чт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ла установлена связ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жду способом чт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скоростью, скоростью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динамикой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3419640" y="2492280"/>
            <a:ext cx="792000" cy="1441440"/>
          </a:xfrm>
          <a:custGeom>
            <a:avLst/>
            <a:gdLst>
              <a:gd name="textAreaLeft" fmla="*/ 105840 w 792000"/>
              <a:gd name="textAreaRight" fmla="*/ 686160 w 792000"/>
              <a:gd name="textAreaTop" fmla="*/ 252000 h 1441440"/>
              <a:gd name="textAreaBottom" fmla="*/ 104508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3362327"/>
                <a:lnTo>
                  <a:pt x="4956" y="21398"/>
                </a:lnTo>
                <a:lnTo>
                  <a:pt x="0" y="17280"/>
                </a:lnTo>
                <a:lnTo>
                  <a:pt x="4956" y="12758"/>
                </a:lnTo>
                <a:lnTo>
                  <a:pt x="4956" y="14918"/>
                </a:lnTo>
                <a:arcTo wR="21600" hR="7560" stAng="3362327" swAng="-300489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645000"/>
            <a:ext cx="468360" cy="1439640"/>
          </a:xfrm>
          <a:custGeom>
            <a:avLst/>
            <a:gdLst>
              <a:gd name="textAreaLeft" fmla="*/ 62640 w 468360"/>
              <a:gd name="textAreaRight" fmla="*/ 405720 w 468360"/>
              <a:gd name="textAreaTop" fmla="*/ 252000 h 1439640"/>
              <a:gd name="textAreaBottom" fmla="*/ 10440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Способ чтения.       Скорость чтения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лог + слог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лог+слово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лово+слог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Целое слов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Группа сл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59280" y="1844640"/>
            <a:ext cx="1081080" cy="43200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2565360"/>
            <a:ext cx="1439640" cy="43200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3357720"/>
            <a:ext cx="2089080" cy="43164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4149720"/>
            <a:ext cx="2736720" cy="43164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4869000"/>
            <a:ext cx="3384360" cy="43164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корость и динамика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0 слов в мин. _ _ _ _ _ _ _+ 15 сл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0 слов в мин._ _ _ _ _ _ _ _ _ _ _ _ _ _ _ _ _ _ +30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чтения и динамика связаны меж-ду собой. Дети, читающие со скоростью 20 слов в мин. и меньше, дают меньшую при-бавку скорости, чем дети читающие свыше 70 слов в м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лог +слог 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00000" y="2997360"/>
            <a:ext cx="7272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чина: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точное представление об образах бук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бенок забывает ,какой звук соответст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ует этой букв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лог+слово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становки, пропус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условлены недостаточно сформирован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ым навыком однонаправленного движе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я глаз, невнимательност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4360" y="1989000"/>
            <a:ext cx="7704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чин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4:55:45Z</dcterms:created>
  <dc:creator>User</dc:creator>
  <dc:description/>
  <dc:language>en-US</dc:language>
  <cp:lastModifiedBy>User</cp:lastModifiedBy>
  <dcterms:modified xsi:type="dcterms:W3CDTF">2014-04-30T01:47:19Z</dcterms:modified>
  <cp:revision>10</cp:revision>
  <dc:subject/>
  <dc:title>.</dc:title>
</cp:coreProperties>
</file>