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A13-0081-4B95-991C-8B9E58B34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553-7BB9-4DBE-9E0B-1AC6413C72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2A8-7895-4B28-B5EA-E8446BE4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DE4-F54E-4539-BFFA-8E75FF37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38C-14D7-4E07-AAC6-3CE1AC20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A91-B099-4072-AF19-EBDBE17E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3F5-F507-49C4-BDF7-1CEA829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737-BADC-4051-8C16-2BC62905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560-E46D-440C-A387-3A4CBABD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F7C-68B4-4A1D-98A2-E8A71B42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801-4635-4B2E-92F6-C429052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D19-C819-432E-8933-EDD1A3F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BFD-0C26-4B33-A3E2-8CE8980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A90-23F5-44DF-8F2B-A3F9F85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2646-0EC8-46E1-B8B1-B65990509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выступл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стема  учебных задач, направленных на формирование у школьников УУД на уроках русского язы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Users\Клачкова\AppData\Local\Microsoft\Windows\Temporary Internet Files\Content.IE5\W26CKZHM\MC900325646[1].wmf"/>
          <p:cNvPicPr/>
          <p:nvPr/>
        </p:nvPicPr>
        <p:blipFill>
          <a:blip r:embed="rId1"/>
          <a:stretch/>
        </p:blipFill>
        <p:spPr>
          <a:xfrm>
            <a:off x="6875640" y="1773360"/>
            <a:ext cx="158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Л.М.Фридма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ъяв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ебной задачи  - создание проблемной ситу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8800" y="165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Users\Клачкова\AppData\Local\Microsoft\Windows\Temporary Internet Files\Content.IE5\A4824GEI\MC900295479[1].wmf"/>
          <p:cNvPicPr/>
          <p:nvPr/>
        </p:nvPicPr>
        <p:blipFill>
          <a:blip r:embed="rId1"/>
          <a:stretch/>
        </p:blipFill>
        <p:spPr>
          <a:xfrm>
            <a:off x="5099040" y="2133720"/>
            <a:ext cx="343368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6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1087-3E1F-4E76-9CA4-66FBB524A7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эпизод 1.avi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3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Учебная задача: списать, вставить пропущенные орфограммы: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Ч…, ИДЁШ…, ВЕЩ…, РЕЧ…, ПАХУЧ…,  КАМЫШ…, МЕЧ…, ХОРОШ…, ЛИНЮЧ…, ВЕТОШ…, РИСУЕШ…, ПЕВУЧ…., МЯЧ…, РУБИШ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эпизод 2.MP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Задания – «ловушки»</a:t>
            </a:r>
            <a:br>
              <a:rPr sz="40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Цель: актуализация имеющихся знаний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 отлич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тье (четвёртое лишне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меренная ошиб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сни свой выб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неси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620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Задания</a:t>
            </a:r>
            <a:br>
              <a:rPr sz="40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Цель: построение проекта выхода  из затруднен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2133720"/>
            <a:ext cx="76201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иск информации в предложенных источниках (учебник, рабочая тетрадь и др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о словар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таблицами, схемами, класт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анализируй; обоснуй; объясни, почему; найди закономе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Выделяю в слове _____________________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Ставлю ___________________________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Нахожу _____________________________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Вспоминаю  _____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Проверяю, ______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Если есть суффикс А, пишу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нет суффикса А, пишу__________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адания</a:t>
            </a:r>
            <a:br>
              <a:rPr sz="44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Цель: первичное закреплени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нтированное 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очный дикт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ительный дикт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дактирование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ор лексических един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сигнальными кар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42920" y="1341360"/>
          <a:ext cx="7788240" cy="5141880"/>
        </p:xfrm>
        <a:graphic>
          <a:graphicData uri="http://schemas.openxmlformats.org/drawingml/2006/table">
            <a:tbl>
              <a:tblPr/>
              <a:tblGrid>
                <a:gridCol w="798480"/>
                <a:gridCol w="6078600"/>
                <a:gridCol w="911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ё 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я по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</a:tr>
              <a:tr h="114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Смогу самостоятельно применить правило на пись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</a:tr>
              <a:tr h="1662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Смогу самостоятельно применить правило на письме,  но остался вопрос: как  отличить корни с чередованием от корней с безударной гласн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Но самостоятельно применить правило на письме не смо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флексивная кар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Алгоритм самооцен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ты узнал на уро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у научилс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 что себя можешь похвали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д чем надо поработать ещё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егодн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8560" y="2205000"/>
            <a:ext cx="3313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водник в мир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че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хитектор и строитель, творец своего зн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Прямая со стрелкой 7"/>
          <p:cNvCxnSpPr/>
          <p:nvPr/>
        </p:nvCxnSpPr>
        <p:spPr>
          <a:xfrm flipH="1">
            <a:off x="2916000" y="1196640"/>
            <a:ext cx="1080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9"/>
          <p:cNvCxnSpPr/>
          <p:nvPr/>
        </p:nvCxnSpPr>
        <p:spPr>
          <a:xfrm>
            <a:off x="5292360" y="1196640"/>
            <a:ext cx="9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ронтальный опро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новое знание сегодня откры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, каким способом  будем пользоваться  при применении  нового зн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:\Users\Клачкова\AppData\Local\Microsoft\Windows\Temporary Internet Files\Content.IE5\4DKQKKZA\MC900195844[1].wmf"/>
          <p:cNvPicPr/>
          <p:nvPr/>
        </p:nvPicPr>
        <p:blipFill>
          <a:blip r:embed="rId1"/>
          <a:stretch/>
        </p:blipFill>
        <p:spPr>
          <a:xfrm>
            <a:off x="3632040" y="3789360"/>
            <a:ext cx="31672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620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овое знание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5640" y="1844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свое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e008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воено не в полной мере, есть сом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7004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воено и может быть объяснено друг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"/>
          <p:cNvSpPr/>
          <p:nvPr/>
        </p:nvSpPr>
        <p:spPr>
          <a:xfrm>
            <a:off x="1116000" y="184464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4"/>
          <p:cNvSpPr/>
          <p:nvPr/>
        </p:nvSpPr>
        <p:spPr>
          <a:xfrm>
            <a:off x="1116000" y="2997360"/>
            <a:ext cx="360360" cy="431640"/>
          </a:xfrm>
          <a:prstGeom prst="ellipse">
            <a:avLst/>
          </a:prstGeom>
          <a:solidFill>
            <a:srgbClr val="e8e0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1116000" y="4508640"/>
            <a:ext cx="360360" cy="4330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окласс.avi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тчёт.avi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бы мне на выбор предложили путь к истине или саму истину, я бы выбрал пу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Кант\B&amp;P_5_Kant.jpg"/>
          <p:cNvPicPr/>
          <p:nvPr/>
        </p:nvPicPr>
        <p:blipFill>
          <a:blip r:embed="rId2"/>
          <a:stretch/>
        </p:blipFill>
        <p:spPr>
          <a:xfrm>
            <a:off x="5003640" y="765000"/>
            <a:ext cx="36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80960" y="1752480"/>
            <a:ext cx="310536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боко постигает лишь т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чего додумывается с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к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чебная деятельность =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учебная задача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способ действия, подлежащий усвоению) + учебные действия + действия контроля +  действия оце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Клачкова\AppData\Local\Microsoft\Windows\Temporary Internet Files\Content.IE5\4DKQKKZA\MC900195844[1].wmf"/>
          <p:cNvPicPr/>
          <p:nvPr/>
        </p:nvPicPr>
        <p:blipFill>
          <a:blip r:embed="rId1"/>
          <a:stretch/>
        </p:blipFill>
        <p:spPr>
          <a:xfrm>
            <a:off x="3564000" y="4508640"/>
            <a:ext cx="316692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Д.Б.Элькони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Цель и результат учебной задач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менение самого субъекта, а не предметов, с которыми действует учен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187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6201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мысленная учебная деятельность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56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ученика самому себ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что я хочу сдел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зачем я это дела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ак я это дела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ак я это сдела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А.Н.Леонтье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ебная задача -  цель, заданная в определённых услови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547640" y="4365720"/>
            <a:ext cx="1333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истема учебных задач - это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ор задач для достижения отдалённых целей и усвоения средств для решения других за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.И.Машб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чески вся учебная деятель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Б.Элькон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Прямая со стрелкой 22"/>
          <p:cNvCxnSpPr/>
          <p:nvPr/>
        </p:nvCxnSpPr>
        <p:spPr>
          <a:xfrm flipH="1">
            <a:off x="2555640" y="1373040"/>
            <a:ext cx="1080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23"/>
          <p:cNvCxnSpPr/>
          <p:nvPr/>
        </p:nvCxnSpPr>
        <p:spPr>
          <a:xfrm>
            <a:off x="5292360" y="1349280"/>
            <a:ext cx="9356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620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фференци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трудни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работать с информа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есная и наглядная инфор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е и контрольные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е открытие нового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Требования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к системе учебных задач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урока в условиях ФГО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76201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билизация (включение в активную интеллектуальную деятельност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знание уч-ся недостаточности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новых знаний в процессе коммун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проверка, конт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2:04:24Z</dcterms:created>
  <dc:creator>rusln</dc:creator>
  <dc:description/>
  <dc:language>en-US</dc:language>
  <cp:lastModifiedBy>Малик</cp:lastModifiedBy>
  <dcterms:modified xsi:type="dcterms:W3CDTF">2014-09-17T13:30:33Z</dcterms:modified>
  <cp:revision>57</cp:revision>
  <dc:subject/>
  <dc:title>Возделывание  культурного поля личности – условие развития  успешного человека</dc:title>
</cp:coreProperties>
</file>