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846-4E7E-4EEC-91D7-9EF24AC6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2CF-4C37-41EB-8D7C-690A8F15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ED21F-3FD8-4BD2-9EEC-732698AE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61207-4382-4080-801E-9C785B22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7C6B2-2C91-40F2-B0D4-9B01CB50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A1B34-F91B-4DC9-9D1E-E242787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1B870-85ED-4D2E-B753-122A3D2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6BDF-1C45-4764-8766-7578C2D8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F83BE-101A-48D4-96E8-8A9BB04C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9155E-A607-4A83-B0D9-329DADDF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FF584-6925-4B67-84D7-C378254F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5BC-5C9C-404E-9EB7-48583783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24B-C388-4106-85C4-9FE6A254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0F91-F990-4998-AD22-2011C331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F9B2-DBCD-4DB5-B1A5-DA7D4E14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A072-C759-499A-A900-5D5F7BF7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DC76-1265-4534-9A33-1D7B459A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4BF4-E83C-4BB1-8838-6521FF6B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D927-1AE2-427E-BBDD-13857BB7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E98F-BEF3-4E82-930D-C284963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933-38DD-4C4A-8C15-209139E3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882C-966F-43FD-B568-CD10417C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25BE-35F2-4E47-ABBA-6CA6A0C6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5F08-CE44-4A10-AD86-89177822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2025-BEFB-462C-8A7F-AED4AEF7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366A-815C-4751-95C0-160C23E5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1725-BC75-493B-A209-47B3C8EE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15599-D2FD-424B-BA8F-C65388A0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6AE1-B3A6-47C9-A4B1-CBAB8CB8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0842-8CB9-4D71-A552-63C13B6E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5287-8853-4CDD-B447-7E4F795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A25-408A-4DD6-9424-643DD2F4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136D-5AB2-488C-9DDD-205FFFA5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C6F5-2762-4EAB-920C-85CCFAA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1A36-6B7C-459D-9234-FC62B58F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B2A7-13C3-4E7D-8398-1A0FB3B9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104EE-8596-47CD-B2F8-BE436055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BEE2-5CA2-4D73-B091-021046BB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5765-D266-4A3B-A1B5-ABFC016E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D316-0659-41C4-840F-2050DA31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D933-6178-482D-A5CA-EA4DDFC8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8F4F-DACF-4EC6-B4D6-F4E0AB7D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2EF-CF33-40F5-B3EA-3550B334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C5CB1-BDCC-4081-8B94-FF133094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A51A-C030-4575-9184-DBDCC4F6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99CA-4641-4DED-8D17-4603E0FA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F4F3-C546-4AD0-AD70-179AD1CA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91F9-D1C9-45FF-B8A0-EB7A60F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3BE2-B560-4779-BC94-8D62DE3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B723-AEC6-4458-8903-110A0C8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143AE-52A4-46CD-AA4D-B37FDDAA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F88C-7778-464E-B0A8-C90139C3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88F0C-A392-4B88-B17A-A3746243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D4A-A9A5-4898-803A-19A4C972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18D7-C0BF-44F9-B445-FB555C3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E5C0-5B42-4CAD-B1D6-DBBDD5FC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024EA-6071-43CF-9FAD-1311949B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23D92-BAC5-479D-B198-8EFBF275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59FB1-8518-41A0-9AAE-C4CD6030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3C835-89A0-4984-A4AE-CB2BDA88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23E8-8D3D-4760-B56E-D8687A78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C7728-42E3-4B89-83B3-76114CE1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5C74-6E1F-4CFF-AEAA-4A8F1C66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7573-DF06-4D9A-A0D4-C8EE862C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72C-C102-49EF-A3BB-C81D10F8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28EDA-E9E6-487B-B71B-23D26963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93B4F-FEEB-4E70-8423-996D753F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E9B4-ED47-43BC-8B1F-D580D751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5473-3AFA-43E9-905D-906CE1E6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763D1-CDCF-403A-A059-A7C9EA0F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314B6-5CE9-45B6-9717-1385ED27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8CD4-61CB-4BCC-BD5B-B33D709D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F729A-47F6-4E32-BBCC-2688029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F3534-AAB7-46AF-A7B2-481671DC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3FE4C-3CEE-4EDD-B552-2CAE833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9DF-5392-4764-94D8-EDFFB9C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1B67A-8CE3-4F0E-B15C-2705FC71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BE02-CC7F-4F1C-8445-BD9D8FFE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0827-FD75-4784-BE50-06125E2F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5261D-DB7E-408A-9132-0C47378D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8ABA9-92DE-4766-B11D-BE757E60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56710-FB73-4ABC-BC91-F9319CBD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4ADC5-3D05-4CAB-AF0A-74D2822C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65E8C-5DCF-4206-A608-C3A28502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585DC-F39E-4392-9502-CC2DB51D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2EC76-321F-4EA1-AA38-ADA9457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431-B185-4C0D-B091-F5D3F8A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7008A-1C5E-4955-80F2-D0358BF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E0829-1FB9-458D-B636-6E3493B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D7E79-C52F-4591-943B-78FE54A7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EEE8B-B4BE-4BB2-9C0A-81B8C38C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49A74-7C92-4358-A763-DC5B5756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FFB4B-38E8-4DF1-8B1E-B436D698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F3068-302B-4CB5-B98F-08525D85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41B72-6A88-4FFC-A8AE-CB1C3F5A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A30A6-F1A6-4877-8383-EB69D7EB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06143-9A99-440E-90A7-4C10B2D8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C75-532A-4C0A-9058-B2CE78E2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B6DF-0CC5-4B7C-9B50-82326BB5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3207B-085F-4FF0-A465-D7CFACD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9A54C-7928-4CEB-8752-0196FDD2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8759C-680C-4AD1-BFDA-3CAD3CB0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90763-4B50-4DC3-9D6A-C52077B9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30638-3DDB-4201-8B27-C542D937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0068D-BD9C-49C4-9218-2142D277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64714-8A67-458D-9F92-A326BC57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9D0C8-581B-4A81-B497-5514EFA2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276FF-6106-4692-9388-8284115F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dfc08d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71FE-CC89-4A35-8121-072A0659949E}" type="slidenum">
              <a:rPr b="0" lang="ru-RU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19EB-DDEE-4131-86FE-723EE54F1078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dfc08d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945B-1B6B-4524-972F-36DAF6F068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32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CA20-1D94-4469-A901-667E98AFDAD3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072C-F673-408C-94C1-789BDE8078CF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27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99AC-EBF1-4EF0-9BBB-4E23EF7624E3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75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D7F8-A010-4028-B014-F4D46E443725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23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E133-C02C-41AC-9354-FB066138AAE6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71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D94A-2A78-4725-ADC0-51995404A103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5694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рганизация логопедической работы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 детском саду</a:t>
            </a:r>
            <a:endParaRPr b="0" lang="en-US" sz="4800" spc="-1" strike="noStrike">
              <a:solidFill>
                <a:srgbClr val="dfc08d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402920" y="333000"/>
            <a:ext cx="6140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униципальное дошкольное образовательное бюджетное учреждение Центр Развития Ребенка детский сад «Олененок»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116000" y="620640"/>
            <a:ext cx="7408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ndara"/>
              </a:rPr>
              <a:t>Фронтальные занятия </a:t>
            </a:r>
            <a:endParaRPr b="0" lang="en-US" sz="4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ронтальные занятия проводится в утренние часы, их количество зависит от периода обуч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усматривают усвоение произношения звуков и активное использование их в различных формах самостоятельной речи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временно обеспечивают дальнейшее расширение речевой практики детей в процессе ознакомление с окружающим миром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яют ребёнка благоприятные условия для ознакомления с родным языком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900000" y="1773360"/>
            <a:ext cx="7408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психические процессы память, внимание, мышл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огащать уточнять и активизировать словарь по лексическим темам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ать над усвоением грамматических средств язык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фонематические процессы: фонематический слух и фонематическое восприят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ть правильное звукопроизнош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связную реч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дачи коррекционного обуч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заимодействие логопеда и воспитател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Прямоугольник 6"/>
          <p:cNvSpPr/>
          <p:nvPr/>
        </p:nvSpPr>
        <p:spPr>
          <a:xfrm>
            <a:off x="3570120" y="1851120"/>
            <a:ext cx="2067120" cy="115092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ланирование работы совместно  с логопед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оугольник 9"/>
          <p:cNvSpPr/>
          <p:nvPr/>
        </p:nvSpPr>
        <p:spPr>
          <a:xfrm>
            <a:off x="755640" y="3500280"/>
            <a:ext cx="1959120" cy="164340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ррекционная работа воспитателя над речью детей в процессе занятий по изодеятельности и матема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10"/>
          <p:cNvSpPr/>
          <p:nvPr/>
        </p:nvSpPr>
        <p:spPr>
          <a:xfrm>
            <a:off x="6227640" y="1860480"/>
            <a:ext cx="2067120" cy="115272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нятия по развитию ре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11"/>
          <p:cNvSpPr/>
          <p:nvPr/>
        </p:nvSpPr>
        <p:spPr>
          <a:xfrm>
            <a:off x="6257880" y="3490920"/>
            <a:ext cx="2067120" cy="115236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воспитателя за речью детей в свободное врем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12"/>
          <p:cNvSpPr/>
          <p:nvPr/>
        </p:nvSpPr>
        <p:spPr>
          <a:xfrm>
            <a:off x="6305400" y="5157720"/>
            <a:ext cx="2065320" cy="115092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богащение речевой практики детей в процессе режимных моме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13"/>
          <p:cNvSpPr/>
          <p:nvPr/>
        </p:nvSpPr>
        <p:spPr>
          <a:xfrm>
            <a:off x="3492360" y="5172120"/>
            <a:ext cx="2065320" cy="1150920"/>
          </a:xfrm>
          <a:prstGeom prst="rect">
            <a:avLst/>
          </a:prstGeom>
          <a:solidFill>
            <a:srgbClr val="d6e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существление воспитателя связи логопеда с родителя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Овал 14"/>
          <p:cNvSpPr/>
          <p:nvPr/>
        </p:nvSpPr>
        <p:spPr>
          <a:xfrm>
            <a:off x="3457440" y="3346560"/>
            <a:ext cx="2409840" cy="1439640"/>
          </a:xfrm>
          <a:prstGeom prst="ellipse">
            <a:avLst/>
          </a:prstGeom>
          <a:solidFill>
            <a:srgbClr val="007e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ая взаимосвязь в работе логопеда и воспитател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Прямая со стрелкой 17"/>
          <p:cNvCxnSpPr/>
          <p:nvPr/>
        </p:nvCxnSpPr>
        <p:spPr>
          <a:xfrm>
            <a:off x="5636880" y="4594320"/>
            <a:ext cx="7498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0" name="Прямая со стрелкой 19"/>
          <p:cNvCxnSpPr/>
          <p:nvPr/>
        </p:nvCxnSpPr>
        <p:spPr>
          <a:xfrm flipV="1">
            <a:off x="2714760" y="4142520"/>
            <a:ext cx="88632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1" name="Прямая со стрелкой 21"/>
          <p:cNvCxnSpPr/>
          <p:nvPr/>
        </p:nvCxnSpPr>
        <p:spPr>
          <a:xfrm flipH="1">
            <a:off x="5403600" y="2781360"/>
            <a:ext cx="74520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2" name="Прямая со стрелкой 26"/>
          <p:cNvCxnSpPr>
            <a:stCxn id="448" idx="6"/>
            <a:endCxn id="445" idx="1"/>
          </p:cNvCxnSpPr>
          <p:nvPr/>
        </p:nvCxnSpPr>
        <p:spPr>
          <a:xfrm>
            <a:off x="5866920" y="406692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3" name="Прямая со стрелкой 31"/>
          <p:cNvCxnSpPr/>
          <p:nvPr/>
        </p:nvCxnSpPr>
        <p:spPr>
          <a:xfrm>
            <a:off x="4605120" y="3009600"/>
            <a:ext cx="108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4" name="Прямая со стрелкой 34"/>
          <p:cNvCxnSpPr/>
          <p:nvPr/>
        </p:nvCxnSpPr>
        <p:spPr>
          <a:xfrm>
            <a:off x="4524120" y="4786200"/>
            <a:ext cx="108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780000" y="1773000"/>
            <a:ext cx="50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й из форм взаимосвязи логопеда и родителей являются индивидуальные тетради детей. Они заводятся на каждого ребёнка. Логопед записывает дату проведения занятия и примерное его содержание. 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тради оформляются красочно: логопед,  воспитатели или родители по заданию  наклеивают картинки, записывают стихи или рассказы. На выходные дни эти тетради отдаются родителям чтобы они повторяли задание дома, а в течении недели по этой тетради занимаются воспитател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заимодействие с родителями- залог успех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7" name="Picture 5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448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24000" y="1773360"/>
            <a:ext cx="84247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ечно, детский сад – не школа ,и строгой системы домашних заданий тут быть не может. Но есть целый ряд вопросов, задавая которые родитель  узнает уровень представлений своего ребёнка об окружающей жизни. Причём сами вопросы подобраны с учётом возрастных возможностей ребёнка и тех знаний, которые он должен усвоить в детском саду. Совокупность таких вопросов по какой – либо теме мы называем заданием.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ечно эти вопросы не для всех, а только для тех детей, у которых неравнодушны родители, т.е. родители, которые хотят: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нать что изучает ребёнок в детском саду, 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мочь ему или проверить его;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верстать пропущенное по болезни; 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мочь ребёнку закрепить пройденное;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нять неусвоенное год, два назад,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 ребёнка к школе.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жно помнить: ребёнку нужна помощь, а невыполнение заданий за него!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  <a:p>
            <a:pPr marL="223560" indent="-2235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выдаются  для ребёнка – чаще всего на закрепление поставленных звуков.</a:t>
            </a:r>
            <a:endParaRPr b="0" lang="en-US" sz="1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 задания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148360" y="3645000"/>
            <a:ext cx="3024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5364000" y="2421000"/>
            <a:ext cx="3391200" cy="40003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28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ЛОГОПЕД – 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Прямоугольник 2"/>
          <p:cNvSpPr/>
          <p:nvPr/>
        </p:nvSpPr>
        <p:spPr>
          <a:xfrm>
            <a:off x="571680" y="2071800"/>
            <a:ext cx="82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логопед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является координатором коррекционно-речевой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бот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в условиях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ОУ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организует интегративную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еятельность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всех участников коррекционно-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бразовательного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процесса, главными субъектами которого являются: ребенок с особыми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бразовательн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потребностями, педагогический коллектив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ОУ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родители ребенка-логоп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71560" y="1857240"/>
            <a:ext cx="7408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В период 15.02.2021 – 18.03.2021 года учителем-логопедом МДОБУ «ЦРР – детский сад «Оленёнок» проведено логопедическое обследование с целью своевременного выявления детей с нарушениями речи и оказания им целенаправленной коррекционной помощи. В ходе обследования выявлены следующие результаты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Всего обследовано - 112 детей, из них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Справка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по результатам логопедического  обследования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детей младшей, средней, старшей и подготовительной групп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 МДОБУ «ЦРР – детский сад «Олененок» г. Дальнегорск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с нормой речевого развития – 41 чел. (37 %)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!!! с нарушениями речи – 71 чел. (63%),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Candara"/>
              </a:rPr>
              <a:t>из общего количества обследованных детей: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с фонетическими нарушениями речи (ФНР) – 18 чел. (16 %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с фонетико-фонематическими нарушениями (ФФНР)– 42чел. (37 %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с общим недоразвитием речи (ОНР) – 11 чел. (10 %)</a:t>
            </a: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900000" y="2276280"/>
            <a:ext cx="74088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Отбор и комплектование детей с нарушениями речи на логопедические занятия детского сада производится по результатам диагностик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 algn="just"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ПМПК по отбору детей и комплектованию групп с нарушениями речи организовано и работает при Управлении образования 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 algn="just"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По окончанию заседаний ПМПК на основании заполненных протоколов составляются списки детей, нуждающихся в коррекционных занятиях 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925040" cy="13114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тбор и комплектование детей с нарушениями реч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68000" y="1844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не всегда слышат все дефекты в речи ребёнка. 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т такой области деятельности человека, где не нужна была бы речь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ая речь позволяет ребёнку легче достигать успеха в обществе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чь является элементом социальной адаптаци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ая речь снимает ограничения в выбранной профессии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считают, что плохая речь пройдет сама. К сожалению это не всегда так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людей с нарушениями речи часто формируются комплексы неполноценност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ребёнок смешивает звуки в произношении, то и писать будет также, потому что он сначала проговаривает то, что собирается написать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ля чего нужны занятия с логопедом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900000" y="2276640"/>
            <a:ext cx="7920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 занятиях - основная форма коррекционно-воспитательной работы с детьми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рограмме предусмотрены  3 типа заняти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ронтальные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групповые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рганизация логопедической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5746680" y="3909960"/>
            <a:ext cx="2735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Индивидуальные занятия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78920" y="1484280"/>
            <a:ext cx="849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: научить ребёнка овладеть правильной артикуляцией каждого изучаемого  звука и автоматизировать его в разных облегчённых фонетических условиях, т.е. изолированно, в слоге, в словах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433" name="Picture 8" descr="https://ds05.infourok.ru/uploads/ex/136b/000172fa-a2a78abe/img4.jpg"/>
          <p:cNvPicPr/>
          <p:nvPr/>
        </p:nvPicPr>
        <p:blipFill>
          <a:blip r:embed="rId1"/>
          <a:stretch/>
        </p:blipFill>
        <p:spPr>
          <a:xfrm>
            <a:off x="4572000" y="328608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3928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цель подгрупповых занятий – воспитание навыков коллективной работы. Состав подгрупп меняется по усмотрению логопеда в зависимости о динамики дошкольников в коррекции произнош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одгрупповые занятия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6" name="Picture 6" descr="https://r1.nubex.ru/s7650-cd5/f5262_37/d0b2d0b8d0bfd0b0d0b4d0bed0ba-d196d0b7-d0bfd180d0b0d0bad182d0b8d0bad0b8.jpg"/>
          <p:cNvPicPr/>
          <p:nvPr/>
        </p:nvPicPr>
        <p:blipFill>
          <a:blip r:embed="rId1"/>
          <a:stretch/>
        </p:blipFill>
        <p:spPr>
          <a:xfrm>
            <a:off x="10572840" y="12001680"/>
            <a:ext cx="6627600" cy="403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d0b2d0b8d0bfd0b0d0b4d0bed0ba-d196d0b7-d0bfd180d0b0d0bad182d0b8d0bad0b8"/>
          <p:cNvPicPr/>
          <p:nvPr/>
        </p:nvPicPr>
        <p:blipFill>
          <a:blip r:embed="rId2"/>
          <a:stretch/>
        </p:blipFill>
        <p:spPr>
          <a:xfrm>
            <a:off x="5214960" y="3571920"/>
            <a:ext cx="367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09:18:49Z</dcterms:created>
  <dc:creator>Натали</dc:creator>
  <dc:description/>
  <dc:language>en-US</dc:language>
  <cp:lastModifiedBy>Котов</cp:lastModifiedBy>
  <dcterms:modified xsi:type="dcterms:W3CDTF">2021-04-05T08:30:53Z</dcterms:modified>
  <cp:revision>33</cp:revision>
  <dc:subject/>
  <dc:title>Организация логопедической работы в детском са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