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5FF-8E01-4887-AB7E-9CCFB3DA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71B-44DF-41A0-B2B7-360DDFE7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5B9BC-8271-4EAF-8C5B-5BE277FF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C4C76-4ABE-4E53-87FB-E57A25CD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07707-5E64-44D1-96C0-F31802B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20745-E072-4BE0-A885-A8BEDAC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8E903-9B87-407B-891C-365DFEED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D8FE7-DCA6-4516-92ED-7CD090D1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B940F-0795-497B-947A-756840B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68B99-8C1E-4AAF-8AB2-23A6CFB3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66059-EB44-4677-BBC1-FD499AE0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C70-B6CF-4799-A146-95116D24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205-FBD8-4774-818F-7BB53EDE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86AF-2361-43A9-A98A-EE3C44C8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9A8A-E200-4F09-BCF3-6B87148E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2EF6-15D2-45EA-AE68-E9F8AD91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30FF-AC0B-4EA3-8824-4A589C2D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1E78-53A8-48C8-80E3-09C3009B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4A40-B4F4-4352-96C6-28E365C5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EB91-6A15-411D-BCEE-B2BE5D2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E95-4CD3-42AA-BCF2-7C350A2A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954B-6056-4903-8C4F-35CA0AA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A856-37BA-4D18-B3D1-AB6BB1F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AAEA-67C3-4C51-9F33-F57D7D00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1023-3ED5-4186-BE6F-C9282D8C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D0A5-73CA-46E7-AEB0-35EC184A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A497-B372-4487-808D-367A8335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7A44-685C-4D1E-A69F-BDF07E5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AE23-7DD4-47F2-89A0-0E0609A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49C7-3D89-4941-8D2E-F7484B5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BD56-5C3B-4761-9B2C-6886C121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BFA-3EB9-4EEE-B429-9E5919B2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1901-B57F-415C-967B-E857C671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FC82-F5AB-4877-B77C-AC690F51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5E2E-5A58-49E5-9ED3-64793452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0E4F-A26D-4BDF-9DB6-BC036CA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4744-9810-4CB0-B4B6-20C23781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FA25-7884-4D63-AC2A-35D80367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E1EA0-0B5D-4B26-A543-8369BAB1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E1E28-9621-4E08-B797-F7FF3F17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2A6C-5CC2-4D0E-B7D6-193E9635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6373-81C6-4DC4-84B6-DAE0D39F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45F-E4EA-42DA-AF60-4DEF8443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05BD-C74A-42EE-A895-E602D585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A1B0-437F-4112-88B4-9B343703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15EA-0718-45A2-BC6B-67344552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5C4E-333F-4580-BC3C-88FB3B40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63A44-BAA0-4D79-BCB2-3E10B65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E590-238C-44B3-A2CF-3C8901B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63E2-5994-43DD-8AA4-BD3F1073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7996B-4FE5-47F9-BE6C-89F2E58E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572E-637C-4E7D-AE20-70236656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21D2-192E-4610-89D6-7292C0CB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291-90EE-4D2A-A0EC-C732CE8C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7F44F-6DC0-499F-B7C6-15046E5A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A801-820C-4458-8BD1-2C6D8224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97FED-3D4A-4A1A-B1A7-794033E3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A595-E7ED-44B7-8AF5-ECE0AE1F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B410A-67BC-49F3-85E2-E633AA2C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12428-9F2D-4787-8EBA-4B91706C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F111-A633-4EC2-AD78-49259690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A8E1-3DFB-400A-9002-A62E3C7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0F730-E4B1-440F-923C-C8049D7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9468-FC36-4330-8782-0E555C33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1CC-819A-48F4-AE1E-68347CEC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8C91A-49B2-4DCB-AA56-BD04D178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68C5-114C-45DA-A2F7-C28078AB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FA9D9-EAD5-4612-80AA-0E4178F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0152A-2690-4972-BB1B-8FA35DA5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E08C8-2B2E-4EC1-BC0F-C5B9A6F6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1216E-E911-4159-B98A-9E97AD2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F298E-4DFC-40D1-BB3E-4CECFC86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6714D-CF0E-4AA2-AE65-549D3A07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1F193-A61C-4C6E-9AD0-3001CC8E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2F29-9DD1-4CCF-9E7B-9F9DC7BE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FD5-3B88-4D0B-95DE-AA13E73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0773C-C45A-4902-B717-AE316C7B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AF74-A7BB-4486-887E-EB9306F3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EA602-4AC3-4F94-A251-14D0D047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913AA-FF0D-42CB-8482-E59830E9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A5172-02B2-401F-B9CA-D2061D49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EB062-117B-451B-9386-3A7E0D11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2A3A1-B1D1-47B7-A9A7-DD6477CB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CBB4E-E9BA-4B83-B7D1-EE0ECCE6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350B-0DA9-459D-96F0-CA74ABA2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9F128-CF82-4842-B31A-6F8229BD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B4B-23D0-4287-A53F-6F35A52F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C1F10-2783-4D5A-B5A9-398EB69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FC0E6-7283-48EE-BC42-17736EE0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FAAD0-059E-4CE9-A52B-7F98068E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37A64-B90A-4894-BFAA-454F5C9B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8A0C5-BA94-43C4-B353-20337A80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648E0-859A-4980-8386-1ED3D988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A4B14-D164-4890-A5B2-75FADFA2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BDEE8-4872-401B-873E-6CFED4CF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F3A52-6883-496C-9597-C4EBB532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4A79D-B9FB-4E02-9962-19CC9661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13C-29E9-4B6C-83BA-878F4ED8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A1D4-BA07-4B03-AAC7-510E5C2C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9DD7E-337C-44A7-884C-CAE9F38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6A3FD-850E-4A6D-BE82-1EBA5A1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96200-AE99-4D14-80D6-68E1DD4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CEBB-B376-4494-9773-560DDF6B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BA1A0-94B8-4217-9FF2-D63ABC72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A096-8AB6-4F20-9FC6-6FFFF4EC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1457D-7E92-48DC-A9D8-08639B37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F3E2F-2646-4908-9B54-1FA9598D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A612F-57D5-4188-B81A-7381A74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dfc08d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CAFA-AF88-4D9E-AC84-85FA6370FFDD}" type="slidenum">
              <a:rPr b="0" lang="ru-RU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660A-51C8-47BD-A70B-499DAEEA362F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dfc08d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1CD6-9CCC-437A-9A4B-14A523DB63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32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1E68-69A6-4C83-B4BE-BF46D7CD48F2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1CC-43F7-4216-8D0E-9DBDDDA8E5B4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27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15F-AAA4-4A54-BAA1-CB8123C2EEE0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75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D394-BB1B-4664-99B4-AF1FDC5F41AD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23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B17C-6022-4D3E-8E76-4524F7EBEACE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71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3A4F-E5A0-401D-A79A-B9360AFF77D4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5694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рганизация логопедической работы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 детском саду</a:t>
            </a:r>
            <a:endParaRPr b="0" lang="en-US" sz="4800" spc="-1" strike="noStrike">
              <a:solidFill>
                <a:srgbClr val="dfc08d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402920" y="333000"/>
            <a:ext cx="6140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униципальное дошкольное образовательное бюджетное учреждение Центр Развития Ребенка детский сад «Олененок»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116000" y="620640"/>
            <a:ext cx="7408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ndara"/>
              </a:rPr>
              <a:t>Фронтальные занятия </a:t>
            </a:r>
            <a:endParaRPr b="0" lang="en-US" sz="4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ронтальные занятия проводится в утренние часы, их количество зависит от периода обуч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усматривают усвоение произношения звуков и активное использование их в различных формах самостоятельной речи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временно обеспечивают дальнейшее расширение речевой практики детей в процессе ознакомление с окружающим миром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яют ребёнка благоприятные условия для ознакомления с родным языком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900000" y="1773360"/>
            <a:ext cx="7408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психические процессы память, внимание, мышл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огащать уточнять и активизировать словарь по лексическим темам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ать над усвоением грамматических средств язык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фонематические процессы: фонематический слух и фонематическое восприят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ть правильное звукопроизнош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связную реч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дачи коррекционного обуч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заимодействие логопеда и воспитател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Прямоугольник 6"/>
          <p:cNvSpPr/>
          <p:nvPr/>
        </p:nvSpPr>
        <p:spPr>
          <a:xfrm>
            <a:off x="3570120" y="1851120"/>
            <a:ext cx="2067120" cy="115092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ланирование работы совместно  с логопед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оугольник 9"/>
          <p:cNvSpPr/>
          <p:nvPr/>
        </p:nvSpPr>
        <p:spPr>
          <a:xfrm>
            <a:off x="755640" y="3500280"/>
            <a:ext cx="1959120" cy="164340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ррекционная работа воспитателя над речью детей в процессе занятий по изодеятельности и матема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10"/>
          <p:cNvSpPr/>
          <p:nvPr/>
        </p:nvSpPr>
        <p:spPr>
          <a:xfrm>
            <a:off x="6227640" y="1860480"/>
            <a:ext cx="2067120" cy="115272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нятия по развитию ре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11"/>
          <p:cNvSpPr/>
          <p:nvPr/>
        </p:nvSpPr>
        <p:spPr>
          <a:xfrm>
            <a:off x="6257880" y="3490920"/>
            <a:ext cx="2067120" cy="115236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воспитателя за речью детей в свободное врем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12"/>
          <p:cNvSpPr/>
          <p:nvPr/>
        </p:nvSpPr>
        <p:spPr>
          <a:xfrm>
            <a:off x="6305400" y="5157720"/>
            <a:ext cx="2065320" cy="115092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богащение речевой практики детей в процессе режимных моме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13"/>
          <p:cNvSpPr/>
          <p:nvPr/>
        </p:nvSpPr>
        <p:spPr>
          <a:xfrm>
            <a:off x="3492360" y="5172120"/>
            <a:ext cx="2065320" cy="115092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существление воспитателя связи логопеда с родителя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Овал 14"/>
          <p:cNvSpPr/>
          <p:nvPr/>
        </p:nvSpPr>
        <p:spPr>
          <a:xfrm>
            <a:off x="3457440" y="3346560"/>
            <a:ext cx="2409840" cy="1439640"/>
          </a:xfrm>
          <a:prstGeom prst="ellipse">
            <a:avLst/>
          </a:prstGeom>
          <a:solidFill>
            <a:srgbClr val="007e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ая взаимосвязь в работе логопеда и воспитател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Прямая со стрелкой 17"/>
          <p:cNvCxnSpPr/>
          <p:nvPr/>
        </p:nvCxnSpPr>
        <p:spPr>
          <a:xfrm>
            <a:off x="5636880" y="4594320"/>
            <a:ext cx="7498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0" name="Прямая со стрелкой 19"/>
          <p:cNvCxnSpPr/>
          <p:nvPr/>
        </p:nvCxnSpPr>
        <p:spPr>
          <a:xfrm flipV="1">
            <a:off x="2714760" y="4142520"/>
            <a:ext cx="88632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1" name="Прямая со стрелкой 21"/>
          <p:cNvCxnSpPr/>
          <p:nvPr/>
        </p:nvCxnSpPr>
        <p:spPr>
          <a:xfrm flipH="1">
            <a:off x="5403600" y="2781360"/>
            <a:ext cx="74520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2" name="Прямая со стрелкой 26"/>
          <p:cNvCxnSpPr>
            <a:stCxn id="448" idx="6"/>
            <a:endCxn id="445" idx="1"/>
          </p:cNvCxnSpPr>
          <p:nvPr/>
        </p:nvCxnSpPr>
        <p:spPr>
          <a:xfrm>
            <a:off x="5866920" y="406692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3" name="Прямая со стрелкой 31"/>
          <p:cNvCxnSpPr/>
          <p:nvPr/>
        </p:nvCxnSpPr>
        <p:spPr>
          <a:xfrm>
            <a:off x="4605120" y="3009600"/>
            <a:ext cx="108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4" name="Прямая со стрелкой 34"/>
          <p:cNvCxnSpPr/>
          <p:nvPr/>
        </p:nvCxnSpPr>
        <p:spPr>
          <a:xfrm>
            <a:off x="4524120" y="4786200"/>
            <a:ext cx="108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780000" y="1773000"/>
            <a:ext cx="50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й из форм взаимосвязи логопеда и родителей являются индивидуальные тетради детей. Они заводятся на каждого ребёнка. Логопед записывает дату проведения занятия и примерное его содержание. 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тради оформляются красочно: логопед,  воспитатели или родители по заданию  наклеивают картинки, записывают стихи или рассказы. На выходные дни эти тетради отдаются родителям чтобы они повторяли задание дома, а в течении недели по этой тетради занимаются воспитател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заимодействие с родителями- залог успех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7" name="Picture 5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448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24000" y="1773360"/>
            <a:ext cx="84247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ечно, детский сад – не школа ,и строгой системы домашних заданий тут быть не может. Но есть целый ряд вопросов, задавая которые родитель  узнает уровень представлений своего ребёнка об окружающей жизни. Причём сами вопросы подобраны с учётом возрастных возможностей ребёнка и тех знаний, которые он должен усвоить в детском саду. Совокупность таких вопросов по какой – либо теме мы называем заданием.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ечно эти вопросы не для всех, а только для тех детей, у которых неравнодушны родители, т.е. родители, которые хотят: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нать что изучает ребёнок в детском саду, 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мочь ему или проверить его;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верстать пропущенное по болезни; 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мочь ребёнку закрепить пройденное;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нять неусвоенное год, два назад,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 ребёнка к школе.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жно помнить: ребёнку нужна помощь, а невыполнение заданий за него!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выдаются  для ребёнка – чаще всего на закрепление поставленных звуков.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 задания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148360" y="3645000"/>
            <a:ext cx="3024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5364000" y="2421000"/>
            <a:ext cx="3391200" cy="40003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28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ЛОГОПЕД – 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Прямоугольник 2"/>
          <p:cNvSpPr/>
          <p:nvPr/>
        </p:nvSpPr>
        <p:spPr>
          <a:xfrm>
            <a:off x="571680" y="2071800"/>
            <a:ext cx="82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логопед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является координатором коррекционно-речевой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бот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в условиях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ОУ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организует интегративную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еятельность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всех участников коррекционно-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бразовательного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процесса, главными субъектами которого являются: ребенок с особыми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бразовательн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потребностями, педагогический коллектив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ОУ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родители ребенка-логоп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71560" y="1857240"/>
            <a:ext cx="7408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В период 15.02.2021 – 18.03.2021 года учителем-логопедом МДОБУ «ЦРР – детский сад «Оленёнок» проведено логопедическое обследование с целью своевременного выявления детей с нарушениями речи и оказания им целенаправленной коррекционной помощи. В ходе обследования выявлены следующие результаты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Всего обследовано - 112 детей, из них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Справка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по результатам логопедического  обследования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детей младшей, средней, старшей и подготовительной групп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 МДОБУ «ЦРР – детский сад «Олененок» г. Дальнегорск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с нормой речевого развития – 41 чел. (37 %)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!!! с нарушениями речи – 71 чел. (63%),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Candara"/>
              </a:rPr>
              <a:t>из общего количества обследованных детей: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с фонетическими нарушениями речи (ФНР) – 18 чел. (16 %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с фонетико-фонематическими нарушениями (ФФНР)– 42чел. (37 %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с общим недоразвитием речи (ОНР) – 11 чел. (10 %)</a:t>
            </a: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900000" y="2276280"/>
            <a:ext cx="74088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Отбор и комплектование детей с нарушениями речи на логопедические занятия детского сада производится по результатам диагностик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 algn="just"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ПМПК по отбору детей и комплектованию групп с нарушениями речи организовано и работает при Управлении образования 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 algn="just"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По окончанию заседаний ПМПК на основании заполненных протоколов составляются списки детей, нуждающихся в коррекционных занятиях 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925040" cy="13114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тбор и комплектование детей с нарушениями реч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68000" y="1844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не всегда слышат все дефекты в речи ребёнка. 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т такой области деятельности человека, где не нужна была бы речь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ая речь позволяет ребёнку легче достигать успеха в обществе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чь является элементом социальной адаптаци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ая речь снимает ограничения в выбранной профессии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считают, что плохая речь пройдет сама. К сожалению это не всегда так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людей с нарушениями речи часто формируются комплексы неполноценност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ребёнок смешивает звуки в произношении, то и писать будет также, потому что он сначала проговаривает то, что собирается написать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ля чего нужны занятия с логопедом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900000" y="2276640"/>
            <a:ext cx="7920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 занятиях - основная форма коррекционно-воспитательной работы с детьми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рограмме предусмотрены  3 типа заняти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ронтальные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групповые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рганизация логопедической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5746680" y="3909960"/>
            <a:ext cx="2735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Индивидуальные занятия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78920" y="1484280"/>
            <a:ext cx="849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: научить ребёнка овладеть правильной артикуляцией каждого изучаемого  звука и автоматизировать его в разных облегчённых фонетических условиях, т.е. изолированно, в слоге, в словах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433" name="Picture 8" descr="https://ds05.infourok.ru/uploads/ex/136b/000172fa-a2a78abe/img4.jpg"/>
          <p:cNvPicPr/>
          <p:nvPr/>
        </p:nvPicPr>
        <p:blipFill>
          <a:blip r:embed="rId1"/>
          <a:stretch/>
        </p:blipFill>
        <p:spPr>
          <a:xfrm>
            <a:off x="4572000" y="328608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3928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цель подгрупповых занятий – воспитание навыков коллективной работы. Состав подгрупп меняется по усмотрению логопеда в зависимости о динамики дошкольников в коррекции произнош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одгрупповые занятия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6" name="Picture 6" descr="https://r1.nubex.ru/s7650-cd5/f5262_37/d0b2d0b8d0bfd0b0d0b4d0bed0ba-d196d0b7-d0bfd180d0b0d0bad182d0b8d0bad0b8.jpg"/>
          <p:cNvPicPr/>
          <p:nvPr/>
        </p:nvPicPr>
        <p:blipFill>
          <a:blip r:embed="rId1"/>
          <a:stretch/>
        </p:blipFill>
        <p:spPr>
          <a:xfrm>
            <a:off x="10572840" y="12001680"/>
            <a:ext cx="6627600" cy="403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d0b2d0b8d0bfd0b0d0b4d0bed0ba-d196d0b7-d0bfd180d0b0d0bad182d0b8d0bad0b8"/>
          <p:cNvPicPr/>
          <p:nvPr/>
        </p:nvPicPr>
        <p:blipFill>
          <a:blip r:embed="rId2"/>
          <a:stretch/>
        </p:blipFill>
        <p:spPr>
          <a:xfrm>
            <a:off x="5214960" y="3571920"/>
            <a:ext cx="367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09:18:49Z</dcterms:created>
  <dc:creator>Натали</dc:creator>
  <dc:description/>
  <dc:language>en-US</dc:language>
  <cp:lastModifiedBy>Котов</cp:lastModifiedBy>
  <dcterms:modified xsi:type="dcterms:W3CDTF">2021-04-05T08:30:53Z</dcterms:modified>
  <cp:revision>33</cp:revision>
  <dc:subject/>
  <dc:title>Организация логопедической работы в детском са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