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404-1601-4BAF-A950-5A104D3F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915-C31D-4B58-AFDE-E83408F7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BA2-BDB4-48C8-8B1A-85E6157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152-764A-49D8-A005-1EB91D45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AF9-5B2E-4F4F-A370-74A33E12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EB89-862C-456A-A2AC-32831BD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E59-BD86-4187-8976-AB45FBF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E2F6-802B-42AF-B711-8E6AA80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7BE-59B3-417E-9484-0CE2D6C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49C-F3BD-4A12-A923-E8A284BF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F2E5-7190-4EFE-A452-188BFAF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775-A3CE-43A6-A8DF-771FA36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F64C-BEB0-4AB6-BACB-D1192F6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620A-6B04-4D2F-9DB9-DBC6EB3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4555-1877-49AD-9361-4F8405B9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2235-1F65-4B19-BAD2-F0BD58B4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4C2C-7581-4FF5-8C12-5728669C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CE3-3096-426F-BD1C-BBA66DB9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08D-3BCA-45B4-9691-61AE70A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BBF-ED65-4961-AF5D-B6594A0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81E-3448-4699-A673-187C9341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080-39D0-48B6-815A-E4C4D246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19B-8588-408A-A35C-AAE59AD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28-063E-4EA0-A20E-486AA9E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45A4-C1A9-4592-9D2F-94F3ADE05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20FD-0B8C-4D14-9383-7BAFFFB533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doni MT Black"/>
              </a:rPr>
              <a:t>Воспитательная цел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360" y="3716280"/>
            <a:ext cx="619128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Школа – это мастерская, где формируется мысль подрастающего поколения, надо крепко держать её в руках, если не хочешь выпустить из рук будуще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А. Барбю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79640" y="5229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едагогический сове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9 марта 2018 г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.Л. Сенчё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Особенности воспитатель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072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оспитывающее обучение –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это такое обучение, в процессе которого организуется целенаправлен-ное  формирование  запланированных  педагогом отношений   учащихся   к   различным   явлениям окружающей  жизни, с которыми  ученик сталки-вается  на  уро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скольку становление отношений происходит не в один момент и не на одном уроке, т.е. для их формирования    необходимо    время,    поэтому внимание  педагога  к  воспитательной  цели и 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дачам  должно  быть  постоянны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199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 какими  же  нравственными  объектами вступает ученик во взаимодействие на уроке.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деляют пять таких объек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. Воспитание через отношение к окружающ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гуман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скром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оварищество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исциплиниров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т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еликат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ест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вежлив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питание через самовоспит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62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горд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исциплиниров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скром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аккура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ребовательность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сов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 себе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увство собствен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ого достоинств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тношение  ученика  к  обществу  и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коллекти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чувство долг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забоченность неудач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рудолюбие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товарищ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совест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- радость сопережи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х успех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питание  трудолюб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696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тепень ответственности при выполнении домашних задан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дготовка своего рабочего мес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исциплинированность и собр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ч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серд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оспитание  патриотиз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добросовест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ствен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чувстве гордости за ее успех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забоченности ее трудност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желании достичь наивысших успехов в умственном развитии, чтобы принести ей польз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бщем отношении к учению и своему учебному тру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ажнейшее  значение  в  реализации  зад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ания в образовательном процессе имее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использование педагогических технологий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орм  организации  учебной 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оявление собственной социально-нравственной пози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сширение социального опыта школьник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бор  форм  и  методов  учебной,  творческ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актической 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рок в жизни ребенка – это ур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жизни для нег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бенок с разных сторон изучает окружающий его мир, прикасаясь к источникам духовности, науке, искусству, морали. Педагог средствами своего   предмета    рассказывает    школьнику современное   видение   жизни,   формулирует отношение  к  различным  явлениям, направляет полученные знания на практическую деятель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3454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ро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является  одной  из  самых  важных    составляющих  процесса  воспитания  ребенк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br>
              <a:rPr sz="10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  уроке дети учатся работать, анализировать   явления, утверждают свое «Я», обретая  само- оценку  и  способность  к  саморегулированию    поведения   и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временная  школа  должна  выявлять и акти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ализовывать   воспитательный    потенциал    все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бразовательных  областей  и  предме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204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спитательные  задачи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общеобразовательных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дисципл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илологическое образова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бщественные нау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Естественно-научное образова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редметы области «Искусство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изическая культу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лол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81342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бладает  особым  потенциалом  в  духовно-нравственном  воспитании  личности, развитии ее моральных качеств,  гражданского сознания, коммуникативных способностей, эмоциональ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ценностного отношения к окружающему миру, эстетической культур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едметы    этого     цикла     предоставляют школьникам образцы нравственного поведения, духовной    культуры    личности,    расширяют позитивный     социальный     опыт     детей    и подрост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бщественные на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сваивая общественные науки, школьники получают историческую, социальную, географи-ческую информацию, которая позволяет учащимся обогатить их знания о человеке, об основных этапах истории  человечества, о закономерностях  челове-ческого  развития  России, о географической среде, об  основных  областях  общественной  жиз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ательный потенциал обществоведческих дисциплин связан с задачами социальной адаптации учащихся,   с   обеспечением   их   способ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циальной   мобильности   в   быстро меняющихся  жизненных  условиях. Наиболее полному  решению  задач воспитания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пособствует   реализация   учащимися   собственной гражданской позиции. Необходимо включение детей  и  подростков  в  деятельность   органов школьного   самоуправления,  предоставления школьникам  опыта  политических  дискуссий, личного    участия    в    социально    значимой деятельности  объединений,  музеев  и 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20108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Естественно-научное образ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83628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дной  из  ведущих  идей  модернизации естественно-научного  образования  является усиление  его  общекультурного  знания,  что способствует   повышению   воспитательного потенциала  содержания  учебных  программ.  В процессе формирования у школьников физичес-ких, химических, биологических, географических и  экологических  знаний,  при  освоении  учащи-ми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стественно-научного    метода    познания необходим акцент на воспитание эмоционально-ценностного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ношения   к   природе,   чувства ответственности   за   развитие    биосферы,   за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экологическое  благополучие  план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едметы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бласти «Искусств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могают  реализовывать  целый  комплекс воспитательных задач. Дисциплины этого цикла направлены на развитие у учащихся способности эмоционально  реагировать на  культурно-эстети-ческие достижения народов разных стран, умения понимать   и   оценивать   творения    художников разных  эпох.  Воспитание  учащихся  на  лучших традициях   отечественной  и  мировой   культуры позволяет  приобщать их  к духовно-нравстенным ценностям.   Знакомство  школьников  с  разными видами  искусств, живописью, музыкой, архитек-турой содействует воспитанию личности, готовой бережно  относиться к богатствам цивилизации, 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бственной  национальной  культу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Является  одной  из составляющих  общей культуры человечества, во многом определяет его  отношение  к  учебе,  поведение  в быту, в общ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нятие  физической  культурой и спортом необходимо   рассматривать  как  эффективное средство   решения    задач    нравственного   и патриотического   воспитания  подрастающего поко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8:46:54Z</dcterms:created>
  <dc:creator>User</dc:creator>
  <dc:description/>
  <dc:language>en-US</dc:language>
  <cp:lastModifiedBy>Сенченок Е_Л</cp:lastModifiedBy>
  <dcterms:modified xsi:type="dcterms:W3CDTF">2021-06-04T10:39:10Z</dcterms:modified>
  <cp:revision>8</cp:revision>
  <dc:subject/>
  <dc:title>Воспитательная цель урока</dc:title>
</cp:coreProperties>
</file>