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8F9-A29B-4C82-B46B-3E0DE405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4FE-660C-4272-98D4-660DEF6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49E-9031-4451-A05D-AD6CD9B3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119-7827-4DD2-824A-873FD6A1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19DE-7900-41ED-8EEE-F8A6EDEA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F974-3F48-4BFD-A633-1B1F05CA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B1E7-1727-431A-8DCF-BE0BADD1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75E8-5279-419E-A981-FA8E42BD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A9E1-7309-4E8E-82A8-725A8836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AA5F-9AE4-4ABA-9AE8-81DDDDBE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B2D9-6505-4FEA-ACB4-37AA860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B1B-36F7-4734-8EE3-ED77AFF1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55E5-18A0-4DED-8CBF-2D96D1D8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82BD-F246-4228-B7FA-6471CB2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A176-9160-4689-A48A-7C73D9FF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249A-81EE-48B5-9044-F8463441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7D04-418B-442A-8428-A292E089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ED6-0704-4285-B7D7-2473D7BD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F35-19BC-4EA1-80CF-862EE591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602-5D34-4339-936E-8798261D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2EB-C29B-4DB1-9625-BC07196B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6CB-AF0B-475A-AB79-1C65A886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E35-8165-4EF7-B3BB-A19FBD9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5F8-5FF5-4C16-A3B7-BBEFF14B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94B2-6C73-4877-9C63-BC93061601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583E-AB94-4FB5-B0BB-73AA52FB56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doni MT Black"/>
              </a:rPr>
              <a:t>Воспитательная цел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360" y="3716280"/>
            <a:ext cx="619128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Школа – это мастерская, где формируется мысль подрастающего поколения, надо крепко держать её в руках, если не хочешь выпустить из рук будуще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А. Барбю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979640" y="522936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едагогический сове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9 марта 2018 г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.Л. Сенчё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Особенности воспитательного обу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0728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оспитывающее обучение –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это такое обучение, в процессе которого организуется целенаправлен-ное  формирование  запланированных  педагогом отношений   учащихся   к   различным   явлениям окружающей  жизни, с которыми  ученик сталки-вается  на  урок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скольку становление отношений происходит не в один момент и не на одном уроке, т.е. для их формирования    необходимо    время,    поэтому внимание  педагога  к  воспитательной  цели и 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адачам  должно  быть  постоянны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199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 какими  же  нравственными  объектами вступает ученик во взаимодействие на уроке.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ыделяют пять таких объект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. Воспитание через отношение к окружающи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гуман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скром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товарищество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исциплинирова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оброта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ответств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еликат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чест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вежлив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спитание через самовоспит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0629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горд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исциплинирова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скром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аккурат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требовательность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обросовест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 себе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ответствен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чувство собствен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ого достоинства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тношение  ученика  к  обществу  и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коллектив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чувство долга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чест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ответствен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озабоченность неудач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трудолюбие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товарищ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добросовестность;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- радость сопережи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их успех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спитание  трудолюб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696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тепень ответственности при выполнении домашних задани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дготовка своего рабочего мест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исциплинированность и собра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чест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серд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оспитание  патриотиз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добросовест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тветствен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чувстве гордости за ее успех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забоченности ее трудност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желании достичь наивысших успехов в умственном развитии, чтобы принести ей пользу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бщем отношении к учению и своему учебному тру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8281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ажнейшее  значение  в  реализации  зада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оспитания в образовательном процессе имее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использование педагогических технологий 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орм  организации  учебной  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оявление собственной социально-нравственной пози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сширение социального опыта школьнико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ыбор  форм  и  методов  учебной,  творческо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актической  дея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рок в жизни ребенка – это уро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жизни для нег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ебенок с разных сторон изучает окружающий его мир, прикасаясь к источникам духовности, науке, искусству, морали. Педагог средствами своего   предмета    рассказывает    школьнику современное   видение   жизни,   формулирует отношение  к  различным  явлениям, направляет полученные знания на практическую деятель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34544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ро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является  одной  из  самых  важных    составляющих  процесса  воспитания  ребенка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br>
              <a:rPr sz="10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а  уроке дети учатся работать, анализировать   явления, утверждают свое «Я», обретая  само- оценку  и  способность  к  саморегулированию    поведения   и дея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овременная  школа  должна  выявлять и актив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еализовывать   воспитательный    потенциал    все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бразовательных  областей  и  предмет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204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оспитательные  задачи</a:t>
            </a:r>
            <a:r>
              <a:rPr b="1" i="1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общеобразовательных</a:t>
            </a:r>
            <a:r>
              <a:rPr b="1" i="1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дисципл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Филологическое образова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бщественные нау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Естественно-научное образова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редметы области «Искусство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Физическая культу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Филол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980640"/>
            <a:ext cx="81342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бладает  особым  потенциалом  в  духовно-нравственном  воспитании  личности, развитии ее моральных качеств,  гражданского сознания, коммуникативных способностей, эмоциональ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ценностного отношения к окружающему миру, эстетической культур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едметы    этого     цикла     предоставляют школьникам образцы нравственного поведения, духовной    культуры    личности,    расширяют позитивный     социальный     опыт     детей    и подрост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бщественные нау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сваивая общественные науки, школьники получают историческую, социальную, географи-ческую информацию, которая позволяет учащимся обогатить их знания о человеке, об основных этапах истории  человечества, о закономерностях  челове-ческого  развития  России, о географической среде, об  основных  областях  общественной  жиз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оспитательный потенциал обществоведческих дисциплин связан с задачами социальной адаптации учащихся,   с   обеспечением   их   способн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оциальной   мобильности   в   быстро меняющихся  жизненных  условиях. Наиболее полному  решению  задач воспитания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пособствует   реализация   учащимися   собственной гражданской позиции. Необходимо включение детей  и  подростков  в  деятельность   органов школьного   самоуправления,  предоставления школьникам  опыта  политических  дискуссий, личного    участия    в    социально    значимой деятельности  объединений,  музеев  и  д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201080" cy="5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Естественно-научное образ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836280"/>
            <a:ext cx="8134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дной  из  ведущих  идей  модернизации естественно-научного  образования  является усиление  его  общекультурного  знания,  что способствует   повышению   воспитательного потенциала  содержания  учебных  программ.  В процессе формирования у школьников физичес-ких, химических, биологических, географических и  экологических  знаний,  при  освоении  учащи-ми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естественно-научного    метода    познания необходим акцент на воспитание эмоционально-ценностного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тношения   к   природе,   чувства ответственности   за   развитие    биосферы,   за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экологическое  благополучие  плане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едметы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бласти «Искусство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могают  реализовывать  целый  комплекс воспитательных задач. Дисциплины этого цикла направлены на развитие у учащихся способности эмоционально  реагировать на  культурно-эстети-ческие достижения народов разных стран, умения понимать   и   оценивать   творения    художников разных  эпох.  Воспитание  учащихся  на  лучших традициях   отечественной  и  мировой   культуры позволяет  приобщать их  к духовно-нравстенным ценностям.   Знакомство  школьников  с  разными видами  искусств, живописью, музыкой, архитек-турой содействует воспитанию личности, готовой бережно  относиться к богатствам цивилизации, 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обственной  национальной  культур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Физическая куль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96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Является  одной  из составляющих  общей культуры человечества, во многом определяет его  отношение  к  учебе,  поведение  в быту, в общен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анятие  физической  культурой и спортом необходимо   рассматривать  как  эффективное средство   решения    задач    нравственного   и патриотического   воспитания  подрастающего поко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8:46:54Z</dcterms:created>
  <dc:creator>User</dc:creator>
  <dc:description/>
  <dc:language>en-US</dc:language>
  <cp:lastModifiedBy>Сенченок Е_Л</cp:lastModifiedBy>
  <dcterms:modified xsi:type="dcterms:W3CDTF">2021-06-04T10:39:10Z</dcterms:modified>
  <cp:revision>8</cp:revision>
  <dc:subject/>
  <dc:title>Воспитательная цель урока</dc:title>
</cp:coreProperties>
</file>