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B1C-9501-428E-A57E-516DE6C4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BBC-0355-4A0D-8FA3-200348B9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270-DBDB-4989-80B4-C8CEFA4E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E46-6A12-4C74-AFD9-281F2BD6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5E2A-54E3-4EAD-AC1E-B5E8F732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4B75-4A7A-4DBE-ABAF-97CCDE3B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F6B5-AF5B-4E50-98A2-BC53BBDB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91B9-03AF-410D-BB36-AD294565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CB7B-31E8-409E-B313-2A3E5437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B2A3-0681-4FA0-AD1B-447043ED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C160-8F8A-402D-93E0-4E036DA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913-01BC-4F03-B0FA-5BFA90D6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648B-DDF9-42D5-9B9E-60F1A593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25B2-06B0-4D1A-AE3F-23CAF321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A9BB-060F-4F8E-8E74-3D4DF285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B5B5-1B74-402D-9994-AA04C73D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C851-0150-4234-BD2B-AE65B013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9D8-EB55-4FFB-9538-3A8D67D3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0BC-2601-4C75-8CE8-622B6BC8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48C-A8CD-4D39-AF33-6EECA66C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F0E-B156-42E4-B99D-1B8F7E4D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7E0-DB7A-450A-830F-F9BDEEB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440-0D53-46F9-A819-865826D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C84-E3DA-4726-99BB-BD973CCC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66"/>
            </a:gs>
            <a:gs pos="50000">
              <a:srgbClr val="6699ff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B289-4BC8-4AAA-B264-1F24CCAA30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66"/>
            </a:gs>
            <a:gs pos="50000">
              <a:srgbClr val="6699ff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6C78-FC7E-4E32-AF10-5180166A05F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7643880" cy="36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Презентация </a:t>
            </a: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по теме баскетбол</a:t>
            </a: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 в 7 классе.</a:t>
            </a:r>
            <a:endParaRPr b="0" lang="en-US" sz="7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Picture 8" descr="1363512sm"/>
          <p:cNvPicPr/>
          <p:nvPr/>
        </p:nvPicPr>
        <p:blipFill>
          <a:blip r:embed="rId2"/>
          <a:stretch/>
        </p:blipFill>
        <p:spPr>
          <a:xfrm>
            <a:off x="0" y="574200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11467800"/>
            <a:ext cx="244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6" name="Picture 5" descr="ведение2"/>
          <p:cNvPicPr/>
          <p:nvPr/>
        </p:nvPicPr>
        <p:blipFill>
          <a:blip r:embed="rId1"/>
          <a:stretch/>
        </p:blipFill>
        <p:spPr>
          <a:xfrm>
            <a:off x="96840" y="1197000"/>
            <a:ext cx="88678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игра1"/>
          <p:cNvPicPr/>
          <p:nvPr/>
        </p:nvPicPr>
        <p:blipFill>
          <a:blip r:embed="rId1"/>
          <a:stretch/>
        </p:blipFill>
        <p:spPr>
          <a:xfrm>
            <a:off x="611280" y="907920"/>
            <a:ext cx="806616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*Обучение броска одной рукой  от плеч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50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47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ff47"/>
                </a:solidFill>
                <a:latin typeface="Times New Roman"/>
              </a:rPr>
              <a:t>Игра- «Мяч - капитану»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 делится на две команды и встают в круги. В каждой команде выбирается один капитан. По сигналу учителя, капитан начинает передачи  от груди первому из команды, а он обратно передает мяч капитану и так до тех пор, пока все не сделают передачу капитану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0508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ключительная часть: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95640" y="1988640"/>
            <a:ext cx="40384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строе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ведение итог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ставление оцен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рганизованный ух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basket"/>
          <p:cNvPicPr/>
          <p:nvPr/>
        </p:nvPicPr>
        <p:blipFill>
          <a:blip r:embed="rId1"/>
          <a:stretch/>
        </p:blipFill>
        <p:spPr>
          <a:xfrm>
            <a:off x="6227640" y="1844640"/>
            <a:ext cx="2562480" cy="15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nba"/>
          <p:cNvPicPr/>
          <p:nvPr/>
        </p:nvPicPr>
        <p:blipFill>
          <a:blip r:embed="rId2"/>
          <a:stretch/>
        </p:blipFill>
        <p:spPr>
          <a:xfrm>
            <a:off x="23760" y="3122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wade 2"/>
          <p:cNvPicPr/>
          <p:nvPr/>
        </p:nvPicPr>
        <p:blipFill>
          <a:blip r:embed="rId3"/>
          <a:stretch/>
        </p:blipFill>
        <p:spPr>
          <a:xfrm>
            <a:off x="6643800" y="4149720"/>
            <a:ext cx="17301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baner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адачи уро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8435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Совершенствование ловли мяча и передачи мяч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Совершенствование  ведению мя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Обучение броска одной рукой от пле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Развитие двигательных качеств посредством игры «Мяч- капитану»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wade"/>
          <p:cNvPicPr/>
          <p:nvPr/>
        </p:nvPicPr>
        <p:blipFill>
          <a:blip r:embed="rId2"/>
          <a:stretch/>
        </p:blipFill>
        <p:spPr>
          <a:xfrm>
            <a:off x="6732720" y="1989000"/>
            <a:ext cx="2046240" cy="2705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1212318sm"/>
          <p:cNvPicPr/>
          <p:nvPr/>
        </p:nvPicPr>
        <p:blipFill>
          <a:blip r:embed="rId3"/>
          <a:stretch/>
        </p:blipFill>
        <p:spPr>
          <a:xfrm>
            <a:off x="0" y="592308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0" descr="photo5"/>
          <p:cNvPicPr/>
          <p:nvPr/>
        </p:nvPicPr>
        <p:blipFill>
          <a:blip r:embed="rId1"/>
          <a:stretch/>
        </p:blipFill>
        <p:spPr>
          <a:xfrm>
            <a:off x="6829560" y="3213000"/>
            <a:ext cx="2314440" cy="3240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Ход урока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дготовительная часть: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11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роение, сообщение задач ур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ОДЬБ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носках , руки в сторо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пятках, руки за спи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.Р.У. на мышцы рук , ног и туловищ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ециально-беговые упраж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явление больных и освобожденных. Наличие спортивной фо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опатки сведены, руки точно за головой, смотреть впере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ти по зада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г по зада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.Р.У. делать правильно и под счет учите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ойка баскетболи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движения правым боком в стойке баскетболи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9" descr="1363507sm"/>
          <p:cNvPicPr/>
          <p:nvPr/>
        </p:nvPicPr>
        <p:blipFill>
          <a:blip r:embed="rId2"/>
          <a:stretch/>
        </p:blipFill>
        <p:spPr>
          <a:xfrm>
            <a:off x="0" y="614376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1440" y="1827360"/>
            <a:ext cx="8170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*  Совершенствование ловли и передачи мяч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Передача от груди партне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Передача от груди в пол партне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Передача из-за головы партне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Передача правой и левой ру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Основная часть: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0" name="Picture 8" descr="1385484sm"/>
          <p:cNvPicPr/>
          <p:nvPr/>
        </p:nvPicPr>
        <p:blipFill>
          <a:blip r:embed="rId1"/>
          <a:stretch/>
        </p:blipFill>
        <p:spPr>
          <a:xfrm>
            <a:off x="0" y="61437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photo"/>
          <p:cNvPicPr/>
          <p:nvPr/>
        </p:nvPicPr>
        <p:blipFill>
          <a:blip r:embed="rId2"/>
          <a:stretch/>
        </p:blipFill>
        <p:spPr>
          <a:xfrm>
            <a:off x="6875640" y="3925800"/>
            <a:ext cx="2101680" cy="2805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8640720" y="1828440"/>
            <a:ext cx="46080" cy="87480"/>
          </a:xfrm>
          <a:prstGeom prst="rect">
            <a:avLst/>
          </a:prstGeom>
          <a:noFill/>
          <a:ln w="0">
            <a:noFill/>
          </a:ln>
        </p:spPr>
        <p:txBody>
          <a:bodyPr tIns="41760" bIns="4176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передача мяча"/>
          <p:cNvPicPr/>
          <p:nvPr/>
        </p:nvPicPr>
        <p:blipFill>
          <a:blip r:embed="rId1"/>
          <a:stretch/>
        </p:blipFill>
        <p:spPr>
          <a:xfrm>
            <a:off x="611280" y="3789360"/>
            <a:ext cx="799308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мяч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900000" y="504720"/>
            <a:ext cx="770436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268360" y="490680"/>
            <a:ext cx="4535640" cy="5972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12920" y="836640"/>
            <a:ext cx="820548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* Совершенствование ведения мяча:</a:t>
            </a:r>
            <a:br>
              <a:rPr sz="6600"/>
            </a:br>
            <a:br>
              <a:rPr sz="66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Повторить ведение мяча правой и левой рукой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Повторить низкое и высокое ведение мяча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435640" y="4581360"/>
            <a:ext cx="3168720" cy="196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0:09:45Z</dcterms:created>
  <dc:creator>ученик</dc:creator>
  <dc:description/>
  <dc:language>en-US</dc:language>
  <cp:lastModifiedBy>Пользователь</cp:lastModifiedBy>
  <dcterms:modified xsi:type="dcterms:W3CDTF">2012-10-17T17:12:43Z</dcterms:modified>
  <cp:revision>21</cp:revision>
  <dc:subject/>
  <dc:title>Тема урока Баскетбо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