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706-4390-4044-9116-C57E3EF4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F85-8A39-4BE5-A9FE-3D4E098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3E2-6881-42EF-9162-BABBF2B0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066-B1CC-4DB3-AD10-CB916617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83AE-9C59-4784-8FBE-AC4B4207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B395-2D9E-4254-8937-D76D7215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F19B-6611-44A8-BCDD-A358A6DD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21A3-5F6B-42F1-A90E-FFB469C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320E-8D2B-406C-AA54-E010DD9B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0F76-AEE9-4B33-902E-385D509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5CB9-7083-43CB-B14A-E1EFEAF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FA4-E4C3-4061-81A4-0847FA99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565D-1182-4333-95EF-B265F20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02FD-785B-4637-AE06-8855471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66AF-2885-48CD-BEE8-976313C5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22D4-550E-4B6B-909F-4007DF83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0AB3-57C0-4706-8110-B5768B20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3F4-F18D-4BA9-B15F-EE2C396F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3B6-8222-4D98-BE99-5830B1E7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0B4-1507-4C59-8BD0-5E3DB0DC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E43-3BF5-4E04-9846-C423D846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568-B373-44B1-AAA0-D96B0F52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022-E7C9-4769-874B-562126E3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FA5-E27A-4ABE-A291-BE40FF02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66"/>
            </a:gs>
            <a:gs pos="50000">
              <a:srgbClr val="6699ff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C225-4FC1-45C7-84EB-FCEC2D11A6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66"/>
            </a:gs>
            <a:gs pos="50000">
              <a:srgbClr val="6699ff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341A-7B32-46AC-B1DB-395CA6DBBDA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7643880" cy="36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Презентация 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по теме баскетбол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 в 7 классе.</a:t>
            </a:r>
            <a:endParaRPr b="0" lang="en-US" sz="7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Picture 8" descr="1363512sm"/>
          <p:cNvPicPr/>
          <p:nvPr/>
        </p:nvPicPr>
        <p:blipFill>
          <a:blip r:embed="rId2"/>
          <a:stretch/>
        </p:blipFill>
        <p:spPr>
          <a:xfrm>
            <a:off x="0" y="574200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11467800"/>
            <a:ext cx="244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6" name="Picture 5" descr="ведение2"/>
          <p:cNvPicPr/>
          <p:nvPr/>
        </p:nvPicPr>
        <p:blipFill>
          <a:blip r:embed="rId1"/>
          <a:stretch/>
        </p:blipFill>
        <p:spPr>
          <a:xfrm>
            <a:off x="96840" y="1197000"/>
            <a:ext cx="88678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игра1"/>
          <p:cNvPicPr/>
          <p:nvPr/>
        </p:nvPicPr>
        <p:blipFill>
          <a:blip r:embed="rId1"/>
          <a:stretch/>
        </p:blipFill>
        <p:spPr>
          <a:xfrm>
            <a:off x="611280" y="907920"/>
            <a:ext cx="806616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*Обучение броска одной рукой  от пле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50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47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ff47"/>
                </a:solidFill>
                <a:latin typeface="Times New Roman"/>
              </a:rPr>
              <a:t>Игра- «Мяч - капитану»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 делится на две команды и встают в круги. В каждой команде выбирается один капитан. По сигналу учителя, капитан начинает передачи  от груди первому из команды, а он обратно передает мяч капитану и так до тех пор, пока все не сделают передачу капитану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0508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ключительная часть: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95640" y="1988640"/>
            <a:ext cx="40384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тро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ведение итог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ставление оцен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рганизованный ух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basket"/>
          <p:cNvPicPr/>
          <p:nvPr/>
        </p:nvPicPr>
        <p:blipFill>
          <a:blip r:embed="rId1"/>
          <a:stretch/>
        </p:blipFill>
        <p:spPr>
          <a:xfrm>
            <a:off x="6227640" y="1844640"/>
            <a:ext cx="2562480" cy="15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nba"/>
          <p:cNvPicPr/>
          <p:nvPr/>
        </p:nvPicPr>
        <p:blipFill>
          <a:blip r:embed="rId2"/>
          <a:stretch/>
        </p:blipFill>
        <p:spPr>
          <a:xfrm>
            <a:off x="23760" y="3122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wade 2"/>
          <p:cNvPicPr/>
          <p:nvPr/>
        </p:nvPicPr>
        <p:blipFill>
          <a:blip r:embed="rId3"/>
          <a:stretch/>
        </p:blipFill>
        <p:spPr>
          <a:xfrm>
            <a:off x="6643800" y="4149720"/>
            <a:ext cx="17301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baner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адачи уро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8435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Совершенствование ловли мяча и передачи мяч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Совершенствование  ведению мя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Обучение броска одной рукой от пле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Развитие двигательных качеств посредством игры «Мяч- капитану»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wade"/>
          <p:cNvPicPr/>
          <p:nvPr/>
        </p:nvPicPr>
        <p:blipFill>
          <a:blip r:embed="rId2"/>
          <a:stretch/>
        </p:blipFill>
        <p:spPr>
          <a:xfrm>
            <a:off x="6732720" y="1989000"/>
            <a:ext cx="2046240" cy="2705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1212318sm"/>
          <p:cNvPicPr/>
          <p:nvPr/>
        </p:nvPicPr>
        <p:blipFill>
          <a:blip r:embed="rId3"/>
          <a:stretch/>
        </p:blipFill>
        <p:spPr>
          <a:xfrm>
            <a:off x="0" y="592308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0" descr="photo5"/>
          <p:cNvPicPr/>
          <p:nvPr/>
        </p:nvPicPr>
        <p:blipFill>
          <a:blip r:embed="rId1"/>
          <a:stretch/>
        </p:blipFill>
        <p:spPr>
          <a:xfrm>
            <a:off x="6829560" y="3213000"/>
            <a:ext cx="2314440" cy="3240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од урока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дготовительная часть: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11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роение, сообщение задач ур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ОДЬБ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носках , руки в ст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пятках, руки за спи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.Р.У. на мышцы рук , ног и туловищ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ециально-беговые упраж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явление больных и освобожденных. Наличие спортив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опатки сведены, руки точно за головой, смотреть впере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ти по зада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г по зада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.Р.У. делать правильно и под счет учите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ойка баскетболи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движения правым боком в стойке баскетболи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9" descr="1363507sm"/>
          <p:cNvPicPr/>
          <p:nvPr/>
        </p:nvPicPr>
        <p:blipFill>
          <a:blip r:embed="rId2"/>
          <a:stretch/>
        </p:blipFill>
        <p:spPr>
          <a:xfrm>
            <a:off x="0" y="614376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1440" y="1827360"/>
            <a:ext cx="8170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*  Совершенствование ловли и передачи мяч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Передача от груди партне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Передача от груди в пол партне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Передача из-за головы партне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Передача правой и левой ру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Основная часть: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0" name="Picture 8" descr="1385484sm"/>
          <p:cNvPicPr/>
          <p:nvPr/>
        </p:nvPicPr>
        <p:blipFill>
          <a:blip r:embed="rId1"/>
          <a:stretch/>
        </p:blipFill>
        <p:spPr>
          <a:xfrm>
            <a:off x="0" y="61437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photo"/>
          <p:cNvPicPr/>
          <p:nvPr/>
        </p:nvPicPr>
        <p:blipFill>
          <a:blip r:embed="rId2"/>
          <a:stretch/>
        </p:blipFill>
        <p:spPr>
          <a:xfrm>
            <a:off x="6875640" y="3925800"/>
            <a:ext cx="2101680" cy="280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8640720" y="1828440"/>
            <a:ext cx="46080" cy="87480"/>
          </a:xfrm>
          <a:prstGeom prst="rect">
            <a:avLst/>
          </a:prstGeom>
          <a:noFill/>
          <a:ln w="0">
            <a:noFill/>
          </a:ln>
        </p:spPr>
        <p:txBody>
          <a:bodyPr tIns="41760" bIns="4176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передача мяча"/>
          <p:cNvPicPr/>
          <p:nvPr/>
        </p:nvPicPr>
        <p:blipFill>
          <a:blip r:embed="rId1"/>
          <a:stretch/>
        </p:blipFill>
        <p:spPr>
          <a:xfrm>
            <a:off x="611280" y="3789360"/>
            <a:ext cx="799308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мяч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900000" y="504720"/>
            <a:ext cx="770436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68360" y="490680"/>
            <a:ext cx="4535640" cy="5972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12920" y="836640"/>
            <a:ext cx="820548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* Совершенствование ведения мяча:</a:t>
            </a:r>
            <a:br>
              <a:rPr sz="6600"/>
            </a:br>
            <a:br>
              <a:rPr sz="66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Повторить ведение мяча правой и левой рукой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Повторить низкое и высокое ведение мяч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435640" y="4581360"/>
            <a:ext cx="3168720" cy="196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0:09:45Z</dcterms:created>
  <dc:creator>ученик</dc:creator>
  <dc:description/>
  <dc:language>en-US</dc:language>
  <cp:lastModifiedBy>Пользователь</cp:lastModifiedBy>
  <dcterms:modified xsi:type="dcterms:W3CDTF">2012-10-17T17:12:43Z</dcterms:modified>
  <cp:revision>21</cp:revision>
  <dc:subject/>
  <dc:title>Тема урока Баскетбо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