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03B2-7D64-472A-80BA-9F8E2A4E0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49FA-4A7E-494A-B991-6B53A83F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3551-F8FA-44DD-8BD0-BE059F5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436F-DCF5-47D3-92CD-16CC0FDED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7FF67-E03D-462F-AEE5-93E6BA1EF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9B92-C410-4D7E-B407-0BFD676E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4F71-53FD-48A8-B808-361B608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0E0B2-9DF5-49A9-9C42-B24E5A3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8279D-EFBA-4EB8-8041-657E0C49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23D2E-B0F8-47B6-951A-D81E033D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2AE0-304C-4673-9507-13F73EC9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4567-1CFE-41F3-A4CC-B8130C66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E55C5-3448-447B-BBF0-9CB9CCF4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C3C0-587E-44E2-9BD3-A57A7776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2CF29-14D1-40F1-884B-9B95356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ACA9-9B93-4E97-A57C-C794D98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2CAD-52A5-4955-BE47-6D068D668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146B-19AC-4291-818D-8AA0EA4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7489-2635-4AE4-9B12-0F57E247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9D09-B74C-4ABD-8355-723F8A51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CE65-743C-43C3-A121-D44B70C5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8E69-32F4-4EB1-B5D8-EEB00CB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FF2D-1533-45BD-A247-641CC380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CF0D-575B-48C9-A199-71AA44C0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A79CD-D59D-448B-94DF-60F1FA5CF613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8FE0307-FC37-4C6C-A8E3-A75C7541576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1112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ЗАРУБЕЖНАЯ ЕВРОПА. ОБЩАЯ ХАРАКТЕРИСТИКА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11120" y="2133720"/>
            <a:ext cx="4448160" cy="3851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4992840" y="3141720"/>
            <a:ext cx="40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зентацию подготовила Голованова Ольга Андреевна учитель географ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БОУ СОШ №5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в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Зарубежная Европа...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50440"/>
            <a:ext cx="822960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,4 млн км. к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500 млн. ч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40 суверенных государ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чагов мировой цивил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Великих географических открыт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промышленных переворо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городских агломерац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международной экономической интегр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Экономико-географическое 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положение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905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1. Приморское 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2. Компактность террито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3. Отсутствие крупных препятств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4. Изрезанность береговой ли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136440"/>
                <a:tab algn="l" pos="2412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ГП благоприятствует торговым связям со всеми странами мира, использованию богатств мор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000" y="174240"/>
            <a:ext cx="847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РЕГИОНЫ ЗАРУБЕЖНОЙ ЕВРОПЫ</a:t>
            </a:r>
            <a:br>
              <a:rPr sz="3600"/>
            </a:b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по классификации ОО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44360" y="1600200"/>
            <a:ext cx="410364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СЕВЕР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ликобритания, Дания, Исландия, Латвия, Эстония, Норвегия, Швеция, Финлянд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248000" y="1600200"/>
            <a:ext cx="444204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ЗАПАД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стрия, Бельгия, Люксембург, Нидерланды, Германия, Франция, Швейца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816360" y="4059360"/>
            <a:ext cx="487368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ЮЖ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ания, Португалия, Босния и Герцеговина, Хорватия, Югославия, Греция, Италия, Болгария, Македония, Мальта, Андорра, Сан-Мари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6000" y="4103640"/>
            <a:ext cx="345600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ВОСТОЧНАЯ ЕВРО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твия, Эстония, Венгрия, Польша, Румыния, Словакия, Чехия , Укра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Страны Зарубежной Европы входят в состав сообществ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5680" y="3250800"/>
            <a:ext cx="241596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Times New Roman"/>
              </a:rPr>
              <a:t>НАТО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41800" y="2303640"/>
            <a:ext cx="5254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1200" y="2471760"/>
            <a:ext cx="35020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80"/>
                </a:solidFill>
                <a:latin typeface="Times New Roman"/>
              </a:rPr>
              <a:t>Европейское экономическое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80"/>
                </a:solidFill>
                <a:latin typeface="Times New Roman"/>
              </a:rPr>
              <a:t>сообщество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816360" y="1871640"/>
            <a:ext cx="5111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99880" y="907920"/>
            <a:ext cx="6599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80"/>
                </a:solidFill>
                <a:latin typeface="Times New Roman"/>
              </a:rPr>
              <a:t>Совет экономической взаимопомощи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584360" y="2592360"/>
            <a:ext cx="5832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МИКРОГОСУДАРСТВА ЕВРОП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Андор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468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Маль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316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Княжество Лихтенштей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157 км. К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Сан-Марин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61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Ватик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0,44 км. 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Суверенный Мальтийский Орд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егодняшняя территория современного государства — всего один особняк в Рим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8:11:49Z</dcterms:created>
  <dc:creator>fedor</dc:creator>
  <dc:description/>
  <dc:language>en-US</dc:language>
  <cp:lastModifiedBy>User</cp:lastModifiedBy>
  <dcterms:modified xsi:type="dcterms:W3CDTF">2021-06-05T11:17:37Z</dcterms:modified>
  <cp:revision>35</cp:revision>
  <dc:subject/>
  <dc:title>Страны Западной Европ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210000000000010250600207f5200358026400</vt:lpwstr>
  </property>
</Properties>
</file>