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0011-13DB-43F8-AED1-DC3436F31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34B4-1E85-4410-85B8-9FBFF591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095C-508C-454D-8B1D-EF3C5959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E4A5-6159-4341-A4C2-279F8534A0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FBE2E-73BD-4165-997A-507CFC813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8BF62-1200-4C52-80C0-3BCECCC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C1EF-69AB-4AC7-8E7A-E7B740F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9510A-3D29-4984-AB96-1F81D0E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295C2-4F03-4BC0-9419-C53B28BE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2A8DB-4D9B-4887-9B5E-FE3C3C82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321DC-61AF-4673-B823-5023EDB2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9F18-C72D-44D2-84E0-85C78A7D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3FD4B-6F44-4B59-B260-E17185E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D50FC-7D08-48F0-B5F7-E125C401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2A58B-9BCE-4CD9-90F3-39D1645D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129F1-CF83-4E45-9795-1CA33EB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7024D-198F-4BAD-8261-33545C030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1707-FA51-4622-B8A3-813E89BD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075D-DE7B-49F7-8F7F-475497FB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640E-1DE9-4041-B6A1-27473F17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C469-DAEB-4BD1-83CA-16274971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C96E-4E4C-45D1-A025-0EB0529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7627-7151-4BD3-908C-BDA90566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5787-4117-4745-BCEE-25A3AC4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29E4D-1209-475B-BC82-9ED658FAAEE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79E781-E4AD-408C-BBC9-4D4DA357247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1112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ЗАРУБЕЖНАЯ ЕВРОПА. ОБЩАЯ ХАРАКТЕРИСТИКА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11120" y="2133720"/>
            <a:ext cx="4448160" cy="3851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4992840" y="3141720"/>
            <a:ext cx="40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зентацию подготовила Голованова Ольга Андреевна учитель географ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БОУ СОШ №5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в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Зарубежная Европа...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50440"/>
            <a:ext cx="822960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,4 млн км. к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500 млн. ч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40 суверенных государ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чагов мировой цивил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Великих географических открыт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промышленных переворо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городских агломерац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международной экономической интегр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Экономико-географическое 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положение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905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1. Приморское 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2. Компактность террито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3. Отсутствие крупных препятств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4. Изрезанность береговой ли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ГП благоприятствует торговым связям со всеми странами мира, использованию богатств мор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000" y="174240"/>
            <a:ext cx="847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РЕГИОНЫ ЗАРУБЕЖНОЙ ЕВРОПЫ</a:t>
            </a:r>
            <a:br>
              <a:rPr sz="3600"/>
            </a:b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по классификации ОО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44360" y="1600200"/>
            <a:ext cx="410364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СЕВЕР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ликобритания, Дания, Исландия, Латвия, Эстония, Норвегия, Швеция, Финлянд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248000" y="1600200"/>
            <a:ext cx="444204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ЗАПАД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стрия, Бельгия, Люксембург, Нидерланды, Германия, Франция, Швейца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816360" y="4059360"/>
            <a:ext cx="487368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ЮЖ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ания, Португалия, Босния и Герцеговина, Хорватия, Югославия, Греция, Италия, Болгария, Македония, Мальта, Андорра, Сан-Мари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6000" y="4103640"/>
            <a:ext cx="345600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ВОСТОЧ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твия, Эстония, Венгрия, Польша, Румыния, Словакия, Чехия , Укра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Страны Зарубежной Европы входят в состав сообществ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5680" y="3250800"/>
            <a:ext cx="241596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Times New Roman"/>
              </a:rPr>
              <a:t>НАТО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41800" y="2303640"/>
            <a:ext cx="5254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1200" y="2471760"/>
            <a:ext cx="35020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80"/>
                </a:solidFill>
                <a:latin typeface="Times New Roman"/>
              </a:rPr>
              <a:t>Европейское экономическое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80"/>
                </a:solidFill>
                <a:latin typeface="Times New Roman"/>
              </a:rPr>
              <a:t>сообщество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816360" y="1871640"/>
            <a:ext cx="5111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99880" y="907920"/>
            <a:ext cx="6599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80"/>
                </a:solidFill>
                <a:latin typeface="Times New Roman"/>
              </a:rPr>
              <a:t>Совет экономической взаимопомощи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584360" y="2592360"/>
            <a:ext cx="5832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МИКРОГОСУДАРСТВА ЕВРОП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Андор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468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Маль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316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Княжество Лихтенштей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157 км. К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Сан-Марин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61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Ватик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0,44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Суверенный Мальтийский Орд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егодняшняя территория современного государства — всего один особняк в Рим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8:11:49Z</dcterms:created>
  <dc:creator>fedor</dc:creator>
  <dc:description/>
  <dc:language>en-US</dc:language>
  <cp:lastModifiedBy>User</cp:lastModifiedBy>
  <dcterms:modified xsi:type="dcterms:W3CDTF">2021-06-05T11:17:37Z</dcterms:modified>
  <cp:revision>35</cp:revision>
  <dc:subject/>
  <dc:title>Страны Западной Европ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210000000000010250600207f5200358026400</vt:lpwstr>
  </property>
</Properties>
</file>