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AFE-10F6-458C-B9D8-D4276547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D4-FEC1-45EA-9829-65B6D6F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FDA-B133-4FDF-8439-78BF05F9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F5B-2DF2-44C9-AE8C-23DD2463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ADB-E432-4E95-B303-CF16D001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FFE-08A4-47B2-BEAD-25048A8B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AD9-D150-4661-9204-6DCFE35C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A59-F312-4CB8-8ABD-5ACDD11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BCF-B176-43D8-8AD6-F17DB25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96F-AAFA-43FC-AA30-462EB28F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18DE-B272-4430-BC38-6CB9CD2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E9C-5A0B-40B8-B3A3-EBEE279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A19-3B67-4DD6-8867-97BF441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4B65-D697-49E9-B793-A880EEE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F3D4-93F1-4661-8B89-06A75C8C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0122-B3EA-4712-9E89-B6EF2E05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AD7A-6C43-497E-AA37-1227F257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90A6-46BA-4486-B973-D0873249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1835-5A4F-43D6-B830-63C38E4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9EA0-91CE-4332-87B0-78BBEE89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5B4E-A7D1-4E9F-AF5C-369E18E7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F4CC-98E0-4BB8-8B1A-CA41D22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8D6-87F2-4F8E-A0D9-C1CBA0F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6DF0-BEBB-44CF-8E0A-9A6C2D9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A8B3-34FF-4FF5-9539-A04C1FC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79B0-C49E-4F61-82E8-6D888123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5C82-646C-42DD-AD74-0DC4D5D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87B1-F8A2-4242-93D9-A2A005C5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0702-8DD4-44A9-B12D-0B078C75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994B-2B1F-4065-B7B3-CEE03760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848E-D953-4CA6-86B4-026A640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3623-4ACE-4ADC-B5DB-6D6DBD8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CE31-C7B1-4A04-9679-5E402C3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2A7-B293-47D1-AD29-DF4C7014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B2C3-3F44-4D57-9A62-951ECE1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4370-3EE4-49B0-A7F4-D9A2CEB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F3B1-734E-429C-9638-DD258F4E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8E61-8269-4B5B-977D-1101FA7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3D67-FE5A-46AE-9FF1-3DE1157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F6DC-EE84-492A-B2BE-1F03362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4EE5-7DF8-48EE-9A86-826FCF01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CD81-458E-4611-921D-88EE1AFD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2386-3AAF-4267-80BA-1A666644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6C49-42E5-49AE-87A0-74B3B149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8BF-15E6-4625-BFD6-428B3A5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D7C38-8BDE-4647-8438-E37D2D9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BE69-B989-4535-86A5-9D6D2DF7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FC58-2BB4-4A6B-8FD1-370777C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82A4-79A8-4A2B-BC62-275982A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D37B-7D7A-4B41-95C9-891693C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B7BC-1706-4843-9078-39D8E227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C518-9E10-4168-B4AC-1B6D955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FE31-0B22-4578-9E8F-D996320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D41B-EB98-4260-916E-57D0506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F7DD-F0F0-47C1-A5E6-FEEA7E49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422-AD50-4EC5-AA9C-CB2319D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9185-9B3F-40A7-9A12-33D49921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873C-D744-4E0F-BCDB-4E2D155E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562D-B940-4A38-84E5-EC5CCF2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43981-F5F5-4490-97B2-DDC720D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6883-3EA3-4445-8AF4-FB53168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E7B8-9863-4E68-A5D2-2E5CFDC3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D8B56-A224-4E86-ADEA-669407D2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960A-3717-419A-9444-0D1D317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25BE-1CA6-461C-B94E-79FFF3C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A5C6-D61C-4F83-AE0B-6436C59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AB2-0F6B-4BA4-A148-4FE56F2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E5B5C-6722-41F9-BA3D-226871A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7562-6A7E-4078-8B83-B0067E90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E1B2-91DA-4385-B862-9E931C65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4AB-E905-4268-8594-F29B1517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B98-6A8B-4ED9-9985-59253F3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B33-A4A9-42BE-BC27-12554CD99C8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5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3886-4435-4CB8-AADE-4F3099210EF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8B13-5DBA-4BA0-8B7F-DB1742A9EE9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DCB1-CBB4-419A-BFFE-3453F47AD5E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420-BC79-456F-9F11-F2F86B00431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92EB-B380-4603-95ED-266B13C6F95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45812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«ДЕФЕКТНОЕ ЗЕРНО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Дефектные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 партии </a:t>
            </a: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зерна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 иногда поступают в заготовительную сеть и могут попасть в переработку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3319" t="21662" r="37259" b="57686"/>
          <a:stretch/>
        </p:blipFill>
        <p:spPr>
          <a:xfrm>
            <a:off x="971640" y="2852640"/>
            <a:ext cx="8172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271c"/>
                </a:solidFill>
                <a:latin typeface="Times New Roman"/>
              </a:rPr>
              <a:t>Морозобойное зерно</a:t>
            </a:r>
            <a:r>
              <a:rPr b="0" lang="en-US" sz="4300" spc="-1" strike="noStrike">
                <a:solidFill>
                  <a:srgbClr val="4f271c"/>
                </a:solidFill>
                <a:latin typeface="Times New Roman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891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подмороженное зерно в молочной или начале восковой фазы спелости, характеризуется морщинистой поверхностью зерна и в случае ранних завморозков - темной окраск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Клейковина морозобойного зерна пшеницы отмывается в небольшом количестве, становится темной, малоэластичной, крошащей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Хлеб получается неэластичны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с липким заминающимся мякише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с малой пористостью, солодовы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</a:rPr>
              <a:t>или травянистым вкус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25085" t="0" r="23594" b="0"/>
          <a:stretch/>
        </p:blipFill>
        <p:spPr>
          <a:xfrm>
            <a:off x="6012000" y="3265560"/>
            <a:ext cx="29509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46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2314"/>
                </a:solidFill>
                <a:latin typeface="Times New Roman"/>
              </a:rPr>
              <a:t>Проросшее</a:t>
            </a:r>
            <a:r>
              <a:rPr b="0" i="1" lang="en-US" sz="4000" spc="-1" strike="noStrike">
                <a:solidFill>
                  <a:srgbClr val="572314"/>
                </a:solidFill>
                <a:latin typeface="Times New Roman"/>
              </a:rPr>
              <a:t> зерно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образуется при дождливой погоде во время уборки; чаще прорастает рожь. В нем повышена активность ферментов, особенно амилаз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роросшее зерно влияет на хлебопекарные свойства зерна. Хлеб получается малого объема с неэластичным, глинистой консистенции, плохо разрыхленным мякишем, со сладковатым, солодовым привкусо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268360" y="3156120"/>
            <a:ext cx="47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8915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72314"/>
                </a:solidFill>
                <a:latin typeface="Times New Roman"/>
              </a:rPr>
              <a:t>Зерно, поврежденное клопом-черепашкой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На месте прокола остается темная точка, окруженная резко очерченным пятном сморщившейся беловатой оболочки, эндосперм в месте укуса при надавливании крошится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Клоп-черепашка оставляет в зерне очень активные протеолитические ферменты. Клейковина из зерна, поврежденного клопом-черепашкой,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под действием этих ферментов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 быстро разжижается.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Выпеченный хлеб получается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малых объемов и пористости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лотным, с поверхностью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покрытой мелкими трещинами, 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невкусны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11332" t="6066" r="50857" b="12302"/>
          <a:stretch/>
        </p:blipFill>
        <p:spPr>
          <a:xfrm>
            <a:off x="6084720" y="3357720"/>
            <a:ext cx="28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891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Times New Roman"/>
              </a:rPr>
              <a:t>Микотоксикозы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 - поражение зерна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различными грибными заболеваниями при выращивании, уборке, нарушении режимов хранения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2521" t="24547" r="49712" b="0"/>
          <a:stretch/>
        </p:blipFill>
        <p:spPr>
          <a:xfrm>
            <a:off x="971640" y="2565360"/>
            <a:ext cx="2735280" cy="2654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18091" t="0" r="0" b="18136"/>
          <a:stretch/>
        </p:blipFill>
        <p:spPr>
          <a:xfrm>
            <a:off x="3492360" y="2708280"/>
            <a:ext cx="2449800" cy="2351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16000" y="53175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зариозное зерно пше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71400"/>
            <a:ext cx="24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рно пшеницы с черным зароды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rcRect l="1466" t="8855" r="50541" b="23222"/>
          <a:stretch/>
        </p:blipFill>
        <p:spPr>
          <a:xfrm>
            <a:off x="6156360" y="2708280"/>
            <a:ext cx="2308320" cy="2376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227640" y="522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овневое з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Дефектным считается зерно с посторонним запахом и вкусом, а также зерно, поврежденное самосогреванием и нарушениями режимов сушки.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МТК</cp:lastModifiedBy>
  <dcterms:modified xsi:type="dcterms:W3CDTF">2020-11-11T14:42:44Z</dcterms:modified>
  <cp:revision>50</cp:revision>
  <dc:subject/>
  <dc:title>Пути улучшения и использования поврежденного неполноценного зерна на зерноперерабатывающих предприятиях</dc:title>
</cp:coreProperties>
</file>