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0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B11D-7CCB-426B-BF7E-31CCA4247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BAD0-7806-46ED-B55A-B9830F0CF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D3B4-E1A6-4D1C-AE9A-661EE6747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3EB8-A500-4D27-B851-545EC20B5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0B86C-56F1-4D3C-B5D9-DCAF890CA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F8E92-0005-491D-9926-9C35521EA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B824E-2499-4A9D-B001-564FCA4A2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0F16F-A1A1-4733-BAC1-07187E44D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15B96-ADA2-48ED-A66D-C08E79E49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73ECD-296A-4E9A-9677-1AC2C5EAF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B9EC3-A3B0-4A57-9F1A-7FCD623E3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EC24-5838-4A7C-BAE9-98F2091AA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33F48-916C-43FE-AEB6-BA966C946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D8739-D4FC-461F-A0F1-2D67D7A45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E8643-A02E-4490-B05C-8E466EB4E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4CFE6-F539-404B-A704-1DC75011D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94C19-6778-4829-ADAA-1A3358397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6DD0AB-C56A-4F80-AFE7-ACB601B1F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9E84C5-1353-4EA1-B8F6-6B2189D04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17BB64-62C1-401B-A271-2CD97ACEB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05A9CC-12F8-4F8B-9B2A-0F398D0CA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2407A8-0F53-4254-BC84-18D11AB8A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5CA8-8230-444B-B8E5-9D2FC49DE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C690AA-D847-48A4-9913-CAEC67332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01B5FA-F131-4F81-8D44-ACB4E75DC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06AD1A-3DC4-4A4A-8758-418097F21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8C13FA-55E4-4B3E-BC44-9461EC565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58D872-7D44-45A0-A7F8-004CAE4AB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BFFF08-EA68-48E1-99B5-E338347E6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A5D937-94E7-462A-898E-8F66ECE45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397E2C-AD56-4D8A-A9B5-E9198EA9C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776E16-951D-4089-9B6C-7CEBE367F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2A0A86-FA6F-4425-8EA0-AC42F87F4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2DDD-442C-4D10-B79D-30F2EFF64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0B29E7-E7AD-4DFE-936E-3487A269D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74A9E9-C276-47E1-B116-27B5F52A0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AD5FF6-E5B8-432B-94BD-F250B63F0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DEF803-362C-4A11-BBE2-5522190A5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F36E34-B6E4-4BE2-9B59-233E22B57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A3362C-131A-4A2C-AB46-32D1F212D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98C344-6FF4-4378-AD00-D44F54676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7982EE-A9E8-461C-981D-6E43E4B27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515B4A-91B0-4B50-97B2-FC28ECB8D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1A3DE4-C4DE-4DEA-9EE9-35D05B0F0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6E03-0086-4CD3-BC43-6DFBCF5D9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C10B58-6272-49B1-880B-A55F8AD58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A8D166-0DB6-4D81-B64F-319871054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DB30E8-99DC-4D50-97D0-30CA2F5CD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FF7868-CCFE-405D-BE4C-2F93DBB0D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FD0FA0-7DE9-4DCD-ADF3-B9F052394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A6DEC8-759E-4043-A07F-C3D0D7913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E901A7-A3B6-43AE-9660-D4F8A26E9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72BFEC-CE84-4CAE-89BB-522EBE4BA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C50D66-E23A-4740-AD82-867C140DE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F51606-3C89-46DC-B63A-48D955E9E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2B98-4EF0-4DBA-874F-3A9809378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2895D1-F29A-474D-AF0B-4F34A228A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EEF3FA-C663-48E5-A616-EB4014D48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467078-3552-482A-B94E-D12D58349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887C4C-C224-498D-9FE4-BCAB582CD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99B5F2-4409-45C6-A48C-E3FAF8900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03DF43-E380-4187-832D-C5A03B3FB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A617FA-B6A7-494C-99C6-73E1D1B82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E61864-9C11-45BF-AA2C-017E014B2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90F515-0689-4A01-A44B-335056FB5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FEAEF1-B2D8-4DFF-876D-79483092C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2747-484E-47B4-8A3A-289AC6252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3BE167-AD08-4804-B88C-878712740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CA6BF3-B094-4BCF-841F-8FDDDF5D3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076340-6923-490F-B35B-572D79F8E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112C-4C77-416D-A59B-FE4078776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D192-2E06-4788-8570-61917DE37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Овал 7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8" name="Овал 7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Овал 8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C6657-F854-4E5E-918F-3907C1A77271}" type="slidenum">
              <a:rPr b="0" lang="en-US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рямоугольник 6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9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Овал 7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55" name="Овал 7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Овал 8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12E28-DBE6-4477-AEB2-63199A2CCD8F}" type="slidenum">
              <a:rPr b="0" lang="en-US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4EDB3-CB1D-498A-AC53-28C5A31DFFD7}" type="slidenum">
              <a:rPr b="0" lang="en-US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Прямоугольник 4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оугольник 5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D8552-E530-4D41-BE4C-8B101174902B}" type="slidenum">
              <a:rPr b="0" lang="en-US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F55BD-4888-43C6-B91E-192F2785C5D7}" type="slidenum">
              <a:rPr b="0" lang="en-US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4" name="Прямоугольник 7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2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Блок-схема: процесс 8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Блок-схема: процесс 9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D1B09-7538-4796-8CD1-A03357486887}" type="slidenum">
              <a:rPr b="0" lang="en-US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476000" y="274680"/>
            <a:ext cx="7458120" cy="32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Arial"/>
              </a:rPr>
              <a:t>«ДЕФЕКТНОЕ ЗЕРНО»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434960" y="2276280"/>
            <a:ext cx="749952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818480" cy="22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72314"/>
                </a:solidFill>
                <a:latin typeface="Times New Roman"/>
              </a:rPr>
              <a:t>Дефектные</a:t>
            </a:r>
            <a:r>
              <a:rPr b="0" lang="en-US" sz="2800" spc="-1" strike="noStrike">
                <a:solidFill>
                  <a:srgbClr val="572314"/>
                </a:solidFill>
                <a:latin typeface="Times New Roman"/>
              </a:rPr>
              <a:t> партии </a:t>
            </a:r>
            <a:r>
              <a:rPr b="1" lang="en-US" sz="2800" spc="-1" strike="noStrike">
                <a:solidFill>
                  <a:srgbClr val="572314"/>
                </a:solidFill>
                <a:latin typeface="Times New Roman"/>
              </a:rPr>
              <a:t>зерна</a:t>
            </a:r>
            <a:r>
              <a:rPr b="0" lang="en-US" sz="2800" spc="-1" strike="noStrike">
                <a:solidFill>
                  <a:srgbClr val="572314"/>
                </a:solidFill>
                <a:latin typeface="Times New Roman"/>
              </a:rPr>
              <a:t> иногда поступают в заготовительную сеть и могут попасть в переработку.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2"/>
          <a:srcRect l="3319" t="21662" r="37259" b="57686"/>
          <a:stretch/>
        </p:blipFill>
        <p:spPr>
          <a:xfrm>
            <a:off x="971640" y="2852640"/>
            <a:ext cx="8172360" cy="21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4f271c"/>
                </a:solidFill>
                <a:latin typeface="Times New Roman"/>
              </a:rPr>
              <a:t>Морозобойное зерно</a:t>
            </a:r>
            <a:r>
              <a:rPr b="0" lang="en-US" sz="4300" spc="-1" strike="noStrike">
                <a:solidFill>
                  <a:srgbClr val="4f271c"/>
                </a:solidFill>
                <a:latin typeface="Times New Roman"/>
              </a:rPr>
              <a:t> 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042560" y="980640"/>
            <a:ext cx="78915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f271c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4f271c"/>
                </a:solidFill>
                <a:latin typeface="Times New Roman"/>
              </a:rPr>
              <a:t>подмороженное зерно в молочной или начале восковой фазы спелости, характеризуется морщинистой поверхностью зерна и в случае ранних завморозков - темной окраской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271c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4f271c"/>
                </a:solidFill>
                <a:latin typeface="Times New Roman"/>
              </a:rPr>
              <a:t>Клейковина морозобойного зерна пшеницы отмывается в небольшом количестве, становится темной, малоэластичной, крошащейся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271c"/>
                </a:solidFill>
                <a:latin typeface="Times New Roman"/>
              </a:rPr>
              <a:t>Хлеб получается неэластичным,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271c"/>
                </a:solidFill>
                <a:latin typeface="Times New Roman"/>
              </a:rPr>
              <a:t>с липким заминающимся мякишем,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271c"/>
                </a:solidFill>
                <a:latin typeface="Times New Roman"/>
              </a:rPr>
              <a:t>с малой пористостью, солодовым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271c"/>
                </a:solidFill>
                <a:latin typeface="Times New Roman"/>
              </a:rPr>
              <a:t>или травянистым вкусом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rcRect l="25085" t="0" r="23594" b="0"/>
          <a:stretch/>
        </p:blipFill>
        <p:spPr>
          <a:xfrm>
            <a:off x="6012000" y="3265560"/>
            <a:ext cx="2950920" cy="35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4684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572314"/>
                </a:solidFill>
                <a:latin typeface="Times New Roman"/>
              </a:rPr>
              <a:t>Проросшее</a:t>
            </a:r>
            <a:r>
              <a:rPr b="0" i="1" lang="en-US" sz="4000" spc="-1" strike="noStrike">
                <a:solidFill>
                  <a:srgbClr val="572314"/>
                </a:solidFill>
                <a:latin typeface="Times New Roman"/>
              </a:rPr>
              <a:t> зерно</a:t>
            </a:r>
            <a:r>
              <a:rPr b="0" lang="en-US" sz="2400" spc="-1" strike="noStrike">
                <a:solidFill>
                  <a:srgbClr val="572314"/>
                </a:solidFill>
                <a:latin typeface="Times New Roman"/>
              </a:rPr>
              <a:t> </a:t>
            </a:r>
            <a:br>
              <a:rPr sz="2400"/>
            </a:br>
            <a:r>
              <a:rPr b="0" lang="en-US" sz="2400" spc="-1" strike="noStrike">
                <a:solidFill>
                  <a:srgbClr val="572314"/>
                </a:solidFill>
                <a:latin typeface="Times New Roman"/>
              </a:rPr>
              <a:t>образуется при дождливой погоде во время уборки; чаще прорастает рожь. В нем повышена активность ферментов, особенно амилаз. </a:t>
            </a:r>
            <a:br>
              <a:rPr sz="2400"/>
            </a:br>
            <a:r>
              <a:rPr b="0" lang="en-US" sz="2400" spc="-1" strike="noStrike">
                <a:solidFill>
                  <a:srgbClr val="572314"/>
                </a:solidFill>
                <a:latin typeface="Times New Roman"/>
              </a:rPr>
              <a:t>Проросшее зерно влияет на хлебопекарные свойства зерна. Хлеб получается малого объема с неэластичным, глинистой консистенции, плохо разрыхленным мякишем, со сладковатым, солодовым привкусом.</a:t>
            </a: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2"/>
          <a:stretch/>
        </p:blipFill>
        <p:spPr>
          <a:xfrm>
            <a:off x="2268360" y="3156120"/>
            <a:ext cx="475164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42560" y="475920"/>
            <a:ext cx="789156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572314"/>
                </a:solidFill>
                <a:latin typeface="Times New Roman"/>
              </a:rPr>
              <a:t>Зерно, поврежденное клопом-черепашкой</a:t>
            </a:r>
            <a:br>
              <a:rPr sz="2400"/>
            </a:br>
            <a:r>
              <a:rPr b="0" lang="en-US" sz="2400" spc="-1" strike="noStrike">
                <a:solidFill>
                  <a:srgbClr val="572314"/>
                </a:solidFill>
                <a:latin typeface="Times New Roman"/>
              </a:rPr>
              <a:t> На месте прокола остается темная точка, окруженная резко очерченным пятном сморщившейся беловатой оболочки, эндосперм в месте укуса при надавливании крошится. </a:t>
            </a:r>
            <a:br>
              <a:rPr sz="2400"/>
            </a:br>
            <a:r>
              <a:rPr b="0" lang="en-US" sz="2400" spc="-1" strike="noStrike">
                <a:solidFill>
                  <a:srgbClr val="572314"/>
                </a:solidFill>
                <a:latin typeface="Times New Roman"/>
              </a:rPr>
              <a:t>Клоп-черепашка оставляет в зерне очень активные протеолитические ферменты. Клейковина из зерна, поврежденного клопом-черепашкой,</a:t>
            </a:r>
            <a:br>
              <a:rPr sz="2400"/>
            </a:br>
            <a:r>
              <a:rPr b="0" lang="en-US" sz="2400" spc="-1" strike="noStrike">
                <a:solidFill>
                  <a:srgbClr val="572314"/>
                </a:solidFill>
                <a:latin typeface="Times New Roman"/>
              </a:rPr>
              <a:t> под действием этих ферментов</a:t>
            </a:r>
            <a:br>
              <a:rPr sz="2400"/>
            </a:br>
            <a:r>
              <a:rPr b="0" lang="en-US" sz="2400" spc="-1" strike="noStrike">
                <a:solidFill>
                  <a:srgbClr val="572314"/>
                </a:solidFill>
                <a:latin typeface="Times New Roman"/>
              </a:rPr>
              <a:t> быстро разжижается. </a:t>
            </a:r>
            <a:br>
              <a:rPr sz="2400"/>
            </a:br>
            <a:r>
              <a:rPr b="0" lang="en-US" sz="2400" spc="-1" strike="noStrike">
                <a:solidFill>
                  <a:srgbClr val="572314"/>
                </a:solidFill>
                <a:latin typeface="Times New Roman"/>
              </a:rPr>
              <a:t>Выпеченный хлеб получается </a:t>
            </a:r>
            <a:br>
              <a:rPr sz="2400"/>
            </a:br>
            <a:r>
              <a:rPr b="0" lang="en-US" sz="2400" spc="-1" strike="noStrike">
                <a:solidFill>
                  <a:srgbClr val="572314"/>
                </a:solidFill>
                <a:latin typeface="Times New Roman"/>
              </a:rPr>
              <a:t>малых объемов и пористости, </a:t>
            </a:r>
            <a:br>
              <a:rPr sz="2400"/>
            </a:br>
            <a:r>
              <a:rPr b="0" lang="en-US" sz="2400" spc="-1" strike="noStrike">
                <a:solidFill>
                  <a:srgbClr val="572314"/>
                </a:solidFill>
                <a:latin typeface="Times New Roman"/>
              </a:rPr>
              <a:t>плотным, с поверхностью, </a:t>
            </a:r>
            <a:br>
              <a:rPr sz="2400"/>
            </a:br>
            <a:r>
              <a:rPr b="0" lang="en-US" sz="2400" spc="-1" strike="noStrike">
                <a:solidFill>
                  <a:srgbClr val="572314"/>
                </a:solidFill>
                <a:latin typeface="Times New Roman"/>
              </a:rPr>
              <a:t>покрытой мелкими трещинами, </a:t>
            </a:r>
            <a:br>
              <a:rPr sz="2400"/>
            </a:br>
            <a:r>
              <a:rPr b="0" lang="en-US" sz="2400" spc="-1" strike="noStrike">
                <a:solidFill>
                  <a:srgbClr val="572314"/>
                </a:solidFill>
                <a:latin typeface="Times New Roman"/>
              </a:rPr>
              <a:t>невкусным.</a:t>
            </a: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2"/>
          <a:srcRect l="11332" t="6066" r="50857" b="12302"/>
          <a:stretch/>
        </p:blipFill>
        <p:spPr>
          <a:xfrm>
            <a:off x="6084720" y="3357720"/>
            <a:ext cx="288144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042560" y="476280"/>
            <a:ext cx="789156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572314"/>
                </a:solidFill>
                <a:latin typeface="Times New Roman"/>
              </a:rPr>
              <a:t>Микотоксикозы</a:t>
            </a:r>
            <a:r>
              <a:rPr b="0" lang="ru-RU" sz="2800" spc="-1" strike="noStrike">
                <a:solidFill>
                  <a:srgbClr val="572314"/>
                </a:solidFill>
                <a:latin typeface="Times New Roman"/>
              </a:rPr>
              <a:t> - поражение зерна</a:t>
            </a: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 </a:t>
            </a:r>
            <a:r>
              <a:rPr b="0" lang="ru-RU" sz="2800" spc="-1" strike="noStrike">
                <a:solidFill>
                  <a:srgbClr val="572314"/>
                </a:solidFill>
                <a:latin typeface="Times New Roman"/>
              </a:rPr>
              <a:t>различными грибными заболеваниями при выращивании, уборке, нарушении режимов хранения.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2"/>
          <a:srcRect l="2521" t="24547" r="49712" b="0"/>
          <a:stretch/>
        </p:blipFill>
        <p:spPr>
          <a:xfrm>
            <a:off x="971640" y="2565360"/>
            <a:ext cx="2735280" cy="265428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rcRect l="18091" t="0" r="0" b="18136"/>
          <a:stretch/>
        </p:blipFill>
        <p:spPr>
          <a:xfrm>
            <a:off x="3492360" y="2708280"/>
            <a:ext cx="2449800" cy="235116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1116000" y="531756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Фузариозное зерно пшени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352680" y="5171400"/>
            <a:ext cx="244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ерно пшеницы с черным зародыше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4"/>
          <a:srcRect l="1466" t="8855" r="50541" b="23222"/>
          <a:stretch/>
        </p:blipFill>
        <p:spPr>
          <a:xfrm>
            <a:off x="6156360" y="2708280"/>
            <a:ext cx="2308320" cy="237636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6227640" y="522936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оловневое зер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81848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2314"/>
                </a:solidFill>
                <a:latin typeface="Times New Roman"/>
              </a:rPr>
              <a:t>Дефектным считается зерно с посторонним запахом и вкусом, а также зерно, поврежденное самосогреванием и нарушениями режимов сушки.</a:t>
            </a: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 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БМТК</cp:lastModifiedBy>
  <dcterms:modified xsi:type="dcterms:W3CDTF">2020-11-11T14:42:44Z</dcterms:modified>
  <cp:revision>50</cp:revision>
  <dc:subject/>
  <dc:title>Пути улучшения и использования поврежденного неполноценного зерна на зерноперерабатывающих предприятиях</dc:title>
</cp:coreProperties>
</file>