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F2049-762E-48D2-938F-866B7208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B2485-76EA-4070-9EAF-2A397D63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55CBA-DC86-4477-A60C-24014202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AE81D-F6B5-492B-931F-F8A022A6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BAD1C-431D-44A4-9965-CBBB402B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020EA-3519-48E1-8AA8-199847B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28FD9-F8EF-465C-A5D6-C937C54C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A2E06-65E3-42EC-992E-C5075B01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6225D-0BA7-49C5-80D6-A31427E0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9A53E-69BE-4EE6-B3FA-5BEF738A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DE205-4EA8-4504-8762-A4A63E67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F3482-60A5-4721-9388-D4AC1F1E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917A7-DDEC-4882-9C86-AB1620D2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3C562-23E2-4F49-A261-DEF3F9D6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6F3F4-60E1-4070-94BD-108A983C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D6141-6EB0-4B06-B77B-DDEFC28D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52724-1480-42EA-8A1D-0902B17E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202BB-A3A8-4F08-855C-54E9985B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2FE9F-FE74-4776-A762-20DF401C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B8112-3897-4C1B-96E3-A0D74C1C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BF947-8DE3-4D32-82DF-3E8D04CC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FDD52-EA05-43E2-AF79-AB19F6BE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5EA1D-CF8D-442F-989E-EBAA465F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D479E-EE42-4BA7-9EFE-28C3D1CF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59C8B-7CA0-4D61-B938-642C88AF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28324-76A9-4535-8C1D-A2ABB472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4E851-C5E0-41B5-90A6-8661BF2C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4507D-B413-45EA-ABCE-734B5A31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B33AD-9E84-450F-A1C5-A5F0D239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7FB3E-AE82-4453-AD35-D68B2FDE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A02-ABB2-4691-B4B7-3CA8A5B7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63696-A800-4905-AABF-D6091943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0F40F-C42B-4D27-847E-09C5AFFB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6D255-CFA9-45DD-BC1C-567224E4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F68B6-5868-48B2-A6F5-14FA168F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E92C2-40F0-4A03-AE40-845B4F9F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C4447-4095-4265-87BE-0A2EB2CE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5C007-4A4B-4CE8-BC01-21811F10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F1357-90A6-4223-A627-9A6ECF98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7D371-EFBF-4D73-A8D2-BBB249F4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12EF8-A698-48D7-AABA-EAA6290A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593-24E4-49FE-A157-9F6F72FA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FA760-5468-4BD9-96E0-6525CDCC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C46CD-B88F-4483-8D47-E174A482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A2445-A234-472A-9964-BB7D9392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DC711-2CBC-4791-AC05-81CFFC35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353C1-3509-49F7-BAE0-FA8D2D8E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E31DD-CF50-495F-8BA3-020A0339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1F975-6D60-4AC1-B290-8A9476E5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E5787-752E-4901-9528-87F484D0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D793C-1CBD-486F-AF34-F5056146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56BD9-4176-494B-8123-9D69295F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96B-DB41-42B4-9F13-C8237C53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B483A-89E8-4B6C-9B44-F27580C1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9B2EA-5BF2-4A04-A35A-463B7F60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CA729-B9FA-4D3E-8544-911ED59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043D6-8357-49C0-8B0F-C0C8297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A69BD-71A7-4232-98A7-633DAA05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18763-3DD6-4C0E-887B-43E0F5AB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47613-ACD3-4AB9-944E-490C97B3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06B-AD45-42B2-80E7-88150772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CFF-F505-4BAA-B048-8774AAF2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2C6-61B7-4548-BA72-B6303636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1E2-ED7D-4C7F-A8FC-851B671A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FCF-4841-4A64-83DC-04C36237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474-F270-4903-941A-CEAFB5E8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871-973E-4238-AE23-B440D026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5DD-50B1-4D16-8F97-EB2392D7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DE6-25A0-4340-BC6C-68DF7D40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CE93-F557-4817-95AD-0DD0F80F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B6A7-2A1B-40D5-97CA-23CD2E18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E88E-37AD-4C66-ABD4-F06550FA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5685-A497-43BB-AEB2-B7A16B17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DD10-EBAA-4124-9D6C-68747913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CF90-0348-4ED8-8CBB-BF22CA35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6D7E-C744-496C-A302-8D76ACA3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C0E2-9899-40EF-AFFC-0B7A2199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0186-6568-4938-8BB3-3A19321F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4883-C4C4-457E-A028-871D785B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20D2-A62C-4A92-B0AB-94599961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6203-40E6-4375-9432-D5D0A4A0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4336-09E8-4968-A675-CB87D240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5B27-77CF-4333-8958-6F3E9904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8745-7F23-4D6C-ADD6-C156A684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06530-959B-4AC8-B43A-82A39F14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614D-616C-49B5-BA4B-AD7D162D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570B-7CA5-4AE9-90E5-CBECFE3E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A2F7-10A2-4188-931B-1759077B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79989-3421-48CB-BE59-3B2FBF34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0B9E4-B4DF-4207-91B0-F0207AFE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E616-D813-49E9-B0FF-101962AA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7FEA2-8151-4EC1-BA20-3546885C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047A7-6DB2-4A9C-BB20-6036B5EF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BB2EA-15AD-4E1B-A7D2-41B7E4CB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EFCFA-18FE-4372-971B-1B68AE8C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A9A15-2A16-45FD-82DF-B1FB4042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889E2-E9DE-4090-ABAB-23550AE1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F798C-CC16-4083-9F8F-32EF8D80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ACB1B-5C9D-412D-99C7-2F04AE89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8B393-E6FF-4F56-A504-5D8003BA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30303-E626-41D7-B31C-B1D28E4B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BCF9-CA24-4E53-B1C3-8E8BF705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498C6-BE2B-453F-8571-38AB433F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89453-40FD-458D-8942-85B51AC6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47C97-5A0D-4C6B-9A04-6551786F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115CF-6818-46A6-A3BE-0A23346E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AC48-5050-4113-93FD-F411EA19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84C68-A7CD-4B51-B6DB-B9CB2C5B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5E5D3-51B1-4BA5-93DA-5EB51A21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D193B-A0E5-431D-8389-70F71400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FE4F-CD08-44C2-ADC5-0FFE5045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3F645-79A3-4294-A7FB-767A4A62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5134A-0931-44BC-9371-C0493A8C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B3E5D-D3F2-43C2-92AB-473C2A1B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FFF5D-BE37-4D8D-AE86-CD0729E5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F1FD5-08FA-42FF-BBBE-A800EA18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DDE56-B02D-47B2-94AE-E1BB9AD6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385F8-CD74-4FA5-94A7-459BB486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9ABE0-D297-4C3A-9FB1-B314E072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CB9CC-9389-4871-B876-C50A80C5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3258E-9EC9-40B9-A5A1-30F4E8BF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06D40-9A3E-4CB8-B6D1-5A0CB23A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5D48D-5EE4-4E52-A78F-8150288C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BF278-741B-41F2-A792-F495DF42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C17BF-54FC-4274-8A30-7527CE7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B10DE-0BCE-48CB-B3D5-EBC13D4D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6F029-9FE5-4D04-A57A-DE3232F8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97D6B-C826-4941-AFCB-893D994D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3E9EF-CA3C-4DC9-8EFE-35458115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778BE-82CE-4CFC-A110-CA478FEA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431A4-C3C3-4C71-927C-0347434D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A6928-56B5-4E4C-8AFC-CC67B35D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F4871-FD8B-4E73-B6BA-DFD1C323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BFFE6-B393-4D25-8DA2-AF43C836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2BAF2-BB8C-4209-94D4-549FC0C0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FBC19-F53B-4F89-BC3E-0D7A8B26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64613-CF35-42B1-81D1-4024E4A1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467E2-84C0-4CE8-9FEB-2A438BE4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D66E3-5568-4EFB-BE03-C7C66E72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7A043-0552-4C26-AD10-CC182495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13236-9CC3-44F1-BFA3-9F015A16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A7B44-4656-4709-B7EF-C4AC3317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87D84-DC2D-4B54-8B39-CB88718E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A104E-DCFB-4BF3-AEF1-BA45E4E1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5AB666-632C-4DED-9D49-4F4A30CAD5DA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541000-7E6B-494D-A3FE-66D1C2063AD5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172688-0F39-4F12-8459-4F4E9A5659B0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96DD7E-D0D1-4D1A-BF6D-98FD9A0C41BA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7D3A4F-CE5C-4D05-BE40-A787D33E3C30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C5FFA5-ED03-4A35-98C5-3DCA96B3F078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63B35A-B828-4D6E-91B4-68F0B656E034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EAD2DE-35BF-4BE7-A97E-1E76B2BA9B04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C570CC-48FD-44A9-A667-D2ACBDD30F0C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C6040D-065B-4A58-8B67-86F5DFF1B621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B880EF-F298-4358-8FE3-B993ED962EC5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208677-9994-4E7D-9221-B416EC827475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607704-AC99-487C-ACB9-72E7A7C0AFF5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FBF7F7-5BDB-4D60-906F-D5745522ABEF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7ADB47-7539-4D04-AD1E-4FBDC4A3E103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2A0937-3AAE-4343-B3FC-C54A182D2912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387CA8-9599-4801-8F2D-D801FAE51AE1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3E85D5-EAAF-45A1-9814-1765AE41BAC5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142BC6-1BFE-42C4-8713-195482B5D0C8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5DDB7A-5A88-4828-A605-E6AA2CDF85C2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49D042-FD07-4C1D-8935-D491452B3308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62228A-9291-4AD7-B472-E4F87C68AE8F}" type="datetime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54F9EB-DB93-41CA-9C14-EF5C51044446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gabotan.ru/pages/formuli_proizvodnoj" TargetMode="External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"/>
          <p:cNvSpPr/>
          <p:nvPr/>
        </p:nvSpPr>
        <p:spPr>
          <a:xfrm>
            <a:off x="720720" y="900000"/>
            <a:ext cx="845964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 u="sng">
                <a:solidFill>
                  <a:srgbClr val="000000"/>
                </a:solidFill>
                <a:uFillTx/>
                <a:latin typeface="Arial"/>
              </a:rPr>
              <a:t>ПРОИЗВОДНА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"/>
          <p:cNvSpPr/>
          <p:nvPr/>
        </p:nvSpPr>
        <p:spPr>
          <a:xfrm>
            <a:off x="6119640" y="5148360"/>
            <a:ext cx="31687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БОУ СОШ №185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ченко Т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1"/>
          <p:cNvSpPr/>
          <p:nvPr/>
        </p:nvSpPr>
        <p:spPr>
          <a:xfrm>
            <a:off x="900000" y="1079640"/>
            <a:ext cx="774072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оизводная степенной функци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Для любого целого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и любого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(x≠0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≤1)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(xⁿ)'=nxⁿ</a:t>
            </a:r>
            <a:r>
              <a:rPr b="0" lang="ar-SA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 ¹</a:t>
            </a:r>
            <a:r>
              <a:rPr b="0" lang="he-IL" sz="6600" spc="-1" strike="noStrike">
                <a:solidFill>
                  <a:srgbClr val="000000"/>
                </a:solidFill>
                <a:latin typeface="Times New Roman"/>
                <a:cs typeface="Arial"/>
              </a:rPr>
              <a:t>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720720" y="720720"/>
            <a:ext cx="8459640" cy="59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Целые рациональные функции (многочлены) и дробно-рациональные функции дифференцируемы в каждой точке своей области определ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749160" y="360360"/>
            <a:ext cx="8460000" cy="67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изводная сложной функции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сли фун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имеет производную в точк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а фун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имеет производную в точке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0=f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то сложная фун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(x)=g(f(x)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также имеет производную в точк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чём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'(x0)=g'(f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)·f '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"/>
          <p:cNvSpPr/>
          <p:nvPr/>
        </p:nvSpPr>
        <p:spPr>
          <a:xfrm>
            <a:off x="431640" y="539640"/>
            <a:ext cx="84600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оизводные тригонометрических функций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ула производной синус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нкция синус имеет производную в любой точке и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 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 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1"/>
          <p:cNvSpPr/>
          <p:nvPr/>
        </p:nvSpPr>
        <p:spPr>
          <a:xfrm>
            <a:off x="709560" y="720720"/>
            <a:ext cx="86407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улы дифференцирования косинуса, тангенса и котангенса: функци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=cos x, y=tg x, y=ctg x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еют производные в каждой точке своей области определения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справедливы формул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cos 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-sin x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g 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1/co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ctg x)'=-1/sin²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1260360" y="1440000"/>
            <a:ext cx="809964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5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(sin x)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=cos 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(cos x)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=-sin x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(tgx)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=1/cos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 x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(ctg x)'=-1/sin²x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1"/>
          <p:cNvSpPr/>
          <p:nvPr/>
        </p:nvSpPr>
        <p:spPr>
          <a:xfrm>
            <a:off x="720720" y="720720"/>
            <a:ext cx="864072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зводные широко применимы в настоящее время, например, в экономическом анализе. Они помогают точно вывести данные об изменении экономики государства. Используя их, можно совершенно точно просчитать, как можно увеличить доход государства и за счёт чего он может быть увели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зводная широко используется для исследования функций, т.е. для изучения различных свойств функций. Например, с помощью производной можно находить промежутки возрастания и убывания функции, ее наибольшие и наименьшие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1"/>
          <p:cNvSpPr/>
          <p:nvPr/>
        </p:nvSpPr>
        <p:spPr>
          <a:xfrm>
            <a:off x="720720" y="539640"/>
            <a:ext cx="864072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истор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о производ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а вычисления производной:                  -Основные правила дифференцирования,      -Производная степенн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ная сложной функции:                       -Сложная функция,                                             -Производная триногометрических функ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647640" y="826920"/>
            <a:ext cx="882036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ула производной встречается нам ещё в 15 веке. Великий итальянский математик Тартальи, рассматривая и развивая вопрос - на сколько зависит дальность полёта снаряда от наклона орудия - применяет её в своих труд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вящает целый трактат о роли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производн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математике известный учёный Галилео Галилей. Затем производная и различные изложения с её применением стали встречаться в работах Декарта, французского математика Роберваля и англичанина Грегори. Большой вклад по изучению производной внесли такие умы, как Лопиталь, Бернулли, Лангранж и д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539640" y="720720"/>
            <a:ext cx="882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Понятие о производн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720720" y="1619280"/>
            <a:ext cx="8459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изводной функции f в точке x0 называется число, к которому стремится разностное отношение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f/Δx=f(x0+Δx)-f(x0)/Δx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при ΔX, стремящемся к нул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"/>
          <p:cNvSpPr/>
          <p:nvPr/>
        </p:nvSpPr>
        <p:spPr>
          <a:xfrm>
            <a:off x="720720" y="720720"/>
            <a:ext cx="845964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равила дифференц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авило №1. Если функции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ифференцируемыв точке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0,то их сумма дифференцируема в этой точке (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'= u'+v'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ротко говорят: производная суммы равна сумме производны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1"/>
          <p:cNvSpPr/>
          <p:nvPr/>
        </p:nvSpPr>
        <p:spPr>
          <a:xfrm>
            <a:off x="720720" y="1440000"/>
            <a:ext cx="84596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емма. Если функция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ифференцируема в точке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,то она непрерывна в этой точке: ∆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→0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и ∆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→0,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.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+∆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) при ∆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→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1"/>
          <p:cNvSpPr/>
          <p:nvPr/>
        </p:nvSpPr>
        <p:spPr>
          <a:xfrm>
            <a:off x="720720" y="1440000"/>
            <a:ext cx="84596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равило №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Если функции u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ифференцируема в точке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,то произведение дифференцируемо в этой точке и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uv)'=u'v+uv'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1"/>
          <p:cNvSpPr/>
          <p:nvPr/>
        </p:nvSpPr>
        <p:spPr>
          <a:xfrm>
            <a:off x="720720" y="615960"/>
            <a:ext cx="864072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ледствие.Если функция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ифференцируема в точке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0,а С-постоянная, то функция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ифференцируема в этой точке и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Cu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Cu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'.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ротко говорят: постоянный множитель можно выносить за знак проязводн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"/>
          <p:cNvSpPr/>
          <p:nvPr/>
        </p:nvSpPr>
        <p:spPr>
          <a:xfrm>
            <a:off x="720720" y="900000"/>
            <a:ext cx="828036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авило №3. Если функции u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ифференцируемы в точке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функция v не равна нулю в этой точке, то частное u/v также  дифференцируемо в 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u/v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v-uv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8:29:17Z</dcterms:created>
  <dc:creator>ACER</dc:creator>
  <dc:description/>
  <dc:language>en-US</dc:language>
  <cp:lastModifiedBy>ACER</cp:lastModifiedBy>
  <dcterms:modified xsi:type="dcterms:W3CDTF">2021-06-06T04:09:48Z</dcterms:modified>
  <cp:revision>12</cp:revision>
  <dc:subject/>
  <dc:title>Слайд 1</dc:title>
</cp:coreProperties>
</file>