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BBFDC-7A38-4DEB-BB0E-40E8010E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C5667-501C-4EAD-8FBF-BCE9CAED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80C09-E3B4-4468-B444-E37505C4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28E50-172A-414C-B36A-9C792B60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BA159-B0CE-410F-AD91-ADFC6C48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84A27-E3FA-4F73-8517-99880750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09E6E-3852-4FD5-9C9A-521127F9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FB941-6391-4CA1-A3AA-21411D56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9AE00-AD5D-423C-82C5-C26B7967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6AF0F-3B4A-4A44-919C-262C216B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12AD3-5651-4C63-8A09-391ECD64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A4E5C-D7BB-4C78-ABEE-F12276C1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D90DF-FE56-4DD2-B266-86F2329C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64E72-E627-4F95-A929-A33350FF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B243F-64C4-4959-BE17-9D48207D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7596C-1E1D-482F-8F49-CDF2454B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C896E-1F98-4590-80CA-9B7D8C91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E8BD1-067C-4F56-82CF-39BB207D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8AACA-30D3-4B4C-B0A3-BA3C0216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45F62-402C-40D1-95B0-EF4C8A49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F4D54-073C-4188-A78A-10F5A287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D5CD9-A288-4120-B857-E1CC025D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64413-78DB-4BAE-8EC6-ACF190A1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F2BA3-C32B-4D03-9793-C44FB4CB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AB1C8-8557-4121-A3EE-FF3246D5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ADBBE-517F-4509-9D6C-56CED3AF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DA0E2-61D6-4A82-800E-AE03DFF8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BCD0C-9CEF-4B50-947D-7FD58BC2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E7DF5-B8CF-47D7-942B-BA278DDE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C0CB6-A632-47F3-A9D0-FE5099E5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6B20-90D5-4226-B144-A4626A90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5179D-002F-4BDF-AD07-EE1D1BA2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7C3D4-D225-473D-B6B2-23AD613A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C96A4-F0AD-4E2D-8944-EC02795A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BBA7A-5FA5-43BC-98B0-85162DF2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ECA32-5DC9-47CC-9212-69393C0B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F6D2A-7B47-4323-A70E-45426E1F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E95BB-50E2-460A-8F0D-BD188258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8CD02-12C3-4EF6-B482-44E32C0E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A8C1F-DB99-449D-A101-E18ADAAE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74532-9636-4F8B-8AFE-D253B250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053A-80F1-407F-996F-EA7EB711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481DD-3299-422A-8D8C-91949CDE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625F3-414F-4EB3-AF1B-A0532CE0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2729E-2285-4BF9-96B1-BAC02867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49084-6E54-4586-8FF1-538B2513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C5D16-C0A0-41E7-A501-4FCDDF41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BB0C7-8BC4-4852-9C4B-4C6CBB94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60DE6-5874-4BEF-8C92-F362D800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ED3CF-8F2E-4C2F-8FA9-E13EAE7B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3B147-86A5-4156-89A8-A5E9E51F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E088D-9C58-4097-9D9C-CE217627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64A-8D26-4114-8607-72509D2F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3B1C6-56A5-4B32-B510-8109CBB4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74061-61B2-4C81-9223-BCA9D007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CD8E1-7A44-4F7F-89B5-62AAA993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EF481-B792-4815-91CD-47ECF4A6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A9E63-EE20-43A6-AA55-4B5B59AD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7A10B-25F3-46D2-B852-92628F7D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E6BB8-19AE-4CC9-A076-698CA0D8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E465-4848-4F88-8B1D-A2DB7EB7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479-90A9-4852-8326-9C712F0A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97C-B91A-4006-A110-9583746F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9C0F-2F9A-474F-A70D-22BAD416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9284-488D-4B04-B727-F2FEFA35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F143-9C1D-4196-A076-E3C9BAE6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9A75-0713-4BBE-853A-DEBC3C3D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4C2-1C64-4296-8566-96A6831C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75B9-7522-49BC-A3B4-0735ED5E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F0AD-802C-4A03-820A-2D597EAA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1D33-0266-4006-885B-A60D0840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EA23-653C-40DE-8C69-8636EBCF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8CD7-AFBE-46A8-AA02-7D2A1A48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7E07-7DE6-482A-9A20-69B9D55C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7F37-D601-4787-981F-445E6DB9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5C15-8859-4B5E-B0E2-77713261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D14A-DD82-44B7-9A0E-B4EB9832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2B99-6E18-4C24-9A06-D3445603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FAC7-1882-4322-B356-4B71C666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8C37-9261-4A38-95A5-932BF2C9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EDD0-04C6-48F4-9363-B419B68E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50A8D-1F1B-4274-A6F6-B28D407A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FC138-A682-4225-9159-57BED124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9858A-D9B2-4FE4-A21D-7F121CDC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514D7-5201-429B-8AB1-48D1F22A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59EFC-5240-42A1-8B32-28A5E21B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FD46D-4E1D-4CCB-9496-89808EEC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71C33-5A50-431E-9055-2768AA62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AC088-C64C-4AE6-BE5B-978C8812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44DB5-EF85-4F43-9648-26B9EC2C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1C2B7-EAEB-415D-A22B-E5959415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FCB55-C263-4441-9B51-888A3AE3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260FA-AF61-475B-AB9D-19DEED17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5E003-4A79-4187-AD8F-0E4DB7CF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1CE6B-155F-4621-8F72-088292A7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D7F0B-8CBB-433C-88AB-06E7ACCB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7F00E-AA14-4961-9E11-E21E2B8E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A85BA-D656-4210-8653-BCE9AE94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5DA2C-E184-4E2B-AFB5-6FD2C787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9A7B6-B72C-464A-9D36-928A3461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C49A1-AF8B-424C-8A81-E6352090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15D69-E978-46A9-A34B-37E5AE88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FCE11-48B4-464D-96FB-201749D2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6AB92-21B2-4E9E-9F69-5D8A7AB4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2D008-2F47-4AD8-893D-0FD19813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A524F-75ED-41DD-BCA4-E3B568F7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DBD4E-6A3F-4453-BAE6-62481C5B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83472-0E31-4B84-9437-F8E93DDC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AEB6E-1E6C-40B3-AAF9-5A5B72D8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43AF9-F774-4A8A-BE06-3B8290F1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0DD87-CE4D-40B2-A7C1-0A06A64C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A05C7-73BE-4779-A358-50C30A71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AE695-C6D0-4544-A894-DDD9D1F1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63D14-C429-4BAD-805F-170DDE2E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AB1E1-2ED4-43F7-B0B0-9AF9B9B7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FCDE9-565D-434D-A694-21ECA6FC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E3820-8680-435F-A129-AC1758BD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4619B-DB7E-4188-942F-00AAE4EE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42F9E-2397-45FF-A015-18ABF371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85EF2-BD9A-49FE-BDE9-72A36A6F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4FDB1-29F1-4F4D-995A-F0FE8849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F8CDE-9D44-4159-B0C5-E89181E2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D5EFC-5E99-4548-931D-944C03F6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FD537-22BB-4FFE-ACFA-01EACAEB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42770-BF6E-45F6-8539-5EEC43DC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34734-BF29-49B4-9CC2-FA49ED39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64EA2-2C6D-4F10-8FE2-34949509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B4631-5B1A-4B57-8C64-BF449844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F85AE-77B7-4A39-A995-1D199775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C8777-0F6A-42CF-A3CF-31BECE8C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2B11E-B06D-41AE-9B52-2FCFACA8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8B80F-6736-4CB5-A23D-E1F48A4D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A8DF8-7BA2-4CEA-A666-CAEB30AD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FA41E-EB52-4E56-9C9E-61B651E7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24167-C3CC-4BB6-B649-E510262E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2BF8A-0E5B-42E5-A443-1DA89679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895A4-3458-4DC6-AAC3-BF053CEB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C7815-94CB-410D-ABC1-4944FFD5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AC347-F528-488D-A1CD-CDC83553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DCDFE-6D33-4CEC-AAE5-8D571E23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AFF20-738E-47B2-99E1-486707BC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B5E18-E19D-4046-BFA7-2CD9B2C8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43B81-F446-4D0F-A3E3-52A48A81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065EF-2ADD-4122-8730-D2EE298E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004356-173B-41FC-B6E8-26DEA118DDA7}" type="datetime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3D8473-1A9B-4E82-88DF-0A4E52C89B9B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771BF9-C926-4547-8947-4376A61BD0C7}" type="datetime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869161-F560-4809-B7D0-FFEB9752B2FF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F22C6C-51C4-412E-9ECF-CF99DFB671EC}" type="datetime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7420D4-5056-4717-B4CC-FAF9BDBC3752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7823BD9-6225-4F03-82AC-828CBEBA579D}" type="datetime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61CD5B-7C36-4D5A-93D8-B848A57AE7F0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3EE26C-E06B-4800-8723-7794E81D2544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5C5B14-9502-4996-A599-408459C28B02}" type="datetime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DA1639-8E72-4C48-A648-DEC6D83EA8C0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349367-3B96-4FEF-B550-750F56696D0E}" type="datetime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49E236-8575-412F-914A-5D5EAA3B6164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F2E2B9-F717-4703-A8D9-D67F19CC97E5}" type="datetime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FD3121-CB7C-4554-A5A1-3B804C4F1340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14622C-2DFC-4F27-BC00-3522D840CA2D}" type="datetime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A417AE-3ACD-4167-B9BC-2D5FFAF9A69C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D7430C-7FE9-4D96-9D70-EFCBBFEA18AA}" type="datetime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E16ED2-5336-4B69-A588-56AAAEBDB303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47D407-D923-4784-B2C5-878F65CE2869}" type="datetime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59B313-8DB4-4C49-8EE0-779108A7A60A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3D7EFB-B636-4B96-A32A-34C2ECD13ABD}" type="datetime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398B17-01D0-4375-B4CD-06EE8B78AB57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gabotan.ru/pages/formuli_proizvodnoj" TargetMode="External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1"/>
          <p:cNvSpPr/>
          <p:nvPr/>
        </p:nvSpPr>
        <p:spPr>
          <a:xfrm>
            <a:off x="720720" y="900000"/>
            <a:ext cx="845964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000" spc="-1" strike="noStrike" u="sng">
                <a:solidFill>
                  <a:srgbClr val="000000"/>
                </a:solidFill>
                <a:uFillTx/>
                <a:latin typeface="Arial"/>
              </a:rPr>
              <a:t>ПРОИЗВОДНА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1"/>
          <p:cNvSpPr/>
          <p:nvPr/>
        </p:nvSpPr>
        <p:spPr>
          <a:xfrm>
            <a:off x="6119640" y="5148360"/>
            <a:ext cx="31687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ГБОУ СОШ №185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нченко Т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1"/>
          <p:cNvSpPr/>
          <p:nvPr/>
        </p:nvSpPr>
        <p:spPr>
          <a:xfrm>
            <a:off x="900000" y="1079640"/>
            <a:ext cx="7740720" cy="55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роизводная степенной функции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Для любого целого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и любого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(x≠0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≤1)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(xⁿ)'=nxⁿ</a:t>
            </a:r>
            <a:r>
              <a:rPr b="0" lang="ar-SA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 ¹</a:t>
            </a:r>
            <a:r>
              <a:rPr b="0" lang="he-IL" sz="6600" spc="-1" strike="noStrike">
                <a:solidFill>
                  <a:srgbClr val="000000"/>
                </a:solidFill>
                <a:latin typeface="Times New Roman"/>
                <a:cs typeface="Arial"/>
              </a:rPr>
              <a:t>־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1"/>
          <p:cNvSpPr/>
          <p:nvPr/>
        </p:nvSpPr>
        <p:spPr>
          <a:xfrm>
            <a:off x="720720" y="720720"/>
            <a:ext cx="8459640" cy="59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Целые рациональные функции (многочлены) и дробно-рациональные функции дифференцируемы в каждой точке своей области определе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749160" y="360360"/>
            <a:ext cx="8460000" cy="67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оизводная сложной функции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сли функция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имеет производную в точк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,а функция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имеет производную в точке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0=f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то сложная функция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(x)=g(f(x))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также имеет производную в точк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чём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'(x0)=g'(f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)·f '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1"/>
          <p:cNvSpPr/>
          <p:nvPr/>
        </p:nvSpPr>
        <p:spPr>
          <a:xfrm>
            <a:off x="431640" y="539640"/>
            <a:ext cx="846000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роизводные тригонометрических функций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ула производной синус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ункция синус имеет производную в любой точке и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 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 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1"/>
          <p:cNvSpPr/>
          <p:nvPr/>
        </p:nvSpPr>
        <p:spPr>
          <a:xfrm>
            <a:off x="709560" y="720720"/>
            <a:ext cx="864072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улы дифференцирования косинуса, тангенса и котангенса: функции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=cos x, y=tg x, y=ctg x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еют производные в каждой точке своей области определения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справедливы формул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cos 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-sin x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tg 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1/co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x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ctg x)'=-1/sin²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1"/>
          <p:cNvSpPr/>
          <p:nvPr/>
        </p:nvSpPr>
        <p:spPr>
          <a:xfrm>
            <a:off x="1260360" y="1440000"/>
            <a:ext cx="8099640" cy="46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5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</a:rPr>
              <a:t>(sin x)</a:t>
            </a: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i="1" lang="en-US" sz="8000" spc="-1" strike="noStrike">
                <a:solidFill>
                  <a:srgbClr val="000000"/>
                </a:solidFill>
                <a:latin typeface="Arial"/>
              </a:rPr>
              <a:t>=cos 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</a:rPr>
              <a:t>(cos x)</a:t>
            </a: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i="1" lang="en-US" sz="8000" spc="-1" strike="noStrike">
                <a:solidFill>
                  <a:srgbClr val="000000"/>
                </a:solidFill>
                <a:latin typeface="Arial"/>
              </a:rPr>
              <a:t>=-sin x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</a:rPr>
              <a:t>(tgx)</a:t>
            </a: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i="1" lang="en-US" sz="8000" spc="-1" strike="noStrike">
                <a:solidFill>
                  <a:srgbClr val="000000"/>
                </a:solidFill>
                <a:latin typeface="Arial"/>
              </a:rPr>
              <a:t>=1/cos</a:t>
            </a: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0" i="1" lang="en-US" sz="8000" spc="-1" strike="noStrike">
                <a:solidFill>
                  <a:srgbClr val="000000"/>
                </a:solidFill>
                <a:latin typeface="Arial"/>
              </a:rPr>
              <a:t> x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</a:rPr>
              <a:t>(ctg x)'=-1/sin²x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1"/>
          <p:cNvSpPr/>
          <p:nvPr/>
        </p:nvSpPr>
        <p:spPr>
          <a:xfrm>
            <a:off x="720720" y="720720"/>
            <a:ext cx="864072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изводные широко применимы в настоящее время, например, в экономическом анализе. Они помогают точно вывести данные об изменении экономики государства. Используя их, можно совершенно точно просчитать, как можно увеличить доход государства и за счёт чего он может быть увели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изводная широко используется для исследования функций, т.е. для изучения различных свойств функций. Например, с помощью производной можно находить промежутки возрастания и убывания функции, ее наибольшие и наименьшие зна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1"/>
          <p:cNvSpPr/>
          <p:nvPr/>
        </p:nvSpPr>
        <p:spPr>
          <a:xfrm>
            <a:off x="720720" y="539640"/>
            <a:ext cx="8640720" cy="58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истор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 о производ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а вычисления производной:                  -Основные правила дифференцирования,      -Производная степенно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ная сложной функции:                       -Сложная функция,                                             -Производная триногометрических функ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1"/>
          <p:cNvSpPr/>
          <p:nvPr/>
        </p:nvSpPr>
        <p:spPr>
          <a:xfrm>
            <a:off x="647640" y="826920"/>
            <a:ext cx="8820360" cy="57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ула производной встречается нам ещё в 15 веке. Великий итальянский математик Тартальи, рассматривая и развивая вопрос - на сколько зависит дальность полёта снаряда от наклона орудия - применяет её в своих труд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вящает целый трактат о роли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производно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математике известный учёный Галилео Галилей. Затем производная и различные изложения с её применением стали встречаться в работах Декарта, французского математика Роберваля и англичанина Грегори. Большой вклад по изучению производной внесли такие умы, как Лопиталь, Бернулли, Лангранж и д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1"/>
          <p:cNvSpPr/>
          <p:nvPr/>
        </p:nvSpPr>
        <p:spPr>
          <a:xfrm>
            <a:off x="539640" y="720720"/>
            <a:ext cx="882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2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Понятие о производн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"/>
          <p:cNvSpPr/>
          <p:nvPr/>
        </p:nvSpPr>
        <p:spPr>
          <a:xfrm>
            <a:off x="720720" y="1619280"/>
            <a:ext cx="8459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оизводной функции f в точке x0 называется число, к которому стремится разностное отношение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i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f/Δx=f(x0+Δx)-f(x0)/Δx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при ΔX, стремящемся к нул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1"/>
          <p:cNvSpPr/>
          <p:nvPr/>
        </p:nvSpPr>
        <p:spPr>
          <a:xfrm>
            <a:off x="720720" y="720720"/>
            <a:ext cx="8459640" cy="59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правила дифференц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авило №1. Если функции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ифференцируемыв точке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0,то их сумма дифференцируема в этой точке (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)'= u'+v'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оротко говорят: производная суммы равна сумме производны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1"/>
          <p:cNvSpPr/>
          <p:nvPr/>
        </p:nvSpPr>
        <p:spPr>
          <a:xfrm>
            <a:off x="720720" y="1440000"/>
            <a:ext cx="845964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252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Лемма. Если функция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ифференцируема в точке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,то она непрерывна в этой точке: ∆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→0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и ∆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x→0,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.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+∆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) при ∆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x→0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1"/>
          <p:cNvSpPr/>
          <p:nvPr/>
        </p:nvSpPr>
        <p:spPr>
          <a:xfrm>
            <a:off x="720720" y="1440000"/>
            <a:ext cx="845964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252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равило №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Если функции u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ифференцируема в точке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,то произведение дифференцируемо в этой точке и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uv)'=u'v+uv'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1"/>
          <p:cNvSpPr/>
          <p:nvPr/>
        </p:nvSpPr>
        <p:spPr>
          <a:xfrm>
            <a:off x="720720" y="615960"/>
            <a:ext cx="864072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ледствие.Если функция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ифференцируема в точке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0,а С-постоянная, то функция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ифференцируема в этой точке и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Cu)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Cu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'.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оротко говорят: постоянный множитель можно выносить за знак проязводно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1"/>
          <p:cNvSpPr/>
          <p:nvPr/>
        </p:nvSpPr>
        <p:spPr>
          <a:xfrm>
            <a:off x="720720" y="900000"/>
            <a:ext cx="828036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авило №3. Если функции u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ифференцируемы в точке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функция v не равна нулю в этой точке, то частное u/v также  дифференцируемо в 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u/v)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u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v-uv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8:29:17Z</dcterms:created>
  <dc:creator>ACER</dc:creator>
  <dc:description/>
  <dc:language>en-US</dc:language>
  <cp:lastModifiedBy>ACER</cp:lastModifiedBy>
  <dcterms:modified xsi:type="dcterms:W3CDTF">2021-06-06T04:09:48Z</dcterms:modified>
  <cp:revision>12</cp:revision>
  <dc:subject/>
  <dc:title>Слайд 1</dc:title>
</cp:coreProperties>
</file>