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4706-9D48-40CE-9A94-0416049EA7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37D3-6E58-4709-A06E-7080A20E33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7F17-798E-4987-922C-90940F497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60B2-0FA5-40DE-9C0E-1F07B8FF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881B-3338-45B0-B322-AE5B45EC2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AA94-948E-4F93-B6C0-C6D4F44BA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0996-CBF7-477A-A4B8-BFE9D48F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C013-B2ED-49B3-AB2E-9C9DF8BB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5D17-35AB-4858-B9AD-8F1CCA29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5079-DE10-440C-9242-1BB17054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DDB1-8132-4F92-A8F5-DB28935F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B753-B406-4C8C-95E6-B07976B7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07E4-D130-4D00-81BF-42CB2480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14DE-4A45-4157-A381-355EDA35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6B70-29C5-4786-A3A9-FB2A6FD7A4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ДОКУМЕНТЫ\POWERPOINT\Презентации\картинки\перо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170760"/>
          </a:xfrm>
          <a:prstGeom prst="rect">
            <a:avLst/>
          </a:prstGeom>
          <a:ln w="0">
            <a:noFill/>
          </a:ln>
        </p:spPr>
      </p:pic>
      <p:sp>
        <p:nvSpPr>
          <p:cNvPr id="49" name="TextBox 7"/>
          <p:cNvSpPr/>
          <p:nvPr/>
        </p:nvSpPr>
        <p:spPr>
          <a:xfrm>
            <a:off x="826920" y="1484280"/>
            <a:ext cx="68407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Орфоэпическ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н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1218240" y="260280"/>
            <a:ext cx="687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 иноязычных существительных ударение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нстве случаев падает на последний сло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1083240" y="1700280"/>
            <a:ext cx="7032960" cy="460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 алфав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деф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испанс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докум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люз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тал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 некрол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 кварт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 парт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остр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 проц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 цем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 эксп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 (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амулеты, обереги, талисманы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зац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с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е (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копия оригинального документ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853560" y="620640"/>
            <a:ext cx="66682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о многих производных словах сохраня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рение производящих сл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1545840" y="2133720"/>
            <a:ext cx="5771520" cy="338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оиспов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ие – испов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овор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ость, догов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– договор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ние – м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ние – обесп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истокр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я – аристокр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ие – зн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гия – металл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1285200" y="404640"/>
            <a:ext cx="659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Запомнить произношение следующих сл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1209960" y="2060640"/>
            <a:ext cx="6655680" cy="19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ство    зим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щик    кор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м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ь   лыжн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чество   св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я   стол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  цеп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ка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а   т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3182400" y="18900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.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реч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417320" y="981000"/>
            <a:ext cx="58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рение падает на приставку  в слов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3287160" y="2133720"/>
            <a:ext cx="2128320" cy="3248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но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та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2291400" y="260280"/>
            <a:ext cx="46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I.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ена прилагатель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1356480" y="90792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ните орфоэпические нор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чания следующих имён прилаг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578960" y="2349360"/>
            <a:ext cx="5882400" cy="2638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н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ний крас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е, крас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йш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за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ный опт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й сл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вый к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нный лосос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Ё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ский зав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Вставьте пропущенное слово: согласные звуки бывают мягкие и ...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Раздел фонетики, изучающий нормы произношения слов русского языка?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Звуки, при образовании которых воздушная струя проходит через рот без препятств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Что изучает фонети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На какой слог падает ударение в слове "жалюзи"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)В каком слове есть звук [с]? здание, повозка, село, бой, гус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)Как называются звуки, при произношении которых, выдыхаемый воздух во рту встречает разные препятств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)На какой слог падает ударение в слове "Красивее"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)Пишется ли мягкий знак в сочетании с ч,щ, для обозначения мягко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)Сколько гласных звуков содержится в русском язык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3"/>
          <p:cNvSpPr/>
          <p:nvPr/>
        </p:nvSpPr>
        <p:spPr>
          <a:xfrm>
            <a:off x="1332000" y="11592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ые отв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539640" y="692280"/>
            <a:ext cx="806472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Вставьте пропущенное слово: согласные звуки бывают мягкие и ...? 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тверды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Раздел фонетики, изучающий нормы произношения слов русского языка? 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Орфоэп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Звуки, при образовании которых воздушная струя проходит через рот без препятствий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(Гласны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Что изучает фонетика?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Звуки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На какой слог падает ударение в слове "жалюзи"?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трети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)В каком слове есть звук [с] ? здание,повозка,село, бой, гусь?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(Повозка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)Как называются звуки, при произношении которых, выдыхаемый воздух во рту встречает разные препятстви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(Согласны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8)На какой слог падает ударение в слове "Красивее"?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(второй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9)Пишется ли мягкий знак в сочетании с ч,щ, для обозначения мягкости?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(не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0)Сколько гласных звуков содержится в русском язык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(шесть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Содержимое 3" descr="Ударение Практику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496440" y="1700280"/>
            <a:ext cx="8119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фоэп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греч. orthos - правильный и epos - речь)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 языкознания, изучающий правила образцов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ковый словарь русского языка Д.Н. Ушак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фоэп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исторически сложившиеся нормы рус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ого произношения отдельных звуков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осочетаний  в потоке устно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Содержимое 3" descr="Ударение Практику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Ink 2"/>
          <p:cNvSpPr/>
          <p:nvPr/>
        </p:nvSpPr>
        <p:spPr>
          <a:xfrm>
            <a:off x="1587600" y="2819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410" y="7832"/>
                </a:moveTo>
                <a:lnTo>
                  <a:pt x="4410" y="7832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Ink 3"/>
          <p:cNvSpPr/>
          <p:nvPr/>
        </p:nvSpPr>
        <p:spPr>
          <a:xfrm>
            <a:off x="8325000" y="28447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3125" y="7902"/>
                </a:moveTo>
                <a:lnTo>
                  <a:pt x="23125" y="7902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Ink 4"/>
          <p:cNvSpPr/>
          <p:nvPr/>
        </p:nvSpPr>
        <p:spPr>
          <a:xfrm>
            <a:off x="1797120" y="34732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4992" y="9648"/>
                </a:moveTo>
                <a:lnTo>
                  <a:pt x="4992" y="9648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Ink 5"/>
          <p:cNvSpPr/>
          <p:nvPr/>
        </p:nvSpPr>
        <p:spPr>
          <a:xfrm>
            <a:off x="2927520" y="42418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132" y="11783"/>
                </a:moveTo>
                <a:lnTo>
                  <a:pt x="8132" y="11783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Ink 6"/>
          <p:cNvSpPr/>
          <p:nvPr/>
        </p:nvSpPr>
        <p:spPr>
          <a:xfrm>
            <a:off x="4844880" y="42292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3458" y="11747"/>
                </a:moveTo>
                <a:lnTo>
                  <a:pt x="13458" y="11747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Ink 7"/>
          <p:cNvSpPr/>
          <p:nvPr/>
        </p:nvSpPr>
        <p:spPr>
          <a:xfrm>
            <a:off x="5987880" y="42670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6633" y="11853"/>
                </a:moveTo>
                <a:lnTo>
                  <a:pt x="16633" y="11853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Ink 8"/>
          <p:cNvSpPr/>
          <p:nvPr/>
        </p:nvSpPr>
        <p:spPr>
          <a:xfrm>
            <a:off x="1098720" y="49021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052" y="13617"/>
                </a:moveTo>
                <a:lnTo>
                  <a:pt x="3052" y="13617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nk 9"/>
          <p:cNvSpPr/>
          <p:nvPr/>
        </p:nvSpPr>
        <p:spPr>
          <a:xfrm>
            <a:off x="3232080" y="56894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8978" y="15804"/>
                </a:moveTo>
                <a:lnTo>
                  <a:pt x="8978" y="15804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Ink 10"/>
          <p:cNvSpPr/>
          <p:nvPr/>
        </p:nvSpPr>
        <p:spPr>
          <a:xfrm>
            <a:off x="2914560" y="63183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096" y="17551"/>
                </a:moveTo>
                <a:lnTo>
                  <a:pt x="8096" y="17551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Содержимое 3" descr="Сканы 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поминал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й запломбирОванный, а я такой взволнОван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Содержимое 3" descr="Сканы 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Ink 2"/>
          <p:cNvSpPr/>
          <p:nvPr/>
        </p:nvSpPr>
        <p:spPr>
          <a:xfrm>
            <a:off x="4838760" y="272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3441" y="758"/>
                </a:moveTo>
                <a:lnTo>
                  <a:pt x="13441" y="758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Ink 3"/>
          <p:cNvSpPr/>
          <p:nvPr/>
        </p:nvSpPr>
        <p:spPr>
          <a:xfrm>
            <a:off x="8331120" y="2030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3142" y="564"/>
                </a:moveTo>
                <a:lnTo>
                  <a:pt x="23142" y="564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Ink 4"/>
          <p:cNvSpPr/>
          <p:nvPr/>
        </p:nvSpPr>
        <p:spPr>
          <a:xfrm>
            <a:off x="6883560" y="6793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9121" y="1887"/>
                </a:moveTo>
                <a:lnTo>
                  <a:pt x="19121" y="1887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nk 5"/>
          <p:cNvSpPr/>
          <p:nvPr/>
        </p:nvSpPr>
        <p:spPr>
          <a:xfrm>
            <a:off x="6985080" y="1625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9403" y="4516"/>
                </a:moveTo>
                <a:lnTo>
                  <a:pt x="19403" y="4516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nk 6"/>
          <p:cNvSpPr/>
          <p:nvPr/>
        </p:nvSpPr>
        <p:spPr>
          <a:xfrm>
            <a:off x="1346040" y="264780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739" y="7355"/>
                </a:moveTo>
                <a:lnTo>
                  <a:pt x="3739" y="7355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Ink 7"/>
          <p:cNvSpPr/>
          <p:nvPr/>
        </p:nvSpPr>
        <p:spPr>
          <a:xfrm>
            <a:off x="2755800" y="26542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7655" y="7373"/>
                </a:moveTo>
                <a:lnTo>
                  <a:pt x="7655" y="7373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Ink 8"/>
          <p:cNvSpPr/>
          <p:nvPr/>
        </p:nvSpPr>
        <p:spPr>
          <a:xfrm>
            <a:off x="4915080" y="2635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3652" y="7320"/>
                </a:moveTo>
                <a:lnTo>
                  <a:pt x="13652" y="7320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Ink 9"/>
          <p:cNvSpPr/>
          <p:nvPr/>
        </p:nvSpPr>
        <p:spPr>
          <a:xfrm>
            <a:off x="8547120" y="2577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3742" y="7161"/>
                </a:moveTo>
                <a:lnTo>
                  <a:pt x="23742" y="7161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Ink 10"/>
          <p:cNvSpPr/>
          <p:nvPr/>
        </p:nvSpPr>
        <p:spPr>
          <a:xfrm>
            <a:off x="5086440" y="3537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129" y="9825"/>
                </a:moveTo>
                <a:lnTo>
                  <a:pt x="14129" y="9825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Ink 11"/>
          <p:cNvSpPr/>
          <p:nvPr/>
        </p:nvSpPr>
        <p:spPr>
          <a:xfrm>
            <a:off x="6222960" y="35244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7286" y="9790"/>
                </a:moveTo>
                <a:lnTo>
                  <a:pt x="17286" y="9790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Ink 12"/>
          <p:cNvSpPr/>
          <p:nvPr/>
        </p:nvSpPr>
        <p:spPr>
          <a:xfrm>
            <a:off x="7404120" y="40766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0567" y="11324"/>
                </a:moveTo>
                <a:lnTo>
                  <a:pt x="20567" y="11324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Ink 13"/>
          <p:cNvSpPr/>
          <p:nvPr/>
        </p:nvSpPr>
        <p:spPr>
          <a:xfrm>
            <a:off x="5848200" y="45212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245" y="12559"/>
                </a:moveTo>
                <a:lnTo>
                  <a:pt x="16245" y="12559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Ink 14"/>
          <p:cNvSpPr/>
          <p:nvPr/>
        </p:nvSpPr>
        <p:spPr>
          <a:xfrm>
            <a:off x="1981080" y="50799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5503" y="14111"/>
                </a:moveTo>
                <a:lnTo>
                  <a:pt x="5503" y="14111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Ink 15"/>
          <p:cNvSpPr/>
          <p:nvPr/>
        </p:nvSpPr>
        <p:spPr>
          <a:xfrm>
            <a:off x="7588080" y="50227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1078" y="13952"/>
                </a:moveTo>
                <a:lnTo>
                  <a:pt x="21078" y="13952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Ink 16"/>
          <p:cNvSpPr/>
          <p:nvPr/>
        </p:nvSpPr>
        <p:spPr>
          <a:xfrm>
            <a:off x="1847880" y="54990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5133" y="15275"/>
                </a:moveTo>
                <a:lnTo>
                  <a:pt x="5133" y="15275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Ink 17"/>
          <p:cNvSpPr/>
          <p:nvPr/>
        </p:nvSpPr>
        <p:spPr>
          <a:xfrm>
            <a:off x="1206360" y="60390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351" y="16775"/>
                </a:moveTo>
                <a:lnTo>
                  <a:pt x="3351" y="16775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Ink 18"/>
          <p:cNvSpPr/>
          <p:nvPr/>
        </p:nvSpPr>
        <p:spPr>
          <a:xfrm>
            <a:off x="1803240" y="64706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009" y="17974"/>
                </a:moveTo>
                <a:lnTo>
                  <a:pt x="5009" y="17974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Ink 19"/>
          <p:cNvSpPr/>
          <p:nvPr/>
        </p:nvSpPr>
        <p:spPr>
          <a:xfrm>
            <a:off x="5581800" y="3543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5505" y="9842"/>
                </a:moveTo>
                <a:lnTo>
                  <a:pt x="15505" y="9842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Ink 20"/>
          <p:cNvSpPr/>
          <p:nvPr/>
        </p:nvSpPr>
        <p:spPr>
          <a:xfrm>
            <a:off x="1517760" y="6039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216" y="16775"/>
                </a:moveTo>
                <a:lnTo>
                  <a:pt x="4216" y="16775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Содержимое 3" descr="Сканы 002 - коп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Содержимое 3" descr="Сканы 002 - коп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Ink 2"/>
          <p:cNvSpPr/>
          <p:nvPr/>
        </p:nvSpPr>
        <p:spPr>
          <a:xfrm>
            <a:off x="2711520" y="633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7532" y="176"/>
                </a:moveTo>
                <a:lnTo>
                  <a:pt x="7532" y="176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Ink 3"/>
          <p:cNvSpPr/>
          <p:nvPr/>
        </p:nvSpPr>
        <p:spPr>
          <a:xfrm>
            <a:off x="4254480" y="507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1818" y="141"/>
                </a:moveTo>
                <a:lnTo>
                  <a:pt x="11818" y="141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Ink 4"/>
          <p:cNvSpPr/>
          <p:nvPr/>
        </p:nvSpPr>
        <p:spPr>
          <a:xfrm>
            <a:off x="3168720" y="3873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802" y="1076"/>
                </a:moveTo>
                <a:lnTo>
                  <a:pt x="8802" y="1076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Ink 5"/>
          <p:cNvSpPr/>
          <p:nvPr/>
        </p:nvSpPr>
        <p:spPr>
          <a:xfrm>
            <a:off x="4197240" y="3873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1659" y="1076"/>
                </a:moveTo>
                <a:lnTo>
                  <a:pt x="11659" y="1076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Ink 6"/>
          <p:cNvSpPr/>
          <p:nvPr/>
        </p:nvSpPr>
        <p:spPr>
          <a:xfrm>
            <a:off x="1473120" y="6793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4092" y="1887"/>
                </a:moveTo>
                <a:lnTo>
                  <a:pt x="4092" y="1887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Ink 7"/>
          <p:cNvSpPr/>
          <p:nvPr/>
        </p:nvSpPr>
        <p:spPr>
          <a:xfrm>
            <a:off x="3009960" y="990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361" y="2752"/>
                </a:moveTo>
                <a:lnTo>
                  <a:pt x="8361" y="2752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Ink 8"/>
          <p:cNvSpPr/>
          <p:nvPr/>
        </p:nvSpPr>
        <p:spPr>
          <a:xfrm>
            <a:off x="1650960" y="126360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4586" y="3510"/>
                </a:moveTo>
                <a:lnTo>
                  <a:pt x="4586" y="3510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Ink 9"/>
          <p:cNvSpPr/>
          <p:nvPr/>
        </p:nvSpPr>
        <p:spPr>
          <a:xfrm>
            <a:off x="1644480" y="1600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568" y="4445"/>
                </a:moveTo>
                <a:lnTo>
                  <a:pt x="4568" y="4445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Ink 10"/>
          <p:cNvSpPr/>
          <p:nvPr/>
        </p:nvSpPr>
        <p:spPr>
          <a:xfrm>
            <a:off x="7651800" y="15112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1255" y="4198"/>
                </a:moveTo>
                <a:lnTo>
                  <a:pt x="21255" y="4198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Ink 11"/>
          <p:cNvSpPr/>
          <p:nvPr/>
        </p:nvSpPr>
        <p:spPr>
          <a:xfrm>
            <a:off x="5607000" y="18288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5575" y="5080"/>
                </a:moveTo>
                <a:lnTo>
                  <a:pt x="15575" y="5080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Ink 12"/>
          <p:cNvSpPr/>
          <p:nvPr/>
        </p:nvSpPr>
        <p:spPr>
          <a:xfrm>
            <a:off x="7251840" y="21589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0144" y="5997"/>
                </a:moveTo>
                <a:lnTo>
                  <a:pt x="20144" y="5997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Ink 13"/>
          <p:cNvSpPr/>
          <p:nvPr/>
        </p:nvSpPr>
        <p:spPr>
          <a:xfrm>
            <a:off x="4800600" y="2444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3335" y="6791"/>
                </a:moveTo>
                <a:lnTo>
                  <a:pt x="13335" y="6791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Ink 14"/>
          <p:cNvSpPr/>
          <p:nvPr/>
        </p:nvSpPr>
        <p:spPr>
          <a:xfrm>
            <a:off x="4889520" y="2698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3582" y="7497"/>
                </a:moveTo>
                <a:lnTo>
                  <a:pt x="13582" y="7497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Ink 15"/>
          <p:cNvSpPr/>
          <p:nvPr/>
        </p:nvSpPr>
        <p:spPr>
          <a:xfrm>
            <a:off x="2152800" y="30542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5980" y="8484"/>
                </a:moveTo>
                <a:lnTo>
                  <a:pt x="5980" y="8484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Ink 16"/>
          <p:cNvSpPr/>
          <p:nvPr/>
        </p:nvSpPr>
        <p:spPr>
          <a:xfrm>
            <a:off x="3409920" y="3333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9472" y="9260"/>
                </a:moveTo>
                <a:lnTo>
                  <a:pt x="9472" y="9260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Ink 17"/>
          <p:cNvSpPr/>
          <p:nvPr/>
        </p:nvSpPr>
        <p:spPr>
          <a:xfrm>
            <a:off x="5156280" y="33148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323" y="9207"/>
                </a:moveTo>
                <a:lnTo>
                  <a:pt x="14323" y="9207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Ink 18"/>
          <p:cNvSpPr/>
          <p:nvPr/>
        </p:nvSpPr>
        <p:spPr>
          <a:xfrm>
            <a:off x="1568520" y="36511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4357" y="10142"/>
                </a:moveTo>
                <a:lnTo>
                  <a:pt x="4357" y="10142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Ink 19"/>
          <p:cNvSpPr/>
          <p:nvPr/>
        </p:nvSpPr>
        <p:spPr>
          <a:xfrm>
            <a:off x="551196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5311" y="10089"/>
                </a:moveTo>
                <a:lnTo>
                  <a:pt x="15311" y="10089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Ink 20"/>
          <p:cNvSpPr/>
          <p:nvPr/>
        </p:nvSpPr>
        <p:spPr>
          <a:xfrm>
            <a:off x="8305920" y="36133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3072" y="10037"/>
                </a:moveTo>
                <a:lnTo>
                  <a:pt x="23072" y="10037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Ink 21"/>
          <p:cNvSpPr/>
          <p:nvPr/>
        </p:nvSpPr>
        <p:spPr>
          <a:xfrm>
            <a:off x="1758960" y="42354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4886" y="11765"/>
                </a:moveTo>
                <a:lnTo>
                  <a:pt x="4886" y="11765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Ink 22"/>
          <p:cNvSpPr/>
          <p:nvPr/>
        </p:nvSpPr>
        <p:spPr>
          <a:xfrm>
            <a:off x="3530520" y="424800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9807" y="11800"/>
                </a:moveTo>
                <a:lnTo>
                  <a:pt x="9807" y="11800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Ink 23"/>
          <p:cNvSpPr/>
          <p:nvPr/>
        </p:nvSpPr>
        <p:spPr>
          <a:xfrm>
            <a:off x="6019920" y="42102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722" y="11695"/>
                </a:moveTo>
                <a:lnTo>
                  <a:pt x="16722" y="11695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Ink 24"/>
          <p:cNvSpPr/>
          <p:nvPr/>
        </p:nvSpPr>
        <p:spPr>
          <a:xfrm>
            <a:off x="3397320" y="4838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9437" y="13441"/>
                </a:moveTo>
                <a:lnTo>
                  <a:pt x="9437" y="13441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Ink 25"/>
          <p:cNvSpPr/>
          <p:nvPr/>
        </p:nvSpPr>
        <p:spPr>
          <a:xfrm>
            <a:off x="5829480" y="48006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192" y="13335"/>
                </a:moveTo>
                <a:lnTo>
                  <a:pt x="16192" y="13335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Ink 26"/>
          <p:cNvSpPr/>
          <p:nvPr/>
        </p:nvSpPr>
        <p:spPr>
          <a:xfrm>
            <a:off x="4146480" y="5099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1518" y="14164"/>
                </a:moveTo>
                <a:lnTo>
                  <a:pt x="11518" y="14164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Ink 27"/>
          <p:cNvSpPr/>
          <p:nvPr/>
        </p:nvSpPr>
        <p:spPr>
          <a:xfrm>
            <a:off x="7169040" y="50734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9914" y="14093"/>
                </a:moveTo>
                <a:lnTo>
                  <a:pt x="19914" y="14093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nk 28"/>
          <p:cNvSpPr/>
          <p:nvPr/>
        </p:nvSpPr>
        <p:spPr>
          <a:xfrm>
            <a:off x="1733400" y="54356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815" y="15099"/>
                </a:moveTo>
                <a:lnTo>
                  <a:pt x="4815" y="15099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Ink 29"/>
          <p:cNvSpPr/>
          <p:nvPr/>
        </p:nvSpPr>
        <p:spPr>
          <a:xfrm>
            <a:off x="6343560" y="54165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7621" y="15046"/>
                </a:moveTo>
                <a:lnTo>
                  <a:pt x="17621" y="15046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Ink 30"/>
          <p:cNvSpPr/>
          <p:nvPr/>
        </p:nvSpPr>
        <p:spPr>
          <a:xfrm>
            <a:off x="6781680" y="54100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8838" y="15028"/>
                </a:moveTo>
                <a:lnTo>
                  <a:pt x="18838" y="15028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Ink 31"/>
          <p:cNvSpPr/>
          <p:nvPr/>
        </p:nvSpPr>
        <p:spPr>
          <a:xfrm>
            <a:off x="1422360" y="57405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951" y="15946"/>
                </a:moveTo>
                <a:lnTo>
                  <a:pt x="3951" y="15946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Ink 32"/>
          <p:cNvSpPr/>
          <p:nvPr/>
        </p:nvSpPr>
        <p:spPr>
          <a:xfrm>
            <a:off x="1149480" y="6026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193" y="16739"/>
                </a:moveTo>
                <a:lnTo>
                  <a:pt x="3193" y="16739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Ink 33"/>
          <p:cNvSpPr/>
          <p:nvPr/>
        </p:nvSpPr>
        <p:spPr>
          <a:xfrm>
            <a:off x="8292960" y="60069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3036" y="16686"/>
                </a:moveTo>
                <a:lnTo>
                  <a:pt x="23036" y="16686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Ink 34"/>
          <p:cNvSpPr/>
          <p:nvPr/>
        </p:nvSpPr>
        <p:spPr>
          <a:xfrm>
            <a:off x="2971800" y="66103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255" y="18362"/>
                </a:moveTo>
                <a:lnTo>
                  <a:pt x="8255" y="18362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Ink 35"/>
          <p:cNvSpPr/>
          <p:nvPr/>
        </p:nvSpPr>
        <p:spPr>
          <a:xfrm>
            <a:off x="6261120" y="6616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7392" y="18380"/>
                </a:moveTo>
                <a:lnTo>
                  <a:pt x="17392" y="18380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поминал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Содержимое 3" descr="Нормы произношения.jpg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326960" y="260280"/>
            <a:ext cx="595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. Ударения в начальной форме глаго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744120" y="1052640"/>
            <a:ext cx="709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лаголах, заканчивающихся на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И-ТЬ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рным чаще всего является суффикс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И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900000" y="2060640"/>
          <a:ext cx="7417080" cy="4757760"/>
        </p:xfrm>
        <a:graphic>
          <a:graphicData uri="http://schemas.openxmlformats.org/drawingml/2006/table">
            <a:tbl>
              <a:tblPr/>
              <a:tblGrid>
                <a:gridCol w="3708360"/>
                <a:gridCol w="370872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1" lang="ru-RU" sz="2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чи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4" name="TextBox 4"/>
          <p:cNvSpPr/>
          <p:nvPr/>
        </p:nvSpPr>
        <p:spPr>
          <a:xfrm>
            <a:off x="1483920" y="2060640"/>
            <a:ext cx="1575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5942160" y="2492280"/>
            <a:ext cx="232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1470960" y="2492280"/>
            <a:ext cx="173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оточ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1482840" y="2924280"/>
            <a:ext cx="144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егч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1481040" y="3357720"/>
            <a:ext cx="134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др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1490040" y="3789360"/>
            <a:ext cx="1453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тр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0"/>
          <p:cNvSpPr/>
          <p:nvPr/>
        </p:nvSpPr>
        <p:spPr>
          <a:xfrm>
            <a:off x="1480320" y="4149720"/>
            <a:ext cx="1398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олж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1"/>
          <p:cNvSpPr/>
          <p:nvPr/>
        </p:nvSpPr>
        <p:spPr>
          <a:xfrm>
            <a:off x="1432440" y="4653000"/>
            <a:ext cx="176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онос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2"/>
          <p:cNvSpPr/>
          <p:nvPr/>
        </p:nvSpPr>
        <p:spPr>
          <a:xfrm>
            <a:off x="1407600" y="5013360"/>
            <a:ext cx="140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3"/>
          <p:cNvSpPr/>
          <p:nvPr/>
        </p:nvSpPr>
        <p:spPr>
          <a:xfrm>
            <a:off x="1412640" y="5516640"/>
            <a:ext cx="150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ыстр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4"/>
          <p:cNvSpPr/>
          <p:nvPr/>
        </p:nvSpPr>
        <p:spPr>
          <a:xfrm>
            <a:off x="1403280" y="5950080"/>
            <a:ext cx="132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уб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5"/>
          <p:cNvSpPr/>
          <p:nvPr/>
        </p:nvSpPr>
        <p:spPr>
          <a:xfrm>
            <a:off x="1408680" y="6308640"/>
            <a:ext cx="151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угуб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6"/>
          <p:cNvSpPr/>
          <p:nvPr/>
        </p:nvSpPr>
        <p:spPr>
          <a:xfrm>
            <a:off x="6232320" y="2060640"/>
            <a:ext cx="60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8"/>
          <p:cNvSpPr/>
          <p:nvPr/>
        </p:nvSpPr>
        <p:spPr>
          <a:xfrm>
            <a:off x="5734800" y="2492280"/>
            <a:ext cx="1581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9"/>
          <p:cNvSpPr/>
          <p:nvPr/>
        </p:nvSpPr>
        <p:spPr>
          <a:xfrm>
            <a:off x="5732280" y="2852640"/>
            <a:ext cx="116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0"/>
          <p:cNvSpPr/>
          <p:nvPr/>
        </p:nvSpPr>
        <p:spPr>
          <a:xfrm>
            <a:off x="5772960" y="3357720"/>
            <a:ext cx="132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л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1"/>
          <p:cNvSpPr/>
          <p:nvPr/>
        </p:nvSpPr>
        <p:spPr>
          <a:xfrm>
            <a:off x="5793840" y="3789360"/>
            <a:ext cx="186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ить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2"/>
          <p:cNvSpPr/>
          <p:nvPr/>
        </p:nvSpPr>
        <p:spPr>
          <a:xfrm>
            <a:off x="5814720" y="4221000"/>
            <a:ext cx="142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ить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3"/>
          <p:cNvSpPr/>
          <p:nvPr/>
        </p:nvSpPr>
        <p:spPr>
          <a:xfrm>
            <a:off x="5805720" y="4653000"/>
            <a:ext cx="143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4"/>
          <p:cNvSpPr/>
          <p:nvPr/>
        </p:nvSpPr>
        <p:spPr>
          <a:xfrm>
            <a:off x="5798880" y="5084640"/>
            <a:ext cx="2006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осх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5"/>
          <p:cNvSpPr/>
          <p:nvPr/>
        </p:nvSpPr>
        <p:spPr>
          <a:xfrm>
            <a:off x="5805720" y="5445000"/>
            <a:ext cx="15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609840" y="333360"/>
            <a:ext cx="8404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глаголах на –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РОВАТЬ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дарение чаще всего падает на –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00000" y="1773360"/>
          <a:ext cx="7201080" cy="4471920"/>
        </p:xfrm>
        <a:graphic>
          <a:graphicData uri="http://schemas.openxmlformats.org/drawingml/2006/table">
            <a:tbl>
              <a:tblPr/>
              <a:tblGrid>
                <a:gridCol w="3600720"/>
                <a:gridCol w="3600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7" name="TextBox 3"/>
          <p:cNvSpPr/>
          <p:nvPr/>
        </p:nvSpPr>
        <p:spPr>
          <a:xfrm>
            <a:off x="1550880" y="1681200"/>
            <a:ext cx="2325240" cy="48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лот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ва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ва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ва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атиз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ва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ва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орт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ва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ут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ва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ва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ва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5077440" y="1700280"/>
            <a:ext cx="2197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киров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иров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иров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фриров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мбиров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мбардиров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556000" y="1397160"/>
          <a:ext cx="3960720" cy="3400200"/>
        </p:xfrm>
        <a:graphic>
          <a:graphicData uri="http://schemas.openxmlformats.org/drawingml/2006/table">
            <a:tbl>
              <a:tblPr/>
              <a:tblGrid>
                <a:gridCol w="39607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0" name="TextBox 1"/>
          <p:cNvSpPr/>
          <p:nvPr/>
        </p:nvSpPr>
        <p:spPr>
          <a:xfrm>
            <a:off x="3138120" y="260280"/>
            <a:ext cx="20293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омни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3197160" y="1341360"/>
            <a:ext cx="24818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деве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ж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ну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ве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йство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п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2268360" y="3573360"/>
          <a:ext cx="4056120" cy="1944720"/>
        </p:xfrm>
        <a:graphic>
          <a:graphicData uri="http://schemas.openxmlformats.org/drawingml/2006/table">
            <a:tbl>
              <a:tblPr/>
              <a:tblGrid>
                <a:gridCol w="405612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3" name="TextBox 1"/>
          <p:cNvSpPr/>
          <p:nvPr/>
        </p:nvSpPr>
        <p:spPr>
          <a:xfrm>
            <a:off x="78120" y="333360"/>
            <a:ext cx="887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. Ударения в формах глаголов настоящего и будущ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ремени, причастий (на –УЩ/ЮЩ, -АЩ/ЯЩ, -ВШ, -НН\ЕН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деепричастий сохраняются ТЕ ЖЕ, что и в нача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е глагол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549720" y="2205000"/>
            <a:ext cx="789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ичастиях, образованных от глаголов с помощью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а –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, ударение падает на первый сло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3349440" y="3500280"/>
            <a:ext cx="16466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нут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нут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т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я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685800" y="260280"/>
            <a:ext cx="78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I. Ударения в формах прошедшего времени глаго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478800" y="1197000"/>
            <a:ext cx="77547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ах женского рода ударение падает на окончание –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ах мужского, среднего рода и во множественно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 – на первый сло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755640" y="3068640"/>
            <a:ext cx="7056360" cy="219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КЛЮЧ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, кр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, посл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, сл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, стл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  жил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979640" y="2637000"/>
          <a:ext cx="4703760" cy="3336840"/>
        </p:xfrm>
        <a:graphic>
          <a:graphicData uri="http://schemas.openxmlformats.org/drawingml/2006/table">
            <a:tbl>
              <a:tblPr/>
              <a:tblGrid>
                <a:gridCol w="470376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0" name="TextBox 1"/>
          <p:cNvSpPr/>
          <p:nvPr/>
        </p:nvSpPr>
        <p:spPr>
          <a:xfrm>
            <a:off x="1401840" y="333360"/>
            <a:ext cx="59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V. Ударения в именах существитель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153720" y="1268280"/>
            <a:ext cx="810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ах именительного падежа множественного числ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рным является окончание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А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езударным -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Ы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следует запомнит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3499200" y="2565360"/>
            <a:ext cx="179424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эроп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р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ф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332000" y="2060640"/>
          <a:ext cx="6095880" cy="27367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4" name="TextBox 1"/>
          <p:cNvSpPr/>
          <p:nvPr/>
        </p:nvSpPr>
        <p:spPr>
          <a:xfrm>
            <a:off x="492120" y="476280"/>
            <a:ext cx="814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формах родительного падежа множественного чис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ание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О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всего является безударны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окончание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Е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дар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539640" y="22050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1769040" y="2133720"/>
            <a:ext cx="185436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хг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т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4586040" y="2133720"/>
            <a:ext cx="180396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ст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3T15:22:11Z</dcterms:created>
  <dc:creator>Алла</dc:creator>
  <dc:description/>
  <dc:language>en-US</dc:language>
  <cp:lastModifiedBy>Irina</cp:lastModifiedBy>
  <dcterms:modified xsi:type="dcterms:W3CDTF">2021-04-25T09:38:29Z</dcterms:modified>
  <cp:revision>54</cp:revision>
  <dc:subject/>
  <dc:title>Слайд 1</dc:title>
</cp:coreProperties>
</file>