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95712-1159-4454-AE79-FDDBA534BEC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E1797-0032-4375-A531-913157A64AE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4046-EC7E-447F-A90C-8F96BF837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C04D-71F6-4F38-BAAA-34D9CF609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661F-A1AA-4970-88A8-36D7DF72B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8459-F42A-4265-A864-CA4886AEA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A0E6-E4EF-4889-9522-364C63F55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AD80-9871-4324-AB49-EB1DE5E70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0C91-DD1D-429A-843F-DA1156D48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5D42-7F09-4A01-BC9D-324B2C170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2012-BB31-4451-A04A-E9287377C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2226-32FC-421A-9E17-05839EB2C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0F41-3900-42D3-AB69-DA134179E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9D5B-1278-4EC1-9BBD-335C15A19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22A96-ECAC-443E-AB89-844206DF3B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D:\ДОКУМЕНТЫ\POWERPOINT\Презентации\картинки\перо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170760"/>
          </a:xfrm>
          <a:prstGeom prst="rect">
            <a:avLst/>
          </a:prstGeom>
          <a:ln w="0">
            <a:noFill/>
          </a:ln>
        </p:spPr>
      </p:pic>
      <p:sp>
        <p:nvSpPr>
          <p:cNvPr id="49" name="TextBox 7"/>
          <p:cNvSpPr/>
          <p:nvPr/>
        </p:nvSpPr>
        <p:spPr>
          <a:xfrm>
            <a:off x="826920" y="1484280"/>
            <a:ext cx="684072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 Black"/>
                <a:ea typeface="Times New Roman"/>
              </a:rPr>
              <a:t>Орфоэпическ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 Black"/>
                <a:ea typeface="Times New Roman"/>
              </a:rPr>
              <a:t>нор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1"/>
          <p:cNvSpPr/>
          <p:nvPr/>
        </p:nvSpPr>
        <p:spPr>
          <a:xfrm>
            <a:off x="1218240" y="260280"/>
            <a:ext cx="687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 иноязычных существительных ударение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инстве случаев падает на последний слог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"/>
          <p:cNvSpPr/>
          <p:nvPr/>
        </p:nvSpPr>
        <p:spPr>
          <a:xfrm>
            <a:off x="1083240" y="1700280"/>
            <a:ext cx="7032960" cy="46033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т алфав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 деф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диспанс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 докум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люз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тал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 некрол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 кварт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 парт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остр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 проц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т цем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т эксп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т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 (-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амулеты, обереги, талисманы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зац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с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ле (-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копия оригинального документ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"/>
          <p:cNvSpPr/>
          <p:nvPr/>
        </p:nvSpPr>
        <p:spPr>
          <a:xfrm>
            <a:off x="853560" y="620640"/>
            <a:ext cx="66682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Во многих производных словах сохраняе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арение производящих слов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"/>
          <p:cNvSpPr/>
          <p:nvPr/>
        </p:nvSpPr>
        <p:spPr>
          <a:xfrm>
            <a:off x="1545840" y="2133720"/>
            <a:ext cx="5771520" cy="33843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оиспов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ие – испов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ь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говор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ность, догов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 – договор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ь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ние – м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ние – обесп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истокр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я – аристокр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ие – зн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л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гия – металл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1"/>
          <p:cNvSpPr/>
          <p:nvPr/>
        </p:nvSpPr>
        <p:spPr>
          <a:xfrm>
            <a:off x="1285200" y="404640"/>
            <a:ext cx="659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Запомнить произношение следующих слов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"/>
          <p:cNvSpPr/>
          <p:nvPr/>
        </p:nvSpPr>
        <p:spPr>
          <a:xfrm>
            <a:off x="1209960" y="2060640"/>
            <a:ext cx="6655680" cy="193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жд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ство    зим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щик    кор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м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ь   лыжн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чество   св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я   стол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   цеп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ка  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ра   т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1"/>
          <p:cNvSpPr/>
          <p:nvPr/>
        </p:nvSpPr>
        <p:spPr>
          <a:xfrm>
            <a:off x="3182400" y="18900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V. 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реч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1417320" y="981000"/>
            <a:ext cx="585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арение падает на приставку  в слова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3287160" y="2133720"/>
            <a:ext cx="2128320" cy="32486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я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но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стар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1"/>
          <p:cNvSpPr/>
          <p:nvPr/>
        </p:nvSpPr>
        <p:spPr>
          <a:xfrm>
            <a:off x="2291400" y="260280"/>
            <a:ext cx="466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VI.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мена прилагатель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1356480" y="907920"/>
            <a:ext cx="62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мните орфоэпические норм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учания следующих имён прилагатель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578960" y="2349360"/>
            <a:ext cx="5882400" cy="26384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вн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ний крас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е, крас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йш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за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ный опт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й сл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в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вый к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нный лосос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Ё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а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ский зав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Самостоятельная рабо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Вставьте пропущенное слово: согласные звуки бывают мягкие и ...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Раздел фонетики, изучающий нормы произношения слов русского языка?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Звуки, при образовании которых воздушная струя проходит через рот без препятств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)Что изучает фонетик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)На какой слог падает ударение в слове "жалюзи"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45720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)В каком слове есть звук [с]? здание, повозка, село, бой, гус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7)Как называются звуки, при произношении которых, выдыхаемый воздух во рту встречает разные препятстви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8)На какой слог падает ударение в слове "Красивее"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9)Пишется ли мягкий знак в сочетании с ч,щ, для обозначения мягкост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0)Сколько гласных звуков содержится в русском язык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3"/>
          <p:cNvSpPr/>
          <p:nvPr/>
        </p:nvSpPr>
        <p:spPr>
          <a:xfrm>
            <a:off x="1332000" y="11592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ьные отв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"/>
          <p:cNvSpPr/>
          <p:nvPr/>
        </p:nvSpPr>
        <p:spPr>
          <a:xfrm>
            <a:off x="539640" y="692280"/>
            <a:ext cx="806472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Вставьте пропущенное слово: согласные звуки бывают мягкие и ...? 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(твердые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Раздел фонетики, изучающий нормы произношения слов русского языка? 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(Орфоэпия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Звуки, при образовании которых воздушная струя проходит через рот без препятствий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.(Гласные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Что изучает фонетика?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(Звуки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)На какой слог падает ударение в слове "жалюзи"?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(третий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57200" y="26028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6)В каком слове есть звук [с] ? здание,повозка,село, бой, гусь?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(Повозка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7)Как называются звуки, при произношении которых, выдыхаемый воздух во рту встречает разные препятствия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(Согласны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8)На какой слог падает ударение в слове "Красивее"?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(второй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9)Пишется ли мягкий знак в сочетании с ч,щ, для обозначения мягкости?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(нет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0)Сколько гласных звуков содержится в русском языке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(шесть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Содержимое 3" descr="Ударение Практикум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496440" y="1700280"/>
            <a:ext cx="8119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рфоэпи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т греч. orthos - правильный и epos - речь)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ел языкознания, изучающий правила образцов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но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ковый словарь русского языка Д.Н. Ушако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рфоэп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исторически сложившиеся нормы русск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ного произношения отдельных звуков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укосочетаний  в потоке устной ре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Содержимое 3" descr="Ударение Практикум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Ink 2"/>
          <p:cNvSpPr/>
          <p:nvPr/>
        </p:nvSpPr>
        <p:spPr>
          <a:xfrm>
            <a:off x="1587600" y="28195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4410" y="7832"/>
                </a:moveTo>
                <a:lnTo>
                  <a:pt x="4410" y="7832"/>
                </a:lnTo>
              </a:path>
            </a:pathLst>
          </a:custGeom>
          <a:noFill/>
          <a:ln cap="sq" w="12708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Ink 3"/>
          <p:cNvSpPr/>
          <p:nvPr/>
        </p:nvSpPr>
        <p:spPr>
          <a:xfrm>
            <a:off x="8325000" y="284472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3125" y="7902"/>
                </a:moveTo>
                <a:lnTo>
                  <a:pt x="23125" y="7902"/>
                </a:lnTo>
              </a:path>
            </a:pathLst>
          </a:custGeom>
          <a:noFill/>
          <a:ln cap="sq" w="12708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Ink 4"/>
          <p:cNvSpPr/>
          <p:nvPr/>
        </p:nvSpPr>
        <p:spPr>
          <a:xfrm>
            <a:off x="1797120" y="34732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4992" y="9648"/>
                </a:moveTo>
                <a:lnTo>
                  <a:pt x="4992" y="9648"/>
                </a:lnTo>
              </a:path>
            </a:pathLst>
          </a:custGeom>
          <a:noFill/>
          <a:ln cap="sq" w="12708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Ink 5"/>
          <p:cNvSpPr/>
          <p:nvPr/>
        </p:nvSpPr>
        <p:spPr>
          <a:xfrm>
            <a:off x="2927520" y="42418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8132" y="11783"/>
                </a:moveTo>
                <a:lnTo>
                  <a:pt x="8132" y="11783"/>
                </a:lnTo>
              </a:path>
            </a:pathLst>
          </a:custGeom>
          <a:noFill/>
          <a:ln cap="sq" w="12708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Ink 6"/>
          <p:cNvSpPr/>
          <p:nvPr/>
        </p:nvSpPr>
        <p:spPr>
          <a:xfrm>
            <a:off x="4844880" y="422928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3458" y="11747"/>
                </a:moveTo>
                <a:lnTo>
                  <a:pt x="13458" y="11747"/>
                </a:lnTo>
              </a:path>
            </a:pathLst>
          </a:custGeom>
          <a:noFill/>
          <a:ln cap="sq" w="12708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Ink 7"/>
          <p:cNvSpPr/>
          <p:nvPr/>
        </p:nvSpPr>
        <p:spPr>
          <a:xfrm>
            <a:off x="5987880" y="426708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6633" y="11853"/>
                </a:moveTo>
                <a:lnTo>
                  <a:pt x="16633" y="11853"/>
                </a:lnTo>
              </a:path>
            </a:pathLst>
          </a:custGeom>
          <a:noFill/>
          <a:ln cap="sq" w="12708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Ink 8"/>
          <p:cNvSpPr/>
          <p:nvPr/>
        </p:nvSpPr>
        <p:spPr>
          <a:xfrm>
            <a:off x="1098720" y="490212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3052" y="13617"/>
                </a:moveTo>
                <a:lnTo>
                  <a:pt x="3052" y="13617"/>
                </a:lnTo>
              </a:path>
            </a:pathLst>
          </a:custGeom>
          <a:noFill/>
          <a:ln cap="sq" w="12708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Ink 9"/>
          <p:cNvSpPr/>
          <p:nvPr/>
        </p:nvSpPr>
        <p:spPr>
          <a:xfrm>
            <a:off x="3232080" y="568944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8978" y="15804"/>
                </a:moveTo>
                <a:lnTo>
                  <a:pt x="8978" y="15804"/>
                </a:lnTo>
              </a:path>
            </a:pathLst>
          </a:custGeom>
          <a:noFill/>
          <a:ln cap="sq" w="12708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Ink 10"/>
          <p:cNvSpPr/>
          <p:nvPr/>
        </p:nvSpPr>
        <p:spPr>
          <a:xfrm>
            <a:off x="2914560" y="631836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8096" y="17551"/>
                </a:moveTo>
                <a:lnTo>
                  <a:pt x="8096" y="17551"/>
                </a:lnTo>
              </a:path>
            </a:pathLst>
          </a:custGeom>
          <a:noFill/>
          <a:ln cap="sq" w="12708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Содержимое 3" descr="Сканы 0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поминал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ой запломбирОванный, а я такой взволнОванны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Содержимое 3" descr="Сканы 0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Ink 2"/>
          <p:cNvSpPr/>
          <p:nvPr/>
        </p:nvSpPr>
        <p:spPr>
          <a:xfrm>
            <a:off x="4838760" y="2728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3441" y="758"/>
                </a:moveTo>
                <a:lnTo>
                  <a:pt x="13441" y="758"/>
                </a:lnTo>
              </a:path>
            </a:pathLst>
          </a:custGeom>
          <a:noFill/>
          <a:ln cap="sq" w="12708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Ink 3"/>
          <p:cNvSpPr/>
          <p:nvPr/>
        </p:nvSpPr>
        <p:spPr>
          <a:xfrm>
            <a:off x="8331120" y="20304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3142" y="564"/>
                </a:moveTo>
                <a:lnTo>
                  <a:pt x="23142" y="564"/>
                </a:lnTo>
              </a:path>
            </a:pathLst>
          </a:custGeom>
          <a:noFill/>
          <a:ln cap="sq" w="12708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Ink 4"/>
          <p:cNvSpPr/>
          <p:nvPr/>
        </p:nvSpPr>
        <p:spPr>
          <a:xfrm>
            <a:off x="6883560" y="67932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9121" y="1887"/>
                </a:moveTo>
                <a:lnTo>
                  <a:pt x="19121" y="1887"/>
                </a:lnTo>
              </a:path>
            </a:pathLst>
          </a:custGeom>
          <a:noFill/>
          <a:ln cap="sq" w="12708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Ink 5"/>
          <p:cNvSpPr/>
          <p:nvPr/>
        </p:nvSpPr>
        <p:spPr>
          <a:xfrm>
            <a:off x="6985080" y="16257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9403" y="4516"/>
                </a:moveTo>
                <a:lnTo>
                  <a:pt x="19403" y="4516"/>
                </a:lnTo>
              </a:path>
            </a:pathLst>
          </a:custGeom>
          <a:noFill/>
          <a:ln cap="sq" w="12708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Ink 6"/>
          <p:cNvSpPr/>
          <p:nvPr/>
        </p:nvSpPr>
        <p:spPr>
          <a:xfrm>
            <a:off x="1346040" y="264780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3739" y="7355"/>
                </a:moveTo>
                <a:lnTo>
                  <a:pt x="3739" y="7355"/>
                </a:lnTo>
              </a:path>
            </a:pathLst>
          </a:custGeom>
          <a:noFill/>
          <a:ln cap="sq" w="12708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Ink 7"/>
          <p:cNvSpPr/>
          <p:nvPr/>
        </p:nvSpPr>
        <p:spPr>
          <a:xfrm>
            <a:off x="2755800" y="265428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7655" y="7373"/>
                </a:moveTo>
                <a:lnTo>
                  <a:pt x="7655" y="7373"/>
                </a:lnTo>
              </a:path>
            </a:pathLst>
          </a:custGeom>
          <a:noFill/>
          <a:ln cap="sq" w="12708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Ink 8"/>
          <p:cNvSpPr/>
          <p:nvPr/>
        </p:nvSpPr>
        <p:spPr>
          <a:xfrm>
            <a:off x="4915080" y="26352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3652" y="7320"/>
                </a:moveTo>
                <a:lnTo>
                  <a:pt x="13652" y="7320"/>
                </a:lnTo>
              </a:path>
            </a:pathLst>
          </a:custGeom>
          <a:noFill/>
          <a:ln cap="sq" w="12708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Ink 9"/>
          <p:cNvSpPr/>
          <p:nvPr/>
        </p:nvSpPr>
        <p:spPr>
          <a:xfrm>
            <a:off x="8547120" y="25779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3742" y="7161"/>
                </a:moveTo>
                <a:lnTo>
                  <a:pt x="23742" y="7161"/>
                </a:lnTo>
              </a:path>
            </a:pathLst>
          </a:custGeom>
          <a:noFill/>
          <a:ln cap="sq" w="12708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Ink 10"/>
          <p:cNvSpPr/>
          <p:nvPr/>
        </p:nvSpPr>
        <p:spPr>
          <a:xfrm>
            <a:off x="5086440" y="35370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4129" y="9825"/>
                </a:moveTo>
                <a:lnTo>
                  <a:pt x="14129" y="9825"/>
                </a:lnTo>
              </a:path>
            </a:pathLst>
          </a:custGeom>
          <a:noFill/>
          <a:ln cap="sq" w="12708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Ink 11"/>
          <p:cNvSpPr/>
          <p:nvPr/>
        </p:nvSpPr>
        <p:spPr>
          <a:xfrm>
            <a:off x="6222960" y="35244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7286" y="9790"/>
                </a:moveTo>
                <a:lnTo>
                  <a:pt x="17286" y="9790"/>
                </a:lnTo>
              </a:path>
            </a:pathLst>
          </a:custGeom>
          <a:noFill/>
          <a:ln cap="sq" w="12708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Ink 12"/>
          <p:cNvSpPr/>
          <p:nvPr/>
        </p:nvSpPr>
        <p:spPr>
          <a:xfrm>
            <a:off x="7404120" y="40766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0567" y="11324"/>
                </a:moveTo>
                <a:lnTo>
                  <a:pt x="20567" y="11324"/>
                </a:lnTo>
              </a:path>
            </a:pathLst>
          </a:custGeom>
          <a:noFill/>
          <a:ln cap="sq" w="12708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Ink 13"/>
          <p:cNvSpPr/>
          <p:nvPr/>
        </p:nvSpPr>
        <p:spPr>
          <a:xfrm>
            <a:off x="5848200" y="45212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6245" y="12559"/>
                </a:moveTo>
                <a:lnTo>
                  <a:pt x="16245" y="12559"/>
                </a:lnTo>
              </a:path>
            </a:pathLst>
          </a:custGeom>
          <a:noFill/>
          <a:ln cap="sq" w="12708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Ink 14"/>
          <p:cNvSpPr/>
          <p:nvPr/>
        </p:nvSpPr>
        <p:spPr>
          <a:xfrm>
            <a:off x="1981080" y="507996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5503" y="14111"/>
                </a:moveTo>
                <a:lnTo>
                  <a:pt x="5503" y="14111"/>
                </a:lnTo>
              </a:path>
            </a:pathLst>
          </a:custGeom>
          <a:noFill/>
          <a:ln cap="sq" w="12708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Ink 15"/>
          <p:cNvSpPr/>
          <p:nvPr/>
        </p:nvSpPr>
        <p:spPr>
          <a:xfrm>
            <a:off x="7588080" y="502272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1078" y="13952"/>
                </a:moveTo>
                <a:lnTo>
                  <a:pt x="21078" y="13952"/>
                </a:lnTo>
              </a:path>
            </a:pathLst>
          </a:custGeom>
          <a:noFill/>
          <a:ln cap="sq" w="12708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Ink 16"/>
          <p:cNvSpPr/>
          <p:nvPr/>
        </p:nvSpPr>
        <p:spPr>
          <a:xfrm>
            <a:off x="1847880" y="54990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5133" y="15275"/>
                </a:moveTo>
                <a:lnTo>
                  <a:pt x="5133" y="15275"/>
                </a:lnTo>
              </a:path>
            </a:pathLst>
          </a:custGeom>
          <a:noFill/>
          <a:ln cap="sq" w="12708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Ink 17"/>
          <p:cNvSpPr/>
          <p:nvPr/>
        </p:nvSpPr>
        <p:spPr>
          <a:xfrm>
            <a:off x="1206360" y="60390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3351" y="16775"/>
                </a:moveTo>
                <a:lnTo>
                  <a:pt x="3351" y="16775"/>
                </a:lnTo>
              </a:path>
            </a:pathLst>
          </a:custGeom>
          <a:noFill/>
          <a:ln cap="sq" w="12708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Ink 18"/>
          <p:cNvSpPr/>
          <p:nvPr/>
        </p:nvSpPr>
        <p:spPr>
          <a:xfrm>
            <a:off x="1803240" y="64706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5009" y="17974"/>
                </a:moveTo>
                <a:lnTo>
                  <a:pt x="5009" y="17974"/>
                </a:lnTo>
              </a:path>
            </a:pathLst>
          </a:custGeom>
          <a:noFill/>
          <a:ln cap="sq" w="12708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Ink 19"/>
          <p:cNvSpPr/>
          <p:nvPr/>
        </p:nvSpPr>
        <p:spPr>
          <a:xfrm>
            <a:off x="5581800" y="35434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5505" y="9842"/>
                </a:moveTo>
                <a:lnTo>
                  <a:pt x="15505" y="9842"/>
                </a:lnTo>
              </a:path>
            </a:pathLst>
          </a:custGeom>
          <a:noFill/>
          <a:ln cap="sq" w="12708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Ink 20"/>
          <p:cNvSpPr/>
          <p:nvPr/>
        </p:nvSpPr>
        <p:spPr>
          <a:xfrm>
            <a:off x="1517760" y="60390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4216" y="16775"/>
                </a:moveTo>
                <a:lnTo>
                  <a:pt x="4216" y="16775"/>
                </a:lnTo>
              </a:path>
            </a:pathLst>
          </a:custGeom>
          <a:noFill/>
          <a:ln cap="sq" w="12708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Содержимое 3" descr="Сканы 002 - копи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Содержимое 3" descr="Сканы 002 - копи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Ink 2"/>
          <p:cNvSpPr/>
          <p:nvPr/>
        </p:nvSpPr>
        <p:spPr>
          <a:xfrm>
            <a:off x="2711520" y="633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7532" y="176"/>
                </a:moveTo>
                <a:lnTo>
                  <a:pt x="7532" y="176"/>
                </a:lnTo>
              </a:path>
            </a:pathLst>
          </a:custGeom>
          <a:noFill/>
          <a:ln cap="sq" w="12708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Ink 3"/>
          <p:cNvSpPr/>
          <p:nvPr/>
        </p:nvSpPr>
        <p:spPr>
          <a:xfrm>
            <a:off x="4254480" y="507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1818" y="141"/>
                </a:moveTo>
                <a:lnTo>
                  <a:pt x="11818" y="141"/>
                </a:lnTo>
              </a:path>
            </a:pathLst>
          </a:custGeom>
          <a:noFill/>
          <a:ln cap="sq" w="12708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Ink 4"/>
          <p:cNvSpPr/>
          <p:nvPr/>
        </p:nvSpPr>
        <p:spPr>
          <a:xfrm>
            <a:off x="3168720" y="3873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8802" y="1076"/>
                </a:moveTo>
                <a:lnTo>
                  <a:pt x="8802" y="1076"/>
                </a:lnTo>
              </a:path>
            </a:pathLst>
          </a:custGeom>
          <a:noFill/>
          <a:ln cap="sq" w="12708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Ink 5"/>
          <p:cNvSpPr/>
          <p:nvPr/>
        </p:nvSpPr>
        <p:spPr>
          <a:xfrm>
            <a:off x="4197240" y="38736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1659" y="1076"/>
                </a:moveTo>
                <a:lnTo>
                  <a:pt x="11659" y="1076"/>
                </a:lnTo>
              </a:path>
            </a:pathLst>
          </a:custGeom>
          <a:noFill/>
          <a:ln cap="sq" w="12708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Ink 6"/>
          <p:cNvSpPr/>
          <p:nvPr/>
        </p:nvSpPr>
        <p:spPr>
          <a:xfrm>
            <a:off x="1473120" y="67932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4092" y="1887"/>
                </a:moveTo>
                <a:lnTo>
                  <a:pt x="4092" y="1887"/>
                </a:lnTo>
              </a:path>
            </a:pathLst>
          </a:custGeom>
          <a:noFill/>
          <a:ln cap="sq" w="12708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Ink 7"/>
          <p:cNvSpPr/>
          <p:nvPr/>
        </p:nvSpPr>
        <p:spPr>
          <a:xfrm>
            <a:off x="3009960" y="9907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8361" y="2752"/>
                </a:moveTo>
                <a:lnTo>
                  <a:pt x="8361" y="2752"/>
                </a:lnTo>
              </a:path>
            </a:pathLst>
          </a:custGeom>
          <a:noFill/>
          <a:ln cap="sq" w="12708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Ink 8"/>
          <p:cNvSpPr/>
          <p:nvPr/>
        </p:nvSpPr>
        <p:spPr>
          <a:xfrm>
            <a:off x="1650960" y="126360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4586" y="3510"/>
                </a:moveTo>
                <a:lnTo>
                  <a:pt x="4586" y="3510"/>
                </a:lnTo>
              </a:path>
            </a:pathLst>
          </a:custGeom>
          <a:noFill/>
          <a:ln cap="sq" w="12708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Ink 9"/>
          <p:cNvSpPr/>
          <p:nvPr/>
        </p:nvSpPr>
        <p:spPr>
          <a:xfrm>
            <a:off x="1644480" y="16002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4568" y="4445"/>
                </a:moveTo>
                <a:lnTo>
                  <a:pt x="4568" y="4445"/>
                </a:lnTo>
              </a:path>
            </a:pathLst>
          </a:custGeom>
          <a:noFill/>
          <a:ln cap="sq" w="12708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Ink 10"/>
          <p:cNvSpPr/>
          <p:nvPr/>
        </p:nvSpPr>
        <p:spPr>
          <a:xfrm>
            <a:off x="7651800" y="15112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21255" y="4198"/>
                </a:moveTo>
                <a:lnTo>
                  <a:pt x="21255" y="4198"/>
                </a:lnTo>
              </a:path>
            </a:pathLst>
          </a:custGeom>
          <a:noFill/>
          <a:ln cap="sq" w="12708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Ink 11"/>
          <p:cNvSpPr/>
          <p:nvPr/>
        </p:nvSpPr>
        <p:spPr>
          <a:xfrm>
            <a:off x="5607000" y="18288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5575" y="5080"/>
                </a:moveTo>
                <a:lnTo>
                  <a:pt x="15575" y="5080"/>
                </a:lnTo>
              </a:path>
            </a:pathLst>
          </a:custGeom>
          <a:noFill/>
          <a:ln cap="sq" w="12708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Ink 12"/>
          <p:cNvSpPr/>
          <p:nvPr/>
        </p:nvSpPr>
        <p:spPr>
          <a:xfrm>
            <a:off x="7251840" y="215892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0144" y="5997"/>
                </a:moveTo>
                <a:lnTo>
                  <a:pt x="20144" y="5997"/>
                </a:lnTo>
              </a:path>
            </a:pathLst>
          </a:custGeom>
          <a:noFill/>
          <a:ln cap="sq" w="12708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Ink 13"/>
          <p:cNvSpPr/>
          <p:nvPr/>
        </p:nvSpPr>
        <p:spPr>
          <a:xfrm>
            <a:off x="4800600" y="24447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3335" y="6791"/>
                </a:moveTo>
                <a:lnTo>
                  <a:pt x="13335" y="6791"/>
                </a:lnTo>
              </a:path>
            </a:pathLst>
          </a:custGeom>
          <a:noFill/>
          <a:ln cap="sq" w="12708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Ink 14"/>
          <p:cNvSpPr/>
          <p:nvPr/>
        </p:nvSpPr>
        <p:spPr>
          <a:xfrm>
            <a:off x="4889520" y="2698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3582" y="7497"/>
                </a:moveTo>
                <a:lnTo>
                  <a:pt x="13582" y="7497"/>
                </a:lnTo>
              </a:path>
            </a:pathLst>
          </a:custGeom>
          <a:noFill/>
          <a:ln cap="sq" w="12708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Ink 15"/>
          <p:cNvSpPr/>
          <p:nvPr/>
        </p:nvSpPr>
        <p:spPr>
          <a:xfrm>
            <a:off x="2152800" y="30542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5980" y="8484"/>
                </a:moveTo>
                <a:lnTo>
                  <a:pt x="5980" y="8484"/>
                </a:lnTo>
              </a:path>
            </a:pathLst>
          </a:custGeom>
          <a:noFill/>
          <a:ln cap="sq" w="12708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Ink 16"/>
          <p:cNvSpPr/>
          <p:nvPr/>
        </p:nvSpPr>
        <p:spPr>
          <a:xfrm>
            <a:off x="3409920" y="33336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9472" y="9260"/>
                </a:moveTo>
                <a:lnTo>
                  <a:pt x="9472" y="9260"/>
                </a:lnTo>
              </a:path>
            </a:pathLst>
          </a:custGeom>
          <a:noFill/>
          <a:ln cap="sq" w="12708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Ink 17"/>
          <p:cNvSpPr/>
          <p:nvPr/>
        </p:nvSpPr>
        <p:spPr>
          <a:xfrm>
            <a:off x="5156280" y="33148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4323" y="9207"/>
                </a:moveTo>
                <a:lnTo>
                  <a:pt x="14323" y="9207"/>
                </a:lnTo>
              </a:path>
            </a:pathLst>
          </a:custGeom>
          <a:noFill/>
          <a:ln cap="sq" w="12708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Ink 18"/>
          <p:cNvSpPr/>
          <p:nvPr/>
        </p:nvSpPr>
        <p:spPr>
          <a:xfrm>
            <a:off x="1568520" y="365112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4357" y="10142"/>
                </a:moveTo>
                <a:lnTo>
                  <a:pt x="4357" y="10142"/>
                </a:lnTo>
              </a:path>
            </a:pathLst>
          </a:custGeom>
          <a:noFill/>
          <a:ln cap="sq" w="12708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Ink 19"/>
          <p:cNvSpPr/>
          <p:nvPr/>
        </p:nvSpPr>
        <p:spPr>
          <a:xfrm>
            <a:off x="551196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5311" y="10089"/>
                </a:moveTo>
                <a:lnTo>
                  <a:pt x="15311" y="10089"/>
                </a:lnTo>
              </a:path>
            </a:pathLst>
          </a:custGeom>
          <a:noFill/>
          <a:ln cap="sq" w="12708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Ink 20"/>
          <p:cNvSpPr/>
          <p:nvPr/>
        </p:nvSpPr>
        <p:spPr>
          <a:xfrm>
            <a:off x="8305920" y="36133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23072" y="10037"/>
                </a:moveTo>
                <a:lnTo>
                  <a:pt x="23072" y="10037"/>
                </a:lnTo>
              </a:path>
            </a:pathLst>
          </a:custGeom>
          <a:noFill/>
          <a:ln cap="sq" w="12708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Ink 21"/>
          <p:cNvSpPr/>
          <p:nvPr/>
        </p:nvSpPr>
        <p:spPr>
          <a:xfrm>
            <a:off x="1758960" y="42354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4886" y="11765"/>
                </a:moveTo>
                <a:lnTo>
                  <a:pt x="4886" y="11765"/>
                </a:lnTo>
              </a:path>
            </a:pathLst>
          </a:custGeom>
          <a:noFill/>
          <a:ln cap="sq" w="12708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Ink 22"/>
          <p:cNvSpPr/>
          <p:nvPr/>
        </p:nvSpPr>
        <p:spPr>
          <a:xfrm>
            <a:off x="3530520" y="424800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9807" y="11800"/>
                </a:moveTo>
                <a:lnTo>
                  <a:pt x="9807" y="11800"/>
                </a:lnTo>
              </a:path>
            </a:pathLst>
          </a:custGeom>
          <a:noFill/>
          <a:ln cap="sq" w="12708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Ink 23"/>
          <p:cNvSpPr/>
          <p:nvPr/>
        </p:nvSpPr>
        <p:spPr>
          <a:xfrm>
            <a:off x="6019920" y="42102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6722" y="11695"/>
                </a:moveTo>
                <a:lnTo>
                  <a:pt x="16722" y="11695"/>
                </a:lnTo>
              </a:path>
            </a:pathLst>
          </a:custGeom>
          <a:noFill/>
          <a:ln cap="sq" w="12708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Ink 24"/>
          <p:cNvSpPr/>
          <p:nvPr/>
        </p:nvSpPr>
        <p:spPr>
          <a:xfrm>
            <a:off x="3397320" y="48387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9437" y="13441"/>
                </a:moveTo>
                <a:lnTo>
                  <a:pt x="9437" y="13441"/>
                </a:lnTo>
              </a:path>
            </a:pathLst>
          </a:custGeom>
          <a:noFill/>
          <a:ln cap="sq" w="12708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Ink 25"/>
          <p:cNvSpPr/>
          <p:nvPr/>
        </p:nvSpPr>
        <p:spPr>
          <a:xfrm>
            <a:off x="5829480" y="48006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6192" y="13335"/>
                </a:moveTo>
                <a:lnTo>
                  <a:pt x="16192" y="13335"/>
                </a:lnTo>
              </a:path>
            </a:pathLst>
          </a:custGeom>
          <a:noFill/>
          <a:ln cap="sq" w="12708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Ink 26"/>
          <p:cNvSpPr/>
          <p:nvPr/>
        </p:nvSpPr>
        <p:spPr>
          <a:xfrm>
            <a:off x="4146480" y="50990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1518" y="14164"/>
                </a:moveTo>
                <a:lnTo>
                  <a:pt x="11518" y="14164"/>
                </a:lnTo>
              </a:path>
            </a:pathLst>
          </a:custGeom>
          <a:noFill/>
          <a:ln cap="sq" w="12708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Ink 27"/>
          <p:cNvSpPr/>
          <p:nvPr/>
        </p:nvSpPr>
        <p:spPr>
          <a:xfrm>
            <a:off x="7169040" y="507348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9914" y="14093"/>
                </a:moveTo>
                <a:lnTo>
                  <a:pt x="19914" y="14093"/>
                </a:lnTo>
              </a:path>
            </a:pathLst>
          </a:custGeom>
          <a:noFill/>
          <a:ln cap="sq" w="12708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Ink 28"/>
          <p:cNvSpPr/>
          <p:nvPr/>
        </p:nvSpPr>
        <p:spPr>
          <a:xfrm>
            <a:off x="1733400" y="54356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4815" y="15099"/>
                </a:moveTo>
                <a:lnTo>
                  <a:pt x="4815" y="15099"/>
                </a:lnTo>
              </a:path>
            </a:pathLst>
          </a:custGeom>
          <a:noFill/>
          <a:ln cap="sq" w="12708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Ink 29"/>
          <p:cNvSpPr/>
          <p:nvPr/>
        </p:nvSpPr>
        <p:spPr>
          <a:xfrm>
            <a:off x="6343560" y="541656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7621" y="15046"/>
                </a:moveTo>
                <a:lnTo>
                  <a:pt x="17621" y="15046"/>
                </a:lnTo>
              </a:path>
            </a:pathLst>
          </a:custGeom>
          <a:noFill/>
          <a:ln cap="sq" w="12708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Ink 30"/>
          <p:cNvSpPr/>
          <p:nvPr/>
        </p:nvSpPr>
        <p:spPr>
          <a:xfrm>
            <a:off x="6781680" y="541008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8838" y="15028"/>
                </a:moveTo>
                <a:lnTo>
                  <a:pt x="18838" y="15028"/>
                </a:lnTo>
              </a:path>
            </a:pathLst>
          </a:custGeom>
          <a:noFill/>
          <a:ln cap="sq" w="12708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Ink 31"/>
          <p:cNvSpPr/>
          <p:nvPr/>
        </p:nvSpPr>
        <p:spPr>
          <a:xfrm>
            <a:off x="1422360" y="574056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3951" y="15946"/>
                </a:moveTo>
                <a:lnTo>
                  <a:pt x="3951" y="15946"/>
                </a:lnTo>
              </a:path>
            </a:pathLst>
          </a:custGeom>
          <a:noFill/>
          <a:ln cap="sq" w="12708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Ink 32"/>
          <p:cNvSpPr/>
          <p:nvPr/>
        </p:nvSpPr>
        <p:spPr>
          <a:xfrm>
            <a:off x="1149480" y="6026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3193" y="16739"/>
                </a:moveTo>
                <a:lnTo>
                  <a:pt x="3193" y="16739"/>
                </a:lnTo>
              </a:path>
            </a:pathLst>
          </a:custGeom>
          <a:noFill/>
          <a:ln cap="sq" w="12708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Ink 33"/>
          <p:cNvSpPr/>
          <p:nvPr/>
        </p:nvSpPr>
        <p:spPr>
          <a:xfrm>
            <a:off x="8292960" y="600696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3036" y="16686"/>
                </a:moveTo>
                <a:lnTo>
                  <a:pt x="23036" y="16686"/>
                </a:lnTo>
              </a:path>
            </a:pathLst>
          </a:custGeom>
          <a:noFill/>
          <a:ln cap="sq" w="12708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Ink 34"/>
          <p:cNvSpPr/>
          <p:nvPr/>
        </p:nvSpPr>
        <p:spPr>
          <a:xfrm>
            <a:off x="2971800" y="66103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8255" y="18362"/>
                </a:moveTo>
                <a:lnTo>
                  <a:pt x="8255" y="18362"/>
                </a:lnTo>
              </a:path>
            </a:pathLst>
          </a:custGeom>
          <a:noFill/>
          <a:ln cap="sq" w="12708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Ink 35"/>
          <p:cNvSpPr/>
          <p:nvPr/>
        </p:nvSpPr>
        <p:spPr>
          <a:xfrm>
            <a:off x="6261120" y="66168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7392" y="18380"/>
                </a:moveTo>
                <a:lnTo>
                  <a:pt x="17392" y="18380"/>
                </a:lnTo>
              </a:path>
            </a:pathLst>
          </a:custGeom>
          <a:noFill/>
          <a:ln cap="sq" w="12708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поминал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Содержимое 3" descr="Нормы произношения.jpg"/>
          <p:cNvPicPr/>
          <p:nvPr/>
        </p:nvPicPr>
        <p:blipFill>
          <a:blip r:embed="rId1"/>
          <a:stretch/>
        </p:blipFill>
        <p:spPr>
          <a:xfrm>
            <a:off x="250920" y="1268280"/>
            <a:ext cx="86421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1326960" y="260280"/>
            <a:ext cx="595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. Ударения в начальной форме глаго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744120" y="1052640"/>
            <a:ext cx="7090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лаголах, заканчивающихся на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И-ТЬ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арным чаще всего является суффикс 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–И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900000" y="2060640"/>
          <a:ext cx="7417080" cy="4757760"/>
        </p:xfrm>
        <a:graphic>
          <a:graphicData uri="http://schemas.openxmlformats.org/drawingml/2006/table">
            <a:tbl>
              <a:tblPr/>
              <a:tblGrid>
                <a:gridCol w="3708360"/>
                <a:gridCol w="370872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r>
                        <a:rPr b="1" lang="ru-RU" sz="2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чит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54" name="TextBox 4"/>
          <p:cNvSpPr/>
          <p:nvPr/>
        </p:nvSpPr>
        <p:spPr>
          <a:xfrm>
            <a:off x="1483920" y="2060640"/>
            <a:ext cx="1575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5942160" y="2492280"/>
            <a:ext cx="232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1470960" y="2492280"/>
            <a:ext cx="1735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воточ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7"/>
          <p:cNvSpPr/>
          <p:nvPr/>
        </p:nvSpPr>
        <p:spPr>
          <a:xfrm>
            <a:off x="1482840" y="2924280"/>
            <a:ext cx="1443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егч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8"/>
          <p:cNvSpPr/>
          <p:nvPr/>
        </p:nvSpPr>
        <p:spPr>
          <a:xfrm>
            <a:off x="1481040" y="3357720"/>
            <a:ext cx="1349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др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9"/>
          <p:cNvSpPr/>
          <p:nvPr/>
        </p:nvSpPr>
        <p:spPr>
          <a:xfrm>
            <a:off x="1490040" y="3789360"/>
            <a:ext cx="1453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стр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0"/>
          <p:cNvSpPr/>
          <p:nvPr/>
        </p:nvSpPr>
        <p:spPr>
          <a:xfrm>
            <a:off x="1480320" y="4149720"/>
            <a:ext cx="1398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олж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1"/>
          <p:cNvSpPr/>
          <p:nvPr/>
        </p:nvSpPr>
        <p:spPr>
          <a:xfrm>
            <a:off x="1432440" y="4653000"/>
            <a:ext cx="1768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донос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2"/>
          <p:cNvSpPr/>
          <p:nvPr/>
        </p:nvSpPr>
        <p:spPr>
          <a:xfrm>
            <a:off x="1407600" y="5013360"/>
            <a:ext cx="140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3"/>
          <p:cNvSpPr/>
          <p:nvPr/>
        </p:nvSpPr>
        <p:spPr>
          <a:xfrm>
            <a:off x="1412640" y="5516640"/>
            <a:ext cx="150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быстр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4"/>
          <p:cNvSpPr/>
          <p:nvPr/>
        </p:nvSpPr>
        <p:spPr>
          <a:xfrm>
            <a:off x="1403280" y="5950080"/>
            <a:ext cx="132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луб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5"/>
          <p:cNvSpPr/>
          <p:nvPr/>
        </p:nvSpPr>
        <p:spPr>
          <a:xfrm>
            <a:off x="1408680" y="6308640"/>
            <a:ext cx="151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угуб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ь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6"/>
          <p:cNvSpPr/>
          <p:nvPr/>
        </p:nvSpPr>
        <p:spPr>
          <a:xfrm>
            <a:off x="6232320" y="2060640"/>
            <a:ext cx="600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8"/>
          <p:cNvSpPr/>
          <p:nvPr/>
        </p:nvSpPr>
        <p:spPr>
          <a:xfrm>
            <a:off x="5734800" y="2492280"/>
            <a:ext cx="1581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и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9"/>
          <p:cNvSpPr/>
          <p:nvPr/>
        </p:nvSpPr>
        <p:spPr>
          <a:xfrm>
            <a:off x="5732280" y="2852640"/>
            <a:ext cx="116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ь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0"/>
          <p:cNvSpPr/>
          <p:nvPr/>
        </p:nvSpPr>
        <p:spPr>
          <a:xfrm>
            <a:off x="5772960" y="3357720"/>
            <a:ext cx="1325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л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21"/>
          <p:cNvSpPr/>
          <p:nvPr/>
        </p:nvSpPr>
        <p:spPr>
          <a:xfrm>
            <a:off x="5793840" y="3789360"/>
            <a:ext cx="186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итьс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2"/>
          <p:cNvSpPr/>
          <p:nvPr/>
        </p:nvSpPr>
        <p:spPr>
          <a:xfrm>
            <a:off x="5814720" y="4221000"/>
            <a:ext cx="1425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итьс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3"/>
          <p:cNvSpPr/>
          <p:nvPr/>
        </p:nvSpPr>
        <p:spPr>
          <a:xfrm>
            <a:off x="5805720" y="4653000"/>
            <a:ext cx="143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ли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4"/>
          <p:cNvSpPr/>
          <p:nvPr/>
        </p:nvSpPr>
        <p:spPr>
          <a:xfrm>
            <a:off x="5798880" y="5084640"/>
            <a:ext cx="2006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восх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5"/>
          <p:cNvSpPr/>
          <p:nvPr/>
        </p:nvSpPr>
        <p:spPr>
          <a:xfrm>
            <a:off x="5805720" y="5445000"/>
            <a:ext cx="1514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о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1"/>
          <p:cNvSpPr/>
          <p:nvPr/>
        </p:nvSpPr>
        <p:spPr>
          <a:xfrm>
            <a:off x="609840" y="333360"/>
            <a:ext cx="8404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 глаголах на –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РОВАТЬ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дарение чаще всего падает на –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900000" y="1773360"/>
          <a:ext cx="7201080" cy="4471920"/>
        </p:xfrm>
        <a:graphic>
          <a:graphicData uri="http://schemas.openxmlformats.org/drawingml/2006/table">
            <a:tbl>
              <a:tblPr/>
              <a:tblGrid>
                <a:gridCol w="3600720"/>
                <a:gridCol w="36003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9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9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77" name="TextBox 3"/>
          <p:cNvSpPr/>
          <p:nvPr/>
        </p:nvSpPr>
        <p:spPr>
          <a:xfrm>
            <a:off x="1550880" y="1681200"/>
            <a:ext cx="2325240" cy="48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ллот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вать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ок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ва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п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вать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атиз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вать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ру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ва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орт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ва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кут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вать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вать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з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ва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4"/>
          <p:cNvSpPr/>
          <p:nvPr/>
        </p:nvSpPr>
        <p:spPr>
          <a:xfrm>
            <a:off x="5077440" y="1700280"/>
            <a:ext cx="21970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киров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ь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иров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ь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иров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ь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фриров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ь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мбиров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ь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мбардиров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2556000" y="1397160"/>
          <a:ext cx="3960720" cy="3400200"/>
        </p:xfrm>
        <a:graphic>
          <a:graphicData uri="http://schemas.openxmlformats.org/drawingml/2006/table">
            <a:tbl>
              <a:tblPr/>
              <a:tblGrid>
                <a:gridCol w="396072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80" name="TextBox 1"/>
          <p:cNvSpPr/>
          <p:nvPr/>
        </p:nvSpPr>
        <p:spPr>
          <a:xfrm>
            <a:off x="3138120" y="260280"/>
            <a:ext cx="20293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помнит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"/>
          <p:cNvSpPr/>
          <p:nvPr/>
        </p:nvSpPr>
        <p:spPr>
          <a:xfrm>
            <a:off x="3197160" y="1341360"/>
            <a:ext cx="248184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деве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рж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ляну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з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еве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йствов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п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2268360" y="3573360"/>
          <a:ext cx="4056120" cy="1944720"/>
        </p:xfrm>
        <a:graphic>
          <a:graphicData uri="http://schemas.openxmlformats.org/drawingml/2006/table">
            <a:tbl>
              <a:tblPr/>
              <a:tblGrid>
                <a:gridCol w="4056120"/>
              </a:tblGrid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83" name="TextBox 1"/>
          <p:cNvSpPr/>
          <p:nvPr/>
        </p:nvSpPr>
        <p:spPr>
          <a:xfrm>
            <a:off x="78120" y="333360"/>
            <a:ext cx="8870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I. Ударения в формах глаголов настоящего и будуще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ремени, причастий (на –УЩ/ЮЩ, -АЩ/ЯЩ, -ВШ, -НН\ЕН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 деепричастий сохраняются ТЕ ЖЕ, что и в началь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орме глагол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"/>
          <p:cNvSpPr/>
          <p:nvPr/>
        </p:nvSpPr>
        <p:spPr>
          <a:xfrm>
            <a:off x="549720" y="2205000"/>
            <a:ext cx="7890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ичастиях, образованных от глаголов с помощью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ффикса –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, ударение падает на первый слог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3349440" y="3500280"/>
            <a:ext cx="164664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нуты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нуты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т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ят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685800" y="260280"/>
            <a:ext cx="78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II. Ударения в формах прошедшего времени глаго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"/>
          <p:cNvSpPr/>
          <p:nvPr/>
        </p:nvSpPr>
        <p:spPr>
          <a:xfrm>
            <a:off x="478800" y="1197000"/>
            <a:ext cx="775476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ормах женского рода ударение падает на окончание –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ормах мужского, среднего рода и во множественном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е – на первый слог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755640" y="3068640"/>
            <a:ext cx="7056360" cy="21967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КЛЮЧ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, кр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, посл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, сл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, стл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  жил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1979640" y="2637000"/>
          <a:ext cx="4703760" cy="3336840"/>
        </p:xfrm>
        <a:graphic>
          <a:graphicData uri="http://schemas.openxmlformats.org/drawingml/2006/table">
            <a:tbl>
              <a:tblPr/>
              <a:tblGrid>
                <a:gridCol w="470376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90" name="TextBox 1"/>
          <p:cNvSpPr/>
          <p:nvPr/>
        </p:nvSpPr>
        <p:spPr>
          <a:xfrm>
            <a:off x="1401840" y="333360"/>
            <a:ext cx="597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V. Ударения в именах существитель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153720" y="1268280"/>
            <a:ext cx="8102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ормах именительного падежа множественного числ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арным является окончание 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–А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безударным - 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Ы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ому следует запомнить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3499200" y="2565360"/>
            <a:ext cx="1794240" cy="36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эроп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т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т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т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т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р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фы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1332000" y="2060640"/>
          <a:ext cx="6095880" cy="273672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94" name="TextBox 1"/>
          <p:cNvSpPr/>
          <p:nvPr/>
        </p:nvSpPr>
        <p:spPr>
          <a:xfrm>
            <a:off x="492120" y="476280"/>
            <a:ext cx="8143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 формах родительного падежа множественного чис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нчание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ОВ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ще всего является безударны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окончание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–ЕЙ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ударны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"/>
          <p:cNvSpPr/>
          <p:nvPr/>
        </p:nvSpPr>
        <p:spPr>
          <a:xfrm>
            <a:off x="539640" y="220500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"/>
          <p:cNvSpPr/>
          <p:nvPr/>
        </p:nvSpPr>
        <p:spPr>
          <a:xfrm>
            <a:off x="1769040" y="2133720"/>
            <a:ext cx="1854360" cy="22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хг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те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с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р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т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4"/>
          <p:cNvSpPr/>
          <p:nvPr/>
        </p:nvSpPr>
        <p:spPr>
          <a:xfrm>
            <a:off x="4586040" y="2133720"/>
            <a:ext cx="180396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ост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ст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нос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3T15:22:11Z</dcterms:created>
  <dc:creator>Алла</dc:creator>
  <dc:description/>
  <dc:language>en-US</dc:language>
  <cp:lastModifiedBy>Irina</cp:lastModifiedBy>
  <dcterms:modified xsi:type="dcterms:W3CDTF">2021-04-25T09:38:29Z</dcterms:modified>
  <cp:revision>54</cp:revision>
  <dc:subject/>
  <dc:title>Слайд 1</dc:title>
</cp:coreProperties>
</file>