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644-68EB-4512-8501-E4A91BBB8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46A-56C6-41F8-8A3C-CB0227F172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55E4-48C6-4EAD-AC29-E82E554FA7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052B-8EB2-452D-B8BF-7EA022676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F030-9ED3-4FAE-BFF9-E3CE43AE63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0A7-D28C-4FD9-A368-35ACF89673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628C-1C12-4CD0-B642-58F1B2183E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E764-6D03-4DDA-B0C6-AC9387D9E6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D02-949D-4D86-BB2C-AFFC1564E5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1458-0AED-4AF7-B70D-4B04091795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6ACF-AE7D-4A3B-9B14-81A586557F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C40-FC48-453C-8FFA-965001BF03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6DC5-4919-4F80-AE70-69B3642F1B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69D-2123-4B42-8BCA-2FB165C4B9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262-9946-406C-9A5B-9FBE0F52E1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8AC1-F523-4039-B20E-F14A616C6E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8E8-0055-4203-84E7-D62DAB9F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606-A927-4390-B882-BB94C40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3D4-5A2C-425A-94E8-CD81F5AE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727-D1FB-4979-A6E2-28C61A02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0868-886A-4E93-A557-4DF3AB4C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A74-9713-4A9A-855F-FDB00BA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171-78C4-4899-BA40-7885A7F8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EA7-9E11-40A1-84A6-2D32B65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2EF6-19EA-4C79-9F74-D6C8E7F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5E7B-9836-4B62-9029-EA09C127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D098-9DF7-4BA1-B9BE-8EF2FBE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A94-FBE9-44D7-8B49-FB448B4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51F8-478D-4726-B286-B9D4FEB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63DE-CDA2-4C2D-9F61-A3420671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2A72-9E5F-4C02-A9D7-6A8B283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831B-50E8-4AB9-9B43-A6E62BBE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DA50-3766-48C3-9AA1-DA59EF0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348-047E-42E6-8CF7-150BCA2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77A-791E-4171-9674-0B5BF8B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366-82D4-4A7E-841F-B8D6E28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850-D414-443E-983F-A1F1F20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FE3-8C52-4A3F-B13C-6F4CAFD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FB2-2E4E-4FC1-8FA9-DAAC44F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E79-8E30-4D24-9F73-D845723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11F-6782-4745-8FF6-A1B9FA4FA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DF6-BDA8-45C4-84AD-B4E3DBB684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1041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ЗАСОРЕННОСТЬ ЗЕРНА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мат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евел опяняющ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6" descr="rs737519"/>
          <p:cNvPicPr/>
          <p:nvPr/>
        </p:nvPicPr>
        <p:blipFill>
          <a:blip r:embed="rId1"/>
          <a:stretch/>
        </p:blipFill>
        <p:spPr>
          <a:xfrm>
            <a:off x="179280" y="1628640"/>
            <a:ext cx="4762440" cy="453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fnam3826"/>
          <p:cNvPicPr/>
          <p:nvPr/>
        </p:nvPicPr>
        <p:blipFill>
          <a:blip r:embed="rId2"/>
          <a:srcRect l="25027" t="0" r="11586" b="0"/>
          <a:stretch/>
        </p:blipFill>
        <p:spPr>
          <a:xfrm>
            <a:off x="5219640" y="1628640"/>
            <a:ext cx="37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язель разноцветны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6" descr="post-20-1144850398"/>
          <p:cNvPicPr/>
          <p:nvPr/>
        </p:nvPicPr>
        <p:blipFill>
          <a:blip r:embed="rId1"/>
          <a:srcRect l="9649" t="0" r="13161" b="0"/>
          <a:stretch/>
        </p:blipFill>
        <p:spPr>
          <a:xfrm>
            <a:off x="0" y="1341360"/>
            <a:ext cx="5076720" cy="511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vjazel_razn2"/>
          <p:cNvPicPr/>
          <p:nvPr/>
        </p:nvPicPr>
        <p:blipFill>
          <a:blip r:embed="rId2"/>
          <a:stretch/>
        </p:blipFill>
        <p:spPr>
          <a:xfrm>
            <a:off x="5178600" y="1341360"/>
            <a:ext cx="39654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иходесма сед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6" descr="trihodesmasedaya"/>
          <p:cNvPicPr/>
          <p:nvPr/>
        </p:nvPicPr>
        <p:blipFill>
          <a:blip r:embed="rId1"/>
          <a:stretch/>
        </p:blipFill>
        <p:spPr>
          <a:xfrm>
            <a:off x="1619280" y="1198440"/>
            <a:ext cx="619272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87640" y="1052640"/>
            <a:ext cx="324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Взвешивают т. 1 г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140360" y="404640"/>
            <a:ext cx="718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500720" y="9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500720" y="1557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92360" y="1989000"/>
            <a:ext cx="201636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341080" y="22050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/д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6012000" y="198900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ная примес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6012000" y="2276640"/>
            <a:ext cx="1584360" cy="72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5867280" y="2349360"/>
            <a:ext cx="21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бирают на фракции, 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4500720" y="2637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070520" y="2997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С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4500720" y="328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4140360" y="3645000"/>
            <a:ext cx="718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 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5001840" y="3716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 0,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4500720" y="40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3348000" y="4437000"/>
            <a:ext cx="2374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971640" y="443700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ьно-возвр. движ. 110-120 дв/м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=3 м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10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3924360" y="206064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 м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35"/>
          <p:cNvSpPr/>
          <p:nvPr/>
        </p:nvSpPr>
        <p:spPr>
          <a:xfrm>
            <a:off x="4140360" y="2133720"/>
            <a:ext cx="144360" cy="142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6"/>
          <p:cNvSpPr/>
          <p:nvPr/>
        </p:nvSpPr>
        <p:spPr>
          <a:xfrm flipV="1">
            <a:off x="4140360" y="2133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7"/>
          <p:cNvSpPr/>
          <p:nvPr/>
        </p:nvSpPr>
        <p:spPr>
          <a:xfrm>
            <a:off x="356400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38"/>
          <p:cNvSpPr/>
          <p:nvPr/>
        </p:nvSpPr>
        <p:spPr>
          <a:xfrm>
            <a:off x="4067280" y="2349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457200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>
            <a:off x="514836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5364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4067280" y="443700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,7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231948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48"/>
          <p:cNvSpPr/>
          <p:nvPr/>
        </p:nvSpPr>
        <p:spPr>
          <a:xfrm>
            <a:off x="3492360" y="472428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9"/>
          <p:cNvSpPr/>
          <p:nvPr/>
        </p:nvSpPr>
        <p:spPr>
          <a:xfrm>
            <a:off x="399564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50"/>
          <p:cNvSpPr/>
          <p:nvPr/>
        </p:nvSpPr>
        <p:spPr>
          <a:xfrm>
            <a:off x="464328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51"/>
          <p:cNvSpPr/>
          <p:nvPr/>
        </p:nvSpPr>
        <p:spPr>
          <a:xfrm>
            <a:off x="521964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4211640" y="4797360"/>
            <a:ext cx="14436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 flipV="1">
            <a:off x="4211640" y="479700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3492360" y="5013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399564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464328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>
            <a:off x="521964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5651640" y="4581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5651640" y="486900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1"/>
          <p:cNvSpPr/>
          <p:nvPr/>
        </p:nvSpPr>
        <p:spPr>
          <a:xfrm>
            <a:off x="5652000" y="42926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2"/>
          <p:cNvSpPr/>
          <p:nvPr/>
        </p:nvSpPr>
        <p:spPr>
          <a:xfrm>
            <a:off x="5652000" y="4581360"/>
            <a:ext cx="4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3"/>
          <p:cNvSpPr/>
          <p:nvPr/>
        </p:nvSpPr>
        <p:spPr>
          <a:xfrm>
            <a:off x="6084720" y="443700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, ЗПР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, ЗПР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65"/>
          <p:cNvSpPr/>
          <p:nvPr/>
        </p:nvSpPr>
        <p:spPr>
          <a:xfrm>
            <a:off x="6084720" y="4941720"/>
            <a:ext cx="1079640" cy="71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66"/>
          <p:cNvSpPr/>
          <p:nvPr/>
        </p:nvSpPr>
        <p:spPr>
          <a:xfrm flipV="1">
            <a:off x="7164360" y="4508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68"/>
          <p:cNvSpPr/>
          <p:nvPr/>
        </p:nvSpPr>
        <p:spPr>
          <a:xfrm flipV="1">
            <a:off x="6084720" y="4508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9"/>
          <p:cNvSpPr/>
          <p:nvPr/>
        </p:nvSpPr>
        <p:spPr>
          <a:xfrm>
            <a:off x="7164360" y="443700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З (ОЗ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0"/>
          <p:cNvSpPr/>
          <p:nvPr/>
        </p:nvSpPr>
        <p:spPr>
          <a:xfrm>
            <a:off x="5796000" y="4941720"/>
            <a:ext cx="189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кции 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71"/>
          <p:cNvSpPr/>
          <p:nvPr/>
        </p:nvSpPr>
        <p:spPr>
          <a:xfrm>
            <a:off x="4500720" y="5157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>
            <a:off x="3419640" y="55897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Р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4356000" y="4797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 м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73"/>
          <p:cNvSpPr/>
          <p:nvPr/>
        </p:nvSpPr>
        <p:spPr>
          <a:xfrm>
            <a:off x="6012000" y="198900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пная примес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74"/>
          <p:cNvSpPr/>
          <p:nvPr/>
        </p:nvSpPr>
        <p:spPr>
          <a:xfrm>
            <a:off x="5867280" y="2349360"/>
            <a:ext cx="21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бирают на фракции, взвешивают т. 0,01 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РАБОТКА РЕЗУЛЬТАТ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48720" cy="1930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План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Понятие «засоренность зер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Значение засоренности как показателя ка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лассификация примесей зер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редная приме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Методика определения засоренности зерна пше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96720" y="1125360"/>
            <a:ext cx="93247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асореннос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- это процентное содержание в зерновой массе сорной и зерновой примесе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Значение засоренност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лияет на качество выпускаемой продукц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нижает выход продукц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лияет на сохранность зер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лияет на рентабельность перевозок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учитывают при расчете с хлебосдатчик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о засоренности решают вопрос о возможности приемки и поставки зер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примес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392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cccc00"/>
                </a:solidFill>
                <a:latin typeface="Times New Roman"/>
              </a:rPr>
              <a:t>СОР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ход сит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 м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инеральная прим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ческая прим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а дикорастущих расте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рченныезерн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дная прим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а других культурных растений кроме не испорченных зерен ржи, ячменя и полб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204640"/>
            <a:ext cx="40384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ЗЕРН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0% массы битых и изъеденн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вле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Щуплые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осш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розобой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режден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утые при суш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елены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ерна ржи, ячменя и полбы, не отнесенные по характеру повреждений к сорной примес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268000" y="1341360"/>
            <a:ext cx="142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6084720" y="134136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"/>
          <p:cNvSpPr/>
          <p:nvPr/>
        </p:nvSpPr>
        <p:spPr>
          <a:xfrm>
            <a:off x="3059280" y="476280"/>
            <a:ext cx="3025440" cy="187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Вредная приме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79280" y="3716280"/>
            <a:ext cx="2448000" cy="251928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2519280"/>
              <a:gd name="textAreaBottom" fmla="*/ 2399760 h 2519280"/>
            </a:gdLst>
            <a:ahLst/>
            <a:rect l="textAreaLeft" t="textAreaTop" r="textAreaRight" b="textAreaBottom"/>
            <a:pathLst>
              <a:path w="21600" h="22229">
                <a:moveTo>
                  <a:pt x="3600" y="0"/>
                </a:moveTo>
                <a:arcTo wR="3600" hR="3600" stAng="16200000" swAng="-5400000"/>
                <a:lnTo>
                  <a:pt x="0" y="18629"/>
                </a:lnTo>
                <a:arcTo wR="3600" hR="3600" stAng="10800000" swAng="-5400000"/>
                <a:lnTo>
                  <a:pt x="18000" y="22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Микозы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(грибы паразиты):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головня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спорынья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фузарио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348000" y="3716280"/>
            <a:ext cx="2448000" cy="251928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2519280"/>
              <a:gd name="textAreaBottom" fmla="*/ 2399760 h 2519280"/>
            </a:gdLst>
            <a:ahLst/>
            <a:rect l="textAreaLeft" t="textAreaTop" r="textAreaRight" b="textAreaBottom"/>
            <a:pathLst>
              <a:path w="21600" h="22229">
                <a:moveTo>
                  <a:pt x="3600" y="0"/>
                </a:moveTo>
                <a:arcTo wR="3600" hR="3600" stAng="16200000" swAng="-5400000"/>
                <a:lnTo>
                  <a:pt x="0" y="18629"/>
                </a:lnTo>
                <a:arcTo wR="3600" hR="3600" stAng="10800000" swAng="-5400000"/>
                <a:lnTo>
                  <a:pt x="18000" y="22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6372360" y="3716280"/>
            <a:ext cx="2520720" cy="2519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редные семена 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икорастущ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растений: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- плевел опьяняющий;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- горчак розовый;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- вязель разноцве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4572000" y="2349360"/>
            <a:ext cx="0" cy="136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1403280" y="299700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7667640" y="299700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1403280" y="2997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925080" y="443700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Нематоды: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Угр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ГОЛОВН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6" descr="pic1"/>
          <p:cNvPicPr/>
          <p:nvPr/>
        </p:nvPicPr>
        <p:blipFill>
          <a:blip r:embed="rId1"/>
          <a:stretch/>
        </p:blipFill>
        <p:spPr>
          <a:xfrm>
            <a:off x="179280" y="1125360"/>
            <a:ext cx="4248360" cy="518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0660091"/>
          <p:cNvPicPr/>
          <p:nvPr/>
        </p:nvPicPr>
        <p:blipFill>
          <a:blip r:embed="rId2"/>
          <a:srcRect l="12485" t="13228" r="19847" b="7345"/>
          <a:stretch/>
        </p:blipFill>
        <p:spPr>
          <a:xfrm>
            <a:off x="4716360" y="1125360"/>
            <a:ext cx="4103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орын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6" descr="1319154149_02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узариоз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6" descr="4_Fusarium"/>
          <p:cNvPicPr/>
          <p:nvPr/>
        </p:nvPicPr>
        <p:blipFill>
          <a:blip r:embed="rId1"/>
          <a:srcRect l="30197" t="0" r="0" b="0"/>
          <a:stretch/>
        </p:blipFill>
        <p:spPr>
          <a:xfrm>
            <a:off x="0" y="1557360"/>
            <a:ext cx="2340000" cy="453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uzarioz-zerna"/>
          <p:cNvPicPr/>
          <p:nvPr/>
        </p:nvPicPr>
        <p:blipFill>
          <a:blip r:embed="rId2"/>
          <a:stretch/>
        </p:blipFill>
        <p:spPr>
          <a:xfrm>
            <a:off x="2556000" y="1557360"/>
            <a:ext cx="6588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7:53Z</dcterms:created>
  <dc:creator>BMTK</dc:creator>
  <dc:description/>
  <dc:language>en-US</dc:language>
  <cp:lastModifiedBy>admin</cp:lastModifiedBy>
  <dcterms:modified xsi:type="dcterms:W3CDTF">2021-06-06T17:07:54Z</dcterms:modified>
  <cp:revision>10</cp:revision>
  <dc:subject/>
  <dc:title>Слайд 1</dc:title>
</cp:coreProperties>
</file>