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3F89-3F34-4214-87BC-CAE787072E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3C1F-7126-4D40-B6F2-94F1C421FC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B974-CC54-4F07-9030-5B7961E0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781B-2A4A-4EB3-AE69-538107ED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5C36-BB78-4F07-85E1-B7D104A7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C8B8-377D-4C4A-86DC-D37FF750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4BDC-E79B-4A1C-B460-EF5523D6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1C74-1538-464F-9BDB-EF503335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5985-FAA8-45E0-9A18-120B3691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8D27-0891-443D-AAAE-964DAFD1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BB93-5D86-4427-B329-D223C913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0E1A-22F7-446F-8B31-E6A61A3F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B2BE-5B72-4E04-8634-D0E9FF6A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A9B-98F5-45E7-88CE-FB2A9149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E1E6-B19C-4ED2-B2B9-6D917CB4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EDC6-6E71-43B2-819A-84955993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284A-1F66-4A51-A0DC-68D14C4E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2DD0-3E2C-4BF3-970A-0D2EAE5F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C0B3-F5D4-4073-A37C-EB0BA4F0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E049-4D62-4AAF-9A40-E6740247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520-252E-4CC9-9532-0B387175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8196-8692-4966-9177-0A3B947A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9F4-3EB6-48BE-9539-BF0245ED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5E8D-F334-4796-B21B-141BEA7B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693-40F5-42EA-A09D-8444E9E7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B2D9-E127-4908-8CFD-1F5867B8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2940-3B03-4320-96C1-3751B97CF8F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17C3-9A48-4042-AB83-2643C3A4A4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МАТЕМАТИК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647960" y="4191120"/>
            <a:ext cx="2601720" cy="12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ставим и решим задачу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Picture 4" descr="70A"/>
          <p:cNvPicPr/>
          <p:nvPr/>
        </p:nvPicPr>
        <p:blipFill>
          <a:blip r:embed="rId1"/>
          <a:stretch/>
        </p:blipFill>
        <p:spPr>
          <a:xfrm>
            <a:off x="2819520" y="12193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Условие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Вопрос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Отв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ставим и решим задачу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Условие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Вопрос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Отв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Перец"/>
          <p:cNvPicPr/>
          <p:nvPr/>
        </p:nvPicPr>
        <p:blipFill>
          <a:blip r:embed="rId1"/>
          <a:stretch/>
        </p:blipFill>
        <p:spPr>
          <a:xfrm>
            <a:off x="2895480" y="1828800"/>
            <a:ext cx="4735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00640" y="-8280000"/>
            <a:ext cx="152280" cy="96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5535720" cy="40384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7"/>
          <p:cNvSpPr/>
          <p:nvPr/>
        </p:nvSpPr>
        <p:spPr>
          <a:xfrm>
            <a:off x="457200" y="304920"/>
            <a:ext cx="7391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ставим и решим задачу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Условие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Вопрос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Отв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4647960" cy="35971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6"/>
          <p:cNvSpPr/>
          <p:nvPr/>
        </p:nvSpPr>
        <p:spPr>
          <a:xfrm>
            <a:off x="380880" y="19051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Условие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Вопрос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Отв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ставим и решим задачу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5438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Что такое задача?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понент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Услов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(с арифметическими данным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Вопро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(связанный с условием задач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Реш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Отв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0066"/>
                </a:solidFill>
                <a:latin typeface="Arial"/>
              </a:rPr>
              <a:t>ЗНАКОМСТВО</a:t>
            </a:r>
            <a:br>
              <a:rPr sz="8000"/>
            </a:br>
            <a:r>
              <a:rPr b="1" lang="ru-RU" sz="8000" spc="-1" strike="noStrike">
                <a:solidFill>
                  <a:srgbClr val="330066"/>
                </a:solidFill>
                <a:latin typeface="Arial"/>
              </a:rPr>
              <a:t> С ЗАДАЧЕЙ</a:t>
            </a:r>
            <a:endParaRPr b="1" lang="en-US" sz="8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5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Узнать что такое ЗАДАЧА, </a:t>
            </a:r>
            <a:br>
              <a:rPr sz="4800"/>
            </a:b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из каких компонентов она состоит. </a:t>
            </a:r>
            <a:br>
              <a:rPr sz="4800"/>
            </a:b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Научиться составлять и решать задачи.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5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33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330066"/>
                </a:solidFill>
                <a:uFillTx/>
                <a:latin typeface="Arial"/>
              </a:rPr>
              <a:t>УСЛОВИЕ</a:t>
            </a:r>
            <a:r>
              <a:rPr b="1" lang="ru-RU" sz="6000" spc="-1" strike="noStrike">
                <a:solidFill>
                  <a:srgbClr val="330066"/>
                </a:solidFill>
                <a:latin typeface="Arial"/>
              </a:rPr>
              <a:t> задачи –</a:t>
            </a:r>
            <a:br>
              <a:rPr sz="6000"/>
            </a:br>
            <a:r>
              <a:rPr b="1" lang="ru-RU" sz="6000" spc="-1" strike="noStrike">
                <a:solidFill>
                  <a:srgbClr val="330066"/>
                </a:solidFill>
                <a:latin typeface="Arial"/>
              </a:rPr>
              <a:t> текст с арифметическими данными.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 u="sng">
                <a:solidFill>
                  <a:srgbClr val="009900"/>
                </a:solidFill>
                <a:uFillTx/>
                <a:latin typeface="Arial"/>
              </a:rPr>
              <a:t>ВОПРОС</a:t>
            </a:r>
            <a:r>
              <a:rPr b="0" lang="ru-RU" sz="55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5500" spc="-1" strike="noStrike">
                <a:solidFill>
                  <a:srgbClr val="009900"/>
                </a:solidFill>
                <a:latin typeface="Arial"/>
              </a:rPr>
              <a:t>задачи – то,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9900"/>
                </a:solidFill>
                <a:latin typeface="Arial"/>
              </a:rPr>
              <a:t>что необходимо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9900"/>
                </a:solidFill>
                <a:latin typeface="Arial"/>
              </a:rPr>
              <a:t>найти в задаче.</a:t>
            </a:r>
            <a:r>
              <a:rPr b="1" lang="ru-RU" sz="5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   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90920" y="3885840"/>
            <a:ext cx="6324480" cy="23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Сколько зверей было в домик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04920" y="762120"/>
            <a:ext cx="7010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На одном дереве висело 5 груш, а на другом - 6 груш.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ставим условие и поставим вопро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Пчелка"/>
          <p:cNvPicPr/>
          <p:nvPr/>
        </p:nvPicPr>
        <p:blipFill>
          <a:blip r:embed="rId1"/>
          <a:stretch/>
        </p:blipFill>
        <p:spPr>
          <a:xfrm>
            <a:off x="2286000" y="1905120"/>
            <a:ext cx="49528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706200"/>
            <a:ext cx="914400" cy="38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3 – 1 =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3 – 1 = 2 (яг.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 ягод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Компоненты задачи: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Вопро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Реш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Отв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едини стрелкам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719360"/>
          <a:ext cx="8229600" cy="4784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76360">
                <a:tc>
                  <a:txBody>
                    <a:bodyPr lIns="144000" rIns="144000" tIns="144000" bIns="144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автобусе ехало 5 человек. На остановке зашли ещё 2 человека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3400">
                <a:tc>
                  <a:txBody>
                    <a:bodyPr lIns="144000" rIns="144000" tIns="144000" bIns="144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+ 2 = 9 (чел.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1600">
                <a:tc>
                  <a:txBody>
                    <a:bodyPr lIns="144000" rIns="144000" tIns="144000" bIns="144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: 9 челове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3400">
                <a:tc>
                  <a:txBody>
                    <a:bodyPr lIns="144000" rIns="144000" tIns="144000" bIns="144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лько человек стало в автобусе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Line 40"/>
          <p:cNvSpPr/>
          <p:nvPr/>
        </p:nvSpPr>
        <p:spPr>
          <a:xfrm>
            <a:off x="4724280" y="5791320"/>
            <a:ext cx="1828800" cy="0"/>
          </a:xfrm>
          <a:prstGeom prst="line">
            <a:avLst/>
          </a:prstGeom>
          <a:ln w="57240">
            <a:solidFill>
              <a:srgbClr val="7e9c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1"/>
          <p:cNvSpPr/>
          <p:nvPr/>
        </p:nvSpPr>
        <p:spPr>
          <a:xfrm>
            <a:off x="4343400" y="2362320"/>
            <a:ext cx="2514600" cy="12189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2"/>
          <p:cNvSpPr/>
          <p:nvPr/>
        </p:nvSpPr>
        <p:spPr>
          <a:xfrm flipV="1">
            <a:off x="3505320" y="2286000"/>
            <a:ext cx="3124080" cy="2362320"/>
          </a:xfrm>
          <a:prstGeom prst="line">
            <a:avLst/>
          </a:prstGeom>
          <a:ln w="5724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>
            <a:off x="3200400" y="3581280"/>
            <a:ext cx="3352680" cy="9144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Учитель</cp:lastModifiedBy>
  <dcterms:modified xsi:type="dcterms:W3CDTF">2020-04-16T18:46:2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