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522F-CCE7-4703-B8A6-8D51C70ED5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5678-ABA9-4922-A5E0-3D517674C5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11B-491D-4AF0-8D78-16FDD2C8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06E-D9A4-4FEB-8913-029E51B0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604-89AD-4855-9FCE-1B038A82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ABF-94F5-40BB-843B-C54410E0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ED80-42AE-444F-9960-A2189729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9F34-4004-4A8F-81B8-9916C6BB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7AC0-C31B-4074-A8DC-0B2EDEA4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69B5-5BE8-47BA-841C-41A68A84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9E46-B951-4536-9767-E6563423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ACC6-9857-47D5-9BBD-1594E0E1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0213-D490-4676-A6E0-61ADE2FC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AD6-FECD-4FD4-A46C-9D5C8366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016F-A898-4993-A148-6760AAE0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9CE1-FA20-45FA-9F39-95EB23D9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8336-943A-43C1-A1D4-5E93AFF5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D944-6840-4FAF-A3FE-59839D92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9449-5C32-4BFA-A793-3AE0841E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8F4-EE5E-4787-AE8C-A5157635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EDD5-C0AC-46FB-B580-D0BF707A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D51-F0E0-4D60-9431-91666AC4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FB4-69F0-49E8-B2B6-02DFBA62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6BC-360F-4E94-9F47-F5FB085A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6FC-2F94-4D3D-BE28-1BFBB158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EFA-9D6D-4CC6-A3B0-78930DCE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8128-94BD-4615-A894-B822D1DEE4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CE49-6377-4B79-96CA-4EEBA03B26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МАТЕМАТИК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647960" y="4191120"/>
            <a:ext cx="260172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ставим и решим задач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70A"/>
          <p:cNvPicPr/>
          <p:nvPr/>
        </p:nvPicPr>
        <p:blipFill>
          <a:blip r:embed="rId1"/>
          <a:stretch/>
        </p:blipFill>
        <p:spPr>
          <a:xfrm>
            <a:off x="2819520" y="12193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Условие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Вопрос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ставим и решим задач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Условие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Вопрос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Перец"/>
          <p:cNvPicPr/>
          <p:nvPr/>
        </p:nvPicPr>
        <p:blipFill>
          <a:blip r:embed="rId1"/>
          <a:stretch/>
        </p:blipFill>
        <p:spPr>
          <a:xfrm>
            <a:off x="2895480" y="1828800"/>
            <a:ext cx="4735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00640" y="-8280000"/>
            <a:ext cx="152280" cy="96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5535720" cy="40384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7"/>
          <p:cNvSpPr/>
          <p:nvPr/>
        </p:nvSpPr>
        <p:spPr>
          <a:xfrm>
            <a:off x="457200" y="304920"/>
            <a:ext cx="7391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ставим и решим задачу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Условие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Вопрос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4647960" cy="35971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380880" y="19051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Условие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Вопрос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ставим и решим задач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Что такое задача?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онент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(с арифметическими данным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Вопро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(связанный с условием задач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Реш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Отв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0066"/>
                </a:solidFill>
                <a:latin typeface="Arial"/>
              </a:rPr>
              <a:t>ЗНАКОМСТВО</a:t>
            </a:r>
            <a:br>
              <a:rPr sz="8000"/>
            </a:br>
            <a:r>
              <a:rPr b="1" lang="ru-RU" sz="8000" spc="-1" strike="noStrike">
                <a:solidFill>
                  <a:srgbClr val="330066"/>
                </a:solidFill>
                <a:latin typeface="Arial"/>
              </a:rPr>
              <a:t> С ЗАДАЧЕЙ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5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Узнать что такое ЗАДАЧА, 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з каких компонентов она состоит. 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Научиться составлять и решать задачи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5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33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330066"/>
                </a:solidFill>
                <a:uFillTx/>
                <a:latin typeface="Arial"/>
              </a:rPr>
              <a:t>УСЛОВИЕ</a:t>
            </a:r>
            <a:r>
              <a:rPr b="1" lang="ru-RU" sz="6000" spc="-1" strike="noStrike">
                <a:solidFill>
                  <a:srgbClr val="330066"/>
                </a:solidFill>
                <a:latin typeface="Arial"/>
              </a:rPr>
              <a:t> задачи –</a:t>
            </a:r>
            <a:br>
              <a:rPr sz="6000"/>
            </a:br>
            <a:r>
              <a:rPr b="1" lang="ru-RU" sz="6000" spc="-1" strike="noStrike">
                <a:solidFill>
                  <a:srgbClr val="330066"/>
                </a:solidFill>
                <a:latin typeface="Arial"/>
              </a:rPr>
              <a:t> текст с арифметическими данными.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 u="sng">
                <a:solidFill>
                  <a:srgbClr val="009900"/>
                </a:solidFill>
                <a:uFillTx/>
                <a:latin typeface="Arial"/>
              </a:rPr>
              <a:t>ВОПРОС</a:t>
            </a:r>
            <a:r>
              <a:rPr b="0" lang="ru-RU" sz="55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5500" spc="-1" strike="noStrike">
                <a:solidFill>
                  <a:srgbClr val="009900"/>
                </a:solidFill>
                <a:latin typeface="Arial"/>
              </a:rPr>
              <a:t>задачи – то,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9900"/>
                </a:solidFill>
                <a:latin typeface="Arial"/>
              </a:rPr>
              <a:t>что необходимо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9900"/>
                </a:solidFill>
                <a:latin typeface="Arial"/>
              </a:rPr>
              <a:t>найти в задаче.</a:t>
            </a: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90920" y="3885840"/>
            <a:ext cx="632448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Сколько зверей было в домик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04920" y="762120"/>
            <a:ext cx="7010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На одном дереве висело 5 груш, а на другом - 6 груш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ставим условие и поставим вопро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Пчелка"/>
          <p:cNvPicPr/>
          <p:nvPr/>
        </p:nvPicPr>
        <p:blipFill>
          <a:blip r:embed="rId1"/>
          <a:stretch/>
        </p:blipFill>
        <p:spPr>
          <a:xfrm>
            <a:off x="2286000" y="1905120"/>
            <a:ext cx="49528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706200"/>
            <a:ext cx="914400" cy="38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 – 1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 – 1 = 2 (яг.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 ягод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Компоненты задачи: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Вопр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Реш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едини стрелк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719360"/>
          <a:ext cx="8229600" cy="4784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76360"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автобусе ехало 5 человек. На остановке зашли ещё 2 человека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3400"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+ 2 = 9 (чел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1600"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: 9 челове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3400"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 человек стало в автобусе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Line 40"/>
          <p:cNvSpPr/>
          <p:nvPr/>
        </p:nvSpPr>
        <p:spPr>
          <a:xfrm>
            <a:off x="4724280" y="5791320"/>
            <a:ext cx="1828800" cy="0"/>
          </a:xfrm>
          <a:prstGeom prst="line">
            <a:avLst/>
          </a:prstGeom>
          <a:ln w="57240">
            <a:solidFill>
              <a:srgbClr val="7e9c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1"/>
          <p:cNvSpPr/>
          <p:nvPr/>
        </p:nvSpPr>
        <p:spPr>
          <a:xfrm>
            <a:off x="4343400" y="2362320"/>
            <a:ext cx="2514600" cy="12189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2"/>
          <p:cNvSpPr/>
          <p:nvPr/>
        </p:nvSpPr>
        <p:spPr>
          <a:xfrm flipV="1">
            <a:off x="3505320" y="2286000"/>
            <a:ext cx="3124080" cy="2362320"/>
          </a:xfrm>
          <a:prstGeom prst="line">
            <a:avLst/>
          </a:prstGeom>
          <a:ln w="572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>
            <a:off x="3200400" y="3581280"/>
            <a:ext cx="3352680" cy="9144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20-04-16T18:46:2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