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gif" ContentType="image/gif"/>
  <Override PartName="/ppt/media/image12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0FAE-FB91-49A1-A88E-6CD9C39503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 данном и последующем сладах предлагаем варианты ответов на наиболее частые вопросы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2 варианта объяснения этой ситу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наряду с вирусом гриппа заболевание у человека может вызывать более 200 видов других респираторных вирусов. Причем, отличить эти заболевания по клиническим симптомам практически невозможно. Поэтому, если Вы сделали прививку и у Вас возникло заболевание с повышением температуры, головной болью, слабостью, то это не значит, что развился грип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ее, всего, что это другая вирусная инфекция, потому что от гриппа Вы защищены. И нам важно защитить Вас именно от гриппа – от той инфекции, которая дает наибольшее количество осложнений и смертельных ис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есть небольшая вероятность, что у Вас развился грипп. Насколько тяжело он протекал? С большой уверенностью отвечу – у вас не было тяжелых осложнений. А если бы Вы не сделали прививку и заразились гриппом, то такие осложнения могли бы быть и исход заболевания мог бы быть неблагоприятны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ко, но встречаются ситуации, когда человек сделал прививку и «встретился» с вирусом гриппа» в тот период, когда защита еще не успела сформироваться. А для выработки достаточной защиты необходимо 14-21 ден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, прививку от гриппа, делать все-таки сто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2FA2-C0F8-40F8-B6E6-9F594D9534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– Можно ли заболеть гриппом после прививки и заразить окружающ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к заболеть гриппом после прививки (или как Вы называете от прививки) и заразить окружающих отсутству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производства вакцинные вирусы лишаются свойства вызывать заболевание, однако сохраняют способность формировать защи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1DB0-12F1-46FF-8482-A764C5389C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–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чем прививаться в нынешнем году, если делал прививку в прошл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ые антитела, выработанные после прививки, обычно в течение 6-12 месяцев после вакцинации разрушаются или их количество становится недостаточным для защиты от гриппа в новом сезоне. Кроме того, практически ежегодно обновляются варианты вирусов гриппа, которые входят в состав вакци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4082-AD52-4D8C-92C5-3B94F24AD7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кцинация против гриппа предотвращает случаи заболевания, значит уменьшает количество источников инфекции, снижает интенсивность распространения инфекции и риск заноса в сем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КЦИНАЦИЯ СОХРАНЯЕТ ЗДОРОВЬ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F996-F816-45A2-A3FC-5115AE111E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9541-0D4F-4B19-B964-9232B2DD08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ё одна «невидимая» часть проблемы гриппа. Он дает дополнительный риск смертельного исхода в результате обострения хронического заболевания. Как это происходит? Если  гриппом заболеют 100 тысяч совершенно здоровых взрослых людей, то из них риск смертельного исхода будет только у 2 человек. Если гриппом заболеют 100 тысяч человек, у которых есть проблемы со стороны сердечно-сосудистой системы (ишемическая болезнь сердца, гипертоническая болезнь и другие), то смертельный исход будет уже у 104 человек. Причем большинство из этих людей погибнут не от гриппа. Грипп спровоцирует у них инфаркт, инсульт, от которых они и погибнут. Даже если обострение хронического заболевания не приведет к смертельному исходу, то из трудового процесса работник будет «выбит» минимум на 21-30 дней и бол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же гриппом заболеют 100 тысяч человек с сочетанием патологии – например, диабетом и патологией сердечно-сосудистой системы – то погибнут 481 человек.  Именно поэтому мы настаиваем на том, что в первую очередь, прививки против гриппа необходимо делать тем людям, у которых есть какие-либо хронические заболе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уя вакцинацию против гриппа среди Ваших сотрудников, Вы не только снижаете экономические потери предприятия в период подъема заболеваемости ОРВИ и гриппом, но и проявляете реальную заботу о сотрудниках, гарантируя им социальную защи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.Минске, как и в Республике Беларусь, осуществляется мониторинг за серьезными побочными реакциями (СПР). Периодически как среди детей, так и среди взрослых регистрируются случаи серьезных побочных реакций на отдельные ИЛС (например,  после введения АДС-М у взрослых). Каждый случай СПР расследуется комисс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тяжении последних лет ежегодно в городе прививается против гриппа около 800 тысяч человек. Опыт использования вакцин против гриппа подтверждает безопасность иммунизации – случаи СПР на введение вакцин против гриппа практически не регистрируются (только в 2008 году был один случай индивидуального реагирования на вакцину в виде крапивницы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е реакции как кратковременное повышение температуры тела, болезненность и уплотнение в месте инъекции являются закономерными, свидетельствуют о начале формирования иммунит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22BC-8B4E-4997-9541-EAA26508E1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 гриппа циркулирует по определенным биологическим зако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ти всегда вирус, вызвавший весной подъем заболеваемости в юго-восточной Азии, осенью приходит в Европу. Наблюдение за распространением вируса гриппа и его видоизменением осуществляют международные референс-центры и национальные референс - лаборатории ВОЗ. На основании полученной информации, ежегодно эксперты ВОЗ формируют рекомендации по составу противогриппозных вакц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став вакцины включается 3 актуальных варианта вируса (2 типа А и 1 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истика 20-ти последних лет свидетельствует о том, что те варианты вирусов гриппа, которые рекомендованы ВОЗ для включения в состав вакцин совпадали более чем в 90% случаев. Несовпадения отмечались по одному из 3-х вариантов, входящих в вакц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751A-486F-4C4B-9935-DEE82F2796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C68-15B5-4C79-91D4-2779F182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B06-5312-46D1-8827-1652E9DC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84DA-0BD7-4A3C-9FCC-5A689866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165-2E24-45B1-8685-183CB315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8D36-63D7-4546-8462-39F0C99B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A0D7-E116-42F9-ACEE-2864E772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0132-F6FC-4628-B112-3274D491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AFCF-EDD3-494A-ABF6-168392AB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C098-DB21-482B-B5BF-32324E89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AD85-5C4A-4C3A-A67D-360E81BD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D403-5982-4763-912D-B928C1CB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C14A-7D38-4498-88F9-847D2134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563F-7A43-4CE5-BA41-FBE0DAF8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E022-D28F-483C-A1FB-834A09A6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F456-5F9C-4D4C-9DC2-C3E4D5CF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0054-BDF8-427E-BE14-41066F69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E92A-9431-4690-A92B-67687D9B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99669-14A5-4F0F-BA7D-30FBC9AB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CDBDD-67E1-4CD7-B6A5-7A95AF31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42915-FABE-4F87-99B5-B9563EB9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518F8-9BBB-44AE-BA6D-500762CB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45F48-D512-4AB3-BEF7-CF220830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ABC-671F-443C-8761-8080EA96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BF113-1C8A-4B3A-BCBA-100EE0C2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3FB09-10C5-4262-80CD-0EEB76FF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75721-4AE0-499B-8CBE-74E1139B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06A03-106C-471E-9B0B-09FBAE3F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5B423-A44B-45C8-B1DB-80201B84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329ED-5EC8-4F05-9314-9AE2FCBE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C1E08-DF9F-45C6-9241-6EE4225D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DF510-5386-4701-9AFA-EA77CE82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7D915-E62A-4849-AF5F-C8A491D3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1EEBA-3BF7-47D8-9E7F-BDAF9C87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C7F-4FF0-4DFF-8C80-2263548A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81220-7BDD-4D6B-9FFD-1C219632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AA08B-408C-4842-8C4A-0E3742BC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A4D16-6248-4B29-934B-CB0C0D48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692CB-04F5-4AB9-8E04-24346EC1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085A2-7334-4750-9DD4-99CB524C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CC308-0EB4-4FFA-98B8-33F2B7EA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24D26-21C1-4924-929A-F783D430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A1D82-1FDA-4AF0-B087-EE3B1507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5AB1C-E367-45E7-BBD5-32613F65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A3601-AEF5-4FDA-AFF1-D21EBD3D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E40-CAAC-4D4A-A9D2-0FADEDD9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83AFB-8E9D-46BD-82F4-ED31227C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AB660-5715-4153-9049-8DD834AB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63CE6-C7F2-40CA-9893-670DCF23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C747F-FA1E-49D8-9CA3-1CB29ED9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7EDDE-2A53-494E-95C0-CD5DA9F0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A22D6-DEA9-4558-A8E0-7486725F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6CFCF-6EEA-446B-88BE-03E18A1C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C5663-65D8-4595-9EB0-E28F5EEC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E850F-BF4A-4070-B7AE-04E54B63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36B10-D3CE-43B3-86F1-23988153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0EF5-CAF3-4793-B981-9229D9BA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9AD62-338D-4636-9406-1459EAC9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072A-54CF-427C-8AE2-2159D08F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D3A0-954A-42A7-A89E-60330702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C62-1EAD-45BC-AD8A-6A243031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176040" y="176040"/>
            <a:ext cx="8791920" cy="6510240"/>
            <a:chOff x="176040" y="176040"/>
            <a:chExt cx="8791920" cy="65102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176040" y="178560"/>
              <a:ext cx="8791920" cy="65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76040" y="176040"/>
              <a:ext cx="8791920" cy="65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228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08D0-78F7-4C7B-88D6-6306F6D134B0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53" name="Straight Connector 16"/>
            <p:cNvSpPr/>
            <p:nvPr/>
          </p:nvSpPr>
          <p:spPr>
            <a:xfrm>
              <a:off x="38862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2578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932280" y="13273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104480" y="5211360"/>
            <a:ext cx="4429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454440" y="5211360"/>
            <a:ext cx="1584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CA2F-5AE6-4BD8-B5F6-742615C518B3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106" name="Straight Connector 31"/>
            <p:cNvSpPr/>
            <p:nvPr/>
          </p:nvSpPr>
          <p:spPr>
            <a:xfrm>
              <a:off x="38862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52578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932280" y="13255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04840" y="5211360"/>
            <a:ext cx="443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53360" y="5211360"/>
            <a:ext cx="158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6794-09B0-4339-A548-1DC32E517A2F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184320" y="173160"/>
            <a:ext cx="6399000" cy="65116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794360" y="6310080"/>
            <a:ext cx="1098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CBBA-959A-4CD8-987B-71A43CC96490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7976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7294-7D72-4E8A-8B0A-921A030BB779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miles.33b.ru/smile.110025.html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smiles.33b.ru/smile.118597.html" TargetMode="External"/><Relationship Id="rId4" Type="http://schemas.openxmlformats.org/officeDocument/2006/relationships/image" Target="../media/image10.gif"/><Relationship Id="rId5" Type="http://schemas.openxmlformats.org/officeDocument/2006/relationships/hyperlink" Target="http://smiles.33b.ru/smile.110025.html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smiles.33b.ru/smile.118597.html" TargetMode="External"/><Relationship Id="rId8" Type="http://schemas.openxmlformats.org/officeDocument/2006/relationships/image" Target="../media/image10.gif"/><Relationship Id="rId9" Type="http://schemas.openxmlformats.org/officeDocument/2006/relationships/hyperlink" Target="http://smiles.33b.ru/smile.118597.html" TargetMode="External"/><Relationship Id="rId10" Type="http://schemas.openxmlformats.org/officeDocument/2006/relationships/image" Target="../media/image10.gif"/><Relationship Id="rId11" Type="http://schemas.openxmlformats.org/officeDocument/2006/relationships/hyperlink" Target="http://smiles.33b.ru/smile.118597.html" TargetMode="External"/><Relationship Id="rId12" Type="http://schemas.openxmlformats.org/officeDocument/2006/relationships/image" Target="../media/image10.gif"/><Relationship Id="rId13" Type="http://schemas.openxmlformats.org/officeDocument/2006/relationships/hyperlink" Target="http://smiles.33b.ru/smile.118597.html" TargetMode="External"/><Relationship Id="rId14" Type="http://schemas.openxmlformats.org/officeDocument/2006/relationships/image" Target="../media/image10.gif"/><Relationship Id="rId15" Type="http://schemas.openxmlformats.org/officeDocument/2006/relationships/hyperlink" Target="http://smiles.33b.ru/smile.118597.html" TargetMode="External"/><Relationship Id="rId16" Type="http://schemas.openxmlformats.org/officeDocument/2006/relationships/image" Target="../media/image10.gif"/><Relationship Id="rId17" Type="http://schemas.openxmlformats.org/officeDocument/2006/relationships/hyperlink" Target="http://smiles.33b.ru/smile.118597.html" TargetMode="External"/><Relationship Id="rId18" Type="http://schemas.openxmlformats.org/officeDocument/2006/relationships/image" Target="../media/image10.gif"/><Relationship Id="rId19" Type="http://schemas.openxmlformats.org/officeDocument/2006/relationships/hyperlink" Target="http://smiles.33b.ru/smile.118597.html" TargetMode="External"/><Relationship Id="rId20" Type="http://schemas.openxmlformats.org/officeDocument/2006/relationships/image" Target="../media/image10.gif"/><Relationship Id="rId21" Type="http://schemas.openxmlformats.org/officeDocument/2006/relationships/hyperlink" Target="http://smiles.33b.ru/smile.118597.html" TargetMode="External"/><Relationship Id="rId22" Type="http://schemas.openxmlformats.org/officeDocument/2006/relationships/image" Target="../media/image10.gif"/><Relationship Id="rId23" Type="http://schemas.openxmlformats.org/officeDocument/2006/relationships/hyperlink" Target="http://smiles.33b.ru/smile.118597.html" TargetMode="External"/><Relationship Id="rId24" Type="http://schemas.openxmlformats.org/officeDocument/2006/relationships/image" Target="../media/image10.gif"/><Relationship Id="rId25" Type="http://schemas.openxmlformats.org/officeDocument/2006/relationships/hyperlink" Target="http://smiles.33b.ru/smile.118597.html" TargetMode="External"/><Relationship Id="rId26" Type="http://schemas.openxmlformats.org/officeDocument/2006/relationships/image" Target="../media/image10.gif"/><Relationship Id="rId27" Type="http://schemas.openxmlformats.org/officeDocument/2006/relationships/hyperlink" Target="http://smiles.33b.ru/smile.118597.html" TargetMode="External"/><Relationship Id="rId28" Type="http://schemas.openxmlformats.org/officeDocument/2006/relationships/image" Target="../media/image10.gif"/><Relationship Id="rId29" Type="http://schemas.openxmlformats.org/officeDocument/2006/relationships/hyperlink" Target="http://smiles.33b.ru/smile.110025.html" TargetMode="External"/><Relationship Id="rId30" Type="http://schemas.openxmlformats.org/officeDocument/2006/relationships/image" Target="../media/image9.png"/><Relationship Id="rId31" Type="http://schemas.openxmlformats.org/officeDocument/2006/relationships/hyperlink" Target="http://smiles.33b.ru/smile.110025.html" TargetMode="External"/><Relationship Id="rId32" Type="http://schemas.openxmlformats.org/officeDocument/2006/relationships/image" Target="../media/image9.png"/><Relationship Id="rId33" Type="http://schemas.openxmlformats.org/officeDocument/2006/relationships/hyperlink" Target="http://smiles.33b.ru/smile.118597.html" TargetMode="External"/><Relationship Id="rId34" Type="http://schemas.openxmlformats.org/officeDocument/2006/relationships/image" Target="../media/image10.gif"/><Relationship Id="rId35" Type="http://schemas.openxmlformats.org/officeDocument/2006/relationships/hyperlink" Target="http://smiles.33b.ru/smile.118597.html" TargetMode="External"/><Relationship Id="rId36" Type="http://schemas.openxmlformats.org/officeDocument/2006/relationships/image" Target="../media/image10.gif"/><Relationship Id="rId37" Type="http://schemas.openxmlformats.org/officeDocument/2006/relationships/hyperlink" Target="http://smiles.33b.ru/smile.118597.html" TargetMode="External"/><Relationship Id="rId38" Type="http://schemas.openxmlformats.org/officeDocument/2006/relationships/image" Target="../media/image10.gif"/><Relationship Id="rId39" Type="http://schemas.openxmlformats.org/officeDocument/2006/relationships/hyperlink" Target="http://smiles.33b.ru/smile.118597.html" TargetMode="External"/><Relationship Id="rId40" Type="http://schemas.openxmlformats.org/officeDocument/2006/relationships/image" Target="../media/image10.gif"/><Relationship Id="rId41" Type="http://schemas.openxmlformats.org/officeDocument/2006/relationships/hyperlink" Target="http://smiles.33b.ru/smile.118597.html" TargetMode="External"/><Relationship Id="rId42" Type="http://schemas.openxmlformats.org/officeDocument/2006/relationships/image" Target="../media/image10.gif"/><Relationship Id="rId43" Type="http://schemas.openxmlformats.org/officeDocument/2006/relationships/hyperlink" Target="http://smiles.33b.ru/smile.118597.html" TargetMode="External"/><Relationship Id="rId44" Type="http://schemas.openxmlformats.org/officeDocument/2006/relationships/image" Target="../media/image10.gif"/><Relationship Id="rId45" Type="http://schemas.openxmlformats.org/officeDocument/2006/relationships/hyperlink" Target="http://smiles.33b.ru/smile.110025.html" TargetMode="External"/><Relationship Id="rId46" Type="http://schemas.openxmlformats.org/officeDocument/2006/relationships/image" Target="../media/image9.png"/><Relationship Id="rId47" Type="http://schemas.openxmlformats.org/officeDocument/2006/relationships/hyperlink" Target="http://smiles.33b.ru/smile.118597.html" TargetMode="External"/><Relationship Id="rId48" Type="http://schemas.openxmlformats.org/officeDocument/2006/relationships/image" Target="../media/image10.gif"/><Relationship Id="rId49" Type="http://schemas.openxmlformats.org/officeDocument/2006/relationships/hyperlink" Target="http://smiles.33b.ru/smile.118597.html" TargetMode="External"/><Relationship Id="rId50" Type="http://schemas.openxmlformats.org/officeDocument/2006/relationships/image" Target="../media/image10.gif"/><Relationship Id="rId51" Type="http://schemas.openxmlformats.org/officeDocument/2006/relationships/hyperlink" Target="http://smiles.33b.ru/smile.118597.html" TargetMode="External"/><Relationship Id="rId52" Type="http://schemas.openxmlformats.org/officeDocument/2006/relationships/image" Target="../media/image10.gif"/><Relationship Id="rId53" Type="http://schemas.openxmlformats.org/officeDocument/2006/relationships/hyperlink" Target="http://smiles.33b.ru/smile.118597.html" TargetMode="External"/><Relationship Id="rId54" Type="http://schemas.openxmlformats.org/officeDocument/2006/relationships/image" Target="../media/image10.gif"/><Relationship Id="rId55" Type="http://schemas.openxmlformats.org/officeDocument/2006/relationships/hyperlink" Target="http://smiles.33b.ru/smile.118597.html" TargetMode="External"/><Relationship Id="rId56" Type="http://schemas.openxmlformats.org/officeDocument/2006/relationships/image" Target="../media/image10.gif"/><Relationship Id="rId57" Type="http://schemas.openxmlformats.org/officeDocument/2006/relationships/hyperlink" Target="http://smiles.33b.ru/smile.118597.html" TargetMode="External"/><Relationship Id="rId58" Type="http://schemas.openxmlformats.org/officeDocument/2006/relationships/image" Target="../media/image10.gif"/><Relationship Id="rId59" Type="http://schemas.openxmlformats.org/officeDocument/2006/relationships/hyperlink" Target="http://smiles.33b.ru/smile.118597.html" TargetMode="External"/><Relationship Id="rId60" Type="http://schemas.openxmlformats.org/officeDocument/2006/relationships/image" Target="../media/image10.gif"/><Relationship Id="rId61" Type="http://schemas.openxmlformats.org/officeDocument/2006/relationships/image" Target="../media/image10.gif"/><Relationship Id="rId62" Type="http://schemas.openxmlformats.org/officeDocument/2006/relationships/image" Target="../media/image10.gif"/><Relationship Id="rId63" Type="http://schemas.openxmlformats.org/officeDocument/2006/relationships/image" Target="../media/image10.gif"/><Relationship Id="rId64" Type="http://schemas.openxmlformats.org/officeDocument/2006/relationships/image" Target="../media/image10.gif"/><Relationship Id="rId65" Type="http://schemas.openxmlformats.org/officeDocument/2006/relationships/image" Target="../media/image10.gif"/><Relationship Id="rId66" Type="http://schemas.openxmlformats.org/officeDocument/2006/relationships/image" Target="../media/image10.gif"/><Relationship Id="rId67" Type="http://schemas.openxmlformats.org/officeDocument/2006/relationships/image" Target="../media/image10.gif"/><Relationship Id="rId68" Type="http://schemas.openxmlformats.org/officeDocument/2006/relationships/image" Target="../media/image10.gif"/><Relationship Id="rId69" Type="http://schemas.openxmlformats.org/officeDocument/2006/relationships/image" Target="../media/image10.gif"/><Relationship Id="rId70" Type="http://schemas.openxmlformats.org/officeDocument/2006/relationships/image" Target="../media/image10.gif"/><Relationship Id="rId71" Type="http://schemas.openxmlformats.org/officeDocument/2006/relationships/image" Target="../media/image10.gif"/><Relationship Id="rId7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7280" y="4149360"/>
            <a:ext cx="7345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26"/>
                </a:solidFill>
                <a:latin typeface="Century Gothic"/>
              </a:rPr>
              <a:t>НУЖНЫ ЛИ ПРИВИВКИ ПРОТИВ ГРИППА?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45" name="Picture 5" descr="injection"/>
          <p:cNvPicPr/>
          <p:nvPr/>
        </p:nvPicPr>
        <p:blipFill>
          <a:blip r:embed="rId1"/>
          <a:stretch/>
        </p:blipFill>
        <p:spPr>
          <a:xfrm>
            <a:off x="1187280" y="1484280"/>
            <a:ext cx="2448000" cy="2392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ANd9GcS9VwdfygRlvBpeBk1qFSiQSWlN7Vzrw8UnmGh8T4v830oucvkOs3jtUtC-CQ"/>
          <p:cNvPicPr/>
          <p:nvPr/>
        </p:nvPicPr>
        <p:blipFill>
          <a:blip r:embed="rId2"/>
          <a:stretch/>
        </p:blipFill>
        <p:spPr>
          <a:xfrm>
            <a:off x="5435640" y="1449360"/>
            <a:ext cx="2482920" cy="24274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99760" y="-360"/>
            <a:ext cx="7497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62626"/>
                </a:solidFill>
                <a:latin typeface="Century Gothic"/>
              </a:rPr>
              <a:t>ВАШ ВОПРОС 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7616880" y="0"/>
            <a:ext cx="1527120" cy="114300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3"/>
          <p:cNvSpPr/>
          <p:nvPr/>
        </p:nvSpPr>
        <p:spPr>
          <a:xfrm>
            <a:off x="1643040" y="135720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(мой ребёнок) привился против гриппа и всё равно забол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1143000" y="2500200"/>
            <a:ext cx="7715160" cy="38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бные гриппу заболевания вызываются более 200 видами респираторных вирусов. Отличить эти заболевания  по клинике практически невозмо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 привитого человека появилось заболевание с повышением температуры, головной болью, слабостью – то, вероятнее всего - это не гриппозная вирусная инфекция, т.к.  от гриппа Вы защищены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небольшая вероятность, что у Вас развился грипп. Но заболевание протекало не тяжело, без  осложнений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не привитого человека  грипп протекает тяжело, с высокой вероятностью развития осложнений и неблагоприятного исх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4143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entury Gothic"/>
              </a:rPr>
              <a:t>ВАШ ВОПРОС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8" name="Прямоугольник 2"/>
          <p:cNvSpPr/>
          <p:nvPr/>
        </p:nvSpPr>
        <p:spPr>
          <a:xfrm>
            <a:off x="1403280" y="1916280"/>
            <a:ext cx="7072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жно ли заболеть гриппом после приви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заразить окружающ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к заболеть гриппом после прививки и заразить окружающих отсут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роцессе производства вакцинные вирусы лишаются свойства вызывать заболевание, однако сохраняют способность формировать защи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6929280" y="285840"/>
            <a:ext cx="1462320" cy="14619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414324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entury Gothic"/>
              </a:rPr>
              <a:t>ВАШ ВОПРОС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Прямоугольник 2"/>
          <p:cNvSpPr/>
          <p:nvPr/>
        </p:nvSpPr>
        <p:spPr>
          <a:xfrm>
            <a:off x="1403280" y="1916280"/>
            <a:ext cx="707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чем прививаться в нынешнем году, если делал прививку в прошл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щитные антитела, выработанные после прививки, обычно в течение 6-12 месяцев после вакцинации разрушаются или их количество становится недостаточным для защиты от гриппа в новом сез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оме того, практически ежегодно обновляются варианты вирусов гриппа, которые входят в состав вакц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6929280" y="285840"/>
            <a:ext cx="1462320" cy="14619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8028000" cy="510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62626"/>
                </a:solidFill>
                <a:latin typeface="Century Gothic"/>
              </a:rPr>
              <a:t>ВАКЦИНАЦИЯ ПРОТИВ ГРИППА  -</a:t>
            </a:r>
            <a:br>
              <a:rPr sz="2300"/>
            </a:br>
            <a:br>
              <a:rPr sz="2300"/>
            </a:br>
            <a:r>
              <a:rPr b="0" lang="ru-RU" sz="2300" spc="-1" strike="noStrike">
                <a:solidFill>
                  <a:srgbClr val="262626"/>
                </a:solidFill>
                <a:latin typeface="Century Gothic"/>
              </a:rPr>
              <a:t>Предотвращает  случаи заболевания среди детей и взрослых;</a:t>
            </a:r>
            <a:br>
              <a:rPr sz="2300"/>
            </a:br>
            <a:br>
              <a:rPr sz="2300"/>
            </a:br>
            <a:r>
              <a:rPr b="0" lang="ru-RU" sz="2300" spc="-1" strike="noStrike">
                <a:solidFill>
                  <a:srgbClr val="262626"/>
                </a:solidFill>
                <a:latin typeface="Century Gothic"/>
              </a:rPr>
              <a:t> Обеспечивает уменьшение количества источников инфекции, </a:t>
            </a:r>
            <a:br>
              <a:rPr sz="2300"/>
            </a:br>
            <a:br>
              <a:rPr sz="2300"/>
            </a:br>
            <a:r>
              <a:rPr b="0" lang="ru-RU" sz="2300" spc="-1" strike="noStrike">
                <a:solidFill>
                  <a:srgbClr val="262626"/>
                </a:solidFill>
                <a:latin typeface="Century Gothic"/>
              </a:rPr>
              <a:t>Влияет на снижение интенсивности распространения вируса гриппа (особенно в детских коллективах), </a:t>
            </a:r>
            <a:br>
              <a:rPr sz="2300"/>
            </a:br>
            <a:br>
              <a:rPr sz="2300"/>
            </a:br>
            <a:r>
              <a:rPr b="0" lang="ru-RU" sz="2300" spc="-1" strike="noStrike">
                <a:solidFill>
                  <a:srgbClr val="262626"/>
                </a:solidFill>
                <a:latin typeface="Century Gothic"/>
              </a:rPr>
              <a:t>Снижает риск заноса возбудителя в семьи. </a:t>
            </a:r>
            <a:br>
              <a:rPr sz="2300"/>
            </a:br>
            <a:br>
              <a:rPr sz="2300"/>
            </a:br>
            <a:r>
              <a:rPr b="0" lang="ru-RU" sz="2300" spc="-1" strike="noStrike">
                <a:solidFill>
                  <a:srgbClr val="262626"/>
                </a:solidFill>
                <a:latin typeface="Century Gothic"/>
              </a:rPr>
              <a:t>Сохраняет здоровье.</a:t>
            </a:r>
            <a:br>
              <a:rPr sz="2300"/>
            </a:br>
            <a:r>
              <a:rPr b="0" lang="ru-RU" sz="23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ransition spd="slow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1042920" y="4797360"/>
            <a:ext cx="7416720" cy="1557000"/>
          </a:xfrm>
          <a:prstGeom prst="rect">
            <a:avLst/>
          </a:prstGeom>
          <a:solidFill>
            <a:srgbClr val="1cade4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-3 ребёнка  из 10 привитых против гриппа не заболеют острой респираторной инфек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.к. происходит стимуляция Т-клеточного иммуните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2556000" y="260280"/>
            <a:ext cx="57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ффективность  вакцинации  против грипп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971640" y="2060640"/>
            <a:ext cx="7705800" cy="825480"/>
          </a:xfrm>
          <a:prstGeom prst="rect">
            <a:avLst/>
          </a:prstGeom>
          <a:solidFill>
            <a:srgbClr val="1cade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-9   детей  из 10 привитых   не заболеют грипп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время  сезонного подъё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611280" y="3573360"/>
            <a:ext cx="8353440" cy="825480"/>
          </a:xfrm>
          <a:prstGeom prst="rect">
            <a:avLst/>
          </a:prstGeom>
          <a:solidFill>
            <a:srgbClr val="1cade4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-2 ребёнка  из 10 привитых  могут перенести грипп, но в легкой форме, без осложнений и летального ис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979640" cy="12668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75564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993300"/>
                </a:solidFill>
                <a:latin typeface="Times New Roman"/>
              </a:rPr>
              <a:t>Что дает вакцинация против гриппа мне и моей семье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2268360" y="1844640"/>
            <a:ext cx="4319640" cy="1313640"/>
          </a:xfrm>
          <a:prstGeom prst="rect">
            <a:avLst/>
          </a:prstGeom>
          <a:gradFill rotWithShape="0">
            <a:gsLst>
              <a:gs pos="0">
                <a:srgbClr val="fbd7a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83c6"/>
                </a:solidFill>
                <a:latin typeface="Times New Roman"/>
              </a:rPr>
              <a:t>Снижается риск заболе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83c6"/>
                </a:solidFill>
                <a:latin typeface="Times New Roman"/>
              </a:rPr>
              <a:t>у привитых членов моей семь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83c6"/>
                </a:solidFill>
                <a:latin typeface="Times New Roman"/>
              </a:rPr>
              <a:t>гриппом в 3-3,5 ра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83c6"/>
                </a:solidFill>
                <a:latin typeface="Times New Roman"/>
              </a:rPr>
              <a:t>другими ОРВИ на 25-3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1332000" y="4076640"/>
            <a:ext cx="734364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aeab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83c6"/>
                </a:solidFill>
                <a:latin typeface="Times New Roman"/>
              </a:rPr>
              <a:t>Устраняется риск возникновения тяжелых осложнений и госпитализации в стационар, если кто-то из привитых членов семьи заболеет грипп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1332000" y="5589720"/>
            <a:ext cx="6842160" cy="916920"/>
          </a:xfrm>
          <a:prstGeom prst="rect">
            <a:avLst/>
          </a:prstGeom>
          <a:gradFill rotWithShape="0">
            <a:gsLst>
              <a:gs pos="0">
                <a:srgbClr val="faeab0"/>
              </a:gs>
              <a:gs pos="100000">
                <a:srgbClr val="f1e5c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83c6"/>
                </a:solidFill>
                <a:latin typeface="Times New Roman"/>
              </a:rPr>
              <a:t>Минимизируется риск заноса в семью вируса гриппа и заражения тех членов семьи, для которых заболевание опасно не только для здоровья, но и для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9" descr="Прививка_04"/>
          <p:cNvPicPr/>
          <p:nvPr/>
        </p:nvPicPr>
        <p:blipFill>
          <a:blip r:embed="rId1"/>
          <a:stretch/>
        </p:blipFill>
        <p:spPr>
          <a:xfrm>
            <a:off x="324000" y="1628640"/>
            <a:ext cx="1366560" cy="18226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0" descr="Прививка_01"/>
          <p:cNvPicPr/>
          <p:nvPr/>
        </p:nvPicPr>
        <p:blipFill>
          <a:blip r:embed="rId2"/>
          <a:stretch/>
        </p:blipFill>
        <p:spPr>
          <a:xfrm>
            <a:off x="6948360" y="1773360"/>
            <a:ext cx="1897200" cy="1557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468360" y="260280"/>
            <a:ext cx="8424720" cy="6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Вакцинация против гриппа</a:t>
            </a:r>
            <a:r>
              <a:rPr b="0" lang="ru-RU" sz="4000" spc="-1" strike="noStrike">
                <a:solidFill>
                  <a:srgbClr val="1485a4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468360" y="2492280"/>
            <a:ext cx="83534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Verdana"/>
              </a:rPr>
              <a:t>1-3 человека </a:t>
            </a:r>
            <a:r>
              <a:rPr b="0" lang="ru-RU" sz="2000" spc="-1" strike="noStrike">
                <a:solidFill>
                  <a:srgbClr val="009900"/>
                </a:solidFill>
                <a:latin typeface="Verdana"/>
              </a:rPr>
              <a:t>могут перенести грипп, но в легкой форме, без осложнений и летального ис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WordArt 6"/>
          <p:cNvSpPr txBox="1"/>
          <p:nvPr/>
        </p:nvSpPr>
        <p:spPr>
          <a:xfrm>
            <a:off x="2843280" y="90792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дежно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1258920" y="1773360"/>
            <a:ext cx="65898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7-9 человек из 10 привитых </a:t>
            </a:r>
            <a:r>
              <a:rPr b="0" lang="ru-RU" sz="1800" spc="-1" strike="noStrike">
                <a:solidFill>
                  <a:srgbClr val="009900"/>
                </a:solidFill>
                <a:latin typeface="Verdana"/>
              </a:rPr>
              <a:t>не заболеют грипп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491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3228120" y="3357720"/>
            <a:ext cx="3897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2-3 человека</a:t>
            </a:r>
            <a:r>
              <a:rPr b="0" lang="ru-RU" sz="1800" spc="-1" strike="noStrike">
                <a:solidFill>
                  <a:srgbClr val="009900"/>
                </a:solidFill>
                <a:latin typeface="Verdana"/>
              </a:rPr>
              <a:t> не заболеют 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WordArt 9"/>
          <p:cNvSpPr txBox="1"/>
          <p:nvPr/>
        </p:nvSpPr>
        <p:spPr>
          <a:xfrm>
            <a:off x="971640" y="3860640"/>
            <a:ext cx="280836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опасно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250920" y="4800240"/>
            <a:ext cx="424800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Современные вакцины против гриппа хорошо перенося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Иногда может наблюдать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У 1-2 человек из 10 привитых повышение  температуры до 37,5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°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У 2-3 человек уплотнение и болезненность в месте ук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WordArt 11"/>
          <p:cNvSpPr txBox="1"/>
          <p:nvPr/>
        </p:nvSpPr>
        <p:spPr>
          <a:xfrm>
            <a:off x="6227640" y="3789360"/>
            <a:ext cx="2303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годно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4643280" y="4941720"/>
            <a:ext cx="450072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  <a:ea typeface="Sendnya"/>
              </a:rPr>
              <a:t>Вакцинация проводится однократ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  <a:ea typeface="Sendnya"/>
              </a:rPr>
              <a:t>П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  <a:ea typeface="Sendnya"/>
              </a:rPr>
              <a:t>рием профилактических лекарственных препаратов должен осуществляться регулярно в течение длительног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3203640" y="277920"/>
            <a:ext cx="548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993300"/>
                </a:solidFill>
                <a:latin typeface="Times New Roman"/>
              </a:rPr>
              <a:t>Что дает вакцинация </a:t>
            </a:r>
            <a:br>
              <a:rPr sz="3800"/>
            </a:br>
            <a:r>
              <a:rPr b="1" i="1" lang="ru-RU" sz="3800" spc="-1" strike="noStrike">
                <a:solidFill>
                  <a:srgbClr val="993300"/>
                </a:solidFill>
                <a:latin typeface="Times New Roman"/>
              </a:rPr>
              <a:t>моей семье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0" y="1484280"/>
            <a:ext cx="611964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aeab0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ahoma"/>
              </a:rPr>
              <a:t>Сохраняется здоровь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ahoma"/>
              </a:rPr>
              <a:t>всех членов сем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4"/>
          <p:cNvSpPr/>
          <p:nvPr/>
        </p:nvSpPr>
        <p:spPr>
          <a:xfrm>
            <a:off x="1692360" y="3068640"/>
            <a:ext cx="611964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aeab0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ahoma"/>
              </a:rPr>
              <a:t>Не нарушаются пла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ahoma"/>
              </a:rPr>
              <a:t>семь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3024360" y="4697280"/>
            <a:ext cx="611964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ab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ahoma"/>
              </a:rPr>
              <a:t>Сохраняется финан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Tahoma"/>
              </a:rPr>
              <a:t>сем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6" descr="ANd9GcSr9zOBf_NL6pDUhfOSoYZTdMMZ-82GPE5zXzTrQHqWrpL8N9U&amp;t=1&amp;usg=__Ug5O2qogScEey_42gKDHXC_0hjY="/>
          <p:cNvPicPr/>
          <p:nvPr/>
        </p:nvPicPr>
        <p:blipFill>
          <a:blip r:embed="rId1"/>
          <a:stretch/>
        </p:blipFill>
        <p:spPr>
          <a:xfrm>
            <a:off x="155520" y="46080"/>
            <a:ext cx="2471760" cy="1414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3"/>
          <p:cNvSpPr/>
          <p:nvPr/>
        </p:nvSpPr>
        <p:spPr>
          <a:xfrm>
            <a:off x="539640" y="4508640"/>
            <a:ext cx="396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MPj01490180000[1]"/>
          <p:cNvPicPr/>
          <p:nvPr/>
        </p:nvPicPr>
        <p:blipFill>
          <a:blip r:embed="rId1"/>
          <a:stretch/>
        </p:blipFill>
        <p:spPr>
          <a:xfrm>
            <a:off x="2106720" y="1239840"/>
            <a:ext cx="4932360" cy="2736720"/>
          </a:xfrm>
          <a:prstGeom prst="rect">
            <a:avLst/>
          </a:prstGeom>
          <a:ln w="0">
            <a:noFill/>
          </a:ln>
        </p:spPr>
      </p:pic>
      <p:sp>
        <p:nvSpPr>
          <p:cNvPr id="421" name="WordArt 6"/>
          <p:cNvSpPr txBox="1"/>
          <p:nvPr/>
        </p:nvSpPr>
        <p:spPr>
          <a:xfrm>
            <a:off x="1763640" y="4221000"/>
            <a:ext cx="640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пасибо за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171440" y="4681440"/>
            <a:ext cx="680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1042920" y="-360"/>
            <a:ext cx="70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рус гриппа передается от человека к челове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чень легко и незаметн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7"/>
          <p:cNvSpPr/>
          <p:nvPr/>
        </p:nvSpPr>
        <p:spPr>
          <a:xfrm>
            <a:off x="3708360" y="5877000"/>
            <a:ext cx="1513080" cy="57636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851280" y="59500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аж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3833640" y="2852640"/>
            <a:ext cx="147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2"/>
          <p:cNvSpPr/>
          <p:nvPr/>
        </p:nvSpPr>
        <p:spPr>
          <a:xfrm>
            <a:off x="155520" y="46080"/>
            <a:ext cx="147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155520" y="46080"/>
            <a:ext cx="147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6" descr="BFE59EAA7B7DB6B7FA99CC826652FF"/>
          <p:cNvPicPr/>
          <p:nvPr/>
        </p:nvPicPr>
        <p:blipFill>
          <a:blip r:embed="rId1"/>
          <a:stretch/>
        </p:blipFill>
        <p:spPr>
          <a:xfrm>
            <a:off x="395280" y="1989000"/>
            <a:ext cx="2544840" cy="1982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8" descr="ANd9GcSie0umnOaAiz8gZKKUq1OGCbgV42dvwwMUvW7-lnXFNDQ86WQ&amp;t=1&amp;usg=__Tj7IEPt4Msim_LVC5Cz5oCjpB3s="/>
          <p:cNvPicPr/>
          <p:nvPr/>
        </p:nvPicPr>
        <p:blipFill>
          <a:blip r:embed="rId2"/>
          <a:stretch/>
        </p:blipFill>
        <p:spPr>
          <a:xfrm>
            <a:off x="6732720" y="21337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21"/>
          <p:cNvSpPr/>
          <p:nvPr/>
        </p:nvSpPr>
        <p:spPr>
          <a:xfrm>
            <a:off x="2987640" y="2349360"/>
            <a:ext cx="32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491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9100"/>
                </a:solidFill>
                <a:latin typeface="Times New Roman"/>
              </a:rPr>
              <a:t>при разговор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491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9100"/>
                </a:solidFill>
                <a:latin typeface="Times New Roman"/>
              </a:rPr>
              <a:t>кашл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491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491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9100"/>
                </a:solidFill>
                <a:latin typeface="Times New Roman"/>
              </a:rPr>
              <a:t>чих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2"/>
          <p:cNvSpPr/>
          <p:nvPr/>
        </p:nvSpPr>
        <p:spPr>
          <a:xfrm>
            <a:off x="1547640" y="4389480"/>
            <a:ext cx="62280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иск заболеть есть у кажд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ый высокий риск распространения инфекци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  коллекти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больной                                           10- 40   здоров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4"/>
          <p:cNvSpPr/>
          <p:nvPr/>
        </p:nvSpPr>
        <p:spPr>
          <a:xfrm>
            <a:off x="4214880" y="3071880"/>
            <a:ext cx="714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6"/>
          <p:cNvSpPr/>
          <p:nvPr/>
        </p:nvSpPr>
        <p:spPr>
          <a:xfrm>
            <a:off x="4214880" y="3071880"/>
            <a:ext cx="714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Дети чаще болеют респираторными болезнями</a:t>
            </a:r>
            <a:r>
              <a:rPr b="1" lang="lt-LT" sz="32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43000" y="1714680"/>
            <a:ext cx="76341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entury Gothic"/>
              </a:rPr>
              <a:t>Первые контакты с микроорганизмами, нет иммунитета 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entury Gothic"/>
              </a:rPr>
              <a:t>Меньше дыхательные пути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entury Gothic"/>
              </a:rPr>
              <a:t>Дольше время выделения вируса 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entury Gothic"/>
              </a:rPr>
              <a:t>Не сформированы гигиенические навыки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entury Gothic"/>
              </a:rPr>
              <a:t>Больше и более интенсивные контакты в детских коллективах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6948360" y="6381720"/>
            <a:ext cx="19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DC 01-SEP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7f4e039d2723aeec23c828b6196ce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a19dcd9463b98457772e5eeea1b7d86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429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7f4e039d2723aeec23c828b6196ce04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92360" y="29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a19dcd9463b98457772e5eeea1b7d86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87640" y="1844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a19dcd9463b98457772e5eeea1b7d86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0" y="40384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a19dcd9463b98457772e5eeea1b7d869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743200" y="2971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a19dcd9463b98457772e5eeea1b7d869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438280" y="47242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a19dcd9463b98457772e5eeea1b7d869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752480" y="3733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a19dcd9463b98457772e5eeea1b7d869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219320" y="46483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a19dcd9463b98457772e5eeea1b7d869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352680" y="35812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a19dcd9463b98457772e5eeea1b7d869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600200" y="54864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a19dcd9463b98457772e5eeea1b7d869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284720" y="2708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19dcd9463b98457772e5eeea1b7d869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140360" y="2205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5" descr="a19dcd9463b98457772e5eeea1b7d869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3419640" y="19162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76" name="Line 16"/>
          <p:cNvSpPr/>
          <p:nvPr/>
        </p:nvSpPr>
        <p:spPr>
          <a:xfrm flipV="1">
            <a:off x="1187280" y="328464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7"/>
          <p:cNvSpPr/>
          <p:nvPr/>
        </p:nvSpPr>
        <p:spPr>
          <a:xfrm>
            <a:off x="1143000" y="3886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8"/>
          <p:cNvSpPr/>
          <p:nvPr/>
        </p:nvSpPr>
        <p:spPr>
          <a:xfrm>
            <a:off x="990720" y="40384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9"/>
          <p:cNvSpPr/>
          <p:nvPr/>
        </p:nvSpPr>
        <p:spPr>
          <a:xfrm flipV="1">
            <a:off x="2133720" y="32767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0"/>
          <p:cNvSpPr/>
          <p:nvPr/>
        </p:nvSpPr>
        <p:spPr>
          <a:xfrm>
            <a:off x="220968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1"/>
          <p:cNvSpPr/>
          <p:nvPr/>
        </p:nvSpPr>
        <p:spPr>
          <a:xfrm>
            <a:off x="2286000" y="396252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2"/>
          <p:cNvSpPr/>
          <p:nvPr/>
        </p:nvSpPr>
        <p:spPr>
          <a:xfrm>
            <a:off x="2362320" y="388620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"/>
          <p:cNvSpPr/>
          <p:nvPr/>
        </p:nvSpPr>
        <p:spPr>
          <a:xfrm flipV="1">
            <a:off x="3276720" y="2923920"/>
            <a:ext cx="863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4"/>
          <p:cNvSpPr/>
          <p:nvPr/>
        </p:nvSpPr>
        <p:spPr>
          <a:xfrm flipV="1">
            <a:off x="3059280" y="2349360"/>
            <a:ext cx="36036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5"/>
          <p:cNvSpPr/>
          <p:nvPr/>
        </p:nvSpPr>
        <p:spPr>
          <a:xfrm flipV="1">
            <a:off x="3203640" y="2492280"/>
            <a:ext cx="822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6" descr="7f4e039d2723aeec23c828b6196ce049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4724280" y="304812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287" name="Line 27"/>
          <p:cNvSpPr/>
          <p:nvPr/>
        </p:nvSpPr>
        <p:spPr>
          <a:xfrm>
            <a:off x="3124080" y="32767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8"/>
          <p:cNvSpPr/>
          <p:nvPr/>
        </p:nvSpPr>
        <p:spPr>
          <a:xfrm>
            <a:off x="1447920" y="518148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9"/>
          <p:cNvSpPr/>
          <p:nvPr/>
        </p:nvSpPr>
        <p:spPr>
          <a:xfrm>
            <a:off x="160020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0"/>
          <p:cNvSpPr/>
          <p:nvPr/>
        </p:nvSpPr>
        <p:spPr>
          <a:xfrm>
            <a:off x="1676520" y="49528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1" descr="7f4e039d2723aeec23c828b6196ce049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2819520" y="54864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92" name="Line 32"/>
          <p:cNvSpPr/>
          <p:nvPr/>
        </p:nvSpPr>
        <p:spPr>
          <a:xfrm flipV="1">
            <a:off x="502920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3"/>
          <p:cNvSpPr/>
          <p:nvPr/>
        </p:nvSpPr>
        <p:spPr>
          <a:xfrm>
            <a:off x="5029200" y="42670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4"/>
          <p:cNvSpPr/>
          <p:nvPr/>
        </p:nvSpPr>
        <p:spPr>
          <a:xfrm>
            <a:off x="4859280" y="44370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5"/>
          <p:cNvSpPr/>
          <p:nvPr/>
        </p:nvSpPr>
        <p:spPr>
          <a:xfrm>
            <a:off x="5029200" y="43434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6" descr="a19dcd9463b98457772e5eeea1b7d869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5486400" y="5029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7" descr="a19dcd9463b98457772e5eeea1b7d869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5943600" y="4419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8" descr="a19dcd9463b98457772e5eeea1b7d869">
            <a:hlinkClick r:id="rId37"/>
          </p:cNvPr>
          <p:cNvPicPr/>
          <p:nvPr/>
        </p:nvPicPr>
        <p:blipFill>
          <a:blip r:embed="rId38"/>
          <a:stretch/>
        </p:blipFill>
        <p:spPr>
          <a:xfrm>
            <a:off x="5724360" y="321300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9" descr="a19dcd9463b98457772e5eeea1b7d869">
            <a:hlinkClick r:id="rId39"/>
          </p:cNvPr>
          <p:cNvPicPr/>
          <p:nvPr/>
        </p:nvPicPr>
        <p:blipFill>
          <a:blip r:embed="rId40"/>
          <a:stretch/>
        </p:blipFill>
        <p:spPr>
          <a:xfrm>
            <a:off x="4859280" y="50846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00" name="Line 40"/>
          <p:cNvSpPr/>
          <p:nvPr/>
        </p:nvSpPr>
        <p:spPr>
          <a:xfrm flipV="1">
            <a:off x="5105520" y="40384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1" descr="a19dcd9463b98457772e5eeea1b7d869">
            <a:hlinkClick r:id="rId41"/>
          </p:cNvPr>
          <p:cNvPicPr/>
          <p:nvPr/>
        </p:nvPicPr>
        <p:blipFill>
          <a:blip r:embed="rId42"/>
          <a:stretch/>
        </p:blipFill>
        <p:spPr>
          <a:xfrm>
            <a:off x="6324480" y="38098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302" name="Line 42"/>
          <p:cNvSpPr/>
          <p:nvPr/>
        </p:nvSpPr>
        <p:spPr>
          <a:xfrm flipH="1">
            <a:off x="990360" y="5105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3" descr="a19dcd9463b98457772e5eeea1b7d869">
            <a:hlinkClick r:id="rId43"/>
          </p:cNvPr>
          <p:cNvPicPr/>
          <p:nvPr/>
        </p:nvPicPr>
        <p:blipFill>
          <a:blip r:embed="rId44"/>
          <a:stretch/>
        </p:blipFill>
        <p:spPr>
          <a:xfrm>
            <a:off x="685800" y="54864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04" name="Line 44"/>
          <p:cNvSpPr/>
          <p:nvPr/>
        </p:nvSpPr>
        <p:spPr>
          <a:xfrm>
            <a:off x="5181480" y="4191120"/>
            <a:ext cx="2057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5" descr="7f4e039d2723aeec23c828b6196ce049">
            <a:hlinkClick r:id="rId45"/>
          </p:cNvPr>
          <p:cNvPicPr/>
          <p:nvPr/>
        </p:nvPicPr>
        <p:blipFill>
          <a:blip r:embed="rId46"/>
          <a:stretch/>
        </p:blipFill>
        <p:spPr>
          <a:xfrm>
            <a:off x="7315200" y="4191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46"/>
          <p:cNvSpPr/>
          <p:nvPr/>
        </p:nvSpPr>
        <p:spPr>
          <a:xfrm>
            <a:off x="4211640" y="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85a4"/>
                </a:solidFill>
                <a:latin typeface="Arial"/>
              </a:rPr>
              <a:t>Распространение вирусов гриппа в коллективе среди не защищенных против грип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7"/>
          <p:cNvSpPr/>
          <p:nvPr/>
        </p:nvSpPr>
        <p:spPr>
          <a:xfrm>
            <a:off x="3924360" y="5950080"/>
            <a:ext cx="4321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1-й больной способен заразить от  10 до 40  здоровых человек за 1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8" descr="a19dcd9463b98457772e5eeea1b7d869">
            <a:hlinkClick r:id="rId47"/>
          </p:cNvPr>
          <p:cNvPicPr/>
          <p:nvPr/>
        </p:nvPicPr>
        <p:blipFill>
          <a:blip r:embed="rId48"/>
          <a:stretch/>
        </p:blipFill>
        <p:spPr>
          <a:xfrm>
            <a:off x="250920" y="2205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9" descr="a19dcd9463b98457772e5eeea1b7d869">
            <a:hlinkClick r:id="rId49"/>
          </p:cNvPr>
          <p:cNvPicPr/>
          <p:nvPr/>
        </p:nvPicPr>
        <p:blipFill>
          <a:blip r:embed="rId50"/>
          <a:stretch/>
        </p:blipFill>
        <p:spPr>
          <a:xfrm>
            <a:off x="900000" y="206064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0" descr="a19dcd9463b98457772e5eeea1b7d869">
            <a:hlinkClick r:id="rId51"/>
          </p:cNvPr>
          <p:cNvPicPr/>
          <p:nvPr/>
        </p:nvPicPr>
        <p:blipFill>
          <a:blip r:embed="rId52"/>
          <a:stretch/>
        </p:blipFill>
        <p:spPr>
          <a:xfrm>
            <a:off x="250920" y="4508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1" descr="a19dcd9463b98457772e5eeea1b7d869">
            <a:hlinkClick r:id="rId53"/>
          </p:cNvPr>
          <p:cNvPicPr/>
          <p:nvPr/>
        </p:nvPicPr>
        <p:blipFill>
          <a:blip r:embed="rId54"/>
          <a:stretch/>
        </p:blipFill>
        <p:spPr>
          <a:xfrm>
            <a:off x="1476360" y="1989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2" descr="a19dcd9463b98457772e5eeea1b7d869">
            <a:hlinkClick r:id="rId55"/>
          </p:cNvPr>
          <p:cNvPicPr/>
          <p:nvPr/>
        </p:nvPicPr>
        <p:blipFill>
          <a:blip r:embed="rId56"/>
          <a:stretch/>
        </p:blipFill>
        <p:spPr>
          <a:xfrm>
            <a:off x="2268360" y="184464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313" name="Line 53"/>
          <p:cNvSpPr/>
          <p:nvPr/>
        </p:nvSpPr>
        <p:spPr>
          <a:xfrm flipH="1" flipV="1">
            <a:off x="2484360" y="2204640"/>
            <a:ext cx="432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4"/>
          <p:cNvSpPr/>
          <p:nvPr/>
        </p:nvSpPr>
        <p:spPr>
          <a:xfrm flipH="1" flipV="1">
            <a:off x="324000" y="2565360"/>
            <a:ext cx="712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5"/>
          <p:cNvSpPr/>
          <p:nvPr/>
        </p:nvSpPr>
        <p:spPr>
          <a:xfrm flipV="1">
            <a:off x="826920" y="2491920"/>
            <a:ext cx="216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6"/>
          <p:cNvSpPr/>
          <p:nvPr/>
        </p:nvSpPr>
        <p:spPr>
          <a:xfrm flipV="1">
            <a:off x="1116000" y="242064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7"/>
          <p:cNvSpPr/>
          <p:nvPr/>
        </p:nvSpPr>
        <p:spPr>
          <a:xfrm flipH="1">
            <a:off x="468000" y="4076640"/>
            <a:ext cx="142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8" descr="a19dcd9463b98457772e5eeea1b7d869">
            <a:hlinkClick r:id="rId57"/>
          </p:cNvPr>
          <p:cNvPicPr/>
          <p:nvPr/>
        </p:nvPicPr>
        <p:blipFill>
          <a:blip r:embed="rId58"/>
          <a:stretch/>
        </p:blipFill>
        <p:spPr>
          <a:xfrm>
            <a:off x="1835280" y="234936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19" name="Line 59"/>
          <p:cNvSpPr/>
          <p:nvPr/>
        </p:nvSpPr>
        <p:spPr>
          <a:xfrm flipV="1">
            <a:off x="1116000" y="2636640"/>
            <a:ext cx="719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0" descr="a19dcd9463b98457772e5eeea1b7d869">
            <a:hlinkClick r:id="rId59"/>
          </p:cNvPr>
          <p:cNvPicPr/>
          <p:nvPr/>
        </p:nvPicPr>
        <p:blipFill>
          <a:blip r:embed="rId60"/>
          <a:stretch/>
        </p:blipFill>
        <p:spPr>
          <a:xfrm>
            <a:off x="611280" y="4724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21" name="Line 61"/>
          <p:cNvSpPr/>
          <p:nvPr/>
        </p:nvSpPr>
        <p:spPr>
          <a:xfrm>
            <a:off x="826920" y="4005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62" descr="a19dcd9463b98457772e5eeea1b7d869"/>
          <p:cNvPicPr/>
          <p:nvPr/>
        </p:nvPicPr>
        <p:blipFill>
          <a:blip r:embed="rId61"/>
          <a:stretch/>
        </p:blipFill>
        <p:spPr>
          <a:xfrm>
            <a:off x="2627280" y="1268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23" name="Line 63"/>
          <p:cNvSpPr/>
          <p:nvPr/>
        </p:nvSpPr>
        <p:spPr>
          <a:xfrm flipH="1" flipV="1">
            <a:off x="2842920" y="1699920"/>
            <a:ext cx="730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4"/>
          <p:cNvSpPr/>
          <p:nvPr/>
        </p:nvSpPr>
        <p:spPr>
          <a:xfrm flipV="1">
            <a:off x="2987640" y="2349360"/>
            <a:ext cx="144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5" descr="a19dcd9463b98457772e5eeea1b7d869"/>
          <p:cNvPicPr/>
          <p:nvPr/>
        </p:nvPicPr>
        <p:blipFill>
          <a:blip r:embed="rId62"/>
          <a:stretch/>
        </p:blipFill>
        <p:spPr>
          <a:xfrm>
            <a:off x="3924360" y="1773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26" name="Line 66"/>
          <p:cNvSpPr/>
          <p:nvPr/>
        </p:nvSpPr>
        <p:spPr>
          <a:xfrm flipV="1">
            <a:off x="3132000" y="220464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67" descr="a19dcd9463b98457772e5eeea1b7d869"/>
          <p:cNvPicPr/>
          <p:nvPr/>
        </p:nvPicPr>
        <p:blipFill>
          <a:blip r:embed="rId63"/>
          <a:stretch/>
        </p:blipFill>
        <p:spPr>
          <a:xfrm>
            <a:off x="826920" y="148428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328" name="Line 68"/>
          <p:cNvSpPr/>
          <p:nvPr/>
        </p:nvSpPr>
        <p:spPr>
          <a:xfrm flipH="1" flipV="1">
            <a:off x="684360" y="1915920"/>
            <a:ext cx="71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69" descr="a19dcd9463b98457772e5eeea1b7d869"/>
          <p:cNvPicPr/>
          <p:nvPr/>
        </p:nvPicPr>
        <p:blipFill>
          <a:blip r:embed="rId64"/>
          <a:stretch/>
        </p:blipFill>
        <p:spPr>
          <a:xfrm>
            <a:off x="1332000" y="134136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30" name="Line 70"/>
          <p:cNvSpPr/>
          <p:nvPr/>
        </p:nvSpPr>
        <p:spPr>
          <a:xfrm flipV="1">
            <a:off x="971640" y="1844280"/>
            <a:ext cx="43164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1"/>
          <p:cNvSpPr/>
          <p:nvPr/>
        </p:nvSpPr>
        <p:spPr>
          <a:xfrm>
            <a:off x="32580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2"/>
          <p:cNvSpPr/>
          <p:nvPr/>
        </p:nvSpPr>
        <p:spPr>
          <a:xfrm>
            <a:off x="82908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3"/>
          <p:cNvSpPr/>
          <p:nvPr/>
        </p:nvSpPr>
        <p:spPr>
          <a:xfrm>
            <a:off x="973440" y="162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4"/>
          <p:cNvSpPr/>
          <p:nvPr/>
        </p:nvSpPr>
        <p:spPr>
          <a:xfrm>
            <a:off x="1403280" y="907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5"/>
          <p:cNvSpPr/>
          <p:nvPr/>
        </p:nvSpPr>
        <p:spPr>
          <a:xfrm>
            <a:off x="1765800" y="155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6"/>
          <p:cNvSpPr/>
          <p:nvPr/>
        </p:nvSpPr>
        <p:spPr>
          <a:xfrm>
            <a:off x="2126160" y="220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7"/>
          <p:cNvSpPr/>
          <p:nvPr/>
        </p:nvSpPr>
        <p:spPr>
          <a:xfrm>
            <a:off x="18144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8"/>
          <p:cNvSpPr/>
          <p:nvPr/>
        </p:nvSpPr>
        <p:spPr>
          <a:xfrm>
            <a:off x="1333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9"/>
          <p:cNvSpPr/>
          <p:nvPr/>
        </p:nvSpPr>
        <p:spPr>
          <a:xfrm>
            <a:off x="2053080" y="422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0"/>
          <p:cNvSpPr/>
          <p:nvPr/>
        </p:nvSpPr>
        <p:spPr>
          <a:xfrm>
            <a:off x="39708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81"/>
          <p:cNvSpPr/>
          <p:nvPr/>
        </p:nvSpPr>
        <p:spPr>
          <a:xfrm>
            <a:off x="539640" y="765000"/>
            <a:ext cx="1873440" cy="5185080"/>
          </a:xfrm>
          <a:prstGeom prst="ellipse">
            <a:avLst/>
          </a:prstGeom>
          <a:noFill/>
          <a:ln w="381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82"/>
          <p:cNvSpPr/>
          <p:nvPr/>
        </p:nvSpPr>
        <p:spPr>
          <a:xfrm>
            <a:off x="755640" y="3429000"/>
            <a:ext cx="719280" cy="7920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83"/>
          <p:cNvSpPr/>
          <p:nvPr/>
        </p:nvSpPr>
        <p:spPr>
          <a:xfrm flipH="1" flipV="1">
            <a:off x="1403280" y="4149720"/>
            <a:ext cx="2448000" cy="1943280"/>
          </a:xfrm>
          <a:prstGeom prst="line">
            <a:avLst/>
          </a:prstGeom>
          <a:ln w="57240">
            <a:solidFill>
              <a:srgbClr val="000080"/>
            </a:solidFill>
            <a:prstDash val="lg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84" descr="a19dcd9463b98457772e5eeea1b7d869"/>
          <p:cNvPicPr/>
          <p:nvPr/>
        </p:nvPicPr>
        <p:blipFill>
          <a:blip r:embed="rId65"/>
          <a:stretch/>
        </p:blipFill>
        <p:spPr>
          <a:xfrm>
            <a:off x="6084720" y="34290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5" descr="a19dcd9463b98457772e5eeea1b7d869"/>
          <p:cNvPicPr/>
          <p:nvPr/>
        </p:nvPicPr>
        <p:blipFill>
          <a:blip r:embed="rId66"/>
          <a:stretch/>
        </p:blipFill>
        <p:spPr>
          <a:xfrm>
            <a:off x="6443640" y="4292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6" descr="a19dcd9463b98457772e5eeea1b7d869"/>
          <p:cNvPicPr/>
          <p:nvPr/>
        </p:nvPicPr>
        <p:blipFill>
          <a:blip r:embed="rId67"/>
          <a:stretch/>
        </p:blipFill>
        <p:spPr>
          <a:xfrm>
            <a:off x="6156360" y="486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7" descr="a19dcd9463b98457772e5eeea1b7d869"/>
          <p:cNvPicPr/>
          <p:nvPr/>
        </p:nvPicPr>
        <p:blipFill>
          <a:blip r:embed="rId68"/>
          <a:stretch/>
        </p:blipFill>
        <p:spPr>
          <a:xfrm>
            <a:off x="5292720" y="299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48" name="Line 88"/>
          <p:cNvSpPr/>
          <p:nvPr/>
        </p:nvSpPr>
        <p:spPr>
          <a:xfrm flipV="1">
            <a:off x="4859280" y="342864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9"/>
          <p:cNvSpPr/>
          <p:nvPr/>
        </p:nvSpPr>
        <p:spPr>
          <a:xfrm flipV="1">
            <a:off x="5435640" y="378936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0"/>
          <p:cNvSpPr/>
          <p:nvPr/>
        </p:nvSpPr>
        <p:spPr>
          <a:xfrm>
            <a:off x="5219640" y="422100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91" descr="a19dcd9463b98457772e5eeea1b7d869"/>
          <p:cNvPicPr/>
          <p:nvPr/>
        </p:nvPicPr>
        <p:blipFill>
          <a:blip r:embed="rId69"/>
          <a:stretch/>
        </p:blipFill>
        <p:spPr>
          <a:xfrm>
            <a:off x="4356000" y="508464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352" name="Line 92"/>
          <p:cNvSpPr/>
          <p:nvPr/>
        </p:nvSpPr>
        <p:spPr>
          <a:xfrm flipH="1">
            <a:off x="4572000" y="443700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93" descr="a19dcd9463b98457772e5eeea1b7d869"/>
          <p:cNvPicPr/>
          <p:nvPr/>
        </p:nvPicPr>
        <p:blipFill>
          <a:blip r:embed="rId70"/>
          <a:stretch/>
        </p:blipFill>
        <p:spPr>
          <a:xfrm>
            <a:off x="3059280" y="4005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4" descr="a19dcd9463b98457772e5eeea1b7d869"/>
          <p:cNvPicPr/>
          <p:nvPr/>
        </p:nvPicPr>
        <p:blipFill>
          <a:blip r:embed="rId71"/>
          <a:stretch/>
        </p:blipFill>
        <p:spPr>
          <a:xfrm>
            <a:off x="3132000" y="328464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355" name="Line 95"/>
          <p:cNvSpPr/>
          <p:nvPr/>
        </p:nvSpPr>
        <p:spPr>
          <a:xfrm flipV="1">
            <a:off x="2340000" y="3429000"/>
            <a:ext cx="71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96"/>
          <p:cNvSpPr/>
          <p:nvPr/>
        </p:nvSpPr>
        <p:spPr>
          <a:xfrm>
            <a:off x="2484360" y="4005360"/>
            <a:ext cx="57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19%20-%20Iceberg%202"/>
          <p:cNvPicPr/>
          <p:nvPr/>
        </p:nvPicPr>
        <p:blipFill>
          <a:blip r:embed="rId1"/>
          <a:srcRect l="0" t="13405" r="0" b="0"/>
          <a:stretch/>
        </p:blipFill>
        <p:spPr>
          <a:xfrm>
            <a:off x="142920" y="1000080"/>
            <a:ext cx="9001080" cy="5857920"/>
          </a:xfrm>
          <a:prstGeom prst="rect">
            <a:avLst/>
          </a:prstGeom>
          <a:ln w="0">
            <a:noFill/>
          </a:ln>
        </p:spPr>
      </p:pic>
      <p:sp>
        <p:nvSpPr>
          <p:cNvPr id="358" name="Line 4"/>
          <p:cNvSpPr/>
          <p:nvPr/>
        </p:nvSpPr>
        <p:spPr>
          <a:xfrm>
            <a:off x="642960" y="2143080"/>
            <a:ext cx="7272360" cy="1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 flipH="1">
            <a:off x="4214880" y="1428840"/>
            <a:ext cx="2162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Грип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5421960" y="6485040"/>
            <a:ext cx="238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icol KL, Arch Inter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Med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5328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Gothic"/>
              </a:rPr>
              <a:t>ЧЕМ ОПАСЕН ГРИПП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1071720" y="2000160"/>
            <a:ext cx="607212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ложн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аление легких (пневмо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аление бронхов (бронхи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аление пазух носа (гаймори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аление среднего уха (оти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бострения хрон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428760" y="4214880"/>
            <a:ext cx="750096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Также часто могут быть ослож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о стороны нервной системы ( воспаление мозгов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оболочек (менинги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о стороны сердечно – сосудистой системы (миокардит, перикарди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ругих органов и сист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108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228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1979640" y="6126120"/>
            <a:ext cx="7164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ccff"/>
                </a:solidFill>
                <a:latin typeface="Arial"/>
              </a:rPr>
              <a:t>Neuzil K., Kellen B., Wright P. et al. N. Engl.J.Med.2000,32</a:t>
            </a:r>
            <a:r>
              <a:rPr b="0" i="1" lang="ru-RU" sz="1200" spc="-1" strike="noStrike">
                <a:solidFill>
                  <a:srgbClr val="ccccff"/>
                </a:solidFill>
                <a:latin typeface="Arial"/>
              </a:rPr>
              <a:t>:</a:t>
            </a:r>
            <a:r>
              <a:rPr b="0" i="1" lang="en-US" sz="1200" spc="-1" strike="noStrike">
                <a:solidFill>
                  <a:srgbClr val="ccccff"/>
                </a:solidFill>
                <a:latin typeface="Arial"/>
              </a:rPr>
              <a:t>225-231</a:t>
            </a:r>
            <a:r>
              <a:rPr b="0" i="1" lang="ru-RU" sz="12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ccff"/>
                </a:solidFill>
                <a:latin typeface="Arial"/>
              </a:rPr>
              <a:t>В.И. Покровский, Б.Ф. Семенов. Инактивированная гриппозная вакцина защищает</a:t>
            </a:r>
            <a:r>
              <a:rPr b="0" i="1" lang="ru-RU" sz="1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ccccff"/>
                </a:solidFill>
                <a:latin typeface="Arial"/>
              </a:rPr>
              <a:t>от инфарктов и инсультов в период эпидемического подъема гриппа//Вакцинация№4 (34) 2004 с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"/>
          <p:cNvSpPr/>
          <p:nvPr/>
        </p:nvSpPr>
        <p:spPr>
          <a:xfrm>
            <a:off x="790560" y="5715000"/>
            <a:ext cx="8067600" cy="64944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714240" y="564372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Arial"/>
              </a:rPr>
              <a:t>Смертность среди пациентов из групп риска от пневмонии и гриппа во время сезонного подъема заболеваемости гриппом и ОРВИ</a:t>
            </a:r>
            <a:r>
              <a:rPr b="0" lang="ru-RU" sz="2000" spc="-1" strike="noStrike">
                <a:solidFill>
                  <a:srgbClr val="1485a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i-main-pic" descr="Картинка 428 из 4679"/>
          <p:cNvPicPr/>
          <p:nvPr/>
        </p:nvPicPr>
        <p:blipFill>
          <a:blip r:embed="rId1"/>
          <a:srcRect l="30237" t="3780" r="7559" b="14174"/>
          <a:stretch/>
        </p:blipFill>
        <p:spPr>
          <a:xfrm>
            <a:off x="0" y="0"/>
            <a:ext cx="1549440" cy="20318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99760" y="277560"/>
            <a:ext cx="71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Century Gothic"/>
              </a:rPr>
              <a:t>Почему важно быть защищенным от гриппа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370" name="Object 7"/>
          <p:cNvGraphicFramePr/>
          <p:nvPr/>
        </p:nvGraphicFramePr>
        <p:xfrm>
          <a:off x="190440" y="1428840"/>
          <a:ext cx="8263080" cy="407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1428840"/>
                    <a:ext cx="826308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AutoShape 8"/>
          <p:cNvSpPr/>
          <p:nvPr/>
        </p:nvSpPr>
        <p:spPr>
          <a:xfrm>
            <a:off x="1000080" y="1500120"/>
            <a:ext cx="7344000" cy="42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Дополнительный рис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смертельного исход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 результат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хроническ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заболе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539640" y="5300640"/>
            <a:ext cx="8280360" cy="1368360"/>
          </a:xfrm>
          <a:prstGeom prst="rect">
            <a:avLst/>
          </a:prstGeom>
          <a:gradFill rotWithShape="0">
            <a:gsLst>
              <a:gs pos="0">
                <a:srgbClr val="faeab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ти приносят вирус гриппа домой, где могут быть члены семьи, которых невозможно защитить с помощью прививок (дети до 6 месяцев, лица с противопоказаниями и т.д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49100"/>
                </a:solidFill>
                <a:latin typeface="Times New Roman"/>
              </a:rPr>
              <a:t>Почему важно защищать детей от заболевания     гриппом и ОРИ 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611280" y="1557360"/>
            <a:ext cx="8280360" cy="727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Ежегодно среди общего количества заболевших гриппом более 50%   составляют  де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611280" y="2492280"/>
            <a:ext cx="8137440" cy="88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bd7a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реди госпитализированных в стационары  по поводу  гриппа около  90% составляют де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611280" y="3933720"/>
            <a:ext cx="8137440" cy="1126800"/>
          </a:xfrm>
          <a:prstGeom prst="rect">
            <a:avLst/>
          </a:prstGeom>
          <a:gradFill rotWithShape="0">
            <a:gsLst>
              <a:gs pos="0">
                <a:srgbClr val="f1e5c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едущая  роль в распространении гриппозной инфекции принадлежит дет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(особенно школьникам, учитывая их мобильность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262626"/>
                </a:solidFill>
                <a:latin typeface="Century Gothic"/>
              </a:rPr>
              <a:t>ВАКЦИНАЦИЯ ПРОТИВ ГРИППА – ЭТО БЕЗОПАСНО!</a:t>
            </a:r>
            <a:endParaRPr b="0" lang="en-US" sz="3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17520" y="1357200"/>
            <a:ext cx="792648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entury Gothic"/>
              </a:rPr>
              <a:t>Современные вакцины против гриппа хорошо переносятся. Из 100 привитых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buClr>
                <a:srgbClr val="000099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entury Gothic"/>
              </a:rPr>
              <a:t>У 5-8 человек может повыситься температура до 37,5</a:t>
            </a:r>
            <a:r>
              <a:rPr b="1" lang="en-US" sz="1800" spc="-1" strike="noStrike">
                <a:solidFill>
                  <a:srgbClr val="000099"/>
                </a:solidFill>
                <a:latin typeface="Corbel"/>
              </a:rPr>
              <a:t>°</a:t>
            </a:r>
            <a:r>
              <a:rPr b="1" lang="ru-RU" sz="1800" spc="-1" strike="noStrike">
                <a:solidFill>
                  <a:srgbClr val="000099"/>
                </a:solidFill>
                <a:latin typeface="Century Gothic"/>
              </a:rPr>
              <a:t>С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buClr>
                <a:srgbClr val="000099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entury Gothic"/>
              </a:rPr>
              <a:t>У 8-15 человек может появиться уплотнение или болезненность в месте укола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entury Gothic"/>
              </a:rPr>
              <a:t>Вакцинация не нарушает работоспособность привитых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Прямоугольник 3"/>
          <p:cNvSpPr/>
          <p:nvPr/>
        </p:nvSpPr>
        <p:spPr>
          <a:xfrm>
            <a:off x="2428920" y="6093000"/>
            <a:ext cx="6715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быкина А. В., Костинов М. П., Магаршак О. О. Оценка безопасности и эффективности вакцинации против гриппа//Эпидемиол. и вакцинопроф. 201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нов М.П., Ерофеева  М.К., Харит  С.М. Эффективность и безопасность вакцинопрофилактики гриппа у разных контингентов// Инфекционные заболевания.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3"/>
          <p:cNvSpPr/>
          <p:nvPr/>
        </p:nvSpPr>
        <p:spPr>
          <a:xfrm>
            <a:off x="1116000" y="285840"/>
            <a:ext cx="724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куда знают какие вирусы гриппа придут к нам и вызовут заболеван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4"/>
          <p:cNvSpPr/>
          <p:nvPr/>
        </p:nvSpPr>
        <p:spPr>
          <a:xfrm>
            <a:off x="1000080" y="1500120"/>
            <a:ext cx="7786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ире существует несколько сотен лабораторий, которые следят за циркулирующими вирусами гриппа  и формируют  на основании анализа  прогнозы для включения в состав вакц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о в состав вакцин включаются 3 актуальных варианта вируса гриппа. В последнее время создаются  вакцины с 4-мя вирусами гриппа (2 вируса типа А и 2 типа 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стика 20-ти последних лет свидетельствует, что те варианты вирусов гриппа, которые были рекомендованы ВОЗ для включения в состав вакцин, совпадали более чем в 90% случаев (в отдельные годы отмечались расхождения по одному из 3-х вариантов, входящих в состав вакци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07:19:40Z</dcterms:created>
  <dc:creator>b-oip-501-02</dc:creator>
  <dc:description/>
  <dc:language>en-US</dc:language>
  <cp:lastModifiedBy>Asus</cp:lastModifiedBy>
  <dcterms:modified xsi:type="dcterms:W3CDTF">2020-09-13T16:18:53Z</dcterms:modified>
  <cp:revision>86</cp:revision>
  <dc:subject/>
  <dc:title>Слайд 1</dc:title>
</cp:coreProperties>
</file>