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C247-FE41-4C2F-AC23-BAC53B5263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 данном и последующем сладах предлагаем варианты ответов на наиболее частые вопросы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2 варианта объяснения эт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наряду с вирусом гриппа заболевание у человека может вызывать более 200 видов других респираторных вирусов. Причем, отличить эти заболевания по клиническим симптомам практически невозможно. Поэтому, если Вы сделали прививку и у Вас возникло заболевание с повышением температуры, головной болью, слабостью, то это не значит, что развился грип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ее, всего, что это другая вирусная инфекция, потому что от гриппа Вы защищены. И нам важно защитить Вас именно от гриппа – от той инфекции, которая дает наибольшее количество осложнений и смертельных ис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есть небольшая вероятность, что у Вас развился грипп. Насколько тяжело он протекал? С большой уверенностью отвечу – у вас не было тяжелых осложнений. А если бы Вы не сделали прививку и заразились гриппом, то такие осложнения могли бы быть и исход заболевания мог бы быть неблагоприятн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ко, но встречаются ситуации, когда человек сделал прививку и «встретился» с вирусом гриппа» в тот период, когда защита еще не успела сформироваться. А для выработки достаточной защиты необходимо 14-21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прививку от гриппа, делать все-таки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DEE8-0AB5-4499-A532-CE92C1E2E9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– Можно ли заболеть гриппом после прививки и заразить окружающ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к заболеть гриппом после прививки (или как Вы называете от прививки) и заразить окружающих отсутству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производства вакцинные вирусы лишаются свойства вызывать заболевание, однако сохраняют способность формировать защи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C8E5-1D91-4BD8-8E93-C7606F16B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чем прививаться в нынешнем году, если делал прививку в прошл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ые антитела, выработанные после прививки, обычно в течение 6-12 месяцев после вакцинации разрушаются или их количество становится недостаточным для защиты от гриппа в новом сезоне. Кроме того, практически ежегодно обновляются варианты вирусов гриппа, которые входят в состав вакци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1983-7424-421B-8B63-77D59A46B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ция против гриппа предотвращает случаи заболевания, значит уменьшает количество источников инфекции, снижает интенсивность распространения инфекции и риск заноса в сем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ЦИЯ СОХРАНЯЕТ ЗДОРОВ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770A-3FEF-4F69-878B-F7A51236E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35E7-DFA5-43F7-BDAA-3C97E8529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одна «невидимая» часть проблемы гриппа. Он дает дополнительный риск смертельного исхода в результате обострения хронического заболевания. Как это происходит? Если  гриппом заболеют 100 тысяч совершенно здоровых взрослых людей, то из них риск смертельного исхода будет только у 2 человек. Если гриппом заболеют 100 тысяч человек, у которых есть проблемы со стороны сердечно-сосудистой системы (ишемическая болезнь сердца, гипертоническая болезнь и другие), то смертельный исход будет уже у 104 человек. Причем большинство из этих людей погибнут не от гриппа. Грипп спровоцирует у них инфаркт, инсульт, от которых они и погибнут. Даже если обострение хронического заболевания не приведет к смертельному исходу, то из трудового процесса работник будет «выбит» минимум на 21-30 дней и бо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гриппом заболеют 100 тысяч человек с сочетанием патологии – например, диабетом и патологией сердечно-сосудистой системы – то погибнут 481 человек.  Именно поэтому мы настаиваем на том, что в первую очередь, прививки против гриппа необходимо делать тем людям, у которых есть какие-либо хронические заболе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уя вакцинацию против гриппа среди Ваших сотрудников, Вы не только снижаете экономические потери предприятия в период подъема заболеваемости ОРВИ и гриппом, но и проявляете реальную заботу о сотрудниках, гарантируя им социальную защи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.Минске, как и в Республике Беларусь, осуществляется мониторинг за серьезными побочными реакциями (СПР). Периодически как среди детей, так и среди взрослых регистрируются случаи серьезных побочных реакций на отдельные ИЛС (например,  после введения АДС-М у взрослых). Каждый случай СПР расследуется комисс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тяжении последних лет ежегодно в городе прививается против гриппа около 800 тысяч человек. Опыт использования вакцин против гриппа подтверждает безопасность иммунизации – случаи СПР на введение вакцин против гриппа практически не регистрируются (только в 2008 году был один случай индивидуального реагирования на вакцину в виде крапивницы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е реакции как кратковременное повышение температуры тела, болезненность и уплотнение в месте инъекции являются закономерными, свидетельствуют о начале формирования иммунит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DD02-E57D-4BFD-A91D-BEC26438C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 гриппа циркулирует по определенным биологическим зако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ти всегда вирус, вызвавший весной подъем заболеваемости в юго-восточной Азии, осенью приходит в Европу. Наблюдение за распространением вируса гриппа и его видоизменением осуществляют международные референс-центры и национальные референс - лаборатории ВОЗ. На основании полученной информации, ежегодно эксперты ВОЗ формируют рекомендации по составу противогриппозных вакц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став вакцины включается 3 актуальных варианта вируса (2 типа А и 1 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истика 20-ти последних лет свидетельствует о том, что те варианты вирусов гриппа, которые рекомендованы ВОЗ для включения в состав вакцин совпадали более чем в 90% случаев. Несовпадения отмечались по одному из 3-х вариантов, входящих в вакц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7704-0029-4E88-A416-66DDDBA014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5EF-E652-472D-A8B1-AE1A638E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1CF-B5E3-4437-AE16-EEAB3DD7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ED8-F5A2-4DFC-80E4-72B49484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5CC-3F50-40D0-B1D5-A3DEA3B1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4389-B131-4E61-9593-A427E721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5E7F-F8F5-4937-A339-FD6BDCE7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8525-3114-4D23-BC76-CE204D75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7DAA-CA83-495C-B6C6-717B12B9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55E6-CD01-42E2-80D9-5A29360F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2CD9-D7F9-4E2F-ACC9-71BFFF1A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E279-3DD3-4E5D-A359-C45348CD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8AD-D73B-49D2-8170-2E119733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2594-2E09-42F6-9C93-3E62A38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950E-E105-4621-BB7D-B6F4D159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8EF5-5A31-4914-9BC5-9617A883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911F-CC1B-48F6-ACDA-D5DDF733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9EAF-CFCC-4102-8B64-A65A73A2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E7960-68F0-4F08-A643-A7714CA2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F602-4151-4EDF-B602-FB942ADF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B355-C650-4451-BE8B-EE299CF8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BD07-E607-4019-A90F-DD203988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5DA7-6B1C-4110-ADB2-2349876D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C33-DC24-40A0-9EE9-99DC0E19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D1E8-C7B4-4911-9923-C16F4562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CDC0-4963-48B6-B62A-3006F6A9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0F66-D124-48F8-92D1-D42D840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5ECE-8B2C-444A-8E52-9E420F63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DF6F-AF70-4153-83A9-CD637FA7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D830B-0DD2-4206-99D9-5D9A6739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C875-E859-4D84-9D3D-91D1C73F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5486-C6FC-40B6-A86B-381C4DA2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3821D-D807-434C-87B4-64B5EB81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A1B2C-50B7-4432-B99C-AFC8B2DC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31B-08F8-4536-B7E4-7C8AC364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9C9F1-D2AC-46C4-8FAC-1C15B4F5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8DFD8-04D8-4303-82D4-DA194F1D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DEE94-D477-4633-9880-0E677CC2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7061-11F5-40EA-B42C-39758123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C3E1D-EE23-47A4-8FDA-A25B5B0C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3606-A629-451B-A5C9-604E8A3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9D15-BC33-4F1F-9A01-6910A0BE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FF46-73C3-4D7D-9EBD-DDE32F25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4025D-6ABB-48F7-854E-AAD61F20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EFC97-6975-46E3-AE28-8425FB14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F0A-8F3D-4E56-B2B7-004A397C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2404B-2F2C-42D4-A270-269E686E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95460-C9E6-4CAA-9011-F89BC9EF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EC3CD-6896-4BF2-A5C1-533A0730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B785-E58E-4095-AA38-F2583C09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FDAF3-B8B1-4743-BDC0-5C6269EF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6654-1EB3-46E9-A086-DD8A7768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4981D-5AF6-4089-9795-855070E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7A0D1-FAF2-4784-AADB-D913E108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2C3B-3C8D-4602-A5FF-6D746B41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0E983-2CBC-4D5E-8969-206A4005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C89-2FFE-4585-BDBD-C6A7BD42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2764E-DC2C-48C4-B6EA-8C394052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56E-F52D-4B39-AFE0-F2417916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C5C-F80C-4D07-AE61-EDA49335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5B1-2CF1-4CDE-A68A-B8796790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CC27-5C1C-48A2-BB13-120547BA5C9B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EAA6-1F20-4358-AADC-74D3E9224248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8A2A-4ABC-4D88-ACA9-9E49A76AD885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9124-0FCA-4445-98BA-0585F485ACC2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8DEA-E1D7-4766-A743-C2484930D5A5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miles.33b.ru/smile.110025.html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smiles.33b.ru/smile.118597.html" TargetMode="External"/><Relationship Id="rId4" Type="http://schemas.openxmlformats.org/officeDocument/2006/relationships/image" Target="../media/image10.gif"/><Relationship Id="rId5" Type="http://schemas.openxmlformats.org/officeDocument/2006/relationships/hyperlink" Target="http://smiles.33b.ru/smile.110025.html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smiles.33b.ru/smile.118597.html" TargetMode="External"/><Relationship Id="rId8" Type="http://schemas.openxmlformats.org/officeDocument/2006/relationships/image" Target="../media/image10.gif"/><Relationship Id="rId9" Type="http://schemas.openxmlformats.org/officeDocument/2006/relationships/hyperlink" Target="http://smiles.33b.ru/smile.118597.html" TargetMode="External"/><Relationship Id="rId10" Type="http://schemas.openxmlformats.org/officeDocument/2006/relationships/image" Target="../media/image10.gif"/><Relationship Id="rId11" Type="http://schemas.openxmlformats.org/officeDocument/2006/relationships/hyperlink" Target="http://smiles.33b.ru/smile.118597.html" TargetMode="External"/><Relationship Id="rId12" Type="http://schemas.openxmlformats.org/officeDocument/2006/relationships/image" Target="../media/image10.gif"/><Relationship Id="rId13" Type="http://schemas.openxmlformats.org/officeDocument/2006/relationships/hyperlink" Target="http://smiles.33b.ru/smile.118597.html" TargetMode="External"/><Relationship Id="rId14" Type="http://schemas.openxmlformats.org/officeDocument/2006/relationships/image" Target="../media/image10.gif"/><Relationship Id="rId15" Type="http://schemas.openxmlformats.org/officeDocument/2006/relationships/hyperlink" Target="http://smiles.33b.ru/smile.118597.html" TargetMode="External"/><Relationship Id="rId16" Type="http://schemas.openxmlformats.org/officeDocument/2006/relationships/image" Target="../media/image10.gif"/><Relationship Id="rId17" Type="http://schemas.openxmlformats.org/officeDocument/2006/relationships/hyperlink" Target="http://smiles.33b.ru/smile.118597.html" TargetMode="External"/><Relationship Id="rId18" Type="http://schemas.openxmlformats.org/officeDocument/2006/relationships/image" Target="../media/image10.gif"/><Relationship Id="rId19" Type="http://schemas.openxmlformats.org/officeDocument/2006/relationships/hyperlink" Target="http://smiles.33b.ru/smile.118597.html" TargetMode="External"/><Relationship Id="rId20" Type="http://schemas.openxmlformats.org/officeDocument/2006/relationships/image" Target="../media/image10.gif"/><Relationship Id="rId21" Type="http://schemas.openxmlformats.org/officeDocument/2006/relationships/hyperlink" Target="http://smiles.33b.ru/smile.118597.html" TargetMode="External"/><Relationship Id="rId22" Type="http://schemas.openxmlformats.org/officeDocument/2006/relationships/image" Target="../media/image10.gif"/><Relationship Id="rId23" Type="http://schemas.openxmlformats.org/officeDocument/2006/relationships/hyperlink" Target="http://smiles.33b.ru/smile.118597.html" TargetMode="External"/><Relationship Id="rId24" Type="http://schemas.openxmlformats.org/officeDocument/2006/relationships/image" Target="../media/image10.gif"/><Relationship Id="rId25" Type="http://schemas.openxmlformats.org/officeDocument/2006/relationships/hyperlink" Target="http://smiles.33b.ru/smile.118597.html" TargetMode="External"/><Relationship Id="rId26" Type="http://schemas.openxmlformats.org/officeDocument/2006/relationships/image" Target="../media/image10.gif"/><Relationship Id="rId27" Type="http://schemas.openxmlformats.org/officeDocument/2006/relationships/hyperlink" Target="http://smiles.33b.ru/smile.118597.html" TargetMode="External"/><Relationship Id="rId28" Type="http://schemas.openxmlformats.org/officeDocument/2006/relationships/image" Target="../media/image10.gif"/><Relationship Id="rId29" Type="http://schemas.openxmlformats.org/officeDocument/2006/relationships/hyperlink" Target="http://smiles.33b.ru/smile.110025.html" TargetMode="External"/><Relationship Id="rId30" Type="http://schemas.openxmlformats.org/officeDocument/2006/relationships/image" Target="../media/image9.png"/><Relationship Id="rId31" Type="http://schemas.openxmlformats.org/officeDocument/2006/relationships/hyperlink" Target="http://smiles.33b.ru/smile.110025.html" TargetMode="External"/><Relationship Id="rId32" Type="http://schemas.openxmlformats.org/officeDocument/2006/relationships/image" Target="../media/image9.png"/><Relationship Id="rId33" Type="http://schemas.openxmlformats.org/officeDocument/2006/relationships/hyperlink" Target="http://smiles.33b.ru/smile.118597.html" TargetMode="External"/><Relationship Id="rId34" Type="http://schemas.openxmlformats.org/officeDocument/2006/relationships/image" Target="../media/image10.gif"/><Relationship Id="rId35" Type="http://schemas.openxmlformats.org/officeDocument/2006/relationships/hyperlink" Target="http://smiles.33b.ru/smile.118597.html" TargetMode="External"/><Relationship Id="rId36" Type="http://schemas.openxmlformats.org/officeDocument/2006/relationships/image" Target="../media/image10.gif"/><Relationship Id="rId37" Type="http://schemas.openxmlformats.org/officeDocument/2006/relationships/hyperlink" Target="http://smiles.33b.ru/smile.118597.html" TargetMode="External"/><Relationship Id="rId38" Type="http://schemas.openxmlformats.org/officeDocument/2006/relationships/image" Target="../media/image10.gif"/><Relationship Id="rId39" Type="http://schemas.openxmlformats.org/officeDocument/2006/relationships/hyperlink" Target="http://smiles.33b.ru/smile.118597.html" TargetMode="External"/><Relationship Id="rId40" Type="http://schemas.openxmlformats.org/officeDocument/2006/relationships/image" Target="../media/image10.gif"/><Relationship Id="rId41" Type="http://schemas.openxmlformats.org/officeDocument/2006/relationships/hyperlink" Target="http://smiles.33b.ru/smile.118597.html" TargetMode="External"/><Relationship Id="rId42" Type="http://schemas.openxmlformats.org/officeDocument/2006/relationships/image" Target="../media/image10.gif"/><Relationship Id="rId43" Type="http://schemas.openxmlformats.org/officeDocument/2006/relationships/hyperlink" Target="http://smiles.33b.ru/smile.118597.html" TargetMode="External"/><Relationship Id="rId44" Type="http://schemas.openxmlformats.org/officeDocument/2006/relationships/image" Target="../media/image10.gif"/><Relationship Id="rId45" Type="http://schemas.openxmlformats.org/officeDocument/2006/relationships/hyperlink" Target="http://smiles.33b.ru/smile.110025.html" TargetMode="External"/><Relationship Id="rId46" Type="http://schemas.openxmlformats.org/officeDocument/2006/relationships/image" Target="../media/image9.png"/><Relationship Id="rId47" Type="http://schemas.openxmlformats.org/officeDocument/2006/relationships/hyperlink" Target="http://smiles.33b.ru/smile.118597.html" TargetMode="External"/><Relationship Id="rId48" Type="http://schemas.openxmlformats.org/officeDocument/2006/relationships/image" Target="../media/image10.gif"/><Relationship Id="rId49" Type="http://schemas.openxmlformats.org/officeDocument/2006/relationships/hyperlink" Target="http://smiles.33b.ru/smile.118597.html" TargetMode="External"/><Relationship Id="rId50" Type="http://schemas.openxmlformats.org/officeDocument/2006/relationships/image" Target="../media/image10.gif"/><Relationship Id="rId51" Type="http://schemas.openxmlformats.org/officeDocument/2006/relationships/hyperlink" Target="http://smiles.33b.ru/smile.118597.html" TargetMode="External"/><Relationship Id="rId52" Type="http://schemas.openxmlformats.org/officeDocument/2006/relationships/image" Target="../media/image10.gif"/><Relationship Id="rId53" Type="http://schemas.openxmlformats.org/officeDocument/2006/relationships/hyperlink" Target="http://smiles.33b.ru/smile.118597.html" TargetMode="External"/><Relationship Id="rId54" Type="http://schemas.openxmlformats.org/officeDocument/2006/relationships/image" Target="../media/image10.gif"/><Relationship Id="rId55" Type="http://schemas.openxmlformats.org/officeDocument/2006/relationships/hyperlink" Target="http://smiles.33b.ru/smile.118597.html" TargetMode="External"/><Relationship Id="rId56" Type="http://schemas.openxmlformats.org/officeDocument/2006/relationships/image" Target="../media/image10.gif"/><Relationship Id="rId57" Type="http://schemas.openxmlformats.org/officeDocument/2006/relationships/hyperlink" Target="http://smiles.33b.ru/smile.118597.html" TargetMode="External"/><Relationship Id="rId58" Type="http://schemas.openxmlformats.org/officeDocument/2006/relationships/image" Target="../media/image10.gif"/><Relationship Id="rId59" Type="http://schemas.openxmlformats.org/officeDocument/2006/relationships/hyperlink" Target="http://smiles.33b.ru/smile.118597.html" TargetMode="External"/><Relationship Id="rId60" Type="http://schemas.openxmlformats.org/officeDocument/2006/relationships/image" Target="../media/image10.gif"/><Relationship Id="rId61" Type="http://schemas.openxmlformats.org/officeDocument/2006/relationships/image" Target="../media/image10.gif"/><Relationship Id="rId62" Type="http://schemas.openxmlformats.org/officeDocument/2006/relationships/image" Target="../media/image10.gif"/><Relationship Id="rId63" Type="http://schemas.openxmlformats.org/officeDocument/2006/relationships/image" Target="../media/image10.gif"/><Relationship Id="rId64" Type="http://schemas.openxmlformats.org/officeDocument/2006/relationships/image" Target="../media/image10.gif"/><Relationship Id="rId65" Type="http://schemas.openxmlformats.org/officeDocument/2006/relationships/image" Target="../media/image10.gif"/><Relationship Id="rId66" Type="http://schemas.openxmlformats.org/officeDocument/2006/relationships/image" Target="../media/image10.gif"/><Relationship Id="rId67" Type="http://schemas.openxmlformats.org/officeDocument/2006/relationships/image" Target="../media/image10.gif"/><Relationship Id="rId68" Type="http://schemas.openxmlformats.org/officeDocument/2006/relationships/image" Target="../media/image10.gif"/><Relationship Id="rId69" Type="http://schemas.openxmlformats.org/officeDocument/2006/relationships/image" Target="../media/image10.gif"/><Relationship Id="rId70" Type="http://schemas.openxmlformats.org/officeDocument/2006/relationships/image" Target="../media/image10.gif"/><Relationship Id="rId71" Type="http://schemas.openxmlformats.org/officeDocument/2006/relationships/image" Target="../media/image10.gif"/><Relationship Id="rId7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7280" y="4149360"/>
            <a:ext cx="734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НУЖНЫ ЛИ ПРИВИВКИ ПРОТИВ ГРИППА?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45" name="Picture 5" descr="injection"/>
          <p:cNvPicPr/>
          <p:nvPr/>
        </p:nvPicPr>
        <p:blipFill>
          <a:blip r:embed="rId1"/>
          <a:stretch/>
        </p:blipFill>
        <p:spPr>
          <a:xfrm>
            <a:off x="1187280" y="1484280"/>
            <a:ext cx="2448000" cy="2392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ANd9GcS9VwdfygRlvBpeBk1qFSiQSWlN7Vzrw8UnmGh8T4v830oucvkOs3jtUtC-CQ"/>
          <p:cNvPicPr/>
          <p:nvPr/>
        </p:nvPicPr>
        <p:blipFill>
          <a:blip r:embed="rId2"/>
          <a:stretch/>
        </p:blipFill>
        <p:spPr>
          <a:xfrm>
            <a:off x="5435640" y="1449360"/>
            <a:ext cx="248292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99760" y="-360"/>
            <a:ext cx="7497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Century Gothic"/>
              </a:rPr>
              <a:t>ВАШ ВОПРОС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616880" y="0"/>
            <a:ext cx="1527120" cy="11430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1643040" y="135720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(мой ребёнок) привился против гриппа и всё равно забол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1143000" y="2500200"/>
            <a:ext cx="771516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ные гриппу заболевания вызываются более 200 видами респираторных вирусов. Отличить эти заболевания  по клинике практически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 привитого человека появилось заболевание с повышением температуры, головной болью, слабостью – то, вероятнее всего - это не гриппозная вирусная инфекция, т.к.  от гриппа Вы защищены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небольшая вероятность, что у Вас развился грипп. Но заболевание протекало не тяжело, без  осложнени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е привитого человека  грипп протекает тяжело, с высокой вероятностью развития осложнений и неблагоприятного ис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4143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entury Gothic"/>
              </a:rPr>
              <a:t>ВАШ ВОПРОС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1403280" y="1916280"/>
            <a:ext cx="7072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но ли заболеть гриппом после приви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заразить окружающ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к заболеть гриппом после прививки и заразить окружающих отсут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оцессе производства вакцинные вирусы лишаются свойства вызывать заболевание, однако сохраняют способность формировать защи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929280" y="285840"/>
            <a:ext cx="1462320" cy="1461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1432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Century Gothic"/>
              </a:rPr>
              <a:t>ВАШ ВОПРОС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Прямоугольник 2"/>
          <p:cNvSpPr/>
          <p:nvPr/>
        </p:nvSpPr>
        <p:spPr>
          <a:xfrm>
            <a:off x="1403280" y="1916280"/>
            <a:ext cx="707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чем прививаться в нынешнем году, если делал прививку в прошл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тные антитела, выработанные после прививки, обычно в течение 6-12 месяцев после вакцинации разрушаются или их количество становится недостаточным для защиты от гриппа в новом сез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ме того, практически ежегодно обновляются варианты вирусов гриппа, которые входят в состав вакц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6929280" y="285840"/>
            <a:ext cx="1462320" cy="1461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8028000" cy="51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26"/>
                </a:solidFill>
                <a:latin typeface="Century Gothic"/>
              </a:rPr>
              <a:t>ВАКЦИНАЦИЯ ПРОТИВ ГРИППА  -</a:t>
            </a:r>
            <a:br>
              <a:rPr sz="2300"/>
            </a:b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Предотвращает  случаи заболевания среди детей и взрослых;</a:t>
            </a:r>
            <a:br>
              <a:rPr sz="2300"/>
            </a:b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 Обеспечивает уменьшение количества источников инфекции, </a:t>
            </a:r>
            <a:br>
              <a:rPr sz="2300"/>
            </a:b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Влияет на снижение интенсивности распространения вируса гриппа (особенно в детских коллективах), </a:t>
            </a:r>
            <a:br>
              <a:rPr sz="2300"/>
            </a:b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Снижает риск заноса возбудителя в семьи. </a:t>
            </a:r>
            <a:br>
              <a:rPr sz="2300"/>
            </a:b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Сохраняет здоровье.</a:t>
            </a:r>
            <a:br>
              <a:rPr sz="2300"/>
            </a:br>
            <a:r>
              <a:rPr b="0" lang="ru-RU" sz="23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1042920" y="4797360"/>
            <a:ext cx="7416720" cy="1557000"/>
          </a:xfrm>
          <a:prstGeom prst="rect">
            <a:avLst/>
          </a:prstGeom>
          <a:solidFill>
            <a:srgbClr val="1cade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-3 ребёнка  из 10 привитых против гриппа не заболеют острой респираторной инфек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.к. происходит стимуляция Т-клеточного иммунит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556000" y="26028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  вакцинации  против грип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971640" y="2060640"/>
            <a:ext cx="7705800" cy="825480"/>
          </a:xfrm>
          <a:prstGeom prst="rect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-9   детей  из 10 привитых   не заболеют грипп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ремя  сезонного подъё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611280" y="3573360"/>
            <a:ext cx="8353440" cy="825480"/>
          </a:xfrm>
          <a:prstGeom prst="rect">
            <a:avLst/>
          </a:prstGeom>
          <a:solidFill>
            <a:srgbClr val="1cade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-2 ребёнка  из 10 привитых  могут перенести грипп, но в легкой форме, без осложнений и летального ис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979640" cy="12668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755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993300"/>
                </a:solidFill>
                <a:latin typeface="Times New Roman"/>
              </a:rPr>
              <a:t>Что дает вакцинация против гриппа мне и моей семье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2268360" y="1844640"/>
            <a:ext cx="4319640" cy="1313640"/>
          </a:xfrm>
          <a:prstGeom prst="rect">
            <a:avLst/>
          </a:prstGeom>
          <a:gradFill rotWithShape="0">
            <a:gsLst>
              <a:gs pos="0">
                <a:srgbClr val="fbd7a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83c6"/>
                </a:solidFill>
                <a:latin typeface="Times New Roman"/>
              </a:rPr>
              <a:t>Снижается риск заболе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83c6"/>
                </a:solidFill>
                <a:latin typeface="Times New Roman"/>
              </a:rPr>
              <a:t>у привитых членов моей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83c6"/>
                </a:solidFill>
                <a:latin typeface="Times New Roman"/>
              </a:rPr>
              <a:t>гриппом в 3-3,5 ра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83c6"/>
                </a:solidFill>
                <a:latin typeface="Times New Roman"/>
              </a:rPr>
              <a:t>другими ОРВИ на 25-3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1332000" y="4076640"/>
            <a:ext cx="734364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aeab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83c6"/>
                </a:solidFill>
                <a:latin typeface="Times New Roman"/>
              </a:rPr>
              <a:t>Устраняется риск возникновения тяжелых осложнений и госпитализации в стационар, если кто-то из привитых членов семьи заболеет грип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1332000" y="5589720"/>
            <a:ext cx="6842160" cy="916920"/>
          </a:xfrm>
          <a:prstGeom prst="rect">
            <a:avLst/>
          </a:prstGeom>
          <a:gradFill rotWithShape="0">
            <a:gsLst>
              <a:gs pos="0">
                <a:srgbClr val="faeab0"/>
              </a:gs>
              <a:gs pos="100000">
                <a:srgbClr val="f1e5c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83c6"/>
                </a:solidFill>
                <a:latin typeface="Times New Roman"/>
              </a:rPr>
              <a:t>Минимизируется риск заноса в семью вируса гриппа и заражения тех членов семьи, для которых заболевание опасно не только для здоровья, но и для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9" descr="Прививка_04"/>
          <p:cNvPicPr/>
          <p:nvPr/>
        </p:nvPicPr>
        <p:blipFill>
          <a:blip r:embed="rId1"/>
          <a:stretch/>
        </p:blipFill>
        <p:spPr>
          <a:xfrm>
            <a:off x="324000" y="1628640"/>
            <a:ext cx="1366560" cy="1822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Прививка_01"/>
          <p:cNvPicPr/>
          <p:nvPr/>
        </p:nvPicPr>
        <p:blipFill>
          <a:blip r:embed="rId2"/>
          <a:stretch/>
        </p:blipFill>
        <p:spPr>
          <a:xfrm>
            <a:off x="6948360" y="1773360"/>
            <a:ext cx="189720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68360" y="260280"/>
            <a:ext cx="8424720" cy="6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Вакцинация против гриппа</a:t>
            </a:r>
            <a:r>
              <a:rPr b="0" lang="ru-RU" sz="4000" spc="-1" strike="noStrike">
                <a:solidFill>
                  <a:srgbClr val="1485a4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468360" y="2492280"/>
            <a:ext cx="83534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Verdana"/>
              </a:rPr>
              <a:t>1-3 человека </a:t>
            </a:r>
            <a:r>
              <a:rPr b="0" lang="ru-RU" sz="2000" spc="-1" strike="noStrike">
                <a:solidFill>
                  <a:srgbClr val="009900"/>
                </a:solidFill>
                <a:latin typeface="Verdana"/>
              </a:rPr>
              <a:t>могут перенести грипп, но в легкой форме, без осложнений и летального ис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WordArt 6"/>
          <p:cNvSpPr txBox="1"/>
          <p:nvPr/>
        </p:nvSpPr>
        <p:spPr>
          <a:xfrm>
            <a:off x="2843280" y="90792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дежн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258920" y="1773360"/>
            <a:ext cx="65898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7-9 человек из 10 привитых </a:t>
            </a:r>
            <a:r>
              <a:rPr b="0" lang="ru-RU" sz="1800" spc="-1" strike="noStrike">
                <a:solidFill>
                  <a:srgbClr val="009900"/>
                </a:solidFill>
                <a:latin typeface="Verdana"/>
              </a:rPr>
              <a:t>не заболеют грип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491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3228120" y="3357720"/>
            <a:ext cx="3897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2-3 человека</a:t>
            </a:r>
            <a:r>
              <a:rPr b="0" lang="ru-RU" sz="1800" spc="-1" strike="noStrike">
                <a:solidFill>
                  <a:srgbClr val="009900"/>
                </a:solidFill>
                <a:latin typeface="Verdana"/>
              </a:rPr>
              <a:t> не заболеют 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WordArt 9"/>
          <p:cNvSpPr txBox="1"/>
          <p:nvPr/>
        </p:nvSpPr>
        <p:spPr>
          <a:xfrm>
            <a:off x="971640" y="3860640"/>
            <a:ext cx="2808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пасн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250920" y="4800240"/>
            <a:ext cx="42480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Современные вакцины против гриппа хорошо перенося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Иногда может наблюдать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У 1-2 человек из 10 привитых повышение  температуры до 37,5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°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У 2-3 человек уплотнение и болезненность в месте у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11"/>
          <p:cNvSpPr txBox="1"/>
          <p:nvPr/>
        </p:nvSpPr>
        <p:spPr>
          <a:xfrm>
            <a:off x="6227640" y="3789360"/>
            <a:ext cx="2303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годн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4643280" y="4941720"/>
            <a:ext cx="450072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  <a:ea typeface="Sendnya"/>
              </a:rPr>
              <a:t>Вакцинация проводится однократ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  <a:ea typeface="Sendnya"/>
              </a:rPr>
              <a:t>П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  <a:ea typeface="Sendnya"/>
              </a:rPr>
              <a:t>рием профилактических лекарственных препаратов должен осуществляться регулярно в течение длительн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203640" y="277920"/>
            <a:ext cx="548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993300"/>
                </a:solidFill>
                <a:latin typeface="Times New Roman"/>
              </a:rPr>
              <a:t>Что дает вакцинация </a:t>
            </a:r>
            <a:br>
              <a:rPr sz="3800"/>
            </a:br>
            <a:r>
              <a:rPr b="1" i="1" lang="ru-RU" sz="3800" spc="-1" strike="noStrike">
                <a:solidFill>
                  <a:srgbClr val="993300"/>
                </a:solidFill>
                <a:latin typeface="Times New Roman"/>
              </a:rPr>
              <a:t>моей семье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0" y="1484280"/>
            <a:ext cx="611964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aeab0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Сохраняется здоровь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всех членов сем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1692360" y="3068640"/>
            <a:ext cx="611964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aeab0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Не нарушаются пла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семь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3024360" y="4697280"/>
            <a:ext cx="611964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ab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Сохраняется финан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Tahoma"/>
              </a:rPr>
              <a:t>сем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ANd9GcSr9zOBf_NL6pDUhfOSoYZTdMMZ-82GPE5zXzTrQHqWrpL8N9U&amp;t=1&amp;usg=__Ug5O2qogScEey_42gKDHXC_0hjY="/>
          <p:cNvPicPr/>
          <p:nvPr/>
        </p:nvPicPr>
        <p:blipFill>
          <a:blip r:embed="rId1"/>
          <a:stretch/>
        </p:blipFill>
        <p:spPr>
          <a:xfrm>
            <a:off x="155520" y="46080"/>
            <a:ext cx="247176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3"/>
          <p:cNvSpPr/>
          <p:nvPr/>
        </p:nvSpPr>
        <p:spPr>
          <a:xfrm>
            <a:off x="539640" y="4508640"/>
            <a:ext cx="396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MPj01490180000[1]"/>
          <p:cNvPicPr/>
          <p:nvPr/>
        </p:nvPicPr>
        <p:blipFill>
          <a:blip r:embed="rId1"/>
          <a:stretch/>
        </p:blipFill>
        <p:spPr>
          <a:xfrm>
            <a:off x="2106720" y="1239840"/>
            <a:ext cx="4932360" cy="2736720"/>
          </a:xfrm>
          <a:prstGeom prst="rect">
            <a:avLst/>
          </a:prstGeom>
          <a:ln w="0">
            <a:noFill/>
          </a:ln>
        </p:spPr>
      </p:pic>
      <p:sp>
        <p:nvSpPr>
          <p:cNvPr id="421" name="WordArt 6"/>
          <p:cNvSpPr txBox="1"/>
          <p:nvPr/>
        </p:nvSpPr>
        <p:spPr>
          <a:xfrm>
            <a:off x="1763640" y="4221000"/>
            <a:ext cx="64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171440" y="4681440"/>
            <a:ext cx="680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1042920" y="-36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рус гриппа передается от человека к челове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нь легко и незамет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3708360" y="5877000"/>
            <a:ext cx="1513080" cy="57636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851280" y="59500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аж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3833640" y="2852640"/>
            <a:ext cx="147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155520" y="46080"/>
            <a:ext cx="14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155520" y="46080"/>
            <a:ext cx="14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6" descr="BFE59EAA7B7DB6B7FA99CC826652FF"/>
          <p:cNvPicPr/>
          <p:nvPr/>
        </p:nvPicPr>
        <p:blipFill>
          <a:blip r:embed="rId1"/>
          <a:stretch/>
        </p:blipFill>
        <p:spPr>
          <a:xfrm>
            <a:off x="395280" y="1989000"/>
            <a:ext cx="2544840" cy="1982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8" descr="ANd9GcSie0umnOaAiz8gZKKUq1OGCbgV42dvwwMUvW7-lnXFNDQ86WQ&amp;t=1&amp;usg=__Tj7IEPt4Msim_LVC5Cz5oCjpB3s="/>
          <p:cNvPicPr/>
          <p:nvPr/>
        </p:nvPicPr>
        <p:blipFill>
          <a:blip r:embed="rId2"/>
          <a:stretch/>
        </p:blipFill>
        <p:spPr>
          <a:xfrm>
            <a:off x="6732720" y="21337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1"/>
          <p:cNvSpPr/>
          <p:nvPr/>
        </p:nvSpPr>
        <p:spPr>
          <a:xfrm>
            <a:off x="2987640" y="234936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49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Times New Roman"/>
              </a:rPr>
              <a:t>при разгово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49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Times New Roman"/>
              </a:rPr>
              <a:t>каш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49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49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Times New Roman"/>
              </a:rPr>
              <a:t>чих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1547640" y="4389480"/>
            <a:ext cx="6228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иск заболеть есть у кажд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ый высокий риск распространения инфекц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 коллекти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больной                                           10- 40   здоров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4"/>
          <p:cNvSpPr/>
          <p:nvPr/>
        </p:nvSpPr>
        <p:spPr>
          <a:xfrm>
            <a:off x="4214880" y="307188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6"/>
          <p:cNvSpPr/>
          <p:nvPr/>
        </p:nvSpPr>
        <p:spPr>
          <a:xfrm>
            <a:off x="4214880" y="307188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ети чаще болеют респираторными болезнями</a:t>
            </a:r>
            <a:r>
              <a:rPr b="1" lang="lt-LT" sz="32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43000" y="171468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Gothic"/>
              </a:rPr>
              <a:t>Первые контакты с микроорганизмами, нет иммунитета 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Gothic"/>
              </a:rPr>
              <a:t>Меньше дыхательные пути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Gothic"/>
              </a:rPr>
              <a:t>Дольше время выделения вируса 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Gothic"/>
              </a:rPr>
              <a:t>Не сформированы гигиенические навыки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Gothic"/>
              </a:rPr>
              <a:t>Больше и более интенсивные контакты в детских коллективах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6948360" y="6381720"/>
            <a:ext cx="19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DC 01-SEP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7f4e039d2723aeec23c828b6196ce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a19dcd9463b98457772e5eeea1b7d8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7f4e039d2723aeec23c828b6196ce04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92360" y="29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a19dcd9463b98457772e5eeea1b7d86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87640" y="1844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a19dcd9463b98457772e5eeea1b7d86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0" y="4038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a19dcd9463b98457772e5eeea1b7d869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43200" y="2971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a19dcd9463b98457772e5eeea1b7d869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438280" y="4724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a19dcd9463b98457772e5eeea1b7d869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752480" y="3733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a19dcd9463b98457772e5eeea1b7d869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19320" y="46483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a19dcd9463b98457772e5eeea1b7d869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352680" y="3581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a19dcd9463b98457772e5eeea1b7d869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600200" y="5486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a19dcd9463b98457772e5eeea1b7d869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284720" y="2708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19dcd9463b98457772e5eeea1b7d869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140360" y="220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5" descr="a19dcd9463b98457772e5eeea1b7d869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3419640" y="19162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Line 16"/>
          <p:cNvSpPr/>
          <p:nvPr/>
        </p:nvSpPr>
        <p:spPr>
          <a:xfrm flipV="1">
            <a:off x="1187280" y="328464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1143000" y="3886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990720" y="40384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 flipV="1">
            <a:off x="2133720" y="32767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22096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1"/>
          <p:cNvSpPr/>
          <p:nvPr/>
        </p:nvSpPr>
        <p:spPr>
          <a:xfrm>
            <a:off x="2286000" y="39625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2"/>
          <p:cNvSpPr/>
          <p:nvPr/>
        </p:nvSpPr>
        <p:spPr>
          <a:xfrm>
            <a:off x="2362320" y="38862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"/>
          <p:cNvSpPr/>
          <p:nvPr/>
        </p:nvSpPr>
        <p:spPr>
          <a:xfrm flipV="1">
            <a:off x="3276720" y="2923920"/>
            <a:ext cx="863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4"/>
          <p:cNvSpPr/>
          <p:nvPr/>
        </p:nvSpPr>
        <p:spPr>
          <a:xfrm flipV="1">
            <a:off x="3059280" y="2349360"/>
            <a:ext cx="36036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5"/>
          <p:cNvSpPr/>
          <p:nvPr/>
        </p:nvSpPr>
        <p:spPr>
          <a:xfrm flipV="1">
            <a:off x="3203640" y="2492280"/>
            <a:ext cx="822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6" descr="7f4e039d2723aeec23c828b6196ce049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724280" y="304812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87" name="Line 27"/>
          <p:cNvSpPr/>
          <p:nvPr/>
        </p:nvSpPr>
        <p:spPr>
          <a:xfrm>
            <a:off x="3124080" y="3276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8"/>
          <p:cNvSpPr/>
          <p:nvPr/>
        </p:nvSpPr>
        <p:spPr>
          <a:xfrm>
            <a:off x="1447920" y="518148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16002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0"/>
          <p:cNvSpPr/>
          <p:nvPr/>
        </p:nvSpPr>
        <p:spPr>
          <a:xfrm>
            <a:off x="1676520" y="49528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1" descr="7f4e039d2723aeec23c828b6196ce049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2819520" y="54864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92" name="Line 32"/>
          <p:cNvSpPr/>
          <p:nvPr/>
        </p:nvSpPr>
        <p:spPr>
          <a:xfrm flipV="1">
            <a:off x="502920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5029200" y="42670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4"/>
          <p:cNvSpPr/>
          <p:nvPr/>
        </p:nvSpPr>
        <p:spPr>
          <a:xfrm>
            <a:off x="4859280" y="4437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5"/>
          <p:cNvSpPr/>
          <p:nvPr/>
        </p:nvSpPr>
        <p:spPr>
          <a:xfrm>
            <a:off x="5029200" y="43434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6" descr="a19dcd9463b98457772e5eeea1b7d869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5486400" y="5029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7" descr="a19dcd9463b98457772e5eeea1b7d869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5943600" y="4419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8" descr="a19dcd9463b98457772e5eeea1b7d869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5724360" y="3213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9" descr="a19dcd9463b98457772e5eeea1b7d869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4859280" y="50846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00" name="Line 40"/>
          <p:cNvSpPr/>
          <p:nvPr/>
        </p:nvSpPr>
        <p:spPr>
          <a:xfrm flipV="1">
            <a:off x="5105520" y="40384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1" descr="a19dcd9463b98457772e5eeea1b7d869">
            <a:hlinkClick r:id="rId41"/>
          </p:cNvPr>
          <p:cNvPicPr/>
          <p:nvPr/>
        </p:nvPicPr>
        <p:blipFill>
          <a:blip r:embed="rId42"/>
          <a:stretch/>
        </p:blipFill>
        <p:spPr>
          <a:xfrm>
            <a:off x="6324480" y="38098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302" name="Line 42"/>
          <p:cNvSpPr/>
          <p:nvPr/>
        </p:nvSpPr>
        <p:spPr>
          <a:xfrm flipH="1">
            <a:off x="990360" y="5105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3" descr="a19dcd9463b98457772e5eeea1b7d869">
            <a:hlinkClick r:id="rId43"/>
          </p:cNvPr>
          <p:cNvPicPr/>
          <p:nvPr/>
        </p:nvPicPr>
        <p:blipFill>
          <a:blip r:embed="rId44"/>
          <a:stretch/>
        </p:blipFill>
        <p:spPr>
          <a:xfrm>
            <a:off x="685800" y="54864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04" name="Line 44"/>
          <p:cNvSpPr/>
          <p:nvPr/>
        </p:nvSpPr>
        <p:spPr>
          <a:xfrm>
            <a:off x="5181480" y="4191120"/>
            <a:ext cx="2057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5" descr="7f4e039d2723aeec23c828b6196ce049">
            <a:hlinkClick r:id="rId45"/>
          </p:cNvPr>
          <p:cNvPicPr/>
          <p:nvPr/>
        </p:nvPicPr>
        <p:blipFill>
          <a:blip r:embed="rId46"/>
          <a:stretch/>
        </p:blipFill>
        <p:spPr>
          <a:xfrm>
            <a:off x="7315200" y="4191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6"/>
          <p:cNvSpPr/>
          <p:nvPr/>
        </p:nvSpPr>
        <p:spPr>
          <a:xfrm>
            <a:off x="4211640" y="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85a4"/>
                </a:solidFill>
                <a:latin typeface="Arial"/>
              </a:rPr>
              <a:t>Распространение вирусов гриппа в коллективе среди не защищенных против грип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7"/>
          <p:cNvSpPr/>
          <p:nvPr/>
        </p:nvSpPr>
        <p:spPr>
          <a:xfrm>
            <a:off x="3924360" y="5950080"/>
            <a:ext cx="4321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1-й больной способен заразить от  10 до 40  здоровых человек за 1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8" descr="a19dcd9463b98457772e5eeea1b7d869">
            <a:hlinkClick r:id="rId47"/>
          </p:cNvPr>
          <p:cNvPicPr/>
          <p:nvPr/>
        </p:nvPicPr>
        <p:blipFill>
          <a:blip r:embed="rId48"/>
          <a:stretch/>
        </p:blipFill>
        <p:spPr>
          <a:xfrm>
            <a:off x="250920" y="220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9" descr="a19dcd9463b98457772e5eeea1b7d869">
            <a:hlinkClick r:id="rId49"/>
          </p:cNvPr>
          <p:cNvPicPr/>
          <p:nvPr/>
        </p:nvPicPr>
        <p:blipFill>
          <a:blip r:embed="rId50"/>
          <a:stretch/>
        </p:blipFill>
        <p:spPr>
          <a:xfrm>
            <a:off x="900000" y="20606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0" descr="a19dcd9463b98457772e5eeea1b7d869">
            <a:hlinkClick r:id="rId51"/>
          </p:cNvPr>
          <p:cNvPicPr/>
          <p:nvPr/>
        </p:nvPicPr>
        <p:blipFill>
          <a:blip r:embed="rId52"/>
          <a:stretch/>
        </p:blipFill>
        <p:spPr>
          <a:xfrm>
            <a:off x="250920" y="4508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1" descr="a19dcd9463b98457772e5eeea1b7d869">
            <a:hlinkClick r:id="rId53"/>
          </p:cNvPr>
          <p:cNvPicPr/>
          <p:nvPr/>
        </p:nvPicPr>
        <p:blipFill>
          <a:blip r:embed="rId54"/>
          <a:stretch/>
        </p:blipFill>
        <p:spPr>
          <a:xfrm>
            <a:off x="1476360" y="1989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2" descr="a19dcd9463b98457772e5eeea1b7d869">
            <a:hlinkClick r:id="rId55"/>
          </p:cNvPr>
          <p:cNvPicPr/>
          <p:nvPr/>
        </p:nvPicPr>
        <p:blipFill>
          <a:blip r:embed="rId56"/>
          <a:stretch/>
        </p:blipFill>
        <p:spPr>
          <a:xfrm>
            <a:off x="2268360" y="184464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313" name="Line 53"/>
          <p:cNvSpPr/>
          <p:nvPr/>
        </p:nvSpPr>
        <p:spPr>
          <a:xfrm flipH="1" flipV="1">
            <a:off x="2484360" y="220464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4"/>
          <p:cNvSpPr/>
          <p:nvPr/>
        </p:nvSpPr>
        <p:spPr>
          <a:xfrm flipH="1" flipV="1">
            <a:off x="324000" y="2565360"/>
            <a:ext cx="71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5"/>
          <p:cNvSpPr/>
          <p:nvPr/>
        </p:nvSpPr>
        <p:spPr>
          <a:xfrm flipV="1">
            <a:off x="826920" y="249192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 flipV="1">
            <a:off x="1116000" y="242064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 flipH="1">
            <a:off x="468000" y="407664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8" descr="a19dcd9463b98457772e5eeea1b7d869">
            <a:hlinkClick r:id="rId57"/>
          </p:cNvPr>
          <p:cNvPicPr/>
          <p:nvPr/>
        </p:nvPicPr>
        <p:blipFill>
          <a:blip r:embed="rId58"/>
          <a:stretch/>
        </p:blipFill>
        <p:spPr>
          <a:xfrm>
            <a:off x="1835280" y="23493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19" name="Line 59"/>
          <p:cNvSpPr/>
          <p:nvPr/>
        </p:nvSpPr>
        <p:spPr>
          <a:xfrm flipV="1">
            <a:off x="1116000" y="2636640"/>
            <a:ext cx="719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0" descr="a19dcd9463b98457772e5eeea1b7d869">
            <a:hlinkClick r:id="rId59"/>
          </p:cNvPr>
          <p:cNvPicPr/>
          <p:nvPr/>
        </p:nvPicPr>
        <p:blipFill>
          <a:blip r:embed="rId60"/>
          <a:stretch/>
        </p:blipFill>
        <p:spPr>
          <a:xfrm>
            <a:off x="611280" y="4724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21" name="Line 61"/>
          <p:cNvSpPr/>
          <p:nvPr/>
        </p:nvSpPr>
        <p:spPr>
          <a:xfrm>
            <a:off x="82692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2" descr="a19dcd9463b98457772e5eeea1b7d869"/>
          <p:cNvPicPr/>
          <p:nvPr/>
        </p:nvPicPr>
        <p:blipFill>
          <a:blip r:embed="rId61"/>
          <a:stretch/>
        </p:blipFill>
        <p:spPr>
          <a:xfrm>
            <a:off x="2627280" y="1268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23" name="Line 63"/>
          <p:cNvSpPr/>
          <p:nvPr/>
        </p:nvSpPr>
        <p:spPr>
          <a:xfrm flipH="1" flipV="1">
            <a:off x="2842920" y="1699920"/>
            <a:ext cx="730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 flipV="1">
            <a:off x="2987640" y="2349360"/>
            <a:ext cx="14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5" descr="a19dcd9463b98457772e5eeea1b7d869"/>
          <p:cNvPicPr/>
          <p:nvPr/>
        </p:nvPicPr>
        <p:blipFill>
          <a:blip r:embed="rId62"/>
          <a:stretch/>
        </p:blipFill>
        <p:spPr>
          <a:xfrm>
            <a:off x="3924360" y="1773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26" name="Line 66"/>
          <p:cNvSpPr/>
          <p:nvPr/>
        </p:nvSpPr>
        <p:spPr>
          <a:xfrm flipV="1">
            <a:off x="3132000" y="220464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7" descr="a19dcd9463b98457772e5eeea1b7d869"/>
          <p:cNvPicPr/>
          <p:nvPr/>
        </p:nvPicPr>
        <p:blipFill>
          <a:blip r:embed="rId63"/>
          <a:stretch/>
        </p:blipFill>
        <p:spPr>
          <a:xfrm>
            <a:off x="826920" y="148428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328" name="Line 68"/>
          <p:cNvSpPr/>
          <p:nvPr/>
        </p:nvSpPr>
        <p:spPr>
          <a:xfrm flipH="1" flipV="1">
            <a:off x="684360" y="1915920"/>
            <a:ext cx="71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9" descr="a19dcd9463b98457772e5eeea1b7d869"/>
          <p:cNvPicPr/>
          <p:nvPr/>
        </p:nvPicPr>
        <p:blipFill>
          <a:blip r:embed="rId64"/>
          <a:stretch/>
        </p:blipFill>
        <p:spPr>
          <a:xfrm>
            <a:off x="1332000" y="13413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30" name="Line 70"/>
          <p:cNvSpPr/>
          <p:nvPr/>
        </p:nvSpPr>
        <p:spPr>
          <a:xfrm flipV="1">
            <a:off x="971640" y="1844280"/>
            <a:ext cx="43164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1"/>
          <p:cNvSpPr/>
          <p:nvPr/>
        </p:nvSpPr>
        <p:spPr>
          <a:xfrm>
            <a:off x="32580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2"/>
          <p:cNvSpPr/>
          <p:nvPr/>
        </p:nvSpPr>
        <p:spPr>
          <a:xfrm>
            <a:off x="82908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3"/>
          <p:cNvSpPr/>
          <p:nvPr/>
        </p:nvSpPr>
        <p:spPr>
          <a:xfrm>
            <a:off x="97344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4"/>
          <p:cNvSpPr/>
          <p:nvPr/>
        </p:nvSpPr>
        <p:spPr>
          <a:xfrm>
            <a:off x="1403280" y="907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5"/>
          <p:cNvSpPr/>
          <p:nvPr/>
        </p:nvSpPr>
        <p:spPr>
          <a:xfrm>
            <a:off x="176580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6"/>
          <p:cNvSpPr/>
          <p:nvPr/>
        </p:nvSpPr>
        <p:spPr>
          <a:xfrm>
            <a:off x="212616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7"/>
          <p:cNvSpPr/>
          <p:nvPr/>
        </p:nvSpPr>
        <p:spPr>
          <a:xfrm>
            <a:off x="18144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8"/>
          <p:cNvSpPr/>
          <p:nvPr/>
        </p:nvSpPr>
        <p:spPr>
          <a:xfrm>
            <a:off x="133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9"/>
          <p:cNvSpPr/>
          <p:nvPr/>
        </p:nvSpPr>
        <p:spPr>
          <a:xfrm>
            <a:off x="2053080" y="422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0"/>
          <p:cNvSpPr/>
          <p:nvPr/>
        </p:nvSpPr>
        <p:spPr>
          <a:xfrm>
            <a:off x="39708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1"/>
          <p:cNvSpPr/>
          <p:nvPr/>
        </p:nvSpPr>
        <p:spPr>
          <a:xfrm>
            <a:off x="539640" y="765000"/>
            <a:ext cx="1873440" cy="5185080"/>
          </a:xfrm>
          <a:prstGeom prst="ellipse">
            <a:avLst/>
          </a:prstGeom>
          <a:noFill/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2"/>
          <p:cNvSpPr/>
          <p:nvPr/>
        </p:nvSpPr>
        <p:spPr>
          <a:xfrm>
            <a:off x="755640" y="3429000"/>
            <a:ext cx="719280" cy="7920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3"/>
          <p:cNvSpPr/>
          <p:nvPr/>
        </p:nvSpPr>
        <p:spPr>
          <a:xfrm flipH="1" flipV="1">
            <a:off x="1403280" y="4149720"/>
            <a:ext cx="2448000" cy="1943280"/>
          </a:xfrm>
          <a:prstGeom prst="line">
            <a:avLst/>
          </a:prstGeom>
          <a:ln w="57240">
            <a:solidFill>
              <a:srgbClr val="000080"/>
            </a:solidFill>
            <a:prstDash val="lg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4" descr="a19dcd9463b98457772e5eeea1b7d869"/>
          <p:cNvPicPr/>
          <p:nvPr/>
        </p:nvPicPr>
        <p:blipFill>
          <a:blip r:embed="rId65"/>
          <a:stretch/>
        </p:blipFill>
        <p:spPr>
          <a:xfrm>
            <a:off x="6084720" y="3429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5" descr="a19dcd9463b98457772e5eeea1b7d869"/>
          <p:cNvPicPr/>
          <p:nvPr/>
        </p:nvPicPr>
        <p:blipFill>
          <a:blip r:embed="rId66"/>
          <a:stretch/>
        </p:blipFill>
        <p:spPr>
          <a:xfrm>
            <a:off x="6443640" y="429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6" descr="a19dcd9463b98457772e5eeea1b7d869"/>
          <p:cNvPicPr/>
          <p:nvPr/>
        </p:nvPicPr>
        <p:blipFill>
          <a:blip r:embed="rId67"/>
          <a:stretch/>
        </p:blipFill>
        <p:spPr>
          <a:xfrm>
            <a:off x="6156360" y="486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7" descr="a19dcd9463b98457772e5eeea1b7d869"/>
          <p:cNvPicPr/>
          <p:nvPr/>
        </p:nvPicPr>
        <p:blipFill>
          <a:blip r:embed="rId68"/>
          <a:stretch/>
        </p:blipFill>
        <p:spPr>
          <a:xfrm>
            <a:off x="5292720" y="299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48" name="Line 88"/>
          <p:cNvSpPr/>
          <p:nvPr/>
        </p:nvSpPr>
        <p:spPr>
          <a:xfrm flipV="1">
            <a:off x="4859280" y="342864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9"/>
          <p:cNvSpPr/>
          <p:nvPr/>
        </p:nvSpPr>
        <p:spPr>
          <a:xfrm flipV="1">
            <a:off x="5435640" y="3789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0"/>
          <p:cNvSpPr/>
          <p:nvPr/>
        </p:nvSpPr>
        <p:spPr>
          <a:xfrm>
            <a:off x="5219640" y="422100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91" descr="a19dcd9463b98457772e5eeea1b7d869"/>
          <p:cNvPicPr/>
          <p:nvPr/>
        </p:nvPicPr>
        <p:blipFill>
          <a:blip r:embed="rId69"/>
          <a:stretch/>
        </p:blipFill>
        <p:spPr>
          <a:xfrm>
            <a:off x="4356000" y="508464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352" name="Line 92"/>
          <p:cNvSpPr/>
          <p:nvPr/>
        </p:nvSpPr>
        <p:spPr>
          <a:xfrm flipH="1">
            <a:off x="4572000" y="443700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3" descr="a19dcd9463b98457772e5eeea1b7d869"/>
          <p:cNvPicPr/>
          <p:nvPr/>
        </p:nvPicPr>
        <p:blipFill>
          <a:blip r:embed="rId70"/>
          <a:stretch/>
        </p:blipFill>
        <p:spPr>
          <a:xfrm>
            <a:off x="3059280" y="4005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4" descr="a19dcd9463b98457772e5eeea1b7d869"/>
          <p:cNvPicPr/>
          <p:nvPr/>
        </p:nvPicPr>
        <p:blipFill>
          <a:blip r:embed="rId71"/>
          <a:stretch/>
        </p:blipFill>
        <p:spPr>
          <a:xfrm>
            <a:off x="3132000" y="328464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Line 95"/>
          <p:cNvSpPr/>
          <p:nvPr/>
        </p:nvSpPr>
        <p:spPr>
          <a:xfrm flipV="1">
            <a:off x="2340000" y="342900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6"/>
          <p:cNvSpPr/>
          <p:nvPr/>
        </p:nvSpPr>
        <p:spPr>
          <a:xfrm>
            <a:off x="2484360" y="4005360"/>
            <a:ext cx="57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19%20-%20Iceberg%202"/>
          <p:cNvPicPr/>
          <p:nvPr/>
        </p:nvPicPr>
        <p:blipFill>
          <a:blip r:embed="rId1"/>
          <a:srcRect l="0" t="13405" r="0" b="0"/>
          <a:stretch/>
        </p:blipFill>
        <p:spPr>
          <a:xfrm>
            <a:off x="142920" y="1000080"/>
            <a:ext cx="9001080" cy="5857920"/>
          </a:xfrm>
          <a:prstGeom prst="rect">
            <a:avLst/>
          </a:prstGeom>
          <a:ln w="0">
            <a:noFill/>
          </a:ln>
        </p:spPr>
      </p:pic>
      <p:sp>
        <p:nvSpPr>
          <p:cNvPr id="358" name="Line 4"/>
          <p:cNvSpPr/>
          <p:nvPr/>
        </p:nvSpPr>
        <p:spPr>
          <a:xfrm>
            <a:off x="642960" y="2143080"/>
            <a:ext cx="7272360" cy="1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 flipH="1">
            <a:off x="4214880" y="1428840"/>
            <a:ext cx="2162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Грип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5421960" y="6485040"/>
            <a:ext cx="238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icol KL, Arch Inter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Me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5328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ЧЕМ ОПАСЕН ГРИПП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1071720" y="2000160"/>
            <a:ext cx="60721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ложн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аление легких (пневмо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аление бронхов (бронхи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аление пазух носа (гаймори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аление среднего уха (оти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бострения хрон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428760" y="4214880"/>
            <a:ext cx="750096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акже часто могут быть ослож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 стороны нервной системы ( воспаление мозго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болочек (менинги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 стороны сердечно – сосудистой системы (миокардит, перикарди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ругих органов и сист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08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28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1979640" y="6126120"/>
            <a:ext cx="7164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ccff"/>
                </a:solidFill>
                <a:latin typeface="Arial"/>
              </a:rPr>
              <a:t>Neuzil K., Kellen B., Wright P. et al. N. Engl.J.Med.2000,32</a:t>
            </a:r>
            <a:r>
              <a:rPr b="0" i="1" lang="ru-RU" sz="1200" spc="-1" strike="noStrike">
                <a:solidFill>
                  <a:srgbClr val="ccccff"/>
                </a:solidFill>
                <a:latin typeface="Arial"/>
              </a:rPr>
              <a:t>:</a:t>
            </a:r>
            <a:r>
              <a:rPr b="0" i="1" lang="en-US" sz="1200" spc="-1" strike="noStrike">
                <a:solidFill>
                  <a:srgbClr val="ccccff"/>
                </a:solidFill>
                <a:latin typeface="Arial"/>
              </a:rPr>
              <a:t>225-231</a:t>
            </a:r>
            <a:r>
              <a:rPr b="0" i="1" lang="ru-RU" sz="1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ccff"/>
                </a:solidFill>
                <a:latin typeface="Arial"/>
              </a:rPr>
              <a:t>В.И. Покровский, Б.Ф. Семенов. Инактивированная гриппозная вакцина защищает</a:t>
            </a:r>
            <a:r>
              <a:rPr b="0" i="1" lang="ru-RU" sz="1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ccccff"/>
                </a:solidFill>
                <a:latin typeface="Arial"/>
              </a:rPr>
              <a:t>от инфарктов и инсультов в период эпидемического подъема гриппа//Вакцинация№4 (34) 2004 с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790560" y="5715000"/>
            <a:ext cx="8067600" cy="6494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714240" y="5643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Смертность среди пациентов из групп риска от пневмонии и гриппа во время сезонного подъема заболеваемости гриппом и ОРВИ</a:t>
            </a:r>
            <a:r>
              <a:rPr b="0" lang="ru-RU" sz="2000" spc="-1" strike="noStrike">
                <a:solidFill>
                  <a:srgbClr val="1485a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i-main-pic" descr="Картинка 428 из 4679"/>
          <p:cNvPicPr/>
          <p:nvPr/>
        </p:nvPicPr>
        <p:blipFill>
          <a:blip r:embed="rId1"/>
          <a:srcRect l="30237" t="3780" r="7559" b="14174"/>
          <a:stretch/>
        </p:blipFill>
        <p:spPr>
          <a:xfrm>
            <a:off x="0" y="0"/>
            <a:ext cx="1549440" cy="20318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99760" y="27756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Century Gothic"/>
              </a:rPr>
              <a:t>Почему важно быть защищенным от гриппа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370" name="Object 7"/>
          <p:cNvGraphicFramePr/>
          <p:nvPr/>
        </p:nvGraphicFramePr>
        <p:xfrm>
          <a:off x="190440" y="1428840"/>
          <a:ext cx="8263080" cy="407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1428840"/>
                    <a:ext cx="826308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AutoShape 8"/>
          <p:cNvSpPr/>
          <p:nvPr/>
        </p:nvSpPr>
        <p:spPr>
          <a:xfrm>
            <a:off x="1000080" y="1500120"/>
            <a:ext cx="734400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полнительный рис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мертельного исход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 результат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хроническ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заболе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539640" y="5300640"/>
            <a:ext cx="8280360" cy="1368360"/>
          </a:xfrm>
          <a:prstGeom prst="rect">
            <a:avLst/>
          </a:prstGeom>
          <a:gradFill rotWithShape="0">
            <a:gsLst>
              <a:gs pos="0">
                <a:srgbClr val="faea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ти приносят вирус гриппа домой, где могут быть члены семьи, которых невозможно защитить с помощью прививок (дети до 6 месяцев, лица с противопоказаниями и т.д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49100"/>
                </a:solidFill>
                <a:latin typeface="Times New Roman"/>
              </a:rPr>
              <a:t>Почему важно защищать детей от заболевания     гриппом и ОРИ 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611280" y="1557360"/>
            <a:ext cx="8280360" cy="727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Ежегодно среди общего количества заболевших гриппом более 50%   составляют  де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611280" y="2492280"/>
            <a:ext cx="8137440" cy="8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d7a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реди госпитализированных в стационары  по поводу  гриппа около  90% составляют де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611280" y="3933720"/>
            <a:ext cx="8137440" cy="1126800"/>
          </a:xfrm>
          <a:prstGeom prst="rect">
            <a:avLst/>
          </a:prstGeom>
          <a:gradFill rotWithShape="0">
            <a:gsLst>
              <a:gs pos="0">
                <a:srgbClr val="f1e5c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едущая  роль в распространении гриппозной инфекции принадлежит дет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(особенно школьникам, учитывая их мобильность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262626"/>
                </a:solidFill>
                <a:latin typeface="Century Gothic"/>
              </a:rPr>
              <a:t>ВАКЦИНАЦИЯ ПРОТИВ ГРИППА – ЭТО БЕЗОПАСНО!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17520" y="1357200"/>
            <a:ext cx="7926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entury Gothic"/>
              </a:rPr>
              <a:t>Современные вакцины против гриппа хорошо переносятся. Из 100 привитых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buClr>
                <a:srgbClr val="000099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entury Gothic"/>
              </a:rPr>
              <a:t>У 5-8 человек может повыситься температура до 37,5</a:t>
            </a:r>
            <a:r>
              <a:rPr b="1" lang="en-US" sz="1800" spc="-1" strike="noStrike">
                <a:solidFill>
                  <a:srgbClr val="000099"/>
                </a:solidFill>
                <a:latin typeface="Corbel"/>
              </a:rPr>
              <a:t>°</a:t>
            </a:r>
            <a:r>
              <a:rPr b="1" lang="ru-RU" sz="1800" spc="-1" strike="noStrike">
                <a:solidFill>
                  <a:srgbClr val="000099"/>
                </a:solidFill>
                <a:latin typeface="Century Gothic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buClr>
                <a:srgbClr val="000099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entury Gothic"/>
              </a:rPr>
              <a:t>У 8-15 человек может появиться уплотнение или болезненность в месте укол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entury Gothic"/>
              </a:rPr>
              <a:t>Вакцинация не нарушает работоспособность привитых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428920" y="6093000"/>
            <a:ext cx="671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быкина А. В., Костинов М. П., Магаршак О. О. Оценка безопасности и эффективности вакцинации против гриппа//Эпидемиол. и вакцинопроф. 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нов М.П., Ерофеева  М.К., Харит  С.М. Эффективность и безопасность вакцинопрофилактики гриппа у разных контингентов// Инфекционные заболевания.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3"/>
          <p:cNvSpPr/>
          <p:nvPr/>
        </p:nvSpPr>
        <p:spPr>
          <a:xfrm>
            <a:off x="1116000" y="285840"/>
            <a:ext cx="724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куда знают какие вирусы гриппа придут к нам и вызовут заболева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1000080" y="1500120"/>
            <a:ext cx="7786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ире существует несколько сотен лабораторий, которые следят за циркулирующими вирусами гриппа  и формируют  на основании анализа  прогнозы для включения в состав вакц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в состав вакцин включаются 3 актуальных варианта вируса гриппа. В последнее время создаются  вакцины с 4-мя вирусами гриппа (2 вируса типа А и 2 типа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стика 20-ти последних лет свидетельствует, что те варианты вирусов гриппа, которые были рекомендованы ВОЗ для включения в состав вакцин, совпадали более чем в 90% случаев (в отдельные годы отмечались расхождения по одному из 3-х вариантов, входящих в состав вакци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7:19:40Z</dcterms:created>
  <dc:creator>b-oip-501-02</dc:creator>
  <dc:description/>
  <dc:language>en-US</dc:language>
  <cp:lastModifiedBy>Asus</cp:lastModifiedBy>
  <dcterms:modified xsi:type="dcterms:W3CDTF">2020-09-13T16:18:53Z</dcterms:modified>
  <cp:revision>86</cp:revision>
  <dc:subject/>
  <dc:title>Слайд 1</dc:title>
</cp:coreProperties>
</file>