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7E9-D8C8-4786-A79F-3C207C99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A5D-FE65-4E91-A387-EC59D6A5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0CBD-BE37-4434-8F4B-5FBB70CA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AA6-0924-43DA-ACF4-765E048F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1A4-E62B-423E-AEC1-B0C5D85C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7CE-1C96-45B3-ACE2-EBF28A6F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41F-D3EA-4882-8C96-69B96FFD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C41-E2E6-4562-820E-B59FCB16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66E-6437-413D-BFB0-8F1E9111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7FB-30E3-4873-9096-05119333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5E0-A279-482F-997E-1CA39438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E9D-E3CE-4DC5-914E-114DA69C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cago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6BCB-3670-4260-B3A0-D541A15EA315}" type="slidenum">
              <a:rPr b="0" lang="ru-RU" sz="1200" spc="-1" strike="noStrike">
                <a:solidFill>
                  <a:srgbClr val="898989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561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254061"/>
                </a:solidFill>
                <a:latin typeface="Chicago"/>
                <a:ea typeface="BM spiral Cap Cyr"/>
              </a:rPr>
              <a:t>«Деньги. Денежные знаки»</a:t>
            </a:r>
            <a:endParaRPr b="0" lang="en-US" sz="46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СОВРЕМЕННЫЕ ДЕНЬГ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56144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Бумажные купюры выпускаются разного достоинства, на них изображены достопримечательности нашей страны и известные личности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88" name="Picture 12" descr="https://upload.wikimedia.org/wikipedia/commons/thumb/7/70/Banknote_10_rubles_%281997%29_front.jpg/1920px-Banknote_10_rubles_%281997%29_front.jpg"/>
          <p:cNvPicPr/>
          <p:nvPr/>
        </p:nvPicPr>
        <p:blipFill>
          <a:blip r:embed="rId1"/>
          <a:stretch/>
        </p:blipFill>
        <p:spPr>
          <a:xfrm>
            <a:off x="1187280" y="2924280"/>
            <a:ext cx="3097440" cy="1336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https://upload.wikimedia.org/wikipedia/commons/9/91/Banknote_50_rubles_%281997%29_front.jpg"/>
          <p:cNvPicPr/>
          <p:nvPr/>
        </p:nvPicPr>
        <p:blipFill>
          <a:blip r:embed="rId2"/>
          <a:stretch/>
        </p:blipFill>
        <p:spPr>
          <a:xfrm>
            <a:off x="1187280" y="4429080"/>
            <a:ext cx="3097440" cy="1362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https://upload.wikimedia.org/wikipedia/commons/b/bc/Banknote_100_rubles_%281997%29_front.jpg"/>
          <p:cNvPicPr/>
          <p:nvPr/>
        </p:nvPicPr>
        <p:blipFill>
          <a:blip r:embed="rId3"/>
          <a:stretch/>
        </p:blipFill>
        <p:spPr>
          <a:xfrm>
            <a:off x="4932360" y="2940120"/>
            <a:ext cx="3033720" cy="133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https://upload.wikimedia.org/wikipedia/commons/thumb/8/8c/Banknote_500_rubles_%281997%29_front.jpg/1920px-Banknote_500_rubles_%281997%29_front.jpg"/>
          <p:cNvPicPr/>
          <p:nvPr/>
        </p:nvPicPr>
        <p:blipFill>
          <a:blip r:embed="rId4"/>
          <a:stretch/>
        </p:blipFill>
        <p:spPr>
          <a:xfrm>
            <a:off x="4932360" y="4481640"/>
            <a:ext cx="29084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СОВРЕМЕННЫЕ ДЕНЬГ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56144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На бумажных знаках РФ изображены: 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10 руб. – мост через Енисей в Красноярске; 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50 руб.- скульптура Ростральной колонны в Петербурге; 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100 руб. – Большой театр в Москве; 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500 руб. – памятник Петру 1 в Архангельске; 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1000 руб. – памятник Ярославу Мудрому в Ярославле; 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5000 руб. – памятник Муравьеву-Амурскому в Хабаровске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94" name="Picture 8" descr="https://upload.wikimedia.org/wikipedia/commons/thumb/d/d9/Banknote_1000_rubles_%281997%29_front.jpg/1920px-Banknote_1000_rubles_%281997%29_front.jpg"/>
          <p:cNvPicPr/>
          <p:nvPr/>
        </p:nvPicPr>
        <p:blipFill>
          <a:blip r:embed="rId1"/>
          <a:stretch/>
        </p:blipFill>
        <p:spPr>
          <a:xfrm>
            <a:off x="1177920" y="4546440"/>
            <a:ext cx="2881440" cy="1251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ttps://upload.wikimedia.org/wikipedia/commons/thumb/e/e3/Banknote_5000_rubles_%281997%29_front.jpg/1920px-Banknote_5000_rubles_%281997%29_front.jpg"/>
          <p:cNvPicPr/>
          <p:nvPr/>
        </p:nvPicPr>
        <p:blipFill>
          <a:blip r:embed="rId2"/>
          <a:stretch/>
        </p:blipFill>
        <p:spPr>
          <a:xfrm>
            <a:off x="4859280" y="4546440"/>
            <a:ext cx="2881440" cy="12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hicago"/>
              </a:rPr>
              <a:t>ПРЕДМЕТЫ, КОТОРЫЕ НУЖНЫ ЛЮДЯМ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43" name="Picture 2" descr="Цивилизации и культура &quot; uaisp.ru - Фото катастроф, Фен Шуй, Вселенная, Тусовка знаменитостей, Цивилизации и культура, Философия"/>
          <p:cNvPicPr/>
          <p:nvPr/>
        </p:nvPicPr>
        <p:blipFill>
          <a:blip r:embed="rId1"/>
          <a:stretch/>
        </p:blipFill>
        <p:spPr>
          <a:xfrm>
            <a:off x="839880" y="2363760"/>
            <a:ext cx="2354040" cy="159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Коммунисты предложили снизить цены на хлеб и электроэнергию - Политика - NewsUkraine"/>
          <p:cNvPicPr/>
          <p:nvPr/>
        </p:nvPicPr>
        <p:blipFill>
          <a:blip r:embed="rId2"/>
          <a:stretch/>
        </p:blipFill>
        <p:spPr>
          <a:xfrm>
            <a:off x="3492360" y="2381400"/>
            <a:ext cx="2028960" cy="1596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Фотобанк ClipArtBank.ru,продажа лицензионных фотографий в России Русский фотосток,фотоклипарт российский.Купить лицензионные фот"/>
          <p:cNvPicPr/>
          <p:nvPr/>
        </p:nvPicPr>
        <p:blipFill>
          <a:blip r:embed="rId3"/>
          <a:stretch/>
        </p:blipFill>
        <p:spPr>
          <a:xfrm>
            <a:off x="5796000" y="2346480"/>
            <a:ext cx="2446200" cy="1631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Лента записей из дневника блогера Пингвинутый на всю голову. Страница 97 :: BlogRider.ru"/>
          <p:cNvPicPr/>
          <p:nvPr/>
        </p:nvPicPr>
        <p:blipFill>
          <a:blip r:embed="rId4"/>
          <a:stretch/>
        </p:blipFill>
        <p:spPr>
          <a:xfrm>
            <a:off x="1835280" y="41068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Новости &quot; Страница 38 &quot; TechCUBE - Свежие новости мира высоких технологий"/>
          <p:cNvPicPr/>
          <p:nvPr/>
        </p:nvPicPr>
        <p:blipFill>
          <a:blip r:embed="rId5"/>
          <a:stretch/>
        </p:blipFill>
        <p:spPr>
          <a:xfrm>
            <a:off x="4748040" y="4081320"/>
            <a:ext cx="25927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КАК ПОЛУЧИТЬ ТО, </a:t>
            </a:r>
            <a:br>
              <a:rPr sz="4000"/>
            </a:b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ЧТО ХОЧЕТСЯ?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56144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Можно обменяться или купить за деньги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50" name="Picture 2" descr="дети обмениваются игрушками &quot; Мамин Интерес"/>
          <p:cNvPicPr/>
          <p:nvPr/>
        </p:nvPicPr>
        <p:blipFill>
          <a:blip r:embed="rId1"/>
          <a:srcRect l="0" t="-10139" r="0" b="0"/>
          <a:stretch/>
        </p:blipFill>
        <p:spPr>
          <a:xfrm>
            <a:off x="971640" y="3068640"/>
            <a:ext cx="3406680" cy="244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Как купить автомобиль и &quot;не сесть в галошу&quot; Автосервис Механика г.Киров"/>
          <p:cNvPicPr/>
          <p:nvPr/>
        </p:nvPicPr>
        <p:blipFill>
          <a:blip r:embed="rId2"/>
          <a:srcRect l="-1317" t="0" r="0" b="0"/>
          <a:stretch/>
        </p:blipFill>
        <p:spPr>
          <a:xfrm>
            <a:off x="4710240" y="3284640"/>
            <a:ext cx="33177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ЧТО ТАКОЕ ДЕНЬГИ?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561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Деньги – это то, что используют люди для покупки нужных вещей и предметов. Это то, что они получают за свой труд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54" name="Picture 2" descr="CHEB.net: Работникам культуры в Чувашии в этом году поднимут зарплату за счет объединения организаций и сокращения сотрудников -"/>
          <p:cNvPicPr/>
          <p:nvPr/>
        </p:nvPicPr>
        <p:blipFill>
          <a:blip r:embed="rId1"/>
          <a:stretch/>
        </p:blipFill>
        <p:spPr>
          <a:xfrm>
            <a:off x="1390680" y="2781360"/>
            <a:ext cx="6381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hicago"/>
              </a:rPr>
              <a:t>ИСТОРИЯ ВОЗНИКНОВЕНИЯ ДЕНЕГ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5880" y="1628280"/>
            <a:ext cx="751212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Много лет назад бумажных и металлических денег не было. Для получения нужных товаров люди обменивались на то, что ценилось. Вместо денег использовали: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57" name="Picture 2" descr="Самогон рисовый Supersadovod - о саде и огороде просто и интересно"/>
          <p:cNvPicPr/>
          <p:nvPr/>
        </p:nvPicPr>
        <p:blipFill>
          <a:blip r:embed="rId1"/>
          <a:stretch/>
        </p:blipFill>
        <p:spPr>
          <a:xfrm>
            <a:off x="876240" y="3141720"/>
            <a:ext cx="2090880" cy="133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Павлодар Электронный город"/>
          <p:cNvPicPr/>
          <p:nvPr/>
        </p:nvPicPr>
        <p:blipFill>
          <a:blip r:embed="rId2"/>
          <a:stretch/>
        </p:blipFill>
        <p:spPr>
          <a:xfrm>
            <a:off x="6084720" y="3084480"/>
            <a:ext cx="2028960" cy="1352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Почему в морской ракушке слышно как шумят волны?"/>
          <p:cNvPicPr/>
          <p:nvPr/>
        </p:nvPicPr>
        <p:blipFill>
          <a:blip r:embed="rId3"/>
          <a:stretch/>
        </p:blipFill>
        <p:spPr>
          <a:xfrm>
            <a:off x="3606840" y="30956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Обучение стилиста. Клуб, как стать стилистом."/>
          <p:cNvPicPr/>
          <p:nvPr/>
        </p:nvPicPr>
        <p:blipFill>
          <a:blip r:embed="rId4"/>
          <a:stretch/>
        </p:blipFill>
        <p:spPr>
          <a:xfrm>
            <a:off x="1925640" y="4668840"/>
            <a:ext cx="1616040" cy="1292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Что подарить девушке на 8 марта - 16 Ноября 2013 - Блог - Интересно в Жизне"/>
          <p:cNvPicPr/>
          <p:nvPr/>
        </p:nvPicPr>
        <p:blipFill>
          <a:blip r:embed="rId5"/>
          <a:stretch/>
        </p:blipFill>
        <p:spPr>
          <a:xfrm>
            <a:off x="3949560" y="4613400"/>
            <a:ext cx="1114560" cy="140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Грецкий орех - Flavour Art - Электронные сигареты и жидкости в Иваново"/>
          <p:cNvPicPr/>
          <p:nvPr/>
        </p:nvPicPr>
        <p:blipFill>
          <a:blip r:embed="rId6"/>
          <a:stretch/>
        </p:blipFill>
        <p:spPr>
          <a:xfrm>
            <a:off x="5514840" y="4668840"/>
            <a:ext cx="17179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ДЕНЬГИ НА РУС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Сначала на Руси использовали заграничные монеты, а потом стали чеканить свои – гривны. Гривну можно было разрубить на несколько частей и получить монеты меньшего достоинства. От слова «рубить» и появилось современное название РУБЛЬ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65" name="Picture 2" descr="Дирхемы Орды.Ханы разные.(до 15.07.12 в 22:00) - Форум Нумизмат.ru - все о нумизматике, монетах и нумизматах"/>
          <p:cNvPicPr/>
          <p:nvPr/>
        </p:nvPicPr>
        <p:blipFill>
          <a:blip r:embed="rId1"/>
          <a:stretch/>
        </p:blipFill>
        <p:spPr>
          <a:xfrm>
            <a:off x="1042920" y="3127320"/>
            <a:ext cx="2678040" cy="2631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odexmartialis.com * View topic - Medieval Polish Government"/>
          <p:cNvPicPr/>
          <p:nvPr/>
        </p:nvPicPr>
        <p:blipFill>
          <a:blip r:embed="rId2"/>
          <a:stretch/>
        </p:blipFill>
        <p:spPr>
          <a:xfrm>
            <a:off x="3851280" y="2982960"/>
            <a:ext cx="2405160" cy="14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Коллекции и коллекционеры Лев и солнце"/>
          <p:cNvPicPr/>
          <p:nvPr/>
        </p:nvPicPr>
        <p:blipFill>
          <a:blip r:embed="rId3"/>
          <a:stretch/>
        </p:blipFill>
        <p:spPr>
          <a:xfrm>
            <a:off x="5724360" y="4443480"/>
            <a:ext cx="2484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ДЕНЬГИ НА РУС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Но долгое время основной являлась единицей расчета оставалась копейка – маленькая серебряная монета с изображением всадника с копьем. Отсюда и ее название – КОПЕЙКА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70" name="Picture 2" descr="Форум для : 478 лет назад в денежном обращении появилась копейка."/>
          <p:cNvPicPr/>
          <p:nvPr/>
        </p:nvPicPr>
        <p:blipFill>
          <a:blip r:embed="rId1"/>
          <a:stretch/>
        </p:blipFill>
        <p:spPr>
          <a:xfrm>
            <a:off x="900000" y="3417840"/>
            <a:ext cx="3527640" cy="256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LanZone"/>
          <p:cNvPicPr/>
          <p:nvPr/>
        </p:nvPicPr>
        <p:blipFill>
          <a:blip r:embed="rId2"/>
          <a:stretch/>
        </p:blipFill>
        <p:spPr>
          <a:xfrm>
            <a:off x="4670280" y="3354480"/>
            <a:ext cx="34988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БУМАЖНЫЕ ДЕНЬГ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56144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Бумажные банкноты появились значительно позже и понемногу начали вытеснять своих металлических собратьев, так как были дешевле по производству и удобнее в обороте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74" name="Picture 2" descr="5 рублей, 1890, копия, типографское качество / Аукцион 240 /…"/>
          <p:cNvPicPr/>
          <p:nvPr/>
        </p:nvPicPr>
        <p:blipFill>
          <a:blip r:embed="rId1"/>
          <a:stretch/>
        </p:blipFill>
        <p:spPr>
          <a:xfrm>
            <a:off x="971640" y="3713040"/>
            <a:ext cx="3371760" cy="207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10 рублей, 1918 / Аукцион 136 / БУМАЖНЫЕ ДЕНЬГИ (БОНЫ) * Россия 1917 - 1991 / Код 19573 - Нумизматический аукцион. Покупка, прод"/>
          <p:cNvPicPr/>
          <p:nvPr/>
        </p:nvPicPr>
        <p:blipFill>
          <a:blip r:embed="rId2"/>
          <a:stretch/>
        </p:blipFill>
        <p:spPr>
          <a:xfrm>
            <a:off x="4890960" y="3716280"/>
            <a:ext cx="32194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СОВРЕМЕННЫЕ ДЕНЬГ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561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В современной России люди пользуются как металлическими, так и бумажными деньгами. А называются они, как и много лет назад – КОПЕЙКА и РУБЛЬ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78" name="Picture 6" descr="Ижевчане могут заработать до 100 тысяч рублей на 50-копеечных монетах &quot; Новости Ижевска и Удмуртии, новости России и мира - на с"/>
          <p:cNvPicPr/>
          <p:nvPr/>
        </p:nvPicPr>
        <p:blipFill>
          <a:blip r:embed="rId1"/>
          <a:stretch/>
        </p:blipFill>
        <p:spPr>
          <a:xfrm>
            <a:off x="4427640" y="2938320"/>
            <a:ext cx="1625400" cy="162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2 рубля"/>
          <p:cNvPicPr/>
          <p:nvPr/>
        </p:nvPicPr>
        <p:blipFill>
          <a:blip r:embed="rId2"/>
          <a:stretch/>
        </p:blipFill>
        <p:spPr>
          <a:xfrm>
            <a:off x="2771640" y="292572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Фото - ИЩУ МОНЕТЫ 10 рублевые - Dirgo"/>
          <p:cNvPicPr/>
          <p:nvPr/>
        </p:nvPicPr>
        <p:blipFill>
          <a:blip r:embed="rId3"/>
          <a:stretch/>
        </p:blipFill>
        <p:spPr>
          <a:xfrm>
            <a:off x="6372360" y="2965320"/>
            <a:ext cx="1576080" cy="1576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1 рубль - это особая монета. Он не так прост, и не так дешев…"/>
          <p:cNvPicPr/>
          <p:nvPr/>
        </p:nvPicPr>
        <p:blipFill>
          <a:blip r:embed="rId4"/>
          <a:stretch/>
        </p:blipFill>
        <p:spPr>
          <a:xfrm>
            <a:off x="1244520" y="29653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Экспертиза наличных денежных средств, определение платежеспо…"/>
          <p:cNvPicPr/>
          <p:nvPr/>
        </p:nvPicPr>
        <p:blipFill>
          <a:blip r:embed="rId5"/>
          <a:stretch/>
        </p:blipFill>
        <p:spPr>
          <a:xfrm>
            <a:off x="1449360" y="484344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Факты о России : Факты с фильтрацией по метке монеты"/>
          <p:cNvPicPr/>
          <p:nvPr/>
        </p:nvPicPr>
        <p:blipFill>
          <a:blip r:embed="rId6"/>
          <a:stretch/>
        </p:blipFill>
        <p:spPr>
          <a:xfrm>
            <a:off x="2905200" y="47480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Продам 10 копеек 2003г - 10 000 руб. объявление в Иркутске"/>
          <p:cNvPicPr/>
          <p:nvPr/>
        </p:nvPicPr>
        <p:blipFill>
          <a:blip r:embed="rId7"/>
          <a:stretch/>
        </p:blipFill>
        <p:spPr>
          <a:xfrm>
            <a:off x="4643280" y="4759200"/>
            <a:ext cx="1195560" cy="117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2" descr="Ищу работу на ЗП не менее 200 р. в час - Страница 4 - Ищу - Автофорум Ростова-на-Дону"/>
          <p:cNvPicPr/>
          <p:nvPr/>
        </p:nvPicPr>
        <p:blipFill>
          <a:blip r:embed="rId8"/>
          <a:stretch/>
        </p:blipFill>
        <p:spPr>
          <a:xfrm>
            <a:off x="6372360" y="4532400"/>
            <a:ext cx="15303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3:14:53Z</dcterms:created>
  <dc:creator>123</dc:creator>
  <dc:description/>
  <dc:language>en-US</dc:language>
  <cp:lastModifiedBy>Татьяна</cp:lastModifiedBy>
  <dcterms:modified xsi:type="dcterms:W3CDTF">2021-06-07T11:31:35Z</dcterms:modified>
  <cp:revision>24</cp:revision>
  <dc:subject/>
  <dc:title>Слайд 1</dc:title>
</cp:coreProperties>
</file>