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ACE5-A85F-490C-97CF-193556F21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757F-AAB3-4EA0-9582-497EDC4C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6366-797F-42B7-B902-D8312DF60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B47E-E392-48B5-AEAB-E624376E2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54CB-23F0-48CF-A4CF-3155D783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A3DF-9D70-4837-8F51-D40BE25B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79F2-E5AC-4C6A-99DA-5085CC7E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92EC-C29B-4107-9AF5-36FF96C6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A369-E080-4105-8EBA-04057CD6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80D4-F400-4BFD-A245-0DCC6FA4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BD31-146C-4522-8D96-168A75CF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D949-73EE-41BD-9665-A200BAD7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icago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icag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icag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icag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icag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icag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icag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icag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hicag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hicago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hicag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39C1-3FB7-418B-9AAF-5F0AE5652EF2}" type="slidenum">
              <a:rPr b="0" lang="ru-RU" sz="1200" spc="-1" strike="noStrike">
                <a:solidFill>
                  <a:srgbClr val="898989"/>
                </a:solidFill>
                <a:latin typeface="Chicag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915920"/>
            <a:ext cx="7561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254061"/>
                </a:solidFill>
                <a:latin typeface="Chicago"/>
                <a:ea typeface="BM spiral Cap Cyr"/>
              </a:rPr>
              <a:t>«Деньги. Денежные знаки»</a:t>
            </a:r>
            <a:endParaRPr b="0" lang="en-US" sz="46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hicago"/>
              </a:rPr>
              <a:t>СОВРЕМЕННЫЕ ДЕНЬГИ</a:t>
            </a:r>
            <a:endParaRPr b="0" lang="en-US" sz="40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56144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hicago"/>
              </a:rPr>
              <a:t>Бумажные купюры выпускаются разного достоинства, на них изображены достопримечательности нашей страны и известные личности.</a:t>
            </a:r>
            <a:endParaRPr b="0" lang="en-US" sz="2000" spc="-1" strike="noStrike">
              <a:solidFill>
                <a:srgbClr val="000000"/>
              </a:solidFill>
              <a:latin typeface="Chicago"/>
            </a:endParaRPr>
          </a:p>
        </p:txBody>
      </p:sp>
      <p:pic>
        <p:nvPicPr>
          <p:cNvPr id="88" name="Picture 12" descr="https://upload.wikimedia.org/wikipedia/commons/thumb/7/70/Banknote_10_rubles_%281997%29_front.jpg/1920px-Banknote_10_rubles_%281997%29_front.jpg"/>
          <p:cNvPicPr/>
          <p:nvPr/>
        </p:nvPicPr>
        <p:blipFill>
          <a:blip r:embed="rId1"/>
          <a:stretch/>
        </p:blipFill>
        <p:spPr>
          <a:xfrm>
            <a:off x="1187280" y="2924280"/>
            <a:ext cx="3097440" cy="1336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https://upload.wikimedia.org/wikipedia/commons/9/91/Banknote_50_rubles_%281997%29_front.jpg"/>
          <p:cNvPicPr/>
          <p:nvPr/>
        </p:nvPicPr>
        <p:blipFill>
          <a:blip r:embed="rId2"/>
          <a:stretch/>
        </p:blipFill>
        <p:spPr>
          <a:xfrm>
            <a:off x="1187280" y="4429080"/>
            <a:ext cx="3097440" cy="1362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6" descr="https://upload.wikimedia.org/wikipedia/commons/b/bc/Banknote_100_rubles_%281997%29_front.jpg"/>
          <p:cNvPicPr/>
          <p:nvPr/>
        </p:nvPicPr>
        <p:blipFill>
          <a:blip r:embed="rId3"/>
          <a:stretch/>
        </p:blipFill>
        <p:spPr>
          <a:xfrm>
            <a:off x="4932360" y="2940120"/>
            <a:ext cx="3033720" cy="1334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8" descr="https://upload.wikimedia.org/wikipedia/commons/thumb/8/8c/Banknote_500_rubles_%281997%29_front.jpg/1920px-Banknote_500_rubles_%281997%29_front.jpg"/>
          <p:cNvPicPr/>
          <p:nvPr/>
        </p:nvPicPr>
        <p:blipFill>
          <a:blip r:embed="rId4"/>
          <a:stretch/>
        </p:blipFill>
        <p:spPr>
          <a:xfrm>
            <a:off x="4932360" y="4481640"/>
            <a:ext cx="290844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hicago"/>
              </a:rPr>
              <a:t>СОВРЕМЕННЫЕ ДЕНЬГИ</a:t>
            </a:r>
            <a:endParaRPr b="0" lang="en-US" sz="40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561440" cy="28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hicago"/>
              </a:rPr>
              <a:t>На бумажных знаках РФ изображены: </a:t>
            </a:r>
            <a:endParaRPr b="0" lang="en-US" sz="20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hicago"/>
              </a:rPr>
              <a:t>10 руб. – мост через Енисей в Красноярске; </a:t>
            </a:r>
            <a:endParaRPr b="0" lang="en-US" sz="20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hicago"/>
              </a:rPr>
              <a:t>50 руб.- скульптура Ростральной колонны в Петербурге; </a:t>
            </a:r>
            <a:endParaRPr b="0" lang="en-US" sz="20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hicago"/>
              </a:rPr>
              <a:t>100 руб. – Большой театр в Москве; </a:t>
            </a:r>
            <a:endParaRPr b="0" lang="en-US" sz="20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hicago"/>
              </a:rPr>
              <a:t>500 руб. – памятник Петру 1 в Архангельске; </a:t>
            </a:r>
            <a:endParaRPr b="0" lang="en-US" sz="20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hicago"/>
              </a:rPr>
              <a:t>1000 руб. – памятник Ярославу Мудрому в Ярославле; </a:t>
            </a:r>
            <a:endParaRPr b="0" lang="en-US" sz="20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hicago"/>
              </a:rPr>
              <a:t>5000 руб. – памятник Муравьеву-Амурскому в Хабаровске.</a:t>
            </a:r>
            <a:endParaRPr b="0" lang="en-US" sz="2000" spc="-1" strike="noStrike">
              <a:solidFill>
                <a:srgbClr val="000000"/>
              </a:solidFill>
              <a:latin typeface="Chicago"/>
            </a:endParaRPr>
          </a:p>
        </p:txBody>
      </p:sp>
      <p:pic>
        <p:nvPicPr>
          <p:cNvPr id="94" name="Picture 8" descr="https://upload.wikimedia.org/wikipedia/commons/thumb/d/d9/Banknote_1000_rubles_%281997%29_front.jpg/1920px-Banknote_1000_rubles_%281997%29_front.jpg"/>
          <p:cNvPicPr/>
          <p:nvPr/>
        </p:nvPicPr>
        <p:blipFill>
          <a:blip r:embed="rId1"/>
          <a:stretch/>
        </p:blipFill>
        <p:spPr>
          <a:xfrm>
            <a:off x="1177920" y="4546440"/>
            <a:ext cx="2881440" cy="1251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https://upload.wikimedia.org/wikipedia/commons/thumb/e/e3/Banknote_5000_rubles_%281997%29_front.jpg/1920px-Banknote_5000_rubles_%281997%29_front.jpg"/>
          <p:cNvPicPr/>
          <p:nvPr/>
        </p:nvPicPr>
        <p:blipFill>
          <a:blip r:embed="rId2"/>
          <a:stretch/>
        </p:blipFill>
        <p:spPr>
          <a:xfrm>
            <a:off x="4859280" y="4546440"/>
            <a:ext cx="2881440" cy="12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Chicago"/>
              </a:rPr>
              <a:t>ПРЕДМЕТЫ, КОТОРЫЕ НУЖНЫ ЛЮДЯМ</a:t>
            </a: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pic>
        <p:nvPicPr>
          <p:cNvPr id="43" name="Picture 2" descr="Цивилизации и культура &quot; uaisp.ru - Фото катастроф, Фен Шуй, Вселенная, Тусовка знаменитостей, Цивилизации и культура, Философия"/>
          <p:cNvPicPr/>
          <p:nvPr/>
        </p:nvPicPr>
        <p:blipFill>
          <a:blip r:embed="rId1"/>
          <a:stretch/>
        </p:blipFill>
        <p:spPr>
          <a:xfrm>
            <a:off x="839880" y="2363760"/>
            <a:ext cx="2354040" cy="1596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Коммунисты предложили снизить цены на хлеб и электроэнергию - Политика - NewsUkraine"/>
          <p:cNvPicPr/>
          <p:nvPr/>
        </p:nvPicPr>
        <p:blipFill>
          <a:blip r:embed="rId2"/>
          <a:stretch/>
        </p:blipFill>
        <p:spPr>
          <a:xfrm>
            <a:off x="3492360" y="2381400"/>
            <a:ext cx="2028960" cy="1596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Фотобанк ClipArtBank.ru,продажа лицензионных фотографий в России Русский фотосток,фотоклипарт российский.Купить лицензионные фот"/>
          <p:cNvPicPr/>
          <p:nvPr/>
        </p:nvPicPr>
        <p:blipFill>
          <a:blip r:embed="rId3"/>
          <a:stretch/>
        </p:blipFill>
        <p:spPr>
          <a:xfrm>
            <a:off x="5796000" y="2346480"/>
            <a:ext cx="2446200" cy="1631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Лента записей из дневника блогера Пингвинутый на всю голову. Страница 97 :: BlogRider.ru"/>
          <p:cNvPicPr/>
          <p:nvPr/>
        </p:nvPicPr>
        <p:blipFill>
          <a:blip r:embed="rId4"/>
          <a:stretch/>
        </p:blipFill>
        <p:spPr>
          <a:xfrm>
            <a:off x="1835280" y="4106880"/>
            <a:ext cx="2438280" cy="1905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Новости &quot; Страница 38 &quot; TechCUBE - Свежие новости мира высоких технологий"/>
          <p:cNvPicPr/>
          <p:nvPr/>
        </p:nvPicPr>
        <p:blipFill>
          <a:blip r:embed="rId5"/>
          <a:stretch/>
        </p:blipFill>
        <p:spPr>
          <a:xfrm>
            <a:off x="4748040" y="4081320"/>
            <a:ext cx="259272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hicago"/>
              </a:rPr>
              <a:t>КАК ПОЛУЧИТЬ ТО, </a:t>
            </a:r>
            <a:br>
              <a:rPr sz="4000"/>
            </a:br>
            <a:r>
              <a:rPr b="1" lang="ru-RU" sz="4000" spc="-1" strike="noStrike">
                <a:solidFill>
                  <a:srgbClr val="376092"/>
                </a:solidFill>
                <a:latin typeface="Chicago"/>
              </a:rPr>
              <a:t>ЧТО ХОЧЕТСЯ?</a:t>
            </a:r>
            <a:endParaRPr b="0" lang="en-US" sz="40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756144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hicago"/>
              </a:rPr>
              <a:t>Можно обменяться или купить за деньги</a:t>
            </a:r>
            <a:endParaRPr b="0" lang="en-US" sz="2000" spc="-1" strike="noStrike">
              <a:solidFill>
                <a:srgbClr val="000000"/>
              </a:solidFill>
              <a:latin typeface="Chicago"/>
            </a:endParaRPr>
          </a:p>
        </p:txBody>
      </p:sp>
      <p:pic>
        <p:nvPicPr>
          <p:cNvPr id="50" name="Picture 2" descr="дети обмениваются игрушками &quot; Мамин Интерес"/>
          <p:cNvPicPr/>
          <p:nvPr/>
        </p:nvPicPr>
        <p:blipFill>
          <a:blip r:embed="rId1"/>
          <a:srcRect l="0" t="-10139" r="0" b="0"/>
          <a:stretch/>
        </p:blipFill>
        <p:spPr>
          <a:xfrm>
            <a:off x="971640" y="3068640"/>
            <a:ext cx="3406680" cy="2443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Как купить автомобиль и &quot;не сесть в галошу&quot; Автосервис Механика г.Киров"/>
          <p:cNvPicPr/>
          <p:nvPr/>
        </p:nvPicPr>
        <p:blipFill>
          <a:blip r:embed="rId2"/>
          <a:srcRect l="-1317" t="0" r="0" b="0"/>
          <a:stretch/>
        </p:blipFill>
        <p:spPr>
          <a:xfrm>
            <a:off x="4710240" y="3284640"/>
            <a:ext cx="331776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hicago"/>
              </a:rPr>
              <a:t>ЧТО ТАКОЕ ДЕНЬГИ?</a:t>
            </a:r>
            <a:endParaRPr b="0" lang="en-US" sz="40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756144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hicago"/>
              </a:rPr>
              <a:t>Деньги – это то, что используют люди для покупки нужных вещей и предметов. Это то, что они получают за свой труд.</a:t>
            </a:r>
            <a:endParaRPr b="0" lang="en-US" sz="2000" spc="-1" strike="noStrike">
              <a:solidFill>
                <a:srgbClr val="000000"/>
              </a:solidFill>
              <a:latin typeface="Chicago"/>
            </a:endParaRPr>
          </a:p>
        </p:txBody>
      </p:sp>
      <p:pic>
        <p:nvPicPr>
          <p:cNvPr id="54" name="Picture 2" descr="CHEB.net: Работникам культуры в Чувашии в этом году поднимут зарплату за счет объединения организаций и сокращения сотрудников -"/>
          <p:cNvPicPr/>
          <p:nvPr/>
        </p:nvPicPr>
        <p:blipFill>
          <a:blip r:embed="rId1"/>
          <a:stretch/>
        </p:blipFill>
        <p:spPr>
          <a:xfrm>
            <a:off x="1390680" y="2781360"/>
            <a:ext cx="63817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Chicago"/>
              </a:rPr>
              <a:t>ИСТОРИЯ ВОЗНИКНОВЕНИЯ ДЕНЕГ</a:t>
            </a:r>
            <a:endParaRPr b="0" lang="en-US" sz="3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75880" y="1628280"/>
            <a:ext cx="751212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hicago"/>
              </a:rPr>
              <a:t>Много лет назад бумажных и металлических денег не было. Для получения нужных товаров люди обменивались на то, что ценилось. Вместо денег использовали:</a:t>
            </a:r>
            <a:endParaRPr b="0" lang="en-US" sz="2000" spc="-1" strike="noStrike">
              <a:solidFill>
                <a:srgbClr val="000000"/>
              </a:solidFill>
              <a:latin typeface="Chicago"/>
            </a:endParaRPr>
          </a:p>
        </p:txBody>
      </p:sp>
      <p:pic>
        <p:nvPicPr>
          <p:cNvPr id="57" name="Picture 2" descr="Самогон рисовый Supersadovod - о саде и огороде просто и интересно"/>
          <p:cNvPicPr/>
          <p:nvPr/>
        </p:nvPicPr>
        <p:blipFill>
          <a:blip r:embed="rId1"/>
          <a:stretch/>
        </p:blipFill>
        <p:spPr>
          <a:xfrm>
            <a:off x="876240" y="3141720"/>
            <a:ext cx="2090880" cy="1338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Павлодар Электронный город"/>
          <p:cNvPicPr/>
          <p:nvPr/>
        </p:nvPicPr>
        <p:blipFill>
          <a:blip r:embed="rId2"/>
          <a:stretch/>
        </p:blipFill>
        <p:spPr>
          <a:xfrm>
            <a:off x="6084720" y="3084480"/>
            <a:ext cx="2028960" cy="1352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Почему в морской ракушке слышно как шумят волны?"/>
          <p:cNvPicPr/>
          <p:nvPr/>
        </p:nvPicPr>
        <p:blipFill>
          <a:blip r:embed="rId3"/>
          <a:stretch/>
        </p:blipFill>
        <p:spPr>
          <a:xfrm>
            <a:off x="3606840" y="309564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Обучение стилиста. Клуб, как стать стилистом."/>
          <p:cNvPicPr/>
          <p:nvPr/>
        </p:nvPicPr>
        <p:blipFill>
          <a:blip r:embed="rId4"/>
          <a:stretch/>
        </p:blipFill>
        <p:spPr>
          <a:xfrm>
            <a:off x="1925640" y="4668840"/>
            <a:ext cx="1616040" cy="1292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Что подарить девушке на 8 марта - 16 Ноября 2013 - Блог - Интересно в Жизне"/>
          <p:cNvPicPr/>
          <p:nvPr/>
        </p:nvPicPr>
        <p:blipFill>
          <a:blip r:embed="rId5"/>
          <a:stretch/>
        </p:blipFill>
        <p:spPr>
          <a:xfrm>
            <a:off x="3949560" y="4613400"/>
            <a:ext cx="1114560" cy="1404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Грецкий орех - Flavour Art - Электронные сигареты и жидкости в Иваново"/>
          <p:cNvPicPr/>
          <p:nvPr/>
        </p:nvPicPr>
        <p:blipFill>
          <a:blip r:embed="rId6"/>
          <a:stretch/>
        </p:blipFill>
        <p:spPr>
          <a:xfrm>
            <a:off x="5514840" y="4668840"/>
            <a:ext cx="171792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hicago"/>
              </a:rPr>
              <a:t>ДЕНЬГИ НА РУСИ</a:t>
            </a:r>
            <a:endParaRPr b="0" lang="en-US" sz="40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hicago"/>
              </a:rPr>
              <a:t>Сначала на Руси использовали заграничные монеты, а потом стали чеканить свои – гривны. Гривну можно было разрубить на несколько частей и получить монеты меньшего достоинства. От слова «рубить» и появилось современное название РУБЛЬ.</a:t>
            </a:r>
            <a:endParaRPr b="0" lang="en-US" sz="2000" spc="-1" strike="noStrike">
              <a:solidFill>
                <a:srgbClr val="000000"/>
              </a:solidFill>
              <a:latin typeface="Chicago"/>
            </a:endParaRPr>
          </a:p>
        </p:txBody>
      </p:sp>
      <p:pic>
        <p:nvPicPr>
          <p:cNvPr id="65" name="Picture 2" descr="Дирхемы Орды.Ханы разные.(до 15.07.12 в 22:00) - Форум Нумизмат.ru - все о нумизматике, монетах и нумизматах"/>
          <p:cNvPicPr/>
          <p:nvPr/>
        </p:nvPicPr>
        <p:blipFill>
          <a:blip r:embed="rId1"/>
          <a:stretch/>
        </p:blipFill>
        <p:spPr>
          <a:xfrm>
            <a:off x="1042920" y="3127320"/>
            <a:ext cx="2678040" cy="2631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odexmartialis.com * View topic - Medieval Polish Government"/>
          <p:cNvPicPr/>
          <p:nvPr/>
        </p:nvPicPr>
        <p:blipFill>
          <a:blip r:embed="rId2"/>
          <a:stretch/>
        </p:blipFill>
        <p:spPr>
          <a:xfrm>
            <a:off x="3851280" y="2982960"/>
            <a:ext cx="2405160" cy="14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Коллекции и коллекционеры Лев и солнце"/>
          <p:cNvPicPr/>
          <p:nvPr/>
        </p:nvPicPr>
        <p:blipFill>
          <a:blip r:embed="rId3"/>
          <a:stretch/>
        </p:blipFill>
        <p:spPr>
          <a:xfrm>
            <a:off x="5724360" y="4443480"/>
            <a:ext cx="248472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hicago"/>
              </a:rPr>
              <a:t>ДЕНЬГИ НА РУСИ</a:t>
            </a:r>
            <a:endParaRPr b="0" lang="en-US" sz="40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hicago"/>
              </a:rPr>
              <a:t>Но долгое время основной являлась единицей расчета оставалась копейка – маленькая серебряная монета с изображением всадника с копьем. Отсюда и ее название – КОПЕЙКА.</a:t>
            </a:r>
            <a:endParaRPr b="0" lang="en-US" sz="2000" spc="-1" strike="noStrike">
              <a:solidFill>
                <a:srgbClr val="000000"/>
              </a:solidFill>
              <a:latin typeface="Chicago"/>
            </a:endParaRPr>
          </a:p>
        </p:txBody>
      </p:sp>
      <p:pic>
        <p:nvPicPr>
          <p:cNvPr id="70" name="Picture 2" descr="Форум для : 478 лет назад в денежном обращении появилась копейка."/>
          <p:cNvPicPr/>
          <p:nvPr/>
        </p:nvPicPr>
        <p:blipFill>
          <a:blip r:embed="rId1"/>
          <a:stretch/>
        </p:blipFill>
        <p:spPr>
          <a:xfrm>
            <a:off x="900000" y="3417840"/>
            <a:ext cx="3527640" cy="2567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LanZone"/>
          <p:cNvPicPr/>
          <p:nvPr/>
        </p:nvPicPr>
        <p:blipFill>
          <a:blip r:embed="rId2"/>
          <a:stretch/>
        </p:blipFill>
        <p:spPr>
          <a:xfrm>
            <a:off x="4670280" y="3354480"/>
            <a:ext cx="349884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hicago"/>
              </a:rPr>
              <a:t>БУМАЖНЫЕ ДЕНЬГИ</a:t>
            </a:r>
            <a:endParaRPr b="0" lang="en-US" sz="40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56144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hicago"/>
              </a:rPr>
              <a:t>Бумажные банкноты появились значительно позже и понемногу начали вытеснять своих металлических собратьев, так как были дешевле по производству и удобнее в обороте.</a:t>
            </a:r>
            <a:endParaRPr b="0" lang="en-US" sz="2000" spc="-1" strike="noStrike">
              <a:solidFill>
                <a:srgbClr val="000000"/>
              </a:solidFill>
              <a:latin typeface="Chicago"/>
            </a:endParaRPr>
          </a:p>
        </p:txBody>
      </p:sp>
      <p:pic>
        <p:nvPicPr>
          <p:cNvPr id="74" name="Picture 2" descr="5 рублей, 1890, копия, типографское качество / Аукцион 240 /…"/>
          <p:cNvPicPr/>
          <p:nvPr/>
        </p:nvPicPr>
        <p:blipFill>
          <a:blip r:embed="rId1"/>
          <a:stretch/>
        </p:blipFill>
        <p:spPr>
          <a:xfrm>
            <a:off x="971640" y="3713040"/>
            <a:ext cx="3371760" cy="2070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10 рублей, 1918 / Аукцион 136 / БУМАЖНЫЕ ДЕНЬГИ (БОНЫ) * Россия 1917 - 1991 / Код 19573 - Нумизматический аукцион. Покупка, прод"/>
          <p:cNvPicPr/>
          <p:nvPr/>
        </p:nvPicPr>
        <p:blipFill>
          <a:blip r:embed="rId2"/>
          <a:stretch/>
        </p:blipFill>
        <p:spPr>
          <a:xfrm>
            <a:off x="4890960" y="3716280"/>
            <a:ext cx="321948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hicago"/>
              </a:rPr>
              <a:t>СОВРЕМЕННЫЕ ДЕНЬГИ</a:t>
            </a:r>
            <a:endParaRPr b="0" lang="en-US" sz="40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56144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hicago"/>
              </a:rPr>
              <a:t>В современной России люди пользуются как металлическими, так и бумажными деньгами. А называются они, как и много лет назад – КОПЕЙКА и РУБЛЬ.</a:t>
            </a:r>
            <a:endParaRPr b="0" lang="en-US" sz="2000" spc="-1" strike="noStrike">
              <a:solidFill>
                <a:srgbClr val="000000"/>
              </a:solidFill>
              <a:latin typeface="Chicago"/>
            </a:endParaRPr>
          </a:p>
        </p:txBody>
      </p:sp>
      <p:pic>
        <p:nvPicPr>
          <p:cNvPr id="78" name="Picture 6" descr="Ижевчане могут заработать до 100 тысяч рублей на 50-копеечных монетах &quot; Новости Ижевска и Удмуртии, новости России и мира - на с"/>
          <p:cNvPicPr/>
          <p:nvPr/>
        </p:nvPicPr>
        <p:blipFill>
          <a:blip r:embed="rId1"/>
          <a:stretch/>
        </p:blipFill>
        <p:spPr>
          <a:xfrm>
            <a:off x="4427640" y="2938320"/>
            <a:ext cx="1625400" cy="1629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2 рубля"/>
          <p:cNvPicPr/>
          <p:nvPr/>
        </p:nvPicPr>
        <p:blipFill>
          <a:blip r:embed="rId2"/>
          <a:stretch/>
        </p:blipFill>
        <p:spPr>
          <a:xfrm>
            <a:off x="2771640" y="2925720"/>
            <a:ext cx="1346400" cy="1346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Фото - ИЩУ МОНЕТЫ 10 рублевые - Dirgo"/>
          <p:cNvPicPr/>
          <p:nvPr/>
        </p:nvPicPr>
        <p:blipFill>
          <a:blip r:embed="rId3"/>
          <a:stretch/>
        </p:blipFill>
        <p:spPr>
          <a:xfrm>
            <a:off x="6372360" y="2965320"/>
            <a:ext cx="1576080" cy="1576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4" descr="1 рубль - это особая монета. Он не так прост, и не так дешев…"/>
          <p:cNvPicPr/>
          <p:nvPr/>
        </p:nvPicPr>
        <p:blipFill>
          <a:blip r:embed="rId4"/>
          <a:stretch/>
        </p:blipFill>
        <p:spPr>
          <a:xfrm>
            <a:off x="1244520" y="29653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6" descr="Экспертиза наличных денежных средств, определение платежеспо…"/>
          <p:cNvPicPr/>
          <p:nvPr/>
        </p:nvPicPr>
        <p:blipFill>
          <a:blip r:embed="rId5"/>
          <a:stretch/>
        </p:blipFill>
        <p:spPr>
          <a:xfrm>
            <a:off x="1449360" y="4843440"/>
            <a:ext cx="784080" cy="784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8" descr="Факты о России : Факты с фильтрацией по метке монеты"/>
          <p:cNvPicPr/>
          <p:nvPr/>
        </p:nvPicPr>
        <p:blipFill>
          <a:blip r:embed="rId6"/>
          <a:stretch/>
        </p:blipFill>
        <p:spPr>
          <a:xfrm>
            <a:off x="2905200" y="474804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0" descr="Продам 10 копеек 2003г - 10 000 руб. объявление в Иркутске"/>
          <p:cNvPicPr/>
          <p:nvPr/>
        </p:nvPicPr>
        <p:blipFill>
          <a:blip r:embed="rId7"/>
          <a:stretch/>
        </p:blipFill>
        <p:spPr>
          <a:xfrm>
            <a:off x="4643280" y="4759200"/>
            <a:ext cx="1195560" cy="1176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2" descr="Ищу работу на ЗП не менее 200 р. в час - Страница 4 - Ищу - Автофорум Ростова-на-Дону"/>
          <p:cNvPicPr/>
          <p:nvPr/>
        </p:nvPicPr>
        <p:blipFill>
          <a:blip r:embed="rId8"/>
          <a:stretch/>
        </p:blipFill>
        <p:spPr>
          <a:xfrm>
            <a:off x="6372360" y="4532400"/>
            <a:ext cx="153036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0T13:14:53Z</dcterms:created>
  <dc:creator>123</dc:creator>
  <dc:description/>
  <dc:language>en-US</dc:language>
  <cp:lastModifiedBy>Татьяна</cp:lastModifiedBy>
  <dcterms:modified xsi:type="dcterms:W3CDTF">2021-06-07T11:31:35Z</dcterms:modified>
  <cp:revision>24</cp:revision>
  <dc:subject/>
  <dc:title>Слайд 1</dc:title>
</cp:coreProperties>
</file>