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4C6D-0E92-4D8C-8BB1-17611E175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89A2-9F9C-41E3-A19C-BAC6BD7D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5E612-03D5-4010-AC31-17AAF79C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D5F4A-E363-4D04-BFE3-9BA68BF9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D52447-83C0-4899-B7BF-71191147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5523A9-9CB0-4765-9F44-9323465B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84648E-8B87-4871-BDBD-A8440D15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E5BA10-25AD-4B0B-859C-41C40CCC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C13FDC-172C-4EFD-97AB-8AE66CA8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26D68A-AB79-4B01-9820-B948536C3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21CDA2-B986-4A27-BF5F-7FDFFCD56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F47153-C0BA-4FE6-996E-12D9AC865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DDD9-836B-4008-A9DA-3252AFB2B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91B38-22B0-4DE0-8296-3BFE259B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E78794-6BAF-4942-9913-C708DD88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4430A0-1108-4BCF-B461-C8C4097B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181869-EE56-47BD-8B5C-B67312A2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8E01C0-0287-4DE5-BDFA-2983C04B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DECB22-6A61-41A8-AE71-F65DB344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0B452F-987B-48F2-BC3E-90CA2581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6364DC-43CA-4921-8234-B76EAF08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AB4802-A311-45A3-9B06-877AEE1D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DB7CA8-FB81-4DBC-A699-0A852C597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8575-757A-4071-ACC7-A19313331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45E923-7EFD-4E79-8538-F47DB593A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C4E07-6F05-4B86-B5C4-3EF6FAFDD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06CEF0-A7E5-4564-BFC3-D8519382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6532D-2572-4201-9203-7A097B6D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1BB03E-F86E-4C51-9F81-3EFE71C2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E7C194-FD36-4279-BE75-49ACB57B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6A549B-DB85-4A9C-B404-ADB3A3C4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A4542-FB52-4DEC-926B-4F850AA1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8C7BE8-8A70-4176-B70B-10F46FD0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A941A8-F6E5-45A4-947A-23FB4B62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ACEC-F8E5-4D1F-AE11-F6CEEFEF2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BDFDDB-3B33-4091-BDF0-5DC5DF47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556E8-F44D-45F3-A839-7C3D7A032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2CC9D-4235-44B7-9856-CF6C5FE21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1844B4-FD58-4E3B-AD10-68609AB2F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CF685C-3DC3-490F-B674-4E80960D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971375-5AF4-4D45-B52D-1E1CFE7E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B56BD1-7B99-4EA4-854C-4559AAE7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57B3A2-049C-41CF-818A-13C82517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A3DFD4-AB97-4C3D-B5FF-B05D7C3F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55FE6B-671F-4C90-97FA-71898246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98003-1CA3-426D-A65C-3754C70F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E3C2E8-E953-41A8-AC13-E602E620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D7D0B0-1996-441B-A646-AE8DF60E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4CAD58-242C-43A0-A7B3-1DDCAE25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55F6C3-9CFB-43AC-9D62-AC579C676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51D07C-117E-4A1F-8921-73DB67B0B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922DA0-30D6-4731-B804-0FB8C213E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08C7B2-939E-43FB-8470-45F07B19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29569A-82AE-4F45-9011-D2DE78A7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0CB5F0-232E-4E3B-A098-E51496E6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C40CC0-FCE7-4246-95AF-0900A74E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3FDB-D687-4F73-BB22-34AE1328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E36D21-9444-48AF-89A0-92323835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74324E-E1D7-4974-AA42-4957F669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323AF1-A7C5-4CE4-8265-2F6CA795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62AE17-809D-4A6F-8A9F-52C613DF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F1D4D4-525E-4005-B382-B41DAFE7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E021FD-2E58-459F-997C-DA6D9FD63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02B00D-BFD4-4B41-8C28-634C6F89B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7BBD-50E1-4FB5-87D4-C2ED46C3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5EEC-40B0-4ACF-9820-70D014E2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43F0-4C0B-47CE-A696-186244C5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925D-ECFE-45F0-894F-AB9562A4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229A-EA02-4A2D-8367-B93AEEED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045D-0133-420C-A26C-C82BB768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90AE1-1A90-43DE-8ED0-6089EA84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FED72-9343-4CF3-BC94-6152EAD0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400A4-6A8B-43DA-B4BC-7F1DCA2F0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E102-3133-4533-B944-0E8B87819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60B7C-6D55-4B95-A4A4-6A04FBD09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FA040-BF74-44A3-BDA2-161FC0AC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13DA0-E42B-49DF-9249-E41CD345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5ED6D-5421-4F07-8438-F1A47CCC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38311-74A1-47B7-A038-59241C77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64B7-6869-4219-A55B-866A41F2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5AF2B-A040-4CF1-88BF-CE1497EC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0BF64-1143-4495-BA38-C0BC3D9D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2E6C4-170C-4F2B-B9E0-74B20AA5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C00EE-5EE7-4B31-841C-F36A40FB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96EBB-4CFB-44D5-8FBB-03C38E2B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758D3-BABB-4D1F-AFAF-77011E66A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ADF64-C11D-484B-BDBF-E80DD65AC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3EFC7-4A4B-42F6-89C2-4B10EDA06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36202-8594-4E26-9366-1169FA5F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1DE62-42E0-41D7-A376-EEF77B28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D6D1-4D42-4837-B4AB-334D476C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4F0E5-383A-4458-AC93-E8D5F64B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C3F6D-E802-4771-BBD7-5278A808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1B4F6-4EA9-4678-A2A5-4D396915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78FD1-DFA8-4DB3-B734-A4980EFA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EBA8D-899E-4BAB-B089-DAA9FFE0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07164-0B6F-4C8A-A4E9-B432B0F2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99E73-DE96-4B8F-BD5F-E75AB56D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A32BE-1F37-4C4D-8B3F-4B26F4067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FA285-C63C-4FD3-B0BC-33D20E36E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0FC4A-AF4B-435D-83D8-0126CCF35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C3F1-58A7-4167-883B-0DCEB78E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9830A-2CA8-41DD-9CE3-9C377E15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7D253-DBC8-4CE2-ACA4-80D49A94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3B6F0-7D86-44DC-8171-BD6452ED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78E78-ADBE-4745-AB77-642FFB0F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9A161-0FD2-4C58-A357-73875449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0459A-75F1-43D6-9CFB-E9DD4797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F2130-5ECE-4233-B8EE-D075B54D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DDD51-0A25-4C88-B901-57364D83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CDF4F-1C9F-4600-9B41-63843EAB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2519F-F5F4-45DB-B8F9-348A8A86B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09FE-5B7B-45AC-AF89-23499D5C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F225C-D699-4A8C-80E1-301337F49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233B8-AF18-42F2-B47B-AD4484CBA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972DE-1C3A-468F-875A-D5B85865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19E24-9072-4754-B9E2-A3D718DA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4AD38-0B1F-4FF6-AD85-369A6740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FA675-8768-471A-B636-0D84655B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523D3-0B77-4F7D-81AA-077BD930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66331-345B-43B0-B5BF-3F645074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0D50A-5D42-4A9D-8FE6-C2A8D181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3EE18-1239-4516-A898-A3DBBA58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7C99-2CF8-42E5-A25E-ADEFFA97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4C31E-9952-46FE-87DF-450CA9DD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8A406-7FF4-4F8E-A568-ADBE82CDD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4777D-3DB7-4388-B6B0-FF60E630C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03BC1-148C-4B05-81FC-3ADF41122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92489-45B7-438E-80C9-D5F553FF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CD5E2-A5E1-4845-80AF-0F0C5071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DBF0B-0F89-4CFC-BC23-BDFD5D3F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B12C2-D9F5-4CE9-9FD3-340A5653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92CEB-C292-4F00-BEDB-8AA1CA63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97DCD-E67D-4B62-BA60-7E18B398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E853-E39E-4649-BA60-B7B0A6EE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E620D-72B0-4C74-BB55-59FB7A07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121CF-1D0C-4423-9292-E2911305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83269-B5D6-40ED-B92A-64F6296E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314F1-18B8-4124-A30F-9C22FA30B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2E8BC-2B55-4FEC-BE70-5CB791EC7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37586-170D-45E9-807E-D26AC35AF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33559-F45D-475C-8DA7-AE767D48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90325-2221-45E7-9D2E-BAD0E49C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83EC1-6B44-46FE-BE44-B5F4C3C8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7BCD6-5183-4700-B28D-C37E720B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A838-3E79-414A-85AB-28246476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E56D9-A8A3-463B-9F83-2AE40796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97BB6-C9F9-4F4D-9A71-B2309D9E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5238E-A2A3-4DAE-A5EB-347285DC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8AA00-0292-4DA3-8A5B-87F56B2F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B5B58-E276-42E4-8760-11AF3629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62719-309B-4746-8ADE-2A4140226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7AB36-C90A-470E-89AD-2963B8296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A7CD13-9398-4ECB-AD3A-DF4EEC800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A5031C-AE93-459F-A9E0-7AF9B33D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C286F2-4A5C-42EA-8659-E49BB352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EFE5-15EF-4C3F-AFA4-747B13C5C1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BF27-0B92-474A-9425-336A45BF30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3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3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44EB-2F20-47F5-A7FE-B70F020087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3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3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A6FD-A2CC-4D22-91C4-7B2838AE3D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5EA3-B752-43C3-9857-A1A319A049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D867-A237-43D0-A1A7-C9F8744B951E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BECD-0CFC-4F24-838B-018FC0F39C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9691-BD72-46E7-80DD-2DB8636C71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D8B2-9AA4-40E7-9214-B7FA26D5CA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305A-AD37-4FF4-B1C5-D642CFB48B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96E5-1948-4BDF-88BC-239D3944F2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60A1-1C4C-4204-9578-109ABE204A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559B-8273-493E-88D9-BF359153DB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2133360"/>
            <a:ext cx="7772400" cy="199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6600"/>
                </a:solidFill>
                <a:latin typeface="Tahoma"/>
              </a:rPr>
              <a:t>Организация игровой среды в Клубе раннего развития </a:t>
            </a:r>
            <a:br>
              <a:rPr sz="3600"/>
            </a:br>
            <a:r>
              <a:rPr b="1" lang="ru-RU" sz="3600" spc="-1" strike="noStrike">
                <a:solidFill>
                  <a:srgbClr val="cc6600"/>
                </a:solidFill>
                <a:latin typeface="Tahoma"/>
              </a:rPr>
              <a:t>«В большой мир вместе с мамой»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038480" y="457164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45d00"/>
                </a:solidFill>
                <a:latin typeface="Arial"/>
                <a:ea typeface="Arial"/>
              </a:rPr>
              <a:t>Рахметова Елена Анатолье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45d00"/>
                </a:solidFill>
                <a:latin typeface="Arial"/>
                <a:ea typeface="Arial"/>
              </a:rPr>
              <a:t>Инструктор по физической культур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Заголовок 1"/>
          <p:cNvSpPr/>
          <p:nvPr/>
        </p:nvSpPr>
        <p:spPr>
          <a:xfrm>
            <a:off x="609480" y="838080"/>
            <a:ext cx="779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45d00"/>
                </a:solidFill>
                <a:latin typeface="Arial"/>
              </a:rPr>
              <a:t>СП ГБОУ СОШ №1 «ОЦ» с. Кинель-Черкассы Самарской области детский сад «Василек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Режиссерские игр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ействующими лицами в ней выступают не другие люди, а игрушки, изображающие различных персонаже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0" name="Содержимое 11" descr="72_devochka_chaynuy_serviz.jpg"/>
          <p:cNvPicPr/>
          <p:nvPr/>
        </p:nvPicPr>
        <p:blipFill>
          <a:blip r:embed="rId1"/>
          <a:stretch/>
        </p:blipFill>
        <p:spPr>
          <a:xfrm>
            <a:off x="4648320" y="2666880"/>
            <a:ext cx="4190760" cy="3429000"/>
          </a:xfrm>
          <a:prstGeom prst="rect">
            <a:avLst/>
          </a:prstGeom>
          <a:ln w="0">
            <a:noFill/>
          </a:ln>
        </p:spPr>
      </p:pic>
      <p:pic>
        <p:nvPicPr>
          <p:cNvPr id="581" name="Содержимое 10" descr="60137.jpg"/>
          <p:cNvPicPr/>
          <p:nvPr/>
        </p:nvPicPr>
        <p:blipFill>
          <a:blip r:embed="rId2"/>
          <a:stretch/>
        </p:blipFill>
        <p:spPr>
          <a:xfrm>
            <a:off x="228600" y="2633760"/>
            <a:ext cx="4268880" cy="34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  <a:ea typeface="Arial"/>
              </a:rPr>
              <a:t>Сюжетно-ролевые игр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сюжетно-ролевой игре дети берут на себя те или иные функции взрослых людей и в специально создаваемых ими игровых, воображаемых условиях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4" name="Содержимое 7" descr="0005-001-Teatr-tvorchestvo-deti.jpg"/>
          <p:cNvPicPr/>
          <p:nvPr/>
        </p:nvPicPr>
        <p:blipFill>
          <a:blip r:embed="rId1"/>
          <a:stretch/>
        </p:blipFill>
        <p:spPr>
          <a:xfrm>
            <a:off x="457200" y="2806560"/>
            <a:ext cx="4040280" cy="328932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Содержимое 8" descr="2010-08-21_112831_enl.png"/>
          <p:cNvPicPr/>
          <p:nvPr/>
        </p:nvPicPr>
        <p:blipFill>
          <a:blip r:embed="rId2"/>
          <a:stretch/>
        </p:blipFill>
        <p:spPr>
          <a:xfrm>
            <a:off x="4645080" y="2819520"/>
            <a:ext cx="40417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  <a:ea typeface="Arial"/>
              </a:rPr>
              <a:t>Игры-путешествия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гры-путешествия можно проводить в любом месте, где есть пространство. Они не требуют специальной подготовки, так как допускают бесконечную импровизацию с учетом знаний дете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0" name="Содержимое 10" descr="14929.jpg"/>
          <p:cNvPicPr/>
          <p:nvPr/>
        </p:nvPicPr>
        <p:blipFill>
          <a:blip r:embed="rId1"/>
          <a:stretch/>
        </p:blipFill>
        <p:spPr>
          <a:xfrm>
            <a:off x="457200" y="2971800"/>
            <a:ext cx="3886200" cy="3124080"/>
          </a:xfrm>
          <a:prstGeom prst="rect">
            <a:avLst/>
          </a:prstGeom>
          <a:ln w="0">
            <a:noFill/>
          </a:ln>
        </p:spPr>
      </p:pic>
      <p:pic>
        <p:nvPicPr>
          <p:cNvPr id="591" name="Содержимое 11" descr="100_5077.JPG"/>
          <p:cNvPicPr/>
          <p:nvPr/>
        </p:nvPicPr>
        <p:blipFill>
          <a:blip r:embed="rId2"/>
          <a:stretch/>
        </p:blipFill>
        <p:spPr>
          <a:xfrm>
            <a:off x="4648320" y="2971800"/>
            <a:ext cx="40417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  <a:ea typeface="Arial"/>
              </a:rPr>
              <a:t>Заключени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53352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Неоспоримым является тот факт,  что игра – исторически сложившееся обобщенное явление, самостоятельный вид деятельности, который обладает полезным средством воспитания детей и подростков. Это определение более точно выявляет сущность игры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534520" cy="14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«Игра порождает радость,</a:t>
            </a:r>
            <a:br>
              <a:rPr sz="2800"/>
            </a:b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свободу, довольство, покой в себе</a:t>
            </a:r>
            <a:br>
              <a:rPr sz="2800"/>
            </a:b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и около себя, мир с миром»</a:t>
            </a:r>
            <a:br>
              <a:rPr sz="2800"/>
            </a:b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Фридрих Фребель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54" name="Picture 5" descr="IMG_1644"/>
          <p:cNvPicPr/>
          <p:nvPr/>
        </p:nvPicPr>
        <p:blipFill>
          <a:blip r:embed="rId1"/>
          <a:stretch/>
        </p:blipFill>
        <p:spPr>
          <a:xfrm>
            <a:off x="228600" y="2971800"/>
            <a:ext cx="4114800" cy="31021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4" descr="C:\Documents and Settings\ДОУ 24\Мои документы\ФОТО\О.Ю\IMG_2203.jpg"/>
          <p:cNvPicPr/>
          <p:nvPr/>
        </p:nvPicPr>
        <p:blipFill>
          <a:blip r:embed="rId2"/>
          <a:stretch/>
        </p:blipFill>
        <p:spPr>
          <a:xfrm>
            <a:off x="4648320" y="2971800"/>
            <a:ext cx="426708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13" descr="IMG_1660"/>
          <p:cNvPicPr/>
          <p:nvPr/>
        </p:nvPicPr>
        <p:blipFill>
          <a:blip r:embed="rId1"/>
          <a:stretch/>
        </p:blipFill>
        <p:spPr>
          <a:xfrm>
            <a:off x="5562720" y="4267080"/>
            <a:ext cx="3276360" cy="239400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3" descr="IMG_1580"/>
          <p:cNvPicPr/>
          <p:nvPr/>
        </p:nvPicPr>
        <p:blipFill>
          <a:blip r:embed="rId2"/>
          <a:stretch/>
        </p:blipFill>
        <p:spPr>
          <a:xfrm>
            <a:off x="304920" y="3962520"/>
            <a:ext cx="3657600" cy="258588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6" descr="C:\Documents and Settings\ДОУ 24\Рабочий стол\11 Дурягина\Фото103.jpg"/>
          <p:cNvPicPr/>
          <p:nvPr/>
        </p:nvPicPr>
        <p:blipFill>
          <a:blip r:embed="rId3"/>
          <a:stretch/>
        </p:blipFill>
        <p:spPr>
          <a:xfrm>
            <a:off x="3581280" y="2743200"/>
            <a:ext cx="3429000" cy="236844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Актуальность: Мы живем в эпоху кризисов и социальных перемен. Нашей стране нужны творческие, способные неординарно и нестандартно мыслить люди. Неординарный подход к решению заданий наиболее важен в дошкольном возрасте, так как в этот период развития ребенок воспринимает все особенно эмоционально, а различные игровые технологии, яркие, насыщенные занятия, основанные на развитии творческого мышления и воображения, помогут ему не потерять способность к творчеству.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4103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45d00"/>
                </a:solidFill>
                <a:latin typeface="Arial"/>
                <a:ea typeface="Arial"/>
              </a:rPr>
              <a:t>Цель: 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развитие творческих способностей детей путем создания условий для максимального развития способностей детей,  с применением специальных игровых педагогических технологий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685800" y="201780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вать познавательную активность, творческие способности, воображение, мышление, фантазию, коммуникативные навыки воспитанников дошкольного учреждения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здать и совершенствовать предметно-развивающую среду дошкольного учреждения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вать творческие способности  детей через игровую деятельность и интеграцию с другими видами деятель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304920" y="380520"/>
            <a:ext cx="853416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45d00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гра представляет собой особую деятельность, которая расцветает в детские годы и сопровождает человека на протяжении всей его жизни. Не удивительно, что проблема игры привлекала и привлекает к себе внимание исследователей: педагогов, психологов, философов, социологов, искусствоведов, биолог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45d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4" name="Picture 3" descr="C:\Documents and Settings\ДОУ 24\Мои документы\ФОТО\гр.№6\оля 107.jpg"/>
          <p:cNvPicPr/>
          <p:nvPr/>
        </p:nvPicPr>
        <p:blipFill>
          <a:blip r:embed="rId1"/>
          <a:stretch/>
        </p:blipFill>
        <p:spPr>
          <a:xfrm>
            <a:off x="2209680" y="3200400"/>
            <a:ext cx="41148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6389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6600"/>
                </a:solidFill>
                <a:latin typeface="Arial"/>
                <a:ea typeface="Arial"/>
              </a:rPr>
              <a:t>Функции игры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Развлекательная (развлечь, доставить удовольствие, пробудить интерес у ребенк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 Коммуникати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 Диагностическая (выявление отношений от нормального поведения, самопознание в процессе игры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. Коррекционная (внесение позитивных изменений в структуру личностных показателей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. Социализация (включение в систему общественных отношений, усвоение норм человеческого общежития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35920" cy="13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6600"/>
                </a:solidFill>
                <a:latin typeface="Arial"/>
                <a:ea typeface="Arial"/>
              </a:rPr>
              <a:t>Творческое развитие </a:t>
            </a:r>
            <a:br>
              <a:rPr sz="3600"/>
            </a:br>
            <a:r>
              <a:rPr b="1" lang="ru-RU" sz="3600" spc="-1" strike="noStrike">
                <a:solidFill>
                  <a:srgbClr val="cc6600"/>
                </a:solidFill>
                <a:latin typeface="Arial"/>
                <a:ea typeface="Arial"/>
              </a:rPr>
              <a:t>средствами игры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137160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Жизнь в эпоху научно-технического прогресса становится все разнообразнее и сложнее. И она требует от человека не шаблонных, привычных действий, 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творческого подхода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 решению пробле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чевидно, что творческие способности человека следует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читать самой существенной частью его интеллект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детстве именно игра  становитс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актором познавательного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чевого, двигательного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ворческого и социальног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я лично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9" name="Содержимое 6" descr="Tancy024_image.jpg"/>
          <p:cNvPicPr/>
          <p:nvPr/>
        </p:nvPicPr>
        <p:blipFill>
          <a:blip r:embed="rId1"/>
          <a:stretch/>
        </p:blipFill>
        <p:spPr>
          <a:xfrm>
            <a:off x="5410080" y="3886200"/>
            <a:ext cx="35816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Игра, развивающие творчество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71" name="Содержимое 3" descr=""/>
          <p:cNvPicPr/>
          <p:nvPr/>
        </p:nvPicPr>
        <p:blipFill>
          <a:blip r:embed="rId1"/>
          <a:stretch/>
        </p:blipFill>
        <p:spPr>
          <a:xfrm>
            <a:off x="689040" y="1292400"/>
            <a:ext cx="799776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Театрализованные игры 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(игры-драматизации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ктерами являются сами дети, которые берут на себя роли литературных или сказочных персонаже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4" name="Picture 2" descr="IMG_1585"/>
          <p:cNvPicPr/>
          <p:nvPr/>
        </p:nvPicPr>
        <p:blipFill>
          <a:blip r:embed="rId1"/>
          <a:stretch/>
        </p:blipFill>
        <p:spPr>
          <a:xfrm>
            <a:off x="228600" y="2743200"/>
            <a:ext cx="4267080" cy="335268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6" name="Содержимое 8" descr="89680138.jpg"/>
          <p:cNvPicPr/>
          <p:nvPr/>
        </p:nvPicPr>
        <p:blipFill>
          <a:blip r:embed="rId2"/>
          <a:stretch/>
        </p:blipFill>
        <p:spPr>
          <a:xfrm>
            <a:off x="4800600" y="2743200"/>
            <a:ext cx="40417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Пользователь Windows</cp:lastModifiedBy>
  <dcterms:modified xsi:type="dcterms:W3CDTF">2021-06-07T08:03:16Z</dcterms:modified>
  <cp:revision>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