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1F7E-A2A3-4F2C-B144-62F8AAE33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7954-C560-4A0C-9A4D-00A09B50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2A9EE5-3998-40FA-9E4F-AA35C4E3C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EC7208-15AE-4C86-B140-43BDB4B2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CE8888-99D4-408E-9285-5E99645A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D7C9AD-46C0-4A09-9E1F-628754DA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E0406E-D4DC-42F6-9F3A-5DBEA551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8916BC-2FDD-4736-8E54-46B1C83F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9C87B8-66D5-44B2-BB57-6947D6E5D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44D09A-DC5B-4D2A-B007-0838696C4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5487C0-340C-4EBC-B126-6A06075A3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631BA9-84E0-43E7-9184-213191940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9F17-7720-465E-A6CD-2A7732BE0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D87F2B-62E4-4E20-9B6C-1C984A0FC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6EC815-DADE-4580-B46E-D83D13576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F16B08-4D58-4D3C-B667-C171DFBD5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914977-1FD2-4384-80FC-168D06171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5F98C2-9F3A-4641-AD19-160181D34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623027-9A6C-4E74-99C1-160EEDCF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A6508D-3C37-489E-9839-F1E9B965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BC28D5-A768-4B3B-B6E4-BFF7B5AC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E7C283-9CEB-4DF2-A4D6-9A9622CBC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B991F8-A6D6-4B1B-B937-C6337899E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A8DE-D2F1-4EEC-B2FB-BECAFFA3D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6ACFBA-7B78-4686-9AE8-0C95042F6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B46F2D-3875-4C88-9272-F414D321D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27C16A-B33B-4B23-A2EE-CB92B1979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49894D-DC67-47F4-9650-DAC52C3DE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00E318-3CA5-4A3C-BAF1-150775FBC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197433-6633-4EC1-AA3F-0967F796D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D3B049-712A-4D05-B69A-DED3ECC1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2F4EE8-9B4E-4EC8-B1EE-3A27AC87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514EB6-5123-4F1A-B566-E97FBFCA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696798-A471-4ACB-9AEC-AB369B67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781BF-D17B-4F76-BD55-2BB39BF69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FA7CEC-2B4D-4DF9-95C6-2A60F9519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69B472-F966-4909-A948-ED6BB86E9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4DA83A-AC6F-441B-82DE-06255053A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1CC9A3-3F61-4C83-B397-AAFC8FD5A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9532F7-C860-4B52-BE44-D31F1C8F3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A85CB1-5BCC-4D37-9DFD-169A5595A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47861B-5FAE-4C22-97AF-CD28990D6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0741CF-E7CA-4587-869D-A1DDE9D94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D1934F-A664-4ADA-B62E-49224EFEC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020752-411A-4999-8557-543F8F4D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33EE1-C38B-43A2-B7DA-25004D3D9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7C8962-5A3B-4B64-A174-36CDA34A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619029-FD3E-4295-BEE2-DC4447420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4F4DDE-26CE-4FCC-8461-B8DF2244D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267564-9EA6-4E38-8E50-6A9D91C24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9BA33F-F99A-4B22-9F56-9F0562171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87C425-1721-47C7-A737-EA7068007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102207-9D8F-4091-B084-D59A64B9E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4DEA37-C7B9-469C-931B-1F032CFF6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6E8222-1F52-4869-BCFC-F593193BD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CE239A-FEB5-40A5-9793-5139ED595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4F925-A86C-4E6F-8DD8-66BF1C90A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9CB478-F23C-42A5-9C0F-427BAEB2D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640A37-556D-4743-9504-A0B2E70C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6B0BF7-F591-4B18-B83C-E8C31B87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24CCFE-2B7A-4F91-9014-BE095C35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7CC689-0ED6-4207-91D6-B141B9969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A18486-29ED-47DC-ACD6-EDA13E970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52B08B-CC0A-40CA-90C7-2107138C0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64193-73E8-4AE4-8BE8-269F9BEB7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97E9F-9A9F-406E-987D-225B2603C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F5BC3-A184-4308-9A66-B8C558FB3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25F44-99D5-4ADE-9DA9-ACC61061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6084-39B5-4009-8DAC-5339CA41C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1BF0C-38C0-44AC-899F-70880914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4F590-BC54-479E-B3E6-DA22FE33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35F61-B9E1-49A7-AA9C-A07341042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7A96D-5B7D-44BE-81BA-28B845B3A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3E141-F608-42CF-BF0A-5E85C0E20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FFB32-54CA-4EAB-BDAA-1AE511D1F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15CDD-7FC6-46B6-940C-D61F753B5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85ED3-A5F3-402A-9843-DFAC8F226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E71F2-786B-4831-9724-B620FB7A7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26AB2-3F2D-4E6E-A25C-D90AFCA36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F6FC-DF65-4CDE-AA4A-D62B8D0AD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0C736-00DA-4B1D-846A-85866A40B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4C1B9-2143-4B0D-9A35-7CCA8EB5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48205-9016-473B-9B9D-478E7C19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466CE-2564-4D39-80D3-60DB0A9E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D482B-2B30-4E05-A059-50B4D7AF7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E0E84-6822-4DA8-A761-8AEDF343D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89772-EA08-4F48-B461-510B7C3B4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CA2D3-4B8D-4E72-B8FE-1F36942CF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9AC9D-5D4A-47D5-B80B-2F93A24DA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39D1D-898F-4C43-A033-659733923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D59A-0B6A-4D72-B147-B9F97CCDF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B82EC-1F59-48F1-848C-1B1186E3A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20F46-50EE-40E0-B197-04D72A2FC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AD627-54CB-45A2-A9CE-3495EEF6C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DA343-D9F6-4A5D-A838-9ACCCB23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6435F-CC77-44C1-87DC-93956568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22837-D04C-415B-A0F3-7B6FB091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452CE-7C26-4E5F-8F94-B4BCD0F4E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B1320-24B0-4C4C-9686-7D1260E4B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EA992-15A5-4E9B-9150-C29F624A3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D103F-3EC0-4E0A-8E39-740340E93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A790-CEFC-40E1-A3BD-917AC47B7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7DD9F-822A-40ED-B1DB-A5D191A2D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016EE-052B-429D-BDA0-3E4CD234E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F359E-66DF-4B34-9B71-9FED7895A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E1A06-7B49-4C7A-A721-B41415BEE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52AC6-46C1-4840-9B20-4D0F6822B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6CB36-E3AF-480F-9E50-C4412CFF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90DB0-7828-4EAB-9FF4-2DDFF8D4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1FFD2-9F3B-47AB-8B18-D61F5D89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CB020-478A-4A54-9B98-8396F867B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24744-7C43-4152-B60C-B2C456CE5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3AA3-6A69-4886-81FC-1C7910038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DE200-F763-49AC-8783-C10CFFDE4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32CF8-F90E-47A8-88B6-4052E9236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57022-5D88-40BD-9C62-2DE620C2D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E43BA5-F49A-4BE5-A8E5-2D755AC29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B788E-705F-4441-A149-9A08BC5D5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1FC36-F0AE-41E9-AE0C-A8030ED47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F46C4-C258-47C5-8DE8-0FFAFD2B3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535F0-9630-4DB4-B235-A1B7A733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09AD0-69AE-49A0-8471-C620DF44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8E1FB-2B01-4853-BAE3-C585C569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B55B-E3E8-4EBA-A2A5-3EA89BD1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4FE55D-9D4A-4A68-AA24-2C599B920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60D2E-EFEE-4A32-915B-D62EB244B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411CC-935E-4D34-AEE6-DD115C85A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A0FDA-AEB1-47C0-83A3-1AF526484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B9204-51A5-40E1-AF96-BC31AA76F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78388-6AC8-4578-8840-B7D854468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68B2FD-451D-4CB5-BEE4-A734D873E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B0AEBF-5D8D-499F-BFE9-67A8DB4E7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8D8AD4-4B97-4F7B-8031-80A9D342C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417E0-88EB-4BAC-8DF9-289E3CA9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73B8-7382-4FA5-BF60-35278925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D5DB8-8040-48F6-B51F-B4D3B50F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29899-1E14-47A5-9B4D-1FDB6138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38BFC6-8C1E-46A4-BFD0-97606D1B0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F4FC60-C562-4A1C-AFBA-FD8EDA680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FE3C8-B617-49EC-84A6-6C2CF78C3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6525D5-FFF1-455C-B4F6-2B29E2F36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CC9798-B6F4-48DC-B423-9C8FBE350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2AFE15-A028-4BF4-B8A8-3028B0966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EE4CC7-FC25-4F4C-B4E0-54D34B70E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8CC991-BB61-45F4-A2A0-1AC6B0BFC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5B78-4367-4960-A0C1-7A4214E4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D5A4C0-6460-4D8A-938C-A5743B1D0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C18F44-0D9D-4F39-9922-4519598B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9717C4-924F-4E07-9262-2D5410C1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EC5577-D668-4E5F-A157-2BA39686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440450-D19B-4B92-B6AF-AC2D17FC8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65B8D0-B6D3-43E7-B889-04CD785BB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0CF30E-1258-4630-8F9D-186CF7BED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DCCBDE-02E8-4483-BB10-F34D5E3A3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181860-4C87-4494-BA41-A28144BAC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6ECA5D-FD8C-45C5-A677-4AAB4A5C7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82355-809B-42F2-A8CF-7C7E8CA733E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8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9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30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C8499-8387-4C85-B65F-FB4EC559DD1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3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3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3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04AB4-50FA-4AB2-929A-B99E23987F7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3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3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3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92E25-5209-4D0C-8566-1A67EB9F1A8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3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3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E33B1-41ED-418D-B7F3-BC8B625849F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1DF84-A0E1-494B-9B1E-860EDA21B9BC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381B4-E081-4B36-B062-4F7FA93C24B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58B80-9C66-4929-B7FA-1B2A5F65AC1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9EFD0-FADB-4116-BA00-DB25CF1D45D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F7E73-E4FE-4A5C-AB6B-444649CF1C6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B099A-D501-4742-8173-5F6F7A0FBAE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35471-728C-4AFA-8B1D-B968984F53F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0D9A9-B42B-4738-8989-B1C3DAC98A5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2133360"/>
            <a:ext cx="7772400" cy="199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6600"/>
                </a:solidFill>
                <a:latin typeface="Tahoma"/>
              </a:rPr>
              <a:t>Организация игровой среды в Клубе раннего развития </a:t>
            </a:r>
            <a:br>
              <a:rPr sz="3600"/>
            </a:br>
            <a:r>
              <a:rPr b="1" lang="ru-RU" sz="3600" spc="-1" strike="noStrike">
                <a:solidFill>
                  <a:srgbClr val="cc6600"/>
                </a:solidFill>
                <a:latin typeface="Tahoma"/>
              </a:rPr>
              <a:t>«В большой мир вместе с мамой»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038480" y="457164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45d00"/>
                </a:solidFill>
                <a:latin typeface="Arial"/>
                <a:ea typeface="Arial"/>
              </a:rPr>
              <a:t>Рахметова Елена Анатольевн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45d00"/>
                </a:solidFill>
                <a:latin typeface="Arial"/>
                <a:ea typeface="Arial"/>
              </a:rPr>
              <a:t>Инструктор по физической культур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Заголовок 1"/>
          <p:cNvSpPr/>
          <p:nvPr/>
        </p:nvSpPr>
        <p:spPr>
          <a:xfrm>
            <a:off x="609480" y="838080"/>
            <a:ext cx="779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45d00"/>
                </a:solidFill>
                <a:latin typeface="Arial"/>
              </a:rPr>
              <a:t>СП ГБОУ СОШ №1 «ОЦ» с. Кинель-Черкассы Самарской области детский сад «Василек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Режиссерские игры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ействующими лицами в ней выступают не другие люди, а игрушки, изображающие различных персонаже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0" name="Содержимое 11" descr="72_devochka_chaynuy_serviz.jpg"/>
          <p:cNvPicPr/>
          <p:nvPr/>
        </p:nvPicPr>
        <p:blipFill>
          <a:blip r:embed="rId1"/>
          <a:stretch/>
        </p:blipFill>
        <p:spPr>
          <a:xfrm>
            <a:off x="4648320" y="2666880"/>
            <a:ext cx="4190760" cy="3429000"/>
          </a:xfrm>
          <a:prstGeom prst="rect">
            <a:avLst/>
          </a:prstGeom>
          <a:ln w="0">
            <a:noFill/>
          </a:ln>
        </p:spPr>
      </p:pic>
      <p:pic>
        <p:nvPicPr>
          <p:cNvPr id="581" name="Содержимое 10" descr="60137.jpg"/>
          <p:cNvPicPr/>
          <p:nvPr/>
        </p:nvPicPr>
        <p:blipFill>
          <a:blip r:embed="rId2"/>
          <a:stretch/>
        </p:blipFill>
        <p:spPr>
          <a:xfrm>
            <a:off x="228600" y="2633760"/>
            <a:ext cx="4268880" cy="34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  <a:ea typeface="Arial"/>
              </a:rPr>
              <a:t>Сюжетно-ролевые игры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сюжетно-ролевой игре дети берут на себя те или иные функции взрослых людей и в специально создаваемых ими игровых, воображаемых условиях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4" name="Содержимое 7" descr="0005-001-Teatr-tvorchestvo-deti.jpg"/>
          <p:cNvPicPr/>
          <p:nvPr/>
        </p:nvPicPr>
        <p:blipFill>
          <a:blip r:embed="rId1"/>
          <a:stretch/>
        </p:blipFill>
        <p:spPr>
          <a:xfrm>
            <a:off x="457200" y="2806560"/>
            <a:ext cx="4040280" cy="3289320"/>
          </a:xfrm>
          <a:prstGeom prst="rect">
            <a:avLst/>
          </a:prstGeom>
          <a:ln w="0">
            <a:noFill/>
          </a:ln>
        </p:spPr>
      </p:pic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Содержимое 8" descr="2010-08-21_112831_enl.png"/>
          <p:cNvPicPr/>
          <p:nvPr/>
        </p:nvPicPr>
        <p:blipFill>
          <a:blip r:embed="rId2"/>
          <a:stretch/>
        </p:blipFill>
        <p:spPr>
          <a:xfrm>
            <a:off x="4645080" y="2819520"/>
            <a:ext cx="404172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  <a:ea typeface="Arial"/>
              </a:rPr>
              <a:t>Игры-путешествия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8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гры-путешествия можно проводить в любом месте, где есть пространство. Они не требуют специальной подготовки, так как допускают бесконечную импровизацию с учетом знаний детей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90" name="Содержимое 10" descr="14929.jpg"/>
          <p:cNvPicPr/>
          <p:nvPr/>
        </p:nvPicPr>
        <p:blipFill>
          <a:blip r:embed="rId1"/>
          <a:stretch/>
        </p:blipFill>
        <p:spPr>
          <a:xfrm>
            <a:off x="457200" y="2971800"/>
            <a:ext cx="3886200" cy="3124080"/>
          </a:xfrm>
          <a:prstGeom prst="rect">
            <a:avLst/>
          </a:prstGeom>
          <a:ln w="0">
            <a:noFill/>
          </a:ln>
        </p:spPr>
      </p:pic>
      <p:pic>
        <p:nvPicPr>
          <p:cNvPr id="591" name="Содержимое 11" descr="100_5077.JPG"/>
          <p:cNvPicPr/>
          <p:nvPr/>
        </p:nvPicPr>
        <p:blipFill>
          <a:blip r:embed="rId2"/>
          <a:stretch/>
        </p:blipFill>
        <p:spPr>
          <a:xfrm>
            <a:off x="4648320" y="2971800"/>
            <a:ext cx="40417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  <a:ea typeface="Arial"/>
              </a:rPr>
              <a:t>Заключение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53352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Неоспоримым является тот факт,  что игра – исторически сложившееся обобщенное явление, самостоятельный вид деятельности, который обладает полезным средством воспитания детей и подростков. Это определение более точно выявляет сущность игры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80520" y="761760"/>
            <a:ext cx="8534520" cy="144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«Игра порождает радость,</a:t>
            </a:r>
            <a:br>
              <a:rPr sz="2800"/>
            </a:b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свободу, довольство, покой в себе</a:t>
            </a:r>
            <a:br>
              <a:rPr sz="2800"/>
            </a:b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и около себя, мир с миром»</a:t>
            </a:r>
            <a:br>
              <a:rPr sz="2800"/>
            </a:b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Фридрих Фребель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54" name="Picture 5" descr="IMG_1644"/>
          <p:cNvPicPr/>
          <p:nvPr/>
        </p:nvPicPr>
        <p:blipFill>
          <a:blip r:embed="rId1"/>
          <a:stretch/>
        </p:blipFill>
        <p:spPr>
          <a:xfrm>
            <a:off x="228600" y="2971800"/>
            <a:ext cx="4114800" cy="310212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4" descr="C:\Documents and Settings\ДОУ 24\Мои документы\ФОТО\О.Ю\IMG_2203.jpg"/>
          <p:cNvPicPr/>
          <p:nvPr/>
        </p:nvPicPr>
        <p:blipFill>
          <a:blip r:embed="rId2"/>
          <a:stretch/>
        </p:blipFill>
        <p:spPr>
          <a:xfrm>
            <a:off x="4648320" y="2971800"/>
            <a:ext cx="426708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13" descr="IMG_1660"/>
          <p:cNvPicPr/>
          <p:nvPr/>
        </p:nvPicPr>
        <p:blipFill>
          <a:blip r:embed="rId1"/>
          <a:stretch/>
        </p:blipFill>
        <p:spPr>
          <a:xfrm>
            <a:off x="5562720" y="4267080"/>
            <a:ext cx="3276360" cy="239400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3" descr="IMG_1580"/>
          <p:cNvPicPr/>
          <p:nvPr/>
        </p:nvPicPr>
        <p:blipFill>
          <a:blip r:embed="rId2"/>
          <a:stretch/>
        </p:blipFill>
        <p:spPr>
          <a:xfrm>
            <a:off x="304920" y="3962520"/>
            <a:ext cx="3657600" cy="258588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6" descr="C:\Documents and Settings\ДОУ 24\Рабочий стол\11 Дурягина\Фото103.jpg"/>
          <p:cNvPicPr/>
          <p:nvPr/>
        </p:nvPicPr>
        <p:blipFill>
          <a:blip r:embed="rId3"/>
          <a:stretch/>
        </p:blipFill>
        <p:spPr>
          <a:xfrm>
            <a:off x="3581280" y="2743200"/>
            <a:ext cx="3429000" cy="2368440"/>
          </a:xfrm>
          <a:prstGeom prst="rect">
            <a:avLst/>
          </a:prstGeom>
          <a:ln w="0">
            <a:noFill/>
          </a:ln>
        </p:spPr>
      </p:pic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Актуальность: Мы живем в эпоху кризисов и социальных перемен. Нашей стране нужны творческие, способные неординарно и нестандартно мыслить люди. Неординарный подход к решению заданий наиболее важен в дошкольном возрасте, так как в этот период развития ребенок воспринимает все особенно эмоционально, а различные игровые технологии, яркие, насыщенные занятия, основанные на развитии творческого мышления и воображения, помогут ему не потерять способность к творчеству.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41032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45d00"/>
                </a:solidFill>
                <a:latin typeface="Arial"/>
                <a:ea typeface="Arial"/>
              </a:rPr>
              <a:t>Цель: </a:t>
            </a: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развитие творческих способностей детей путем создания условий для максимального развития способностей детей,  с применением специальных игровых педагогических технологий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685800" y="2017800"/>
            <a:ext cx="826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вивать познавательную активность, творческие способности, воображение, мышление, фантазию, коммуникативные навыки воспитанников дошкольного учреждения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здать и совершенствовать предметно-развивающую среду дошкольного учреждения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вивать творческие способности  детей через игровую деятельность и интеграцию с другими видами деятель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 txBox="1"/>
          <p:nvPr/>
        </p:nvSpPr>
        <p:spPr>
          <a:xfrm>
            <a:off x="304920" y="380520"/>
            <a:ext cx="853416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45d00"/>
                </a:solidFill>
                <a:latin typeface="Arial"/>
                <a:ea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гра представляет собой особую деятельность, которая расцветает в детские годы и сопровождает человека на протяжении всей его жизни. Не удивительно, что проблема игры привлекала и привлекает к себе внимание исследователей: педагогов, психологов, философов, социологов, искусствоведов, биолог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45d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4" name="Picture 3" descr="C:\Documents and Settings\ДОУ 24\Мои документы\ФОТО\гр.№6\оля 107.jpg"/>
          <p:cNvPicPr/>
          <p:nvPr/>
        </p:nvPicPr>
        <p:blipFill>
          <a:blip r:embed="rId1"/>
          <a:stretch/>
        </p:blipFill>
        <p:spPr>
          <a:xfrm>
            <a:off x="2209680" y="3200400"/>
            <a:ext cx="41148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6389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6600"/>
                </a:solidFill>
                <a:latin typeface="Arial"/>
                <a:ea typeface="Arial"/>
              </a:rPr>
              <a:t>Функции игры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. Развлекательная (развлечь, доставить удовольствие, пробудить интерес у ребенка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. Коммуникатив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. Диагностическая (выявление отношений от нормального поведения, самопознание в процессе игры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. Коррекционная (внесение позитивных изменений в структуру личностных показателей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5. Социализация (включение в систему общественных отношений, усвоение норм человеческого общежития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35920" cy="138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6600"/>
                </a:solidFill>
                <a:latin typeface="Arial"/>
                <a:ea typeface="Arial"/>
              </a:rPr>
              <a:t>Творческое развитие </a:t>
            </a:r>
            <a:br>
              <a:rPr sz="3600"/>
            </a:br>
            <a:r>
              <a:rPr b="1" lang="ru-RU" sz="3600" spc="-1" strike="noStrike">
                <a:solidFill>
                  <a:srgbClr val="cc6600"/>
                </a:solidFill>
                <a:latin typeface="Arial"/>
                <a:ea typeface="Arial"/>
              </a:rPr>
              <a:t>средствами игры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-360" y="137160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Жизнь в эпоху научно-технического прогресса становится все разнообразнее и сложнее. И она требует от человека не шаблонных, привычных действий, а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творческого подхода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 решению проблем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чевидно, что творческие способности человека следует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читать самой существенной частью его интеллект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детстве именно игра  становитс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фактором познавательного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чевого, двигательного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ворческого и социального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вития личност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9" name="Содержимое 6" descr="Tancy024_image.jpg"/>
          <p:cNvPicPr/>
          <p:nvPr/>
        </p:nvPicPr>
        <p:blipFill>
          <a:blip r:embed="rId1"/>
          <a:stretch/>
        </p:blipFill>
        <p:spPr>
          <a:xfrm>
            <a:off x="5410080" y="3886200"/>
            <a:ext cx="35816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Игра, развивающие творчество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71" name="Содержимое 3" descr=""/>
          <p:cNvPicPr/>
          <p:nvPr/>
        </p:nvPicPr>
        <p:blipFill>
          <a:blip r:embed="rId1"/>
          <a:stretch/>
        </p:blipFill>
        <p:spPr>
          <a:xfrm>
            <a:off x="689040" y="1292400"/>
            <a:ext cx="799776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Театрализованные игры 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(игры-драматизации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Актерами являются сами дети, которые берут на себя роли литературных или сказочных персонаже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4" name="Picture 2" descr="IMG_1585"/>
          <p:cNvPicPr/>
          <p:nvPr/>
        </p:nvPicPr>
        <p:blipFill>
          <a:blip r:embed="rId1"/>
          <a:stretch/>
        </p:blipFill>
        <p:spPr>
          <a:xfrm>
            <a:off x="228600" y="2743200"/>
            <a:ext cx="4267080" cy="3352680"/>
          </a:xfrm>
          <a:prstGeom prst="rect">
            <a:avLst/>
          </a:prstGeom>
          <a:ln w="0">
            <a:noFill/>
          </a:ln>
        </p:spPr>
      </p:pic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6" name="Содержимое 8" descr="89680138.jpg"/>
          <p:cNvPicPr/>
          <p:nvPr/>
        </p:nvPicPr>
        <p:blipFill>
          <a:blip r:embed="rId2"/>
          <a:stretch/>
        </p:blipFill>
        <p:spPr>
          <a:xfrm>
            <a:off x="4800600" y="2743200"/>
            <a:ext cx="40417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Пользователь Windows</cp:lastModifiedBy>
  <dcterms:modified xsi:type="dcterms:W3CDTF">2021-06-07T08:03:16Z</dcterms:modified>
  <cp:revision>7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